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9E5-4F4D-43DD-9EF7-CC4935E4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FA5-7045-4C82-953B-6DCEBB86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A47-8FDD-4CE0-86B0-53E895A7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6C7-3BE8-47D7-B509-BC07ECCF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19B1-C608-40F7-A329-927B5376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EA05-5D87-43DE-A2AA-14CD5C9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E9EAF-AC25-4B2F-B47E-52F2F0E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D9D9B-30D7-41E2-BFAD-C34F71C7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59479-697F-407B-86B2-BCDD497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774E7-D8B8-4661-84AF-A415CD0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FA23-CC95-47A5-BCBD-DBA293C4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B33-945D-4F3A-A3A9-CC2166F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7DD6-1340-4C1F-80B7-51A10A0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699A0-6D8F-4FA2-B2B6-50DC48E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9D6F-DF9B-4DBA-A9D0-F774186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181AB-DC55-403E-87E8-E443E703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147FB-0F5A-48A8-8FF3-E6D02C54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000-0EC0-43C6-9E3C-97734B1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3C4-0395-4892-ADA9-A6FE687A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84D-1881-403B-861A-47E5BFA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FBC-93FD-4172-ABE6-71A5BB48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DD4-7B32-4F96-9822-EC30B65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71F-CD12-4730-B0D1-56F186A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30C-990F-4DFD-B3B7-E98DB4D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C877-E4BD-403B-825C-99DD2A53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B76-0B22-4224-8D05-D3710A20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2.xml"/><Relationship Id="rId19" Type="http://schemas.openxmlformats.org/officeDocument/2006/relationships/slide" Target="slide24.xml"/><Relationship Id="rId20" Type="http://schemas.openxmlformats.org/officeDocument/2006/relationships/slide" Target="slide7.xml"/><Relationship Id="rId21" Type="http://schemas.openxmlformats.org/officeDocument/2006/relationships/slide" Target="slide11.xml"/><Relationship Id="rId22" Type="http://schemas.openxmlformats.org/officeDocument/2006/relationships/slide" Target=""/><Relationship Id="rId23" Type="http://schemas.openxmlformats.org/officeDocument/2006/relationships/image" Target="../media/image1.gif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50000">
                <a:srgbClr val="660066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edef"/>
                </a:solidFill>
                <a:latin typeface="Georgia"/>
              </a:rPr>
              <a:t>Интеллектуальная игра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«Алфави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Панель инструментов для работы с текстом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Где зародилась десятичная система счисления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32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пределите, сколько Кбайт в 2 Мбайтах</a:t>
            </a: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39528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ак называется минимальная единица графической информации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324000" y="6237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12582" y="3837"/>
                </a:moveTo>
                <a:lnTo>
                  <a:pt x="15158" y="6448"/>
                </a:lnTo>
                <a:lnTo>
                  <a:pt x="15158" y="4707"/>
                </a:lnTo>
                <a:lnTo>
                  <a:pt x="16934" y="4707"/>
                </a:lnTo>
                <a:lnTo>
                  <a:pt x="16934" y="8224"/>
                </a:lnTo>
                <a:lnTo>
                  <a:pt x="19545" y="10800"/>
                </a:lnTo>
                <a:lnTo>
                  <a:pt x="17891" y="10800"/>
                </a:lnTo>
                <a:lnTo>
                  <a:pt x="17891" y="17989"/>
                </a:lnTo>
                <a:lnTo>
                  <a:pt x="7273" y="17989"/>
                </a:lnTo>
                <a:lnTo>
                  <a:pt x="7273" y="10800"/>
                </a:lnTo>
                <a:lnTo>
                  <a:pt x="5619" y="10800"/>
                </a:lnTo>
                <a:close/>
              </a:path>
              <a:path fill="darkenLess" w="25164" h="21600">
                <a:moveTo>
                  <a:pt x="15158" y="6448"/>
                </a:moveTo>
                <a:lnTo>
                  <a:pt x="15158" y="4707"/>
                </a:lnTo>
                <a:lnTo>
                  <a:pt x="16934" y="4707"/>
                </a:lnTo>
                <a:lnTo>
                  <a:pt x="16934" y="8224"/>
                </a:lnTo>
                <a:close/>
              </a:path>
              <a:path fill="darkenLess" w="25164" h="21600">
                <a:moveTo>
                  <a:pt x="11659" y="14299"/>
                </a:moveTo>
                <a:lnTo>
                  <a:pt x="13505" y="14299"/>
                </a:lnTo>
                <a:lnTo>
                  <a:pt x="13505" y="17989"/>
                </a:lnTo>
                <a:lnTo>
                  <a:pt x="17891" y="17989"/>
                </a:lnTo>
                <a:lnTo>
                  <a:pt x="17891" y="10800"/>
                </a:lnTo>
                <a:lnTo>
                  <a:pt x="7273" y="10800"/>
                </a:lnTo>
                <a:lnTo>
                  <a:pt x="7273" y="17989"/>
                </a:lnTo>
                <a:lnTo>
                  <a:pt x="11659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8900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то считается автором самого первого алгорит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84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фаг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48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516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58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является основоположником математической логики?</a:t>
            </a: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19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аак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жордж Б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989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37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жордж Б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840" y="53722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 поколений ЭВМ принято считать созданными до настоящего времени 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2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5157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228600"/>
          <a:ext cx="7931160" cy="5834160"/>
        </p:xfrm>
        <a:graphic>
          <a:graphicData uri="http://schemas.openxmlformats.org/drawingml/2006/table">
            <a:tbl>
              <a:tblPr/>
              <a:tblGrid>
                <a:gridCol w="992160"/>
                <a:gridCol w="990720"/>
                <a:gridCol w="992160"/>
                <a:gridCol w="990360"/>
                <a:gridCol w="992520"/>
                <a:gridCol w="990360"/>
                <a:gridCol w="992160"/>
                <a:gridCol w="990720"/>
              </a:tblGrid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" action="ppaction://hlinksldjump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" action="ppaction://hlinksldjump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3" action="ppaction://hlinksldjump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4" action="ppaction://hlinksldjump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5" action="ppaction://hlinksldjump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6" action="ppaction://hlinksldjump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7" action="ppaction://hlinksldjump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8" action="ppaction://hlinksldjump"/>
                        </a:rPr>
                        <a:t>Т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9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0" action="ppaction://hlinksldjump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1" action="ppaction://hlinksldjump"/>
                        </a:rPr>
                        <a:t>Капитан 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2" action="ppaction://hlinksldjump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3" action="ppaction://hlinksldjump"/>
                        </a:rPr>
                        <a:t>Капитан </a:t>
                      </a:r>
                      <a:r>
                        <a:rPr b="0" lang="ru-RU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4" action="ppaction://hlinksldjump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ff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5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6" action="ppaction://hlinksldjump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7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8" action="ppaction://hlinksldjump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9" action="ppaction://hlinksldjump"/>
                        </a:rPr>
                        <a:t>Капитан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0" action="ppaction://hlinksldjump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1" action="ppaction://hlinksldjump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Georgia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2" action="ppaction://hlinksldjump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23"/>
          <a:stretch/>
        </p:blipFill>
        <p:spPr>
          <a:xfrm>
            <a:off x="7667640" y="5445000"/>
            <a:ext cx="13366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устройство, которое является «мозгом» компью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53737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7600" y="537372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189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ы, используемые в большинстве компьютеров изготавливаются и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916280"/>
            <a:ext cx="23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ем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920" y="51562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рем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08520" y="551664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 помощи, какой клавиши вставляется маркер абзаца?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2360" y="5011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90360" y="515628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bus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1443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3080" y="5229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bus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905440" cy="255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160" y="537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308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bus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30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bus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056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Что такое провайдер?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9528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bus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60" y="55166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rebus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6192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16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bus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975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bus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Операционная система – это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53964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акая программа может самостоятельно копироваться с одного компьютера на другой без ведома пользователя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2400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Драйвер – это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324000" y="6021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15424" y="3837"/>
                </a:moveTo>
                <a:lnTo>
                  <a:pt x="18000" y="6448"/>
                </a:lnTo>
                <a:lnTo>
                  <a:pt x="18000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3" y="10800"/>
                </a:lnTo>
                <a:lnTo>
                  <a:pt x="20733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8" h="21600">
                <a:moveTo>
                  <a:pt x="18000" y="6448"/>
                </a:moveTo>
                <a:lnTo>
                  <a:pt x="18000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8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3" y="17989"/>
                </a:lnTo>
                <a:lnTo>
                  <a:pt x="20733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Что такое разрешение экрана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24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О какой компьютерной программе идет речь в песне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Он мне дорог с давних лет,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И его милее нет,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Этих окон негасимый свет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24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3952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6:26:15Z</dcterms:created>
  <dc:creator>User</dc:creator>
  <dc:description/>
  <dc:language>en-US</dc:language>
  <cp:lastModifiedBy>Alex</cp:lastModifiedBy>
  <dcterms:modified xsi:type="dcterms:W3CDTF">2010-01-19T10:58:19Z</dcterms:modified>
  <cp:revision>24</cp:revision>
  <dc:subject/>
  <dc:title>Слайд 1</dc:title>
</cp:coreProperties>
</file>