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8E1-325F-4188-BAA7-CE09E9A8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8F2-5A7E-4FEC-905B-D9DD51F6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E81-BBC0-4CC3-8563-9182621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C19-E147-4D3B-8296-50A30F14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958B-0474-4C5B-AE50-0C3F348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8484A-C603-44D6-A173-40F4CA55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63E2-E628-4800-9F72-6B3433A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4FF7-A080-4BCE-8786-C4281D5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B8981-8A7B-4963-8DA5-580772C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AB0F-338B-4196-A5F4-6FDCE05C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3492-AED3-4ED3-AE99-0CBE744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C24-BBC5-4FCA-A464-2E49F16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5C029-373D-481B-BA53-0C16810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D8A9-E561-4DEB-A332-C069944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3E0D-731B-49FA-8E3F-EFBDAC6D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F67E3-EA23-4B1B-BE65-CA63BF78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EE01-79C8-4E0E-B5E1-B45B8276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477-42C1-40D7-8A24-E3EAA0EB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ACD-9330-4E34-92A8-4CEEC62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BA0-6C9B-4270-BBAB-CF262C70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2FE-3F10-4565-B266-708D83DA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8F2-A5D5-42E7-A09C-1297EB6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0BB-C8C4-4887-B39F-2DFEFD9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32A-8060-4559-BB69-4B7C458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0AB-C794-42F4-A592-C592D5116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410-3497-48F4-AB91-A6FE938D6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2.xml"/><Relationship Id="rId19" Type="http://schemas.openxmlformats.org/officeDocument/2006/relationships/slide" Target="slide24.xml"/><Relationship Id="rId20" Type="http://schemas.openxmlformats.org/officeDocument/2006/relationships/slide" Target="slide7.xml"/><Relationship Id="rId21" Type="http://schemas.openxmlformats.org/officeDocument/2006/relationships/slide" Target="slide11.xml"/><Relationship Id="rId22" Type="http://schemas.openxmlformats.org/officeDocument/2006/relationships/slide" Target=""/><Relationship Id="rId23" Type="http://schemas.openxmlformats.org/officeDocument/2006/relationships/image" Target="../media/image1.gif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50000">
                <a:srgbClr val="660066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edef"/>
                </a:solidFill>
                <a:latin typeface="Georgia"/>
              </a:rPr>
              <a:t>Интеллектуальная игра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«Алфави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Панель инструментов для работы с текстом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Где зародилась десятичная система счисления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32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пределите, сколько Кбайт в 2 Мбайтах</a:t>
            </a: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39528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ак называется минимальная единица графической информации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324000" y="6237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12582" y="3837"/>
                </a:moveTo>
                <a:lnTo>
                  <a:pt x="15158" y="6448"/>
                </a:lnTo>
                <a:lnTo>
                  <a:pt x="15158" y="4707"/>
                </a:lnTo>
                <a:lnTo>
                  <a:pt x="16934" y="4707"/>
                </a:lnTo>
                <a:lnTo>
                  <a:pt x="16934" y="8224"/>
                </a:lnTo>
                <a:lnTo>
                  <a:pt x="19545" y="10800"/>
                </a:lnTo>
                <a:lnTo>
                  <a:pt x="17891" y="10800"/>
                </a:lnTo>
                <a:lnTo>
                  <a:pt x="17891" y="17989"/>
                </a:lnTo>
                <a:lnTo>
                  <a:pt x="7273" y="17989"/>
                </a:lnTo>
                <a:lnTo>
                  <a:pt x="7273" y="10800"/>
                </a:lnTo>
                <a:lnTo>
                  <a:pt x="5619" y="10800"/>
                </a:lnTo>
                <a:close/>
              </a:path>
              <a:path fill="darkenLess" w="25164" h="21600">
                <a:moveTo>
                  <a:pt x="15158" y="6448"/>
                </a:moveTo>
                <a:lnTo>
                  <a:pt x="15158" y="4707"/>
                </a:lnTo>
                <a:lnTo>
                  <a:pt x="16934" y="4707"/>
                </a:lnTo>
                <a:lnTo>
                  <a:pt x="16934" y="8224"/>
                </a:lnTo>
                <a:close/>
              </a:path>
              <a:path fill="darkenLess" w="25164" h="21600">
                <a:moveTo>
                  <a:pt x="11659" y="14299"/>
                </a:moveTo>
                <a:lnTo>
                  <a:pt x="13505" y="14299"/>
                </a:lnTo>
                <a:lnTo>
                  <a:pt x="13505" y="17989"/>
                </a:lnTo>
                <a:lnTo>
                  <a:pt x="17891" y="17989"/>
                </a:lnTo>
                <a:lnTo>
                  <a:pt x="17891" y="10800"/>
                </a:lnTo>
                <a:lnTo>
                  <a:pt x="7273" y="10800"/>
                </a:lnTo>
                <a:lnTo>
                  <a:pt x="7273" y="17989"/>
                </a:lnTo>
                <a:lnTo>
                  <a:pt x="11659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8900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то считается автором самого первого алгорит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84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фаг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48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516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58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является основоположником математической логики?</a:t>
            </a: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19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аак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жордж Б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989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37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жордж Б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840" y="53722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 поколений ЭВМ принято считать созданными до настоящего времени 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2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арианты ответ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5157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228600"/>
          <a:ext cx="7931160" cy="5834160"/>
        </p:xfrm>
        <a:graphic>
          <a:graphicData uri="http://schemas.openxmlformats.org/drawingml/2006/table">
            <a:tbl>
              <a:tblPr/>
              <a:tblGrid>
                <a:gridCol w="992160"/>
                <a:gridCol w="990720"/>
                <a:gridCol w="992160"/>
                <a:gridCol w="990360"/>
                <a:gridCol w="992520"/>
                <a:gridCol w="990360"/>
                <a:gridCol w="992160"/>
                <a:gridCol w="990720"/>
              </a:tblGrid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" action="ppaction://hlinksldjump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" action="ppaction://hlinksldjump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3" action="ppaction://hlinksldjump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4" action="ppaction://hlinksldjump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5" action="ppaction://hlinksldjump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6" action="ppaction://hlinksldjump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7" action="ppaction://hlinksldjump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8" action="ppaction://hlinksldjump"/>
                        </a:rPr>
                        <a:t>Т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9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0" action="ppaction://hlinksldjump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1" action="ppaction://hlinksldjump"/>
                        </a:rPr>
                        <a:t>Капитан 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2" action="ppaction://hlinksldjump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3" action="ppaction://hlinksldjump"/>
                        </a:rPr>
                        <a:t>Капитан </a:t>
                      </a:r>
                      <a:r>
                        <a:rPr b="0" lang="ru-RU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4" action="ppaction://hlinksldjump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ff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5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6" action="ppaction://hlinksldjump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7" action="ppaction://hlinksldjump"/>
                        </a:rPr>
                        <a:t>Капитан </a:t>
                      </a:r>
                      <a:r>
                        <a:rPr b="0" lang="en-US" sz="20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8" action="ppaction://hlinksldjump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19" action="ppaction://hlinksldjump"/>
                        </a:rPr>
                        <a:t>Капитан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0" action="ppaction://hlinksldjump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1" action="ppaction://hlinksldjump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Georgia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00cc"/>
                          </a:solidFill>
                          <a:uFillTx/>
                          <a:latin typeface="Georgia"/>
                          <a:hlinkClick r:id="rId22" action="ppaction://hlinksldjump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23"/>
          <a:stretch/>
        </p:blipFill>
        <p:spPr>
          <a:xfrm>
            <a:off x="7667640" y="5445000"/>
            <a:ext cx="13366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устройство, которое является «мозгом» компью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53737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7600" y="537372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189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ы, используемые в большинстве компьютеров изготавливаются и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916280"/>
            <a:ext cx="23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ем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920" y="51562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рем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08520" y="551664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 помощи, какой клавиши вставляется маркер абзаца?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2360" y="5011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90360" y="515628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bus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1443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3080" y="5229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bus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905440" cy="255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160" y="537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308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bus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30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bus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056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Что такое провайдер?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9528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bus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60" y="55166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rebus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6192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16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bus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975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1440" y="5445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bus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Операционная система – это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53964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акая программа может самостоятельно копироваться с одного компьютера на другой без ведома пользователя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2400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12572" y="3837"/>
                </a:moveTo>
                <a:lnTo>
                  <a:pt x="15148" y="6448"/>
                </a:ln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lnTo>
                  <a:pt x="19534" y="10800"/>
                </a:lnTo>
                <a:lnTo>
                  <a:pt x="17881" y="10800"/>
                </a:lnTo>
                <a:lnTo>
                  <a:pt x="17881" y="17989"/>
                </a:lnTo>
                <a:lnTo>
                  <a:pt x="7262" y="17989"/>
                </a:lnTo>
                <a:lnTo>
                  <a:pt x="7262" y="10800"/>
                </a:lnTo>
                <a:lnTo>
                  <a:pt x="5609" y="10800"/>
                </a:lnTo>
                <a:close/>
              </a:path>
              <a:path fill="darkenLess" w="25143" h="21600">
                <a:moveTo>
                  <a:pt x="15148" y="6448"/>
                </a:moveTo>
                <a:lnTo>
                  <a:pt x="15148" y="4707"/>
                </a:lnTo>
                <a:lnTo>
                  <a:pt x="16923" y="4707"/>
                </a:lnTo>
                <a:lnTo>
                  <a:pt x="16923" y="8224"/>
                </a:lnTo>
                <a:close/>
              </a:path>
              <a:path fill="darkenLess" w="25143" h="21600">
                <a:moveTo>
                  <a:pt x="11649" y="14299"/>
                </a:moveTo>
                <a:lnTo>
                  <a:pt x="13494" y="14299"/>
                </a:lnTo>
                <a:lnTo>
                  <a:pt x="13494" y="17989"/>
                </a:lnTo>
                <a:lnTo>
                  <a:pt x="17881" y="17989"/>
                </a:lnTo>
                <a:lnTo>
                  <a:pt x="17881" y="10800"/>
                </a:lnTo>
                <a:lnTo>
                  <a:pt x="7262" y="10800"/>
                </a:lnTo>
                <a:lnTo>
                  <a:pt x="7262" y="17989"/>
                </a:lnTo>
                <a:lnTo>
                  <a:pt x="11649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Драйвер – это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324000" y="6021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15424" y="3837"/>
                </a:moveTo>
                <a:lnTo>
                  <a:pt x="18000" y="6448"/>
                </a:lnTo>
                <a:lnTo>
                  <a:pt x="18000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3" y="10800"/>
                </a:lnTo>
                <a:lnTo>
                  <a:pt x="20733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8" h="21600">
                <a:moveTo>
                  <a:pt x="18000" y="6448"/>
                </a:moveTo>
                <a:lnTo>
                  <a:pt x="18000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8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3" y="17989"/>
                </a:lnTo>
                <a:lnTo>
                  <a:pt x="20733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Что такое разрешение экрана?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24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О какой компьютерной программе идет речь в песне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Он мне дорог с давних лет,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И его милее нет,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Этих окон негасимый свет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24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3952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6:26:15Z</dcterms:created>
  <dc:creator>User</dc:creator>
  <dc:description/>
  <dc:language>en-US</dc:language>
  <cp:lastModifiedBy>Alex</cp:lastModifiedBy>
  <dcterms:modified xsi:type="dcterms:W3CDTF">2010-01-19T10:58:19Z</dcterms:modified>
  <cp:revision>24</cp:revision>
  <dc:subject/>
  <dc:title>Слайд 1</dc:title>
</cp:coreProperties>
</file>