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E48-2147-4531-8A99-70516660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5B6-8260-4B65-ADC8-D891F57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B29-47AD-434F-BE0F-7A1A127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BBD-F7D2-4477-952B-8516330F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4F4-F6CE-4CB6-BF25-72A9A2B7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FC38-96B0-442F-AC43-B8BE57C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9A1-403A-4F8A-A854-9EC2B130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3FB-25D6-4384-A65D-0CC493A9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208-F5D4-4425-B078-A42A58C0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D51-A168-47BC-8FA6-81C932B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7AE4-7D4E-45F3-8CB6-44B233A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CF8-A4B0-4051-8C5D-1ABFE983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486-D693-46A8-BE44-4953B23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8532-9B7F-4181-8756-99ED35F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417D-46E7-4FD8-AA4E-79DDC8A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0B3D-BC6A-4701-A035-48BCF801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FD95-F80F-4367-BA61-60714C45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CA11-3DDC-4302-A9DF-F52E8910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6E4C-2A6D-4ABF-84D9-F5FE112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6C86-9265-4640-A965-B18AF76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7E82-C91E-4A66-A3A6-F0465A4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C4BF-968C-432D-B2BE-CFB0A10E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09B-BAF5-4B1C-95C5-2CEC839D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CF5B-A4F3-40B6-8343-72D64412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6EFA-2220-41B0-9413-FA0C276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280A-4FCB-4535-A94A-540E546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3E5E-4A15-4743-A392-7ACC96E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1F5A-6ED9-4FFD-B5FB-958F8F3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F22C-6F99-4B22-8F86-FAAA7B2D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4F40-7E90-4B0D-A3E0-7BD9421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EDC8-77D5-48B4-9E04-3DC94CD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BF11-1AD1-4E01-806A-6B2666E8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6A07-5720-4453-B399-0806A616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26A-CECF-4A5C-8FE6-B07B1FB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3193-334E-4B1E-8175-8DD252C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4256-92DB-44B9-A0BD-07725FC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5388-CA05-4A27-B35B-89AC8F6B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69BC-00B3-43B5-89FC-C61F315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5445-6440-4E07-8F70-FE5FD6F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897A-BD11-4F83-B761-8184D030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3369-C92C-41F9-9480-323F57AC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C042-A427-4BF4-AD39-51702938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6948-E773-460A-943F-1C8FA59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0FF0-8C12-4CCF-A1C5-FAB95508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371-1514-4E1A-8A60-66F5EFD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4FD7-B5E1-4110-A898-FC5F2FF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40B4-9F44-4A52-BA26-7F68756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92D6-9C78-4C5A-A8E9-A32378B8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38C8-CE16-4B83-99AA-4F956894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AEEB-3A4B-4510-9EFA-ECFFAEC8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1537-06CA-4D1D-9204-AAE3CB9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72871-FE17-46AC-907E-5C49FEB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E345-04AE-41D5-A014-9EC26B2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2A04-31BC-42AD-B8A9-82548C0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9258-2CE0-42B6-AC56-5FAE5DB5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187-EEBF-4F70-8712-4A1C810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934E-3BCD-4780-A8A0-C1C78EE6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2D50-541D-4923-85BB-38414F63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DD4C-9676-4A1C-80E3-04BFDCD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FC91-ED85-43E6-BC02-7367964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A0A2-785B-4B63-ABD4-F829F5BA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2C2A-4366-44BB-95C3-0EF6B06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2062-2164-4444-ADD2-B5213CB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8C87-D1AD-43AE-9CC7-03CE045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F71C-4BE2-4526-A579-79705D9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67708-867D-483C-9943-A2CB5C8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9D0-C777-45AB-A1A2-C03ECBB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CDED5-81C6-453E-A2ED-D608A7B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E7D5-676F-4EEF-81AC-15122CA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2A50-E000-4A59-A203-A8001D25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E869-BEEA-403A-9206-675620D0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C74F-414C-4EFD-914A-4A2D4ED7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980A-8807-439D-A8DC-7903220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7ABA-4301-4957-B125-830533C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98DC2-D031-498F-94C2-146637FC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6E07-5653-4FFF-9E83-E990143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3579-80C8-46FF-BC3D-F21F730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148-A946-4ADC-850E-8FF3CD4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F8C1-05D6-4293-8F33-B92CEF70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1A52-53F2-4166-A60A-22F6ADA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2798-7F93-4FAC-BFE5-D11EE981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0BEA-D7C2-4EA6-A01D-2F1774C6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0AB6-261B-4E59-A194-93BBC09F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8BB-2644-4298-B7AA-10F55C1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5FA-51C6-4DA1-B363-75D2E6FBF8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387-218C-4BE0-8F12-584D9BFEFF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DF86-0691-4010-8DEF-F632F54F49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CFB-085E-41E1-9198-37770B2C5D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435-7294-4D3B-970C-0D1B412A6C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2C4A-5782-483B-8127-EE842E10C7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773-DE1F-48EC-9BE7-18FE438789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TRE-DAME DE PAR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4800" y="517680"/>
            <a:ext cx="290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14160" y="-420840"/>
            <a:ext cx="11210760" cy="54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Près de square Viviane sur l'île de la Cité se trouve la cathédrale Notre-Dame de Paris. C'est un pur joyau de l'art gothiqu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3452760" y="2449440"/>
            <a:ext cx="61801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440" y="162036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actuelle Notre-Dame a été fondée par l'évêque Maurice de Sully. Sa construction a commencé en 1163. L'édifice a été terminé vers 1230. Le génial auteur des plans est inconnu. Peu entretenu au cours des siècles l'édifice commence à se détrui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Рисунок 3" descr=""/>
          <p:cNvPicPr/>
          <p:nvPr/>
        </p:nvPicPr>
        <p:blipFill>
          <a:blip r:embed="rId1"/>
          <a:stretch/>
        </p:blipFill>
        <p:spPr>
          <a:xfrm>
            <a:off x="1305000" y="2914560"/>
            <a:ext cx="9163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05280" y="531720"/>
            <a:ext cx="4900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552680"/>
            <a:ext cx="108205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 milieu du XVIII siècle Notre-Dame est dans un triste état. Grâce à Viollet-le-Duc et à son équipe d'artistes et d’artisans, les travaux de restauration commencent en 1841.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l</a:t>
            </a: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s durent un peu plus de vingt ans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1581120" y="2638440"/>
            <a:ext cx="85996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4640" y="586440"/>
            <a:ext cx="60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49360" y="2249640"/>
            <a:ext cx="505944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cune cathédrale de France n'a ce merveilleux équilibre de ses proportions, la pureté de ses lignes, la simplicité dans la richesse qui caractérise sa décoration. Le gros bourdon de Notre-Dame s'appelle l'Emmanuel" et pèse 13 ton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616572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240" y="950760"/>
            <a:ext cx="37922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tre Dame de Paris c’est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cathedrale se trouve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Notre-Dame a été fondée par...  en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Emmanuel c’est...qui pese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Je voudrais visiter ... et voir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0:41Z</dcterms:created>
  <dc:creator>WinPRO</dc:creator>
  <dc:description/>
  <dc:language>en-US</dc:language>
  <cp:lastModifiedBy>User</cp:lastModifiedBy>
  <dcterms:modified xsi:type="dcterms:W3CDTF">2018-03-28T12:33:29Z</dcterms:modified>
  <cp:revision>9</cp:revision>
  <dc:subject/>
  <dc:title>Notre-Dame de Paris</dc:title>
</cp:coreProperties>
</file>