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A65-BBB5-4D7B-A40D-E198C8AB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F143-58B4-4433-BF86-AC9F0280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69F-0C9E-4793-B66F-B575835F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E01-F6FD-4598-959E-134F97C6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0A8C-3042-464B-832F-3F58720B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B0EC-8AD9-48C6-B8C8-EF196AB4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7793-5075-4722-B677-68F4786E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C25D-569A-4305-B2AF-3AF9E137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3B9C-EB43-4AD4-8467-C0D887F8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CDA2-4A4E-4DAF-AA56-4B5E8385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3B38-86B1-49F1-9B95-090A8CEF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4CED-EEE3-4AC4-8284-242BD66B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4322-E3AF-47BB-89EB-FC234252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ABD1-186F-4F9C-B38B-D395BF35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3C14-52F5-416A-BF3B-EFC74B52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A363-5B68-4576-81B2-DFDFC0F1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81C4-56B1-4069-8D3A-5F70BFE4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38A76-9692-44DD-829B-38D4A759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1C409-5E10-411B-B435-49CD38D6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FC7CB-A9C4-4DE9-9544-87232320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E70C1-55A4-4ADF-A3B6-4BA4B98E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9A09B-C8B5-445F-841E-6F199650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7919-3728-4FBD-B5A2-E84CB6AC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B4565-D3C2-4D5E-9EA5-075C5D63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8E93E-7536-41FE-93CD-14D3EA69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D2E5C-DBFF-4012-A784-3BF48188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6E835-447A-4384-8292-1397CED9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88C32-6B49-417A-B4B1-EBA92406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DBC55-B3EB-482E-B050-DC4A15B6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D0653-47DF-4BC8-A99D-15225C8E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3799B-812F-4DAB-9AA8-1FDA1506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ACA28-28D6-4D13-99E6-688868A2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3B6AA-78EF-482A-A761-5DD13FC0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D0E-79EB-4645-B3D9-BF1A676B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1C223-3EBF-43EF-BDDA-40D49F18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02D9A-54EF-46B5-B4CD-3FF7CB44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5FBB9-59CB-4284-9CFD-FBA02B4E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6C357-0F77-4C8C-BE1E-22E62E3E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CE835-469E-49FC-9766-E32F539C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78B88-7555-4A83-97F6-E1052C7E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E6EFD-6EC0-416E-8D7D-4E2A60E1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1CFC2-09B1-4A17-9505-6F6FFD00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A84E3-5ABA-4AA0-94B1-21661A0E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398AD-0DED-4162-A789-0F5917BD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5FB6-44A1-4C5B-8D04-AB15A23E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901C1-7DAC-471F-A1FA-DB2F8ABE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996B0-A494-48E9-82AD-300E9494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6F9F1-9CBA-40FC-9F1A-C27C5085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B108D-C6DF-4F65-BA1C-03523B4F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74FD9-EF45-4923-A914-22D68634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A939B-375D-4A9B-A57E-7DF1527A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7157B-67ED-4BB2-B927-8BD66190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8DAEC-0EF9-4DAF-842D-55D08DDD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16D74-02AE-4C12-887C-913D36CE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A12AB-E115-4E28-A3FE-A1E916A4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B7E-DDCC-47FE-B8E1-B1E5D677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286F8-94C4-4AE4-84ED-11F63D68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4852C-D1EE-48C1-9598-F1C971CC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6BFCC-D68F-4CEC-BFE3-FE5624E3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68409-4148-47A6-94E9-04AB7C3C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BAE0E-6664-4953-A00E-A0B25BE6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23420-C9F5-4829-A0A7-9355C1D9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3DA90-272F-4EFA-82A4-802CC37B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623F9-D324-4B27-A412-4039C653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E9563-4A05-4523-B8F5-E98A8091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F2F31-33D6-4E15-AF34-4DC7DFE0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E98A-C187-43BE-8AE0-95FA7E36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E9DF2-A754-4FBE-AFC0-05AAE2E7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0D21E-82BA-4BC2-A023-17D411AC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48054-F061-4C98-B876-7E8CC86D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85345-0CCA-4FA6-B523-A3FA488C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0EAA3-5577-461B-B1DA-237496A8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48572-7157-4F56-B22C-AAD4ABF1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65035-EE2E-4E00-9511-BB04E32B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F5DE3-EF8C-41D2-B3D8-55961310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D284B-C663-4CF5-8E79-03CB7C0A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8C0A9-3883-4B80-8603-800AD9A7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C18-15EF-451E-A44A-F1D6B3F6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117E7-589C-49E4-81DA-521BE54E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4D734-E1BC-40D2-821B-9BB778C0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60C74-6BD2-4239-BFBB-8945E16B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BCA2A-6B30-45F6-A59E-1CC55C24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A3011-90E1-4B7E-B60E-6F376CC9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3302-35C5-4C69-BAEF-C0F88D3C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94640" y="6356520"/>
            <a:ext cx="291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3805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A07F-A860-47BC-962F-6F3F1ACF927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0-HD-BTM.png"/>
          <p:cNvPicPr/>
          <p:nvPr/>
        </p:nvPicPr>
        <p:blipFill>
          <a:blip r:embed="rId3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908840" y="4314960"/>
            <a:ext cx="2911680" cy="3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371600" y="4324320"/>
            <a:ext cx="64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77320" y="1430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A2FA-D2A9-43B6-A6C1-8D85AF98DA3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85800" y="380880"/>
            <a:ext cx="699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3913-0427-4950-AC2F-B6EBDE38A95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372E-CBC8-40BD-91A7-6975BD333C2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476280" y="93348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10983960" y="27018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7707-91D8-4087-8C65-5827CF02479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BC58-215E-48B2-BFEE-FDF29D8512A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685800" y="380520"/>
            <a:ext cx="699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6583-5731-48DB-A0C3-6AA64B6F9A2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1803240"/>
            <a:ext cx="9448920" cy="18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NOTRE-DAME DE PARIS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240" y="363168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884800" y="517680"/>
            <a:ext cx="290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14160" y="-420840"/>
            <a:ext cx="11210760" cy="541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entury Gothic"/>
              </a:rPr>
              <a:t>Près de square Viviane sur l'île de la Cité se trouve la cathédrale Notre-Dame de Paris. C'est un pur joyau de l'art gothiqu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1" name="Рисунок 3" descr=""/>
          <p:cNvPicPr/>
          <p:nvPr/>
        </p:nvPicPr>
        <p:blipFill>
          <a:blip r:embed="rId1"/>
          <a:stretch/>
        </p:blipFill>
        <p:spPr>
          <a:xfrm>
            <a:off x="3452760" y="2449440"/>
            <a:ext cx="618012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440" y="162036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L'actuelle Notre-Dame a été fondée par l'évêque Maurice de Sully. Sa construction a commencé en 1163. L'édifice a été terminé vers 1230. Le génial auteur des plans est inconnu. Peu entretenu au cours des siècles l'édifice commence à se détruir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4" name="Рисунок 3" descr=""/>
          <p:cNvPicPr/>
          <p:nvPr/>
        </p:nvPicPr>
        <p:blipFill>
          <a:blip r:embed="rId1"/>
          <a:stretch/>
        </p:blipFill>
        <p:spPr>
          <a:xfrm>
            <a:off x="1305000" y="2914560"/>
            <a:ext cx="916308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605280" y="531720"/>
            <a:ext cx="49006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440" y="1552680"/>
            <a:ext cx="1082052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Au milieu du XVIII siècle Notre-Dame est dans un triste état. Grâce à Viollet-le-Duc et à son équipe d'artistes et d’artisans, les travaux de restauration commencent en 1841.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Il</a:t>
            </a: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s durent un peu plus de vingt ans. 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Рисунок 3" descr=""/>
          <p:cNvPicPr/>
          <p:nvPr/>
        </p:nvPicPr>
        <p:blipFill>
          <a:blip r:embed="rId1"/>
          <a:stretch/>
        </p:blipFill>
        <p:spPr>
          <a:xfrm>
            <a:off x="1581120" y="2638440"/>
            <a:ext cx="859968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44640" y="586440"/>
            <a:ext cx="60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49360" y="2249640"/>
            <a:ext cx="505944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Aucune cathédrale de France n'a ce merveilleux équilibre de ses proportions, la pureté de ses lignes, la simplicité dans la richesse qui caractérise sa décoration. Le gros bourdon de Notre-Dame s'appelle l'Emmanuel" et pèse 13 tonne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0" name="Рисунок 3" descr=""/>
          <p:cNvPicPr/>
          <p:nvPr/>
        </p:nvPicPr>
        <p:blipFill>
          <a:blip r:embed="rId1"/>
          <a:stretch/>
        </p:blipFill>
        <p:spPr>
          <a:xfrm>
            <a:off x="6165720" y="0"/>
            <a:ext cx="602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9240" y="950760"/>
            <a:ext cx="379224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ONTINUEZ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Notre Dame de Paris c’est…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La cathedrale se trouve…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Notre-Dame a été fondée par...  en ..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l'Emmanuel c’est...qui pese..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Je voudrais visiter ... et voir ..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8T16:00:41Z</dcterms:created>
  <dc:creator>WinPRO</dc:creator>
  <dc:description/>
  <dc:language>en-US</dc:language>
  <cp:lastModifiedBy>User</cp:lastModifiedBy>
  <dcterms:modified xsi:type="dcterms:W3CDTF">2018-03-28T12:33:29Z</dcterms:modified>
  <cp:revision>9</cp:revision>
  <dc:subject/>
  <dc:title>Notre-Dame de Paris</dc:title>
</cp:coreProperties>
</file>