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117-E167-43A2-A72B-5415DC0D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08D-3CF7-4ACB-A48E-69D71F8E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309-82DE-4DB1-B2A0-2C1EA54F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8105-70FD-4258-9960-7D5D26D9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C76D-CE0E-4B0C-A6BF-4088DCB7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187C-0D8A-43FB-8C44-AB8A3663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2B5F-83BF-439F-89AC-B36ABD20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A4A2-823F-4299-A02E-CB498E46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91D0-5B1B-463B-BB81-8413D522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9996-5B5E-4CE0-9E4A-F09B330E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ACBF-2EF9-494D-A13D-5688FA46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DE0-D4AF-46FF-A998-4DD950D3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72DD-31D3-42B1-8B4C-B2BD44E8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20FF-D2CA-42A0-A0A8-394B11E6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2205-8D4B-49F2-84AA-D5245F4D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BDFA-7F49-4EF7-B7B1-2EDA775B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930C-8537-40B1-8497-8903F4BE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8B811-66BA-4CF2-82ED-CD25CB57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CABD3-EDC7-4D3D-BEC9-3F5C8132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2B8E3-D9FF-4673-A934-F7AA490F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B450E-09F9-4F63-A157-FFFFD700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D2614-228F-42F8-9753-57EC26ED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53B-AD02-436B-8698-3216476C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E0BBC-7825-4FFD-8486-C9944CD9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AE0BE-923E-4E78-AD74-017CDC73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2371E-49B1-49F8-9270-106FEDE0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4780F-DD5D-42F2-9361-1AEF2A7F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C6DEA-4550-42CA-8D1E-F21C59A6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E2DBC-3FD6-4D11-9B15-558E822D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23F48-1500-4874-895F-F9110695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4D778-EDFC-44D6-B134-6367F2E1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30C3E-B58C-4779-BEA3-AE069E86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73ED3-161C-4DBD-A671-9C863FD3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A580-4C5C-4F31-BA86-1C1A55E8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44272-AF04-470D-AF7D-A9F94BCB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16E5A-A328-4708-8A09-AD1AF5AC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B0AEB-5DAB-4B2E-84A4-FF0A3CB9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8BCC2-14F7-4825-AFC5-047A621B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57229-95B0-45DB-A4A3-C5FFE3C7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A6A82-4BC8-4B27-9C5B-33A95A76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A9025-F1DB-45A2-826B-224D883D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8A47B-D682-4029-8480-D23F67CA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02ABC-A243-4D88-938A-1259EBAF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CEB3F-81D3-4A48-9887-649F7439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257-2C2B-45C3-8F2E-24CB40DD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171E2-71E7-4447-A825-63E35DC5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4E55F-8592-4202-850C-111949AA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918AC-D29F-4DA3-B36C-DB923A0C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9C880-3FF3-49E4-B448-064F7F8D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C6D78-E200-4F78-9B16-625EF70A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4110D-09C7-406F-A4AF-0D377568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93EBC-54EE-4689-8F4B-078740B5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4633C-2F22-4C34-A088-D3F28C3C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195DF-2D6A-4A03-AF72-05C372C7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49A70-583C-42C2-B135-98E44AA7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D9A-24B0-4C62-ABD0-CD171D9C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C470F-55CB-4284-8F91-D350C221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648F7-C4B7-4B91-A488-36DAB5D5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78F7E-AFE3-4526-9302-7D90D1CA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EF48A-DF64-41EA-934B-F1F15BD4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07C9A-6CAE-49A8-9B99-B84EB0D8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8DFFE-3284-46DF-9886-7D3DC28B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38279-DD30-4FCF-9F7E-48CDA1A1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6E950-4543-43CA-A2AC-E7D0ABA7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53D87-C86E-4696-A067-29A472B8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7AD80-0832-4C61-900D-AFA539C6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3183-778F-492D-B990-6E43DB5C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C260F-5412-4A0F-8A01-D314FFC2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A2906-2FE4-4E5B-90D1-4054C0DD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AD0DC-C596-44D2-851B-0E6DB03F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C111F-9C05-4601-A174-1FF4810C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FA8ED-1FB6-4822-8724-85D6A025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4BCC5-7D8B-4ABB-900C-752F5CCA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44080-76EE-464B-9FDB-99A4F672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24A86-02C2-452F-9131-0125AF93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50941-D3BC-4375-971E-11B4E9FE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A77F4-7450-4FE7-A7E7-D02F9EF1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5806-AD7E-4818-8E60-7B82A82E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C435E-AEE7-4E19-8437-B03B6801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DFE86-0EF0-441D-A8F1-A38EF319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83F4B-E4B8-4162-8EE8-79B45F71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8A143-02C6-40AD-A505-F0239EC7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B8799-4941-4DF5-BA89-A639CCD8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8DF0-F24D-404E-8B97-D8D1BCDD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9DEC-932C-46F6-9194-0A586A96C4F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0-HD-BTM.png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908840" y="4314960"/>
            <a:ext cx="291168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371600" y="4324320"/>
            <a:ext cx="64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FE38-D657-4DA9-AF38-F9FF8156165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380880"/>
            <a:ext cx="699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3453-105A-4124-8A57-BB78F865BFB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43D4-617B-4C3B-B764-8EB6AC2D1D8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476280" y="93348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10983960" y="27018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10C1-13C5-48CD-AFC9-20180B38417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4EEB-3E6E-43C5-BEA8-661E85CC08D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685800" y="380520"/>
            <a:ext cx="699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A225-9D99-4795-9B78-DFCA36CFC18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1803240"/>
            <a:ext cx="944892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NOTRE-DAME DE PARIS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240" y="363168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884800" y="517680"/>
            <a:ext cx="290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14160" y="-420840"/>
            <a:ext cx="11210760" cy="541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entury Gothic"/>
              </a:rPr>
              <a:t>Près de square Viviane sur l'île de la Cité se trouve la cathédrale Notre-Dame de Paris. C'est un pur joyau de l'art gothiqu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1" name="Рисунок 3" descr=""/>
          <p:cNvPicPr/>
          <p:nvPr/>
        </p:nvPicPr>
        <p:blipFill>
          <a:blip r:embed="rId1"/>
          <a:stretch/>
        </p:blipFill>
        <p:spPr>
          <a:xfrm>
            <a:off x="3452760" y="2449440"/>
            <a:ext cx="618012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440" y="162036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L'actuelle Notre-Dame a été fondée par l'évêque Maurice de Sully. Sa construction a commencé en 1163. L'édifice a été terminé vers 1230. Le génial auteur des plans est inconnu. Peu entretenu au cours des siècles l'édifice commence à se détruir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4" name="Рисунок 3" descr=""/>
          <p:cNvPicPr/>
          <p:nvPr/>
        </p:nvPicPr>
        <p:blipFill>
          <a:blip r:embed="rId1"/>
          <a:stretch/>
        </p:blipFill>
        <p:spPr>
          <a:xfrm>
            <a:off x="1305000" y="2914560"/>
            <a:ext cx="91630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605280" y="531720"/>
            <a:ext cx="49006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440" y="1552680"/>
            <a:ext cx="1082052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Au milieu du XVIII siècle Notre-Dame est dans un triste état. Grâce à Viollet-le-Duc et à son équipe d'artistes et d’artisans, les travaux de restauration commencent en 1841.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Il</a:t>
            </a: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s durent un peu plus de vingt ans. 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Рисунок 3" descr=""/>
          <p:cNvPicPr/>
          <p:nvPr/>
        </p:nvPicPr>
        <p:blipFill>
          <a:blip r:embed="rId1"/>
          <a:stretch/>
        </p:blipFill>
        <p:spPr>
          <a:xfrm>
            <a:off x="1581120" y="2638440"/>
            <a:ext cx="85996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44640" y="586440"/>
            <a:ext cx="60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49360" y="2249640"/>
            <a:ext cx="505944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Aucune cathédrale de France n'a ce merveilleux équilibre de ses proportions, la pureté de ses lignes, la simplicité dans la richesse qui caractérise sa décoration. Le gros bourdon de Notre-Dame s'appelle l'Emmanuel" et pèse 13 tonne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0" name="Рисунок 3" descr=""/>
          <p:cNvPicPr/>
          <p:nvPr/>
        </p:nvPicPr>
        <p:blipFill>
          <a:blip r:embed="rId1"/>
          <a:stretch/>
        </p:blipFill>
        <p:spPr>
          <a:xfrm>
            <a:off x="6165720" y="0"/>
            <a:ext cx="602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9240" y="950760"/>
            <a:ext cx="379224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ONTINUEZ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otre Dame de Paris c’est…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La cathedrale se trouve…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Notre-Dame a été fondée par...  en ..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l'Emmanuel c’est...qui pese..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entury Gothic"/>
              </a:rPr>
              <a:t>Je voudrais visiter ... et voir ..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8T16:00:41Z</dcterms:created>
  <dc:creator>WinPRO</dc:creator>
  <dc:description/>
  <dc:language>en-US</dc:language>
  <cp:lastModifiedBy>User</cp:lastModifiedBy>
  <dcterms:modified xsi:type="dcterms:W3CDTF">2018-03-28T12:33:29Z</dcterms:modified>
  <cp:revision>9</cp:revision>
  <dc:subject/>
  <dc:title>Notre-Dame de Paris</dc:title>
</cp:coreProperties>
</file>