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A89-DDD6-4043-9E3D-35DC5834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FEB-E4CD-4799-81C9-1E91D541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51E-94AE-46DA-A5F8-5BB6E1EC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959-A915-4127-8915-8FEE0867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CE47-FD73-4738-9CB0-4E083D1B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B109-B1FF-4FE5-A48A-DB8FFB37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C062-18EE-4548-AA35-AB426525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B768-5B91-4454-B209-8829DEAC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CC74-4473-49AC-B6F2-0827AF0B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AC43-1AC4-461A-9B15-41069D22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3E7D-D042-4C6E-9A37-5977662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A44-5AC9-4702-986A-CCE3EC87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B146-F584-49EE-A968-D94F3567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8806-EEF3-44BD-AF33-B2757F18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1028-5634-4BBF-88D7-8395A9A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CF0B-F2FF-4416-80E1-5C3D0F61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5AE8-A1D2-4D34-8B14-AD6CC626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D935-8296-42CD-9894-FA27CD88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F3BF-B6AE-405C-9580-0AB59FD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648B-C7E6-41D3-8831-C513B00B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5463-107B-4A63-906C-A610048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C841-2C2C-4D24-9FB9-476B6982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369-732C-45C4-8B06-6A621AF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9888-74B5-4702-95B0-1EDFAFF8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F81F-7B19-4CD7-AAE9-84264A4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B5C1-E7B6-4354-B6CE-0B2C8D9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8CA4-4A56-45A9-A81A-1624DC34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2550-88C8-4184-9A83-0CE04294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016F-7BD2-42F6-A107-50315369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5788-EDD7-4FFA-928F-27EA1B79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FCD7-4994-4FC6-B7E7-F0CD814E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EBFB-6FEB-46BF-AD6E-2EC2C4AF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CE30-56E4-4873-A10F-05C9D2CE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F83-67D1-4C70-BCA2-992F1A4A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CE29-F72A-4477-888F-C13AF663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F828-92BA-4DF3-B327-E8578AA9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BB0C-FB4D-4333-AD89-82ABC93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5217-BFCF-437D-AFED-2263F2C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F53A-D0B8-4B49-BA45-27FA7FD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2A39-07CA-457F-900F-5508842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4BFD-66A6-4AE9-813A-BCA5BC02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50A49-A804-44D2-96BF-8B0E158E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EA90-4641-423B-B413-97726E6C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E7C8-BCE4-40D3-B016-A901A3F8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2ED-9FDF-4433-9428-4A71C938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FE99-98BE-4761-9241-3DAD069A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536D-E25F-4272-91CA-859A1F0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F11F4-7730-4449-B2D0-70ABC38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25D5F-FD38-4168-936F-EA8F8957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9DAE-2128-4131-AC5A-FAEB6514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1AA3-784E-4D9F-BA6D-6FB613E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E921-B7C1-4BBA-A0C2-F4C37B9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5F6B-944D-499E-9514-21B38A7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ABD4-88A6-46BD-B8BE-BDB500B9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7723-1DC5-4506-86A7-F2F8A032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8CA-A853-429D-8467-06B5C409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0AB6-2445-4DC2-B9C6-A2A33D38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A172-918E-43FF-8C21-2EBBCE29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01AC9-CE8F-4962-8342-6424355A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D096-B65A-4DC0-9BDC-0F524A99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52416-E865-409E-9312-9F55559F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00099-AAC1-4FA7-8B98-19812F50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3C42-A9B3-4476-9C9C-56B1FB16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B3ACD-7226-4A34-812C-598FF8E6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92DC8-26E3-4159-AB1A-11D31B23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44800-E863-4561-978E-4229E181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C6A-B5E5-4114-8D54-466CA0BB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7C98-9665-4105-BE46-F5BE20DE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D553-822D-43E5-B761-9FF92D9F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23C89-7A23-4FF2-80E1-851ADD97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4F7C6-9676-4AF9-80BD-0ED3F379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736F1-DE28-4BC7-AA75-FE212495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D34E-1C87-416B-BAA3-611A045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ABA50-02DF-4966-934D-E58C1E4F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9877-01C2-4B95-8CBE-F595EE13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0B52-C158-4A17-A068-2F98AAC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CBAC9-3FBA-4F56-A947-61495619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01C-C82C-43BD-BFE6-389C2D6F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DA92-6ADC-4FFB-A90E-F24E7D67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E6D16-5FDB-4641-84DE-5C75320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CF8CC-1EAE-45B9-9299-1C08B992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3A59-A0EE-4E65-86B2-7FAADDCB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E21C0-9122-4266-AF0D-D0B4045A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49C-4950-4E56-AC68-8602DC6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A69-185B-430B-9F5D-D33437524E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47E0-44B0-47A8-8868-6B73B6FDF5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68C-D7D0-465B-A546-22C77C8BE1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6472-CA85-4347-AEA7-8834EAB699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492F-1F6E-4F6A-8A5B-9D30EF4685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7968-29F8-449E-A6F7-8B759384BF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3A41-CE8D-49B3-A954-FEFBC19BA1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TRE-DAME DE PARI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884800" y="517680"/>
            <a:ext cx="290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14160" y="-420840"/>
            <a:ext cx="11210760" cy="54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Près de square Viviane sur l'île de la Cité se trouve la cathédrale Notre-Dame de Paris. C'est un pur joyau de l'art gothiqu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1" name="Рисунок 3" descr=""/>
          <p:cNvPicPr/>
          <p:nvPr/>
        </p:nvPicPr>
        <p:blipFill>
          <a:blip r:embed="rId1"/>
          <a:stretch/>
        </p:blipFill>
        <p:spPr>
          <a:xfrm>
            <a:off x="3452760" y="2449440"/>
            <a:ext cx="61801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440" y="162036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actuelle Notre-Dame a été fondée par l'évêque Maurice de Sully. Sa construction a commencé en 1163. L'édifice a été terminé vers 1230. Le génial auteur des plans est inconnu. Peu entretenu au cours des siècles l'édifice commence à se détrui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4" name="Рисунок 3" descr=""/>
          <p:cNvPicPr/>
          <p:nvPr/>
        </p:nvPicPr>
        <p:blipFill>
          <a:blip r:embed="rId1"/>
          <a:stretch/>
        </p:blipFill>
        <p:spPr>
          <a:xfrm>
            <a:off x="1305000" y="2914560"/>
            <a:ext cx="9163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05280" y="531720"/>
            <a:ext cx="4900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440" y="1552680"/>
            <a:ext cx="1082052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 milieu du XVIII siècle Notre-Dame est dans un triste état. Grâce à Viollet-le-Duc et à son équipe d'artistes et d’artisans, les travaux de restauration commencent en 1841.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l</a:t>
            </a: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s durent un peu plus de vingt ans. 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1581120" y="2638440"/>
            <a:ext cx="85996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4640" y="586440"/>
            <a:ext cx="60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49360" y="2249640"/>
            <a:ext cx="505944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cune cathédrale de France n'a ce merveilleux équilibre de ses proportions, la pureté de ses lignes, la simplicité dans la richesse qui caractérise sa décoration. Le gros bourdon de Notre-Dame s'appelle l'Emmanuel" et pèse 13 tonn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Рисунок 3" descr=""/>
          <p:cNvPicPr/>
          <p:nvPr/>
        </p:nvPicPr>
        <p:blipFill>
          <a:blip r:embed="rId1"/>
          <a:stretch/>
        </p:blipFill>
        <p:spPr>
          <a:xfrm>
            <a:off x="616572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9240" y="950760"/>
            <a:ext cx="379224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tre Dame de Paris c’est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 cathedrale se trouve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Notre-Dame a été fondée par...  en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Emmanuel c’est...qui pese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Je voudrais visiter ... et voir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6:00:41Z</dcterms:created>
  <dc:creator>WinPRO</dc:creator>
  <dc:description/>
  <dc:language>en-US</dc:language>
  <cp:lastModifiedBy>User</cp:lastModifiedBy>
  <dcterms:modified xsi:type="dcterms:W3CDTF">2018-03-28T12:33:29Z</dcterms:modified>
  <cp:revision>9</cp:revision>
  <dc:subject/>
  <dc:title>Notre-Dame de Paris</dc:title>
</cp:coreProperties>
</file>