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45F31-6773-4ABC-837E-50F3FCA41892}" type="slidenum"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40B2A-AF1C-4D2E-94F9-DB9CE824AB66}" type="slidenum"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F3AA5-2DDB-4AE0-BFD0-F1F6F1F2B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AB2B1-3605-41A3-AE35-4635CC5F9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70BD2-D4FB-4B4D-B54C-55A29AF31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CF9AC-FC4B-4AE6-8F64-1A6045186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4AC29-4139-4DF1-9770-DFAE938A6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22B07-59FA-4DA4-BFE5-8E32482B6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D3CB4-B42B-4A67-813F-DEA55A9E5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E580C-75BF-4405-8F34-FBF1830AF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C2CAF-64A8-4856-AF6E-E5FD819AD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3B5B1-16F5-49AA-BC35-BC07F748A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82FFF-D525-4A30-95F2-26BF2A55D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7A32A-A61F-4E51-AF00-0A4B89705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B7B62-6E5B-4462-87DD-BCB1BDAE8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F4A0D-99EF-4288-B8EE-4D933629A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73ABE-A374-4355-93F3-32721B8D9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5D392-557D-4A7D-A6CF-F3C8F56F1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F969B-7307-48DC-9D4C-A07D7191C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B2D1C-CAA5-4D24-8D3C-F97F845CD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8CE84-4407-49D1-B949-64DADCC78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286CF-7F29-4883-9C35-D4A4ED805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67D6B-C979-406A-BF7C-5E91EF681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F22FB-0F8A-491D-8FA0-91F22DE36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865BE-2EB5-42BA-A370-A089708E4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D05D0-C8EA-4646-974D-1626F5371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E81A6-1CA6-48AB-8F00-54DDBCD524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6F4E3-44D9-461A-AF8A-D757C73955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77240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643040" y="1143000"/>
            <a:ext cx="6400800" cy="391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 u="sng">
                <a:solidFill>
                  <a:srgbClr val="000000"/>
                </a:solidFill>
                <a:uFillTx/>
                <a:latin typeface="Broadway BT"/>
              </a:rPr>
              <a:t>Игра</a:t>
            </a:r>
            <a:r>
              <a:rPr b="1" i="1" lang="ru-RU" sz="5400" spc="-1" strike="noStrike">
                <a:solidFill>
                  <a:srgbClr val="000000"/>
                </a:solidFill>
                <a:latin typeface="Broadway BT"/>
              </a:rPr>
              <a:t> </a:t>
            </a:r>
            <a:r>
              <a:rPr b="1" i="1" lang="ru-RU" sz="5400" spc="-1" strike="noStrike">
                <a:solidFill>
                  <a:srgbClr val="000000"/>
                </a:solidFill>
                <a:latin typeface="Times New Roman"/>
              </a:rPr>
              <a:t>как метод, способствующий формированию и повышения уровня познавательной активности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ircl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Рисунок 1" descr="Nv5.jpg"/>
          <p:cNvPicPr/>
          <p:nvPr/>
        </p:nvPicPr>
        <p:blipFill>
          <a:blip r:embed="rId2"/>
          <a:stretch/>
        </p:blipFill>
        <p:spPr>
          <a:xfrm>
            <a:off x="714240" y="642960"/>
            <a:ext cx="7929720" cy="57862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Рисунок 1" descr="DSC_1727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57216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Прямоугольник 2"/>
          <p:cNvSpPr/>
          <p:nvPr/>
        </p:nvSpPr>
        <p:spPr>
          <a:xfrm>
            <a:off x="428760" y="142920"/>
            <a:ext cx="87152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Игра -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способ обучения действиям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в ней заложена познавательная задача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игра позволяет гармонизировать отношения между педагогом и ребенком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осредством игры рождается особый стиль взаимоотношений  и уважения друг к другу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Таким образом, могучим фактором, способствующим познавательной активности детей, является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игра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.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l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Прямоугольник 4"/>
          <p:cNvSpPr/>
          <p:nvPr/>
        </p:nvSpPr>
        <p:spPr>
          <a:xfrm>
            <a:off x="2143080" y="1285920"/>
            <a:ext cx="457200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0" spc="-1" strike="noStrike">
                <a:solidFill>
                  <a:srgbClr val="000000"/>
                </a:solidFill>
                <a:latin typeface="Times New Roman"/>
              </a:rPr>
              <a:t>Спасибо за внимание!!!!! </a:t>
            </a:r>
            <a:r>
              <a:rPr b="0" i="1" lang="ru-RU" sz="80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i="1" lang="ru-RU" sz="8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l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Ребенок – прирожденный исследователь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600" spc="-1" strike="noStrike">
                <a:solidFill>
                  <a:srgbClr val="000000"/>
                </a:solidFill>
                <a:latin typeface="Broadway BT"/>
              </a:rPr>
              <a:t>    </a:t>
            </a:r>
            <a:r>
              <a:rPr b="0" i="1" lang="ru-RU" sz="6600" spc="-1" strike="noStrike">
                <a:solidFill>
                  <a:srgbClr val="000000"/>
                </a:solidFill>
                <a:latin typeface="Broadway BT"/>
              </a:rPr>
              <a:t>Поэтому важно вовлекать ребенка в познавательную активность. 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57120" y="500040"/>
            <a:ext cx="8786880" cy="13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знавательной активностью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детей дошкольного возраста следует понимать как активность, проявляемую в процессе познания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14200" y="1981080"/>
            <a:ext cx="8715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Младший дошкольный возраст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–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остое процессуальное экспериментирование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Старший дошкольный возраст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–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знавательно-исследовательская деятельност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42960" y="214200"/>
            <a:ext cx="7772400" cy="185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Характеристика  этапов  процесса познания  окружающей  действительности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714320"/>
            <a:ext cx="777240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Первый этап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– проявлением – любопытства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собенностью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Второй этап -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резкое увеличение осмысленности восприятия окружающего мира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Третий этап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 усвоение обобщенных знания о предметах и явлениях действительности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Четвёртый этап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– удовлетворение исследовательской деятельностью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Пятый этап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- осмысленное принятие познавательной задач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Прямоугольник 2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Прямоугольник 3"/>
          <p:cNvSpPr/>
          <p:nvPr/>
        </p:nvSpPr>
        <p:spPr>
          <a:xfrm>
            <a:off x="0" y="0"/>
            <a:ext cx="91440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000000"/>
                </a:solidFill>
                <a:uFillTx/>
                <a:latin typeface="Times New Roman"/>
              </a:rPr>
              <a:t>Познавательное развитие предполагает: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развитие интересов детей;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любознательности и познавательной мотивации;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3)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формирование познавательных действий;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4)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развития воображения и творческой активности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5)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Формирование первичных представлений о себе, других людях, объектах окружающего мира (форме, цвете, размере и т.д) П. 2.6 ФГО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Прямоугольник 4"/>
          <p:cNvSpPr/>
          <p:nvPr/>
        </p:nvSpPr>
        <p:spPr>
          <a:xfrm>
            <a:off x="0" y="1714680"/>
            <a:ext cx="91440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Прямоугольник 5"/>
          <p:cNvSpPr/>
          <p:nvPr/>
        </p:nvSpPr>
        <p:spPr>
          <a:xfrm>
            <a:off x="0" y="0"/>
            <a:ext cx="91440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6"/>
          <p:cNvSpPr/>
          <p:nvPr/>
        </p:nvSpPr>
        <p:spPr>
          <a:xfrm>
            <a:off x="0" y="263880"/>
            <a:ext cx="9144000" cy="62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Прямоугольник 1"/>
          <p:cNvSpPr/>
          <p:nvPr/>
        </p:nvSpPr>
        <p:spPr>
          <a:xfrm>
            <a:off x="0" y="0"/>
            <a:ext cx="9021600" cy="66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Игра - 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ведущий вид деятельности в дошкольном возрасте. В условиях реализации ФГОС обучение детей производится в игре. Игра нужна, чтобы ребенок рос здоровым, жизнерадостным и крепким. Она активизирует ум и волю ребенка, глубоко затрагивает его чувства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Рисунок 1" descr="poznavatelno-issledovatelskaya-deyatelno.jpg"/>
          <p:cNvPicPr/>
          <p:nvPr/>
        </p:nvPicPr>
        <p:blipFill>
          <a:blip r:embed="rId2"/>
          <a:stretch/>
        </p:blipFill>
        <p:spPr>
          <a:xfrm>
            <a:off x="3240" y="0"/>
            <a:ext cx="9137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оугольник 1"/>
          <p:cNvSpPr/>
          <p:nvPr/>
        </p:nvSpPr>
        <p:spPr>
          <a:xfrm>
            <a:off x="0" y="0"/>
            <a:ext cx="849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Рисунок 2" descr="DSC_172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Рисунок 2" descr="DSC_1725.JPG"/>
          <p:cNvPicPr/>
          <p:nvPr/>
        </p:nvPicPr>
        <p:blipFill>
          <a:blip r:embed="rId2"/>
          <a:stretch/>
        </p:blipFill>
        <p:spPr>
          <a:xfrm>
            <a:off x="0" y="380880"/>
            <a:ext cx="9144000" cy="60962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2T09:31:32Z</dcterms:created>
  <dc:creator>qwerty</dc:creator>
  <dc:description/>
  <cp:keywords>шаблоны для презентаций</cp:keywords>
  <dc:language>en-US</dc:language>
  <cp:lastModifiedBy>User</cp:lastModifiedBy>
  <dcterms:modified xsi:type="dcterms:W3CDTF">2018-03-28T11:54:46Z</dcterms:modified>
  <cp:revision>27</cp:revision>
  <dc:subject/>
  <dc:title>фон облака</dc:title>
</cp:coreProperties>
</file>