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2B38-276D-4CF4-9907-23C65839F9E9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E858-E1A2-45F9-BFE4-6FF3CB2D4009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463-6844-4F38-8B3B-C4C5F612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C13-6D9D-4539-859E-E3F5F92F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89C-6184-4472-9898-EE69B047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E8D-99F7-40C6-AE2D-C7CD7F37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1743-29B1-452F-B603-21EA12DB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871A-2977-4535-A33E-C3DD105F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2115-79C3-4856-BF31-4C16E04A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4F9B-7766-4768-8A8E-7D603F3C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BCFE-4A54-431B-9C23-04865ED3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D0C0-DCAA-4554-B5F4-67096600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3FC6-1C94-44F5-B5F2-3643D593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047-CF08-402A-8B17-BF7DDC71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5946-980E-4A17-ADAB-C38C67B2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0629-130B-4013-AF32-DB6F0D9A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64C1-B80E-4795-8E5F-93DF9D49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44DA-6950-495E-8E5D-0CB30EDB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6025-60A9-4B78-A992-C68AB327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067-EB23-4A83-9FB8-43D5EF70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98E-4D78-49B9-BC2F-BEA01DB7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EEE-58D4-4F75-BE07-592DBAA4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027-7B86-4F14-9146-5B7E8011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CE3-A4F6-4C5E-8C40-F8CEE059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23B-79EB-4A29-B489-546CFDE2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5B7-436A-4951-AA14-DCE8D7E0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4925-1718-4948-84E6-5C5E0996D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1D41-DE7E-4344-9E61-AC7E7EDC8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3040" y="1143000"/>
            <a:ext cx="640080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Broadway BT"/>
              </a:rPr>
              <a:t>Игра</a:t>
            </a:r>
            <a:r>
              <a:rPr b="1" i="1" lang="ru-RU" sz="5400" spc="-1" strike="noStrike">
                <a:solidFill>
                  <a:srgbClr val="000000"/>
                </a:solidFill>
                <a:latin typeface="Broadway BT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как метод, способствующий формированию и повышения уровня познавательной активности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Nv5.jpg"/>
          <p:cNvPicPr/>
          <p:nvPr/>
        </p:nvPicPr>
        <p:blipFill>
          <a:blip r:embed="rId2"/>
          <a:stretch/>
        </p:blipFill>
        <p:spPr>
          <a:xfrm>
            <a:off x="714240" y="642960"/>
            <a:ext cx="792972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DSC_172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2"/>
          <p:cNvSpPr/>
          <p:nvPr/>
        </p:nvSpPr>
        <p:spPr>
          <a:xfrm>
            <a:off x="428760" y="142920"/>
            <a:ext cx="8715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гра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соб обучения действия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ней заложена познавательная задач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гра позволяет гармонизировать отношения между педагогом и ребенком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редством игры рождается особый стиль взаимоотношений  и уважения друг к другу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аким образом, могучим фактором, способствующим познавательной активности детей, является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гр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4"/>
          <p:cNvSpPr/>
          <p:nvPr/>
        </p:nvSpPr>
        <p:spPr>
          <a:xfrm>
            <a:off x="2143080" y="128592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!!!! </a:t>
            </a:r>
            <a:r>
              <a:rPr b="0" i="1" lang="ru-RU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бенок – прирожденный исследователь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Broadway BT"/>
              </a:rPr>
              <a:t>    </a:t>
            </a:r>
            <a:r>
              <a:rPr b="0" i="1" lang="ru-RU" sz="6600" spc="-1" strike="noStrike">
                <a:solidFill>
                  <a:srgbClr val="000000"/>
                </a:solidFill>
                <a:latin typeface="Broadway BT"/>
              </a:rPr>
              <a:t>Поэтому важно вовлекать ребенка в познавательную активность.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7868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навательной активност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етей дошкольного возраста следует понимать как активность, проявляемую в процессе позн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4200" y="19810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адший дошкольный возрас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стое процессуальное экспериментир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арший дошкольный возрас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навательно-исследовательская дея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арактеристика  этапов  процесса познания  окружающей  действительн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й эта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оявлением – любопытств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енность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торой этап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езкое увеличение осмысленности восприятия окружающего ми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ретий этап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усвоение обобщенных знания о предметах и явлениях действитель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етвёртый эта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довлетворение исследовательской деятельностью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ятый эта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смысленное принятие познавательной задач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знавательное развитие предполагает: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витие интересов детей;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юбознательности и познавательной мотивации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рмирование познавательных действий;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вития воображения и творческой активност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рмирование первичных представлений о себе, других людях, объектах окружающего мира (форме, цвете, размере и т.д) П. 2.6 ФГ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0" y="1714680"/>
            <a:ext cx="9144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0" y="0"/>
            <a:ext cx="9144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263880"/>
            <a:ext cx="9144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0" y="0"/>
            <a:ext cx="90216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гра -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едущий вид деятельности в дошкольном возрасте. В условиях реализации ФГОС обучение детей производится в игре. Игра нужна, чтобы ребенок рос здоровым, жизнерадостным и крепким. Она активизирует ум и волю ребенка, глубоко затрагивает его чувств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poznavatelno-issledovatelskaya-deyatelno.jp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0" y="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Рисунок 2" descr="DSC_17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2" descr="DSC_1725.JPG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31:32Z</dcterms:created>
  <dc:creator>qwerty</dc:creator>
  <dc:description/>
  <cp:keywords>шаблоны для презентаций</cp:keywords>
  <dc:language>en-US</dc:language>
  <cp:lastModifiedBy>User</cp:lastModifiedBy>
  <dcterms:modified xsi:type="dcterms:W3CDTF">2018-03-28T11:54:46Z</dcterms:modified>
  <cp:revision>27</cp:revision>
  <dc:subject/>
  <dc:title>фон облака</dc:title>
</cp:coreProperties>
</file>