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C54B-654A-45D5-95C7-F50308F581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выделить определенные стили семейных взаимоотношений, ведущих к формированию асоциального поведени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гармоничный стиль воспитательных и внутрисемейных отношений, сочетающий в себе, с одной стороны, потворство желаниям ребенка, гиперопеку, а с другой — провоцирование ребенка на конфликтные ситуации; или характеризующийся утверждением в семье двойной морали: для семьи — одни правила поведения, для общества — совершенно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ый, конфликтный стиль воспитательных влияний в неполной семье, в ситуации развода, длительного раздельного проживания детей и род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оциальный стиль отношений в дезорганизованной семье с систематическим употреблением алкоголя, наркотиков, аморальным образом жизни, криминальным поведением родите лей, проявлениями маломотивированной «семейной жестокости» и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Отклонение стрелки компаса от магнитногомеридиана под влиянием находящегося вблизи желе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тклонение движущегося тела (корабля, самолета, снаряда и т.п.) от заданного направления движения под влиянием каких-л. внешних причин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Отклонение в норм. развитии какого-л. органа на средней стадии формирования, приводящее к изменениюего строения у взрослого организма. 4. Наибольшее отклонение частоты от сред. значения при частотноймод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Отклонение стрелки компаса от магнитногомеридиана под влиянием находящегося вблизи желе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тклонение движущегося тела (корабля, самолета, снаряда и т.п.) от заданного направления движения под влиянием каких-л. внешних причин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Отклонение в норм. развитии какого-л. органа на средней стадии формирования, приводящее к изменениюего строения у взрослого организма. 4. Наибольшее отклонение частоты от сред. значения при частотноймод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чевидно, что отклоняющееся поведение является одним из проявлений социальной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 е з а д а п т а ц и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Говоря о детско-подростковой дезадаптации, необходимо уточнить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атегории дет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и школьного возраста, не посещающие школу (в нашей стране их около 7%, т. е. примерно 1,5 миллио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и-сироты, общее число которых превысило 500 0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циальные сироты; действительность такова, что в силу ограниченности мест в детских домах, дети месяцами ждут очереди для помещения их в детский дом, живя с родителями, лишенными родительских прав, не имея нормальной еды, одежды, подвергаясь физическому, психическому, сексуальному насил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, употребляющие наркотики и токсически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 сексуально распущенног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ростки, совершившие противоправные действия; по официальным данным, их число среди детей и подростков растет в два раза быстрее, чем среди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нутренней структуре отклонения, когда отклонение связывают с принадлежностью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3C0-2FDD-4600-B5F5-03CF9953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AB8-6E4E-447C-9935-9704AA77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878-9EFE-4606-B6F1-C9116E9C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1E4-8F0C-4E07-BAB2-6DC1DDD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2054-056A-4575-BECC-6D340077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795F-99FF-442F-AF3C-1D0D615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B4D-69CD-4EA9-9D8D-5454FB40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815-AB96-4E6F-8C88-D053DCB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77F9-1DB0-466B-BDC1-46B60AE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2869-DC2D-4816-A031-13A3362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4024-505C-40E3-86D9-4579B2B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1A1-09CD-4CF7-A5B0-F398A59F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94FC-A93E-4CFD-944A-C7D6D37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D1C5-92A2-4DDE-9858-8E8753A5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9997-D2A1-4D1C-BAE4-0FF09035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050-4D40-4919-9CA8-EC78275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2FA0-8558-4150-9847-C2C6C97E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4B1-B7E0-4E77-8DF3-E18130B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9DE-5FC2-459A-B253-9200FD6E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4CE-46D6-4008-9491-EA9D86BD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1A7-537B-42CD-A620-3DD349CF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D0B-5041-4E4B-8D3D-CD40481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BC2-3FB5-4A28-8C34-34005F7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716-181B-4565-89CD-8533F3C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39E-4AD8-43BF-9C18-43BA8E6654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D157-BAF7-4096-95E2-FE1B56E4FD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 о ц и а л ь н а я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 е д а г о г и к а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евиантное поведение несовершеннолетни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3909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549000"/>
            <a:ext cx="8591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Учебная дезадаптация школьника проходит следующие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стад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чебной декомпенс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школьной дезадапт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циальной дезадапта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риминализации среды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вободного времяпрепровожден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23240" cy="43894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-а-а-а-а-а-а-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ношения в семь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63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исгармонич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итательных и внутрисемейных отношений, сочетающий в себе потворство желаниям ребёнка, гиперопеку, и провоцирование ребёнка на конфликтные ситуации; или характеризующийся утверждением в семье двойной морали: для семьи — одни правила поведения, для общества — друг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стабильный, конфликт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ательных влияний в неполной семье, в ситуации развода, длительного раздельного проживания детей и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социальный сти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шений в дезорг. семье с систематическим употреблением алкоголя, наркотиков, аморальным образом жизни, криминальным поведением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Концепции деви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ческая теория девиации (У.X. Шелдо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сихологические и психиатрические концепции (Шуэсслер и Кресс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ологические концепции (Э. Дюркгей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. Мерто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льтурологические теории (Селлин, Миллер, Сутер-Лен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ория стигматизации (клеймения) (Ч. Бекк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икальная криминолог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урк, Квинни, Янг, Тэйло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ормы проявления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евиантного по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 л к о г о л и з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 а р к о м а н и 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 р о с т и т у ц и 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 Ы В О Д 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девиантное поведение предстаёт как нормальная реакция на ненормальные для ребёнка или группы подростков условия (социальные или микросоциальные), в которых они оказались, и в то же время как язык общения с социумом, когда другие социально приемлемые способы общения исчерпали себя или недоступ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ерия фото бельгийского фотографа Фрике Янссен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961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64072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«Бывает только неправильный путь, но не бывает безвыходного положени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(Китайская пословица)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«Не воспитывайте детей, всё равно они будут похожи на вас. Воспитывайте себя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(Английская пословиц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01680" y="4941360"/>
            <a:ext cx="85406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ла: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 672-м Василенко Виолет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762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Д е в и а ц и 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лат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iare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уклоняться в сторону [от позднелат. deviatio – отклонение]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лонение в норм. развитии какого-л. органа на средней стадии формирования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одящее к изменению его строения 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ого 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«Большой словарь иностранных слов». –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здательство «ИДДК», 200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редпосылки дев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29746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ходный возра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стройка псих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ожение в коллекти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Кто я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561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89080" y="692280"/>
            <a:ext cx="8495280" cy="5543280"/>
            <a:chOff x="289080" y="692280"/>
            <a:chExt cx="8495280" cy="5543280"/>
          </a:xfrm>
        </p:grpSpPr>
        <p:cxnSp>
          <p:nvCxnSpPr>
            <p:cNvPr id="401" name="_s8206"/>
            <p:cNvCxnSpPr>
              <a:stCxn id="402" idx="0"/>
              <a:endCxn id="403" idx="2"/>
            </p:cNvCxnSpPr>
            <p:nvPr/>
          </p:nvCxnSpPr>
          <p:spPr>
            <a:xfrm flipV="1" rot="16200000">
              <a:off x="5468400" y="1976400"/>
              <a:ext cx="1109160" cy="29739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8205"/>
            <p:cNvCxnSpPr>
              <a:stCxn id="405" idx="0"/>
              <a:endCxn id="403" idx="2"/>
            </p:cNvCxnSpPr>
            <p:nvPr/>
          </p:nvCxnSpPr>
          <p:spPr>
            <a:xfrm flipV="1">
              <a:off x="4536360" y="2908800"/>
              <a:ext cx="3240" cy="110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8204"/>
            <p:cNvCxnSpPr>
              <a:stCxn id="407" idx="0"/>
              <a:endCxn id="403" idx="2"/>
            </p:cNvCxnSpPr>
            <p:nvPr/>
          </p:nvCxnSpPr>
          <p:spPr>
            <a:xfrm flipH="1" flipV="1" rot="5400000">
              <a:off x="2495160" y="1976400"/>
              <a:ext cx="1109160" cy="29739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3" name="_s8200"/>
            <p:cNvSpPr/>
            <p:nvPr/>
          </p:nvSpPr>
          <p:spPr>
            <a:xfrm>
              <a:off x="3262320" y="69228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cc"/>
                  </a:solidFill>
                  <a:latin typeface="Tahoma"/>
                </a:rPr>
                <a:t>Типы</a:t>
              </a:r>
              <a:br>
                <a:rPr sz="3800"/>
              </a:br>
              <a:r>
                <a:rPr b="0" lang="en-US" sz="3800" spc="-1" strike="noStrike">
                  <a:solidFill>
                    <a:srgbClr val="ffffcc"/>
                  </a:solidFill>
                  <a:latin typeface="Tahoma"/>
                </a:rPr>
                <a:t>девиаций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8201"/>
            <p:cNvSpPr/>
            <p:nvPr/>
          </p:nvSpPr>
          <p:spPr>
            <a:xfrm>
              <a:off x="28908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cc"/>
                  </a:solidFill>
                  <a:latin typeface="Tahoma"/>
                </a:rPr>
                <a:t>Девиантное</a:t>
              </a:r>
              <a:br>
                <a:rPr sz="3000"/>
              </a:br>
              <a:r>
                <a:rPr b="0" lang="en-US" sz="30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8202"/>
            <p:cNvSpPr/>
            <p:nvPr/>
          </p:nvSpPr>
          <p:spPr>
            <a:xfrm>
              <a:off x="326232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Делинквентное</a:t>
              </a:r>
              <a:br>
                <a:rPr sz="2700"/>
              </a:b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8203"/>
            <p:cNvSpPr/>
            <p:nvPr/>
          </p:nvSpPr>
          <p:spPr>
            <a:xfrm>
              <a:off x="6235920" y="4018320"/>
              <a:ext cx="2548440" cy="22172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Криминальное</a:t>
              </a:r>
              <a:br>
                <a:rPr sz="2700"/>
              </a:br>
              <a:r>
                <a:rPr b="0" lang="en-US" sz="2700" spc="-1" strike="noStrike">
                  <a:solidFill>
                    <a:srgbClr val="ffffcc"/>
                  </a:solidFill>
                  <a:latin typeface="Tahoma"/>
                </a:rPr>
                <a:t> поведени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ТЕГОРИИ ДЕТЕ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(до 18 лет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школьного возраста, не посещающие школу (ок. 7% – 1.5 млн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-сироты (500 000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е сир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, употребляющие наркотики и токсические сре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 сексуально распущенного пове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ростки, совершившие противоправные дей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Характеристики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ы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или масштабность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яя структура отклонения, когда отклонение связывают с принадлежностью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иентированность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91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ричины девиантного поведения подростков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023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Человеческое развитие обусловлено взаимодействием многих фактор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аследствен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ре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спит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бственной практической деятельности челове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Rockwell Extra Bold"/>
              </a:rPr>
              <a:t>Стильно, модно, молодё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72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новные </a:t>
            </a:r>
            <a:r>
              <a:rPr b="0" i="1" lang="en-US" sz="3600" spc="-1" strike="noStrike">
                <a:solidFill>
                  <a:srgbClr val="ffffcc"/>
                </a:solidFill>
                <a:latin typeface="Tahoma"/>
              </a:rPr>
              <a:t>факторы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, обусловливающие девиантное поведение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27280" y="1915920"/>
            <a:ext cx="4537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иологическ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генетические, психофизиологические, физиолог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сихолог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циально-педагоги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циально-эконом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Морально-эт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92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22:05:50Z</dcterms:created>
  <dc:creator>АМД</dc:creator>
  <dc:description/>
  <dc:language>en-US</dc:language>
  <cp:lastModifiedBy>АМД</cp:lastModifiedBy>
  <dcterms:modified xsi:type="dcterms:W3CDTF">2018-02-07T18:29:43Z</dcterms:modified>
  <cp:revision>22</cp:revision>
  <dc:subject/>
  <dc:title>Слайд 1</dc:title>
</cp:coreProperties>
</file>