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3DC5-D699-4B1E-AC6B-77D80E6C9F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выделить определенные стили семейных взаимоотношений, ведущих к формированию асоциального поведени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гармоничный стиль воспитательных и внутрисемейных отношений, сочетающий в себе, с одной стороны, потворство желаниям ребенка, гиперопеку, а с другой — провоцирование ребенка на конфликтные ситуации; или характеризующийся утверждением в семье двойной морали: для семьи — одни правила поведения, для общества — совершенно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ый, конфликтный стиль воспитательных влияний в неполной семье, в ситуации развода, длительного раздельного проживания детей и род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оциальный стиль отношений в дезорганизованной семье с систематическим употреблением алкоголя, наркотиков, аморальным образом жизни, криминальным поведением родите лей, проявлениями маломотивированной «семейной жестокости» и наси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Отклонение стрелки компаса от магнитногомеридиана под влиянием находящегося вблизи желе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тклонение движущегося тела (корабля, самолета, снаряда и т.п.) от заданного направления движения под влиянием каких-л. внешних причин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Отклонение в норм. развитии какого-л. органа на средней стадии формирования, приводящее к изменениюего строения у взрослого организма. 4. Наибольшее отклонение частоты от сред. значения при частотноймод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Отклонение стрелки компаса от магнитногомеридиана под влиянием находящегося вблизи желе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тклонение движущегося тела (корабля, самолета, снаряда и т.п.) от заданного направления движения под влиянием каких-л. внешних причин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Отклонение в норм. развитии какого-л. органа на средней стадии формирования, приводящее к изменениюего строения у взрослого организма. 4. Наибольшее отклонение частоты от сред. значения при частотноймод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чевидно, что отклоняющееся поведение является одним из проявлений социальной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д е з а д а п т а ц и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Говоря о детско-подростковой дезадаптации, необходимо уточнить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категории дет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которые подвержены этому процес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ти школьного возраста, не посещающие школу (в нашей стране их около 7%, т. е. примерно 1,5 миллион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ти-сироты, общее число которых превысило 500 00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циальные сироты; действительность такова, что в силу ограниченности мест в детских домах, дети месяцами ждут очереди для помещения их в детский дом, живя с родителями, лишенными родительских прав, не имея нормальной еды, одежды, подвергаясь физическому, психическому, сексуальному насил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ростки, употребляющие наркотики и токсически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ростки сексуально распущенного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ростки, совершившие противоправные действия; по официальным данным, их число среди детей и подростков растет в два раза быстрее, чем среди взросл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нутренней структуре отклонения, когда отклонение связывают с принадлежностью к той или иной социальной группе, половозрастными особ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E26-098A-4EDE-836D-AF3A4585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FFA-3BA3-4A52-BBD7-2FF2EFB9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A3E-88C5-42AA-A208-C7BA6387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F7C-0BA2-4774-BEF8-4ED0D962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32AD-DBBB-4001-B073-9558A31E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9FED-2D9E-4A31-AB78-4402DCE8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FD98-359B-4083-B0B1-9D3007D6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3E04-192D-4577-8853-29052678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ABF1-C1DD-4AE4-9452-2061EAC5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97A9-D2D1-4CD3-9DD7-5E0224AD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8C6C-9D7B-4B9B-9591-EA5B81CA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240-BEBD-4BD0-A451-7AF6C5F0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70F7-2225-4466-9051-AC39F40F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7240-E6FA-4A7A-9788-05E4A00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EE9D-1DE5-488C-A231-09175333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4AAE-1BDE-427D-9B02-E3B5F31D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6062-FACF-461A-B6EC-A26C04BC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674-E0BB-4909-909F-6088D325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F80-82DE-4673-8611-948ED6FE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22C-7D8E-402A-B562-1CE3F1BF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749-B40B-4A64-80DB-3CFC000B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9E6-C70B-4052-9B9E-16241CFF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851-0601-47CF-AD53-0CE0B47F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49E-9EAE-4C4F-A11B-579B0880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E6F0-E979-46E0-BEDF-E72A602470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DE9D-76DF-41EF-86AF-458BAE6E5C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С о ц и а л ь н а я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п е д а г о г и к а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848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евиантное поведение несовершеннолетни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3909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549000"/>
            <a:ext cx="8591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Учебная дезадаптация школьника проходит следующие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стади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чебной декомпенсаци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школьной дезадаптаци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циальной дезадаптаци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риминализации среды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вободного времяпрепровождения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023240" cy="43894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-а-а-а-а-а-а-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тношения в семь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630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исгармоничный сти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спититательных и внутрисемейных отношений, сочетающий в себе потворство желаниям ребёнка, гиперопеку, и провоцирование ребёнка на конфликтные ситуации; или характеризующийся утверждением в семье двойной морали: для семьи — одни правила поведения, для общества — друг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стабильный, конфликтный сти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спитательных влияний в неполной семье, в ситуации развода, длительного раздельного проживания детей и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социальный сти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шений в дезорг. семье с систематическим употреблением алкоголя, наркотиков, аморальным образом жизни, криминальным поведением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Концепции девиа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ческая теория девиации (У.X. Шелдо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сихологические и психиатрические концепции (Шуэсслер и Крессл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ологические концепции (Э. Дюркгейм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. Мерто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льтурологические теории (Селлин, Миллер, Сутер-Лен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ория стигматизации (клеймения) (Ч. Бекке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дикальная криминологи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Турк, Квинни, Янг, Тэйло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ормы проявления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девиантного повед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2420640"/>
            <a:ext cx="854064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 л к о г о л и з 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 а р к о м а н и 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 р о с т и т у ц и 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 Ы В О Д 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м образом, девиантное поведение предстаёт как нормальная реакция на ненормальные для ребёнка или группы подростков условия (социальные или микросоциальные), в которых они оказались, и в то же время как язык общения с социумом, когда другие социально приемлемые способы общения исчерпали себя или недоступ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ерия фото бельгийского фотографа Фрике Янссенс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8961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64072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«Бывает только неправильный путь, но не бывает безвыходного положени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(Китайская пословица)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«Не воспитывайте детей, всё равно они будут похожи на вас. Воспитывайте себя!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(Английская пословиц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01680" y="4941360"/>
            <a:ext cx="85406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ила: студент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урса 672-м Василенко Виолет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762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Д е в и а ц и 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 лат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viare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– уклоняться в сторону [от позднелат. deviatio – отклонение]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лонение в норм. развитии какого-л. органа на средней стадии формирования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одящее к изменению его строения 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рослого орг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«Большой словарь иностранных слов». –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здательство «ИДДК», 200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Предпосылки деви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29746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ходный возра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стройка псих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ожение в коллекти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Кто я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5616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89080" y="692280"/>
            <a:ext cx="8495280" cy="5543280"/>
            <a:chOff x="289080" y="692280"/>
            <a:chExt cx="8495280" cy="5543280"/>
          </a:xfrm>
        </p:grpSpPr>
        <p:cxnSp>
          <p:nvCxnSpPr>
            <p:cNvPr id="401" name="_s8206"/>
            <p:cNvCxnSpPr>
              <a:stCxn id="402" idx="0"/>
              <a:endCxn id="403" idx="2"/>
            </p:cNvCxnSpPr>
            <p:nvPr/>
          </p:nvCxnSpPr>
          <p:spPr>
            <a:xfrm flipV="1" rot="16200000">
              <a:off x="5468400" y="1976400"/>
              <a:ext cx="1109160" cy="297396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4" name="_s8205"/>
            <p:cNvCxnSpPr>
              <a:stCxn id="405" idx="0"/>
              <a:endCxn id="403" idx="2"/>
            </p:cNvCxnSpPr>
            <p:nvPr/>
          </p:nvCxnSpPr>
          <p:spPr>
            <a:xfrm flipV="1">
              <a:off x="4536360" y="2908800"/>
              <a:ext cx="3240" cy="110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6" name="_s8204"/>
            <p:cNvCxnSpPr>
              <a:stCxn id="407" idx="0"/>
              <a:endCxn id="403" idx="2"/>
            </p:cNvCxnSpPr>
            <p:nvPr/>
          </p:nvCxnSpPr>
          <p:spPr>
            <a:xfrm flipH="1" flipV="1" rot="5400000">
              <a:off x="2495160" y="1976400"/>
              <a:ext cx="1109160" cy="297396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03" name="_s8200"/>
            <p:cNvSpPr/>
            <p:nvPr/>
          </p:nvSpPr>
          <p:spPr>
            <a:xfrm>
              <a:off x="3262320" y="692280"/>
              <a:ext cx="2548440" cy="22172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ffcc"/>
                  </a:solidFill>
                  <a:latin typeface="Tahoma"/>
                </a:rPr>
                <a:t>Типы</a:t>
              </a:r>
              <a:br>
                <a:rPr sz="3800"/>
              </a:br>
              <a:r>
                <a:rPr b="0" lang="en-US" sz="3800" spc="-1" strike="noStrike">
                  <a:solidFill>
                    <a:srgbClr val="ffffcc"/>
                  </a:solidFill>
                  <a:latin typeface="Tahoma"/>
                </a:rPr>
                <a:t>девиаций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_s8201"/>
            <p:cNvSpPr/>
            <p:nvPr/>
          </p:nvSpPr>
          <p:spPr>
            <a:xfrm>
              <a:off x="289080" y="4018320"/>
              <a:ext cx="2548440" cy="22172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cc"/>
                  </a:solidFill>
                  <a:latin typeface="Tahoma"/>
                </a:rPr>
                <a:t>Девиантное</a:t>
              </a:r>
              <a:br>
                <a:rPr sz="3000"/>
              </a:br>
              <a:r>
                <a:rPr b="0" lang="en-US" sz="3000" spc="-1" strike="noStrike">
                  <a:solidFill>
                    <a:srgbClr val="ffffcc"/>
                  </a:solidFill>
                  <a:latin typeface="Tahoma"/>
                </a:rPr>
                <a:t> поведени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_s8202"/>
            <p:cNvSpPr/>
            <p:nvPr/>
          </p:nvSpPr>
          <p:spPr>
            <a:xfrm>
              <a:off x="3262320" y="4018320"/>
              <a:ext cx="2548440" cy="22172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cc"/>
                  </a:solidFill>
                  <a:latin typeface="Tahoma"/>
                </a:rPr>
                <a:t>Делинквентное</a:t>
              </a:r>
              <a:br>
                <a:rPr sz="2700"/>
              </a:br>
              <a:r>
                <a:rPr b="0" lang="en-US" sz="2700" spc="-1" strike="noStrike">
                  <a:solidFill>
                    <a:srgbClr val="ffffcc"/>
                  </a:solidFill>
                  <a:latin typeface="Tahoma"/>
                </a:rPr>
                <a:t> поведение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_s8203"/>
            <p:cNvSpPr/>
            <p:nvPr/>
          </p:nvSpPr>
          <p:spPr>
            <a:xfrm>
              <a:off x="6235920" y="4018320"/>
              <a:ext cx="2548440" cy="22172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cc"/>
                  </a:solidFill>
                  <a:latin typeface="Tahoma"/>
                </a:rPr>
                <a:t>Криминальное</a:t>
              </a:r>
              <a:br>
                <a:rPr sz="2700"/>
              </a:br>
              <a:r>
                <a:rPr b="0" lang="en-US" sz="2700" spc="-1" strike="noStrike">
                  <a:solidFill>
                    <a:srgbClr val="ffffcc"/>
                  </a:solidFill>
                  <a:latin typeface="Tahoma"/>
                </a:rPr>
                <a:t> поведение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АТЕГОРИИ ДЕТЕЙ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(до 18 лет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школьного возраста, не посещающие школу (ок. 7% – 1.5 млн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-сироты (500 000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ые сир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ростки, употребляющие наркотики и токсические сре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ростки сексуально распущенного повед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ростки, совершившие противоправные действ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Характеристики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ы преступления (уголовные, административные) и аморальных поступков (пьянство, проституция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вень или масштабность отклонения, когда принято говорить об индивидуальном или массовом отклонен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яя структура отклонения, когда отклонение связывают с принадлежностью к той или иной социальной группе, половозрастными особенност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иентированность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91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Причины девиантного поведения подростков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-181440" y="1599840"/>
            <a:ext cx="9023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Человеческое развитие обусловлено взаимодействием многих факторов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аследствен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ре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спита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обственной практической деятельности челове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Rockwell Extra Bold"/>
              </a:rPr>
              <a:t>Стильно, модно, молодёжно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723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новные </a:t>
            </a:r>
            <a:r>
              <a:rPr b="0" i="1" lang="en-US" sz="3600" spc="-1" strike="noStrike">
                <a:solidFill>
                  <a:srgbClr val="ffffcc"/>
                </a:solidFill>
                <a:latin typeface="Tahoma"/>
              </a:rPr>
              <a:t>факторы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, обусловливающие девиантное поведение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27280" y="1915920"/>
            <a:ext cx="4537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Биологическ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генетические, психофизиологические, физиологичес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сихолог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Социально-педагогичес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Социально-эконом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Морально-эт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592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22:05:50Z</dcterms:created>
  <dc:creator>АМД</dc:creator>
  <dc:description/>
  <dc:language>en-US</dc:language>
  <cp:lastModifiedBy>АМД</cp:lastModifiedBy>
  <dcterms:modified xsi:type="dcterms:W3CDTF">2018-02-07T18:29:43Z</dcterms:modified>
  <cp:revision>22</cp:revision>
  <dc:subject/>
  <dc:title>Слайд 1</dc:title>
</cp:coreProperties>
</file>