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3B4-F38F-4C25-A1D8-17C7356B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D54-7D02-43FA-9BFA-DF0F89A0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972-6C06-431B-A6A4-9CCC594D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C63-E7C8-44B8-AE6B-55BB0904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092E-D2B0-4F23-A5D0-A5824073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6E5D-2199-4EE1-9CDF-2F3FB0B4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A75C-0ADF-45CD-805C-7D511EF8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72F3-72E8-4D69-81FD-FE11EDF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38E2-2ADC-4728-B588-A0D53615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5323-E6CB-4C63-AAD0-F037E34F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0DEC-B4F2-45B8-A7DD-B4BB9E64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2C9-39DA-4781-98AC-7C3518B3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7DD0-A46F-468A-B46C-A84A9418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4D85-4BF2-475D-91A1-4CBDF720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61CC-29B3-45CF-A1E6-C8D85480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BBB1-190C-4E89-A3E2-D9C73A18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EBF8-9044-49B3-AC1D-0D3709B5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723-AAE3-4580-9A25-4F9AE92E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D7C-4348-4B1F-9008-6111E238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CC0-7B40-4F38-AFBD-5E83FFCF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72F-0157-47C9-9EA1-DC587B66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656-8EE8-49F4-84A5-DBBC2E5C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46F-DF12-4716-84CC-BD85A92F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116-5922-4DAD-86A2-EC92974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06D7-2739-4750-A318-AD51FD201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59AD-0BEC-43A5-95A6-77B694535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Учебно-исследовательская и проектная деятельность учащихся на уроках и во внеурочной деятельности при реализации ФГО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Регистрац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0958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181480" cy="3871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66280" y="228600"/>
            <a:ext cx="38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Этапы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8000" cy="2870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-76320" y="152280"/>
            <a:ext cx="92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аждом этапе проекта написано задание и к нему дана подробная видеоинструкц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38880" cy="3559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228600"/>
            <a:ext cx="8915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Таблица продви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уководители команд, после заполнения учащимися дневника , вносят данные в таблицу продвижени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106920"/>
            <a:ext cx="84582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Проектная  деятельность учащихся на примере выполненного проекта под назва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«Бумажные фантаз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2590560" cy="2048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327672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286000" y="4267080"/>
            <a:ext cx="4343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ото сетевого проекта «Бумажные фантазии»</a:t>
            </a:r>
            <a:br>
              <a:rPr sz="4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тонный флешмоб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276720" cy="2428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276720" cy="2260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2514600" cy="2236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343400" y="4114800"/>
            <a:ext cx="35211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5680" y="114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807480"/>
            <a:ext cx="77724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Учебный проект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– это комплекс поисковых, исследовательских, расчетных, графических и других видов работ, выполняемых учениками самостоятельно (в парах, группах или индивидуально) с целью практического или теоретического решения значимой проблем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305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Задачи проектно – исследовательской деятель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988920"/>
            <a:ext cx="7772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ть условия для организации деятельности учащихся: определять её цели и задачи, выбирать средства реализации и применять их на практике, взаимодействовать с другими людьми в достижении общих целей, оценивать достигнутые результат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ть условия для подготовки к выбору, т.е. научить ориентироваться в мире информации, в собственных интересах и возможностях, сформировать знания и умения, имеющие опорное значение для профессионального образования определенного профил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ть условия для формирования у школьников навыков самостоятельного добывания новых знаний, сбора необходимой информации, умения выдвигать гипотезы, делать выводы и строить умо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64320"/>
            <a:ext cx="85345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ектно-исследовательская деятельность осуществляется самостоятельно учащимися под руководством педагога-руководи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руководит проектной работой, направляя поиск в нужное русло, и подсказывает источники информ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ловиями успешности проектной деятельности становятс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ичный интерес учащегос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четкость и конкретность постановки цели про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Результатом работы над проектом, является продукт, который создается участниками проекта в ходе решения поставленной проблемы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Как выглядит один из сайтов сетевого проекта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391160" cy="5251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152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лавная страница: находятся все пункты сетевого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2895480"/>
            <a:ext cx="1447560" cy="38124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3505320"/>
            <a:ext cx="1447920" cy="38088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962520"/>
            <a:ext cx="1447920" cy="38088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4724280"/>
            <a:ext cx="1981080" cy="38124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Знакомимся с планом проекта:</a:t>
            </a:r>
            <a:br>
              <a:rPr sz="28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1. Подготовительный этап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знакомство с проектом, регистрация , оформить соглашение родителей на участие детей в проекте и  сети Интернет, создать аккаунты  на Gmail каждому участнику, заполнить входную анкету, создать визитную карточку,  эмблему и разместить на онлайн-доске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6400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6172200" cy="4508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2. Основной этап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ение заданий: мозговой штурм, создание  видео-ролика картонный флешмоб, решение кроссвордов, решение проектной задачи, создание презентаций и т.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5943600" cy="4336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28600"/>
            <a:ext cx="8305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Заключительный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этап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полнить итоговую анкету, ответить на основные вопросы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08:43:45Z</dcterms:created>
  <dc:creator>Сашок</dc:creator>
  <dc:description/>
  <dc:language>en-US</dc:language>
  <cp:lastModifiedBy>Сашок</cp:lastModifiedBy>
  <dcterms:modified xsi:type="dcterms:W3CDTF">2018-03-28T09:01:5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