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B632-A9A7-41E6-9CFB-8689C0D0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30B9-BD8F-4990-8475-2D47104A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B114-285C-4BEC-95B6-67D1DB88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1BF-C40D-47A4-B932-38F34930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1901-0BE6-413E-BD59-9AC8663A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AE3E-CF91-4DD5-875B-F10C24E3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5625-1B41-4E86-883C-544AE996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1D85-00B3-4DF4-AA99-48B78759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AF53-48C3-47F3-8A78-59348127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AF64-09CA-46FA-85DA-2359BFE2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9E53-BC8C-4D00-9CDA-C3DF62A3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291-6394-4AF9-879D-AE42E818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EBCD-64D6-494A-BEAD-B4F0F975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1FF8-F048-4446-958B-501647EC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F857-76ED-4593-AB9E-DDC6DE38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F683-0E1D-46AF-8DBF-78BA5DDC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9769-1045-47C4-81AF-33D4840F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D854-7404-4779-8729-F104A49E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375-E154-4F17-A598-68B3905B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5B34-C8E9-46B8-97AB-3595742C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4CAB-EA9B-4E68-B843-B9335260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E7D-7CB4-4C25-BB35-A4BF1313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E4A4-11E1-49EC-A1C4-CDAFF19F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EFDA-8592-4D8B-8FC6-E7130A0E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B184-F636-428D-81C8-8E81CC30BB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613A-E7E2-4E0A-A501-4018E21E4B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Учебно-исследовательская и проектная деятельность учащихся на уроках и во внеурочной деятельности при реализации ФГОС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Регистраци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609588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181480" cy="3871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66280" y="228600"/>
            <a:ext cx="38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Этапы проект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8000" cy="2870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-76320" y="152280"/>
            <a:ext cx="922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каждом этапе проекта написано задание и к нему дана подробная видеоинструкц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38880" cy="3559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228600"/>
            <a:ext cx="8915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Таблица продви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уководители команд, после заполнения учащимися дневника , вносят данные в таблицу продвижения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106920"/>
            <a:ext cx="84582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Проектная  деятельность учащихся на примере выполненного проекта под названи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«Бумажные фантази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2590560" cy="20480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327672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2286000" y="4267080"/>
            <a:ext cx="43434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Фото сетевого проекта «Бумажные фантазии»</a:t>
            </a:r>
            <a:br>
              <a:rPr sz="4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ртонный флешмоб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276720" cy="24289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3276720" cy="2260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2514600" cy="2236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4343400" y="4114800"/>
            <a:ext cx="35211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25680" y="1142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807480"/>
            <a:ext cx="777240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Учебный проект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– это комплекс поисковых, исследовательских, расчетных, графических и других видов работ, выполняемых учениками самостоятельно (в парах, группах или индивидуально) с целью практического или теоретического решения значимой проблемы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305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Задачи проектно – исследовательской деятельнос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988920"/>
            <a:ext cx="7772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дать условия для организации деятельности учащихся: определять её цели и задачи, выбирать средства реализации и применять их на практике, взаимодействовать с другими людьми в достижении общих целей, оценивать достигнутые результаты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дать условия для подготовки к выбору, т.е. научить ориентироваться в мире информации, в собственных интересах и возможностях, сформировать знания и умения, имеющие опорное значение для профессионального образования определенного профил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дать условия для формирования у школьников навыков самостоятельного добывания новых знаний, сбора необходимой информации, умения выдвигать гипотезы, делать выводы и строить умо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64320"/>
            <a:ext cx="85345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ектно-исследовательская деятельность осуществляется самостоятельно учащимися под руководством педагога-руководител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ль руководит проектной работой, направляя поиск в нужное русло, и подсказывает источники информ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ловиями успешности проектной деятельности становятс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ичный интерес учащегос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четкость и конкретность постановки цели прое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Результатом работы над проектом, является продукт, который создается участниками проекта в ходе решения поставленной проблемы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822960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Как выглядит один из сайтов сетевого проекта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7391160" cy="5251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80880" y="152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лавная страница: находятся все пункты сетевого про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2895480"/>
            <a:ext cx="1447560" cy="381240"/>
          </a:xfrm>
          <a:prstGeom prst="flowChartAlternateProcess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3505320"/>
            <a:ext cx="1447920" cy="380880"/>
          </a:xfrm>
          <a:prstGeom prst="flowChartAlternateProcess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3962520"/>
            <a:ext cx="1447920" cy="380880"/>
          </a:xfrm>
          <a:prstGeom prst="flowChartAlternateProcess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4724280"/>
            <a:ext cx="1981080" cy="381240"/>
          </a:xfrm>
          <a:prstGeom prst="flowChartAlternateProcess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Знакомимся с планом проекта:</a:t>
            </a:r>
            <a:br>
              <a:rPr sz="28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1. Подготовительный этап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знакомство с проектом, регистрация , оформить соглашение родителей на участие детей в проекте и  сети Интернет, создать аккаунты  на Gmail каждому участнику, заполнить входную анкету, создать визитную карточку,  эмблему и разместить на онлайн-доске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640080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6172200" cy="45086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80880" y="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2. Основной этап: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полнение заданий: мозговой штурм, создание  видео-ролика картонный флешмоб, решение кроссвордов, решение проектной задачи, создание презентаций и т.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5943600" cy="4336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09480" y="228600"/>
            <a:ext cx="8305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. Заключительный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этап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полнить итоговую анкету, ответить на основные вопросы проек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08:43:45Z</dcterms:created>
  <dc:creator>Сашок</dc:creator>
  <dc:description/>
  <dc:language>en-US</dc:language>
  <cp:lastModifiedBy>Сашок</cp:lastModifiedBy>
  <dcterms:modified xsi:type="dcterms:W3CDTF">2018-03-28T09:01:5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