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F108-3755-4FC9-9712-80334A950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5980-BE8E-4489-9226-C713883F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3B26-28B6-4BC6-909F-4B29E32F6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9886-48D4-4E28-AECD-7480C2BBB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3069-3627-4908-BD1B-6A8FD41B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E0E7-49F9-487F-9EC7-6D3C7A9A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045A-C725-4B3B-A471-AD003A2A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A132-543E-405C-B854-5EC07CD4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FAAB-3134-4E58-AB78-360A1F4F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A306-C75E-4635-927A-8F7D8FA2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FA69-A295-486B-A912-72B3BAA9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A5C6-409A-4493-B749-3A75621B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0954-3823-4E96-8DAD-A704405F1B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1979640" y="1628640"/>
            <a:ext cx="496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Режим дня в жиз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первокласс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627640" y="3500280"/>
            <a:ext cx="396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тельское собрание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2427120" y="4941720"/>
            <a:ext cx="284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ворост Е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2415600" y="549360"/>
            <a:ext cx="39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Распорядок д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95280" y="1268280"/>
            <a:ext cx="6697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ьё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рядка, умы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тр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рога в шко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ятия в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улка на воздухе. Помощь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Подготовка уро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бодное время  (игры, телевизо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.  Уж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.  Свободное время (тихие игры, чт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.  Подготовка ко с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5867280" y="692280"/>
            <a:ext cx="287028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3361680" y="476280"/>
            <a:ext cx="27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Статис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11280" y="1125360"/>
            <a:ext cx="7915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-25% первоклассников остаются здоровыми после первого года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%  детей, поступающих в 1 класс, имеют нарушения з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2"/>
          <a:stretch/>
        </p:blipFill>
        <p:spPr>
          <a:xfrm>
            <a:off x="5683320" y="3300480"/>
            <a:ext cx="3460680" cy="356076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1"/>
          <p:cNvSpPr/>
          <p:nvPr/>
        </p:nvSpPr>
        <p:spPr>
          <a:xfrm>
            <a:off x="606600" y="2771640"/>
            <a:ext cx="56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ь учащихся имеют нарушения осанки, котор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угубляются в первый год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фицит двигательной активности первоклассника составляет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280" y="620280"/>
            <a:ext cx="7272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концу первой четверти худеют 30% учащихся-первокласс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5% первоклассников жалуются на головные боли, усталость, сонливость, отсутствие желания учи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% детей входят в группу риска в связи со склонностью к близору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шь 24% первоклассников выдерживают ночной норматив с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жедневно дети недосыпают от 1,5 часов до получа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2126160" y="274680"/>
            <a:ext cx="443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Памятка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48320" y="927000"/>
            <a:ext cx="8847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ЛЬЗ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ить ребёнка в последний мом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ешать ребёнку проводить за компьюте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у телевизора более 45 минут в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Кормить ребенка перед школой и после нее сух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ще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зу после школьных уроков выполнять д/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шать детей игр на свежем воздухе из-за плохих отм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"/>
          <p:cNvPicPr/>
          <p:nvPr/>
        </p:nvPicPr>
        <p:blipFill>
          <a:blip r:embed="rId2"/>
          <a:stretch/>
        </p:blipFill>
        <p:spPr>
          <a:xfrm>
            <a:off x="0" y="4208400"/>
            <a:ext cx="3181320" cy="2631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"/>
          <p:cNvPicPr/>
          <p:nvPr/>
        </p:nvPicPr>
        <p:blipFill>
          <a:blip r:embed="rId3"/>
          <a:stretch/>
        </p:blipFill>
        <p:spPr>
          <a:xfrm>
            <a:off x="3465360" y="4281480"/>
            <a:ext cx="309744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82803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ставлять ребенка спать днем после уроков и лишать его этого 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ичать на ребенка вообще и во время выполнения д/з в час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ставлять многократно переписывать в тетрадь из чернов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дать папу и маму, чтобы начать выполнять у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отреть перед сном страшные филь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гать ребенка перед с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рощать ошибки и неудачи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говаривать с ребенком зло и назидательно о его школьных проблем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сурсы интер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lDenOne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yar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artecoart.ru/cgi-bin/article.pl?idp=10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megabook.ru/DescriptionImage.asp?MID=417081&amp;AID=5998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76307s002.edusite.ru/p83aa1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vospitalochka.ru/showthread.php?p=3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5:28:58Z</dcterms:created>
  <dc:creator>komp</dc:creator>
  <dc:description/>
  <dc:language>en-US</dc:language>
  <cp:lastModifiedBy>User</cp:lastModifiedBy>
  <dcterms:modified xsi:type="dcterms:W3CDTF">2017-10-24T13:39:35Z</dcterms:modified>
  <cp:revision>12</cp:revision>
  <dc:subject/>
  <dc:title>Слайд 1</dc:title>
</cp:coreProperties>
</file>