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BAD-DDD8-412F-B1A1-3BB4FC0A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CBD-CAB2-4AF4-AC6E-4FCCE73F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88-0F83-442E-8794-A87575D1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594-5980-41D1-92A6-1AE29ACF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1BA-36AF-4645-A57A-4C270CB2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A86-163B-47C9-BE25-EED768E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67F-E438-4E41-8580-720DA80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EDD-7E37-49DF-A2D1-9755DA4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2ED-3543-4150-B7DF-6A2F445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24A-5D17-4236-8F3D-0A3C125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41B-4935-416A-A569-C5080BF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D0B-38B9-46A4-954C-BD01AC47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740-E5C5-42CD-96B3-E02C0FC33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979640" y="162864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Режим дня в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627640" y="350028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ьское собрание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427120" y="4941720"/>
            <a:ext cx="284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рост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15600" y="54936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аспорядок 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95280" y="1268280"/>
            <a:ext cx="669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ь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ка, ум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ка на воздухе. Помощь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дготовка ур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бодное время  (игры, телевиз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 Уж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 Свободное время (тихие игры, чт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 Подготовка ко с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8702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61680" y="4762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1280" y="1125360"/>
            <a:ext cx="79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-25% первоклассников остаются здоровыми после первого год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%  детей, поступающих в 1 класс, имеют нарушения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683320" y="3300480"/>
            <a:ext cx="3460680" cy="3560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606600" y="2771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ь учащихся имеют нарушения осанки, котор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угубляются в первый г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цит двигательной активности первоклассника составляет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27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у первой четверти худеют 30% учащихся-перв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% первоклассников жалуются на головные боли, усталость, сонливость, отсутствие желания 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% детей входят в группу риска в связи со склонностью к близору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24% первоклассников выдерживают ночной норматив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дневно дети недосыпают от 1,5 часов до полу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126160" y="274680"/>
            <a:ext cx="44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амятка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8320" y="927000"/>
            <a:ext cx="884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ить ребёнка в последни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ать ребёнку проводить за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 телевизора более 45 минут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ормить ребенка перед школой и после нее сух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после школьных уроков выполнять д/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ать детей игр на свежем воздухе из-за плохих от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0" y="4208400"/>
            <a:ext cx="3181320" cy="263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3465360" y="4281480"/>
            <a:ext cx="30974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авлять ребенка спать днем после уроков и лишать его эт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чать на ребенка вообще и во время выполнения д/з в час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авлять многократно переписывать в тетрадь из черн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ать папу и маму, чтобы начать выполня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еть перед сном страшные фил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гать ребенка перед с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щать ошибки и неудач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аривать с ребенком зло и назидательно о его школьных пробл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enOn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ya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tecoart.ru/cgi-bin/article.pl?idp=1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gabook.ru/DescriptionImage.asp?MID=417081&amp;AID=599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76307s002.edusite.ru/p83aa1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spitalochka.ru/showthread.php?p=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28:58Z</dcterms:created>
  <dc:creator>komp</dc:creator>
  <dc:description/>
  <dc:language>en-US</dc:language>
  <cp:lastModifiedBy>User</cp:lastModifiedBy>
  <dcterms:modified xsi:type="dcterms:W3CDTF">2017-10-24T13:39:35Z</dcterms:modified>
  <cp:revision>12</cp:revision>
  <dc:subject/>
  <dc:title>Слайд 1</dc:title>
</cp:coreProperties>
</file>