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cashreg.wav" ContentType="audio/x-wav"/>
  <Override PartName="/ppt/media/image21.jpeg" ContentType="image/jpeg"/>
  <Override PartName="/ppt/media/chimes.wav" ContentType="audio/x-wav"/>
  <Override PartName="/ppt/media/image19.png" ContentType="image/png"/>
  <Override PartName="/ppt/media/image17.png" ContentType="image/png"/>
  <Override PartName="/ppt/media/image32.jpeg" ContentType="image/jpeg"/>
  <Override PartName="/ppt/media/image15.jpeg" ContentType="image/jpeg"/>
  <Override PartName="/ppt/media/image20.png" ContentType="image/png"/>
  <Override PartName="/ppt/media/hammer.wav" ContentType="audio/x-wav"/>
  <Override PartName="/ppt/media/image2.jpeg" ContentType="image/jpeg"/>
  <Override PartName="/ppt/media/image36.jpeg" ContentType="image/jpeg"/>
  <Override PartName="/ppt/media/image18.png" ContentType="image/png"/>
  <Override PartName="/ppt/media/image4.jpeg" ContentType="image/jpeg"/>
  <Override PartName="/ppt/media/image10.wmf" ContentType="image/x-wmf"/>
  <Override PartName="/ppt/media/image31.jpeg" ContentType="image/jpeg"/>
  <Override PartName="/ppt/media/image25.jpeg" ContentType="image/jpeg"/>
  <Override PartName="/ppt/media/image26.jpeg" ContentType="image/jpeg"/>
  <Override PartName="/ppt/media/image33.jpeg" ContentType="image/jpeg"/>
  <Override PartName="/ppt/media/image27.png" ContentType="image/png"/>
  <Override PartName="/ppt/media/image28.jpeg" ContentType="image/jpeg"/>
  <Override PartName="/ppt/media/image34.jpeg" ContentType="image/jpeg"/>
  <Override PartName="/ppt/media/image29.jpeg" ContentType="image/jpeg"/>
  <Override PartName="/ppt/media/image35.jpeg" ContentType="image/jpeg"/>
  <Override PartName="/ppt/media/image13.wmf" ContentType="image/x-wmf"/>
  <Override PartName="/ppt/media/image6.wmf" ContentType="image/x-wmf"/>
  <Override PartName="/ppt/media/image24.jpeg" ContentType="image/jpeg"/>
  <Override PartName="/ppt/media/voltage.wav" ContentType="audio/x-wav"/>
  <Override PartName="/ppt/media/image3.jpeg" ContentType="image/jpeg"/>
  <Override PartName="/ppt/media/image14.png" ContentType="image/png"/>
  <Override PartName="/ppt/media/image5.jpeg" ContentType="image/jpeg"/>
  <Override PartName="/ppt/media/image11.wmf" ContentType="image/x-wmf"/>
  <Override PartName="/ppt/media/image23.jpeg" ContentType="image/jpeg"/>
  <Override PartName="/ppt/media/coin.wav" ContentType="audio/x-wav"/>
  <Override PartName="/ppt/media/image8.png" ContentType="image/png"/>
  <Override PartName="/ppt/media/image30.jpeg" ContentType="image/jpeg"/>
  <Override PartName="/ppt/media/image7.wmf" ContentType="image/x-wmf"/>
  <Override PartName="/ppt/media/image9.wmf" ContentType="image/x-wmf"/>
  <Override PartName="/ppt/media/wind.wav" ContentType="audio/x-wav"/>
  <Override PartName="/ppt/media/image16.png" ContentType="image/png"/>
  <Override PartName="/ppt/media/image1.wmf" ContentType="image/x-wmf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9F2B-FB0A-4971-A18B-1EB17D4D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24D6-A04E-4F3E-8E5C-724C3EE3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12D1-AF5D-46D2-A9B4-15E44F7AA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1007-6C13-47EA-BEA5-1DCAD7EF1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A08A-20D7-4515-A2AA-F6DF0912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0000-E42A-482A-A442-38DCA95E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6F33-F512-4FC6-A57F-0177956C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F7BD-FDD1-405D-A796-5BA686BD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646B-3D43-4B19-9415-E7C07EA5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5243-BBAA-4B5B-962E-E1935927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884A-B5D1-48A6-A175-2664DC92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0D5E-5DD1-4A8F-85CE-AB712B43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1A16-2DF1-4A80-8FA3-5FE78DA544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audio" Target="../media/coin.wav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voltage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hammer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81342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даптация первоклассника в школ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2852280"/>
            <a:ext cx="6192720" cy="6462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ef6f1"/>
                </a:solidFill>
                <a:latin typeface="Arial"/>
              </a:rPr>
              <a:t>Адаптация. Что э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BL00545_"/>
          <p:cNvPicPr/>
          <p:nvPr/>
        </p:nvPicPr>
        <p:blipFill>
          <a:blip r:embed="rId1"/>
          <a:stretch/>
        </p:blipFill>
        <p:spPr>
          <a:xfrm>
            <a:off x="2268360" y="3573360"/>
            <a:ext cx="4969080" cy="27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8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Effect filter="diamond(out)" transition="out">
                                      <p:cBhvr additive="repl">
                                        <p:cTn id="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" dur="1" fill="hold"/>
                                  <p:tgtEl>
                                    <p:spTgt spid="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бенности современного первоклассник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детей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льшие различ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паспортного и физиологического развития. Сегодня нет ни одного класса, где был бы ровный контингент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детей 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ширная информирован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практически по любым вопросам. Но она совершенно бессистем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современных детей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льнее ощущение своего «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 и более свободное независимое поведение. Завышенны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ровень самооце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доверчивос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к словам и поступкам взрослых. Нет веры во всё сказанное ими. Авторитет – не то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современных детей более 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лабое здоров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в большинстве своём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стали игра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в коллективные «дворовые» игры. Их заменили телевизоры, компьютеры. И как следствие - дети приходят в школу не обладая навыками общения со сверстниками, плохо понимают, как себя вести, какие существуют нормы поведения в обще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помочь первоклаш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j0089036"/>
          <p:cNvPicPr/>
          <p:nvPr/>
        </p:nvPicPr>
        <p:blipFill>
          <a:blip r:embed="rId1"/>
          <a:stretch/>
        </p:blipFill>
        <p:spPr>
          <a:xfrm>
            <a:off x="1692360" y="1700280"/>
            <a:ext cx="554364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9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2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1" dur="15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07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113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57200" y="183204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«Как прожи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 </a:t>
            </a: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хотя бы один день без нервотрёпки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2415"/>
          <p:cNvPicPr/>
          <p:nvPr/>
        </p:nvPicPr>
        <p:blipFill>
          <a:blip r:embed="rId2"/>
          <a:stretch/>
        </p:blipFill>
        <p:spPr>
          <a:xfrm>
            <a:off x="3132000" y="4797360"/>
            <a:ext cx="2735280" cy="18097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Будите ребенка спокойно, улыбайтесь ем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Не торопитесь. Умение рассчитать время – Ваша задача. Помните, что ребенок не виноват в том, что Вы опаздывает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Забудьте фразу: «Что ты сегодня получил(а)?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Встречая ребенка из школы, не засыпайте его вопросами, дайте ему отдохнуть, расслабиться, вспомните, как Вы чувствуете себя после рабочего дн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Если Вы видите, что ребенок чем-то огорчен, не пытайте его, пусть успокоится и тогда расскажет все с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04920" y="189000"/>
            <a:ext cx="8686800" cy="58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После школы не торопитесь садиться за уроки. Ребенку необходимо отдохнуть 2 часа. И помните – занятия поздним вечером – </a:t>
            </a:r>
            <a:r>
              <a:rPr b="0" lang="ru-RU" sz="2600" spc="-1" strike="noStrike" u="sng">
                <a:solidFill>
                  <a:srgbClr val="7030a0"/>
                </a:solidFill>
                <a:uFillTx/>
                <a:latin typeface="Bookman Old Style"/>
              </a:rPr>
              <a:t>бесполезны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Не заставляйте делать все задания сразу: 20 минут занятий – 10 минут переры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Во время приготовления домашнего задания не сидите «над душой». Дайте ребенку работать самому. Если ему понадобится Ваша помощь – наберитесь терпения: спокойный тон и поддержка необходим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В общении с ребенком старайтесь избегать условий: «Если ты это сделаешь, то…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04920" y="333000"/>
            <a:ext cx="8686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В течение дня найдите хотя бы 40 минут и полностью посвятите их ребен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Выбирайте единую тактику общения с ребенком всех в семье. Все разногласия решайте без н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Будьте внимательны к жалобам ребенка на головную боль, усталость, плохое самочувствие. Чаще всего это объективные показатели </a:t>
            </a:r>
            <a:r>
              <a:rPr b="0" lang="ru-RU" sz="2800" spc="-1" strike="noStrike">
                <a:solidFill>
                  <a:srgbClr val="ff0000"/>
                </a:solidFill>
                <a:latin typeface="Bookman Old Style"/>
              </a:rPr>
              <a:t>переутом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Успокойте ребенка перед сном, снимите напряжение, накопившееся за д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Rectangle 2"/>
          <p:cNvGrpSpPr/>
          <p:nvPr/>
        </p:nvGrpSpPr>
        <p:grpSpPr>
          <a:xfrm>
            <a:off x="0" y="212760"/>
            <a:ext cx="9144000" cy="1146240"/>
            <a:chOff x="0" y="212760"/>
            <a:chExt cx="9144000" cy="1146240"/>
          </a:xfrm>
        </p:grpSpPr>
        <p:pic>
          <p:nvPicPr>
            <p:cNvPr id="85" name="Rectangle 2" descr=""/>
            <p:cNvPicPr/>
            <p:nvPr/>
          </p:nvPicPr>
          <p:blipFill>
            <a:blip r:embed="rId1"/>
            <a:stretch/>
          </p:blipFill>
          <p:spPr>
            <a:xfrm>
              <a:off x="0" y="212760"/>
              <a:ext cx="914400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0" y="21420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Cambria"/>
                </a:rPr>
                <a:t>Памятка для родителей №1.</a:t>
              </a:r>
              <a:br>
                <a:rPr sz="2900"/>
              </a:br>
              <a:r>
                <a:rPr b="1" lang="ru-RU" sz="2900" spc="-1" strike="noStrike">
                  <a:solidFill>
                    <a:srgbClr val="000000"/>
                  </a:solidFill>
                  <a:latin typeface="Cambria"/>
                </a:rPr>
                <a:t>Проблемы здоровья связанные с изменением статуса ребёнка: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людайте режим дня. Укладывайте спать в 21.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за правильной посадкой во время выполнения домашних заданий, соблюдение светового реж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упреждение близорукости, искривление позвоночника тренировка мелких мышц кистей р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полноценного питания. Витаминизированное пит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бота родителей о закаливании ребёнка, максимальное развитие двигательной активности (кружки, спортивные секц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ние самостоятельности и ответственности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ectangle 2"/>
          <p:cNvGrpSpPr/>
          <p:nvPr/>
        </p:nvGrpSpPr>
        <p:grpSpPr>
          <a:xfrm>
            <a:off x="0" y="212760"/>
            <a:ext cx="9144000" cy="1146240"/>
            <a:chOff x="0" y="212760"/>
            <a:chExt cx="9144000" cy="1146240"/>
          </a:xfrm>
        </p:grpSpPr>
        <p:pic>
          <p:nvPicPr>
            <p:cNvPr id="89" name="Rectangle 2" descr=""/>
            <p:cNvPicPr/>
            <p:nvPr/>
          </p:nvPicPr>
          <p:blipFill>
            <a:blip r:embed="rId1"/>
            <a:stretch/>
          </p:blipFill>
          <p:spPr>
            <a:xfrm>
              <a:off x="0" y="212760"/>
              <a:ext cx="914400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0" y="21420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000000"/>
                  </a:solidFill>
                  <a:latin typeface="Cambria"/>
                </a:rPr>
                <a:t>Памятка для родителей №2.</a:t>
              </a:r>
              <a:br>
                <a:rPr sz="2500"/>
              </a:br>
              <a:r>
                <a:rPr b="1" lang="ru-RU" sz="2500" spc="-1" strike="noStrike">
                  <a:solidFill>
                    <a:srgbClr val="000000"/>
                  </a:solidFill>
                  <a:latin typeface="Cambria"/>
                </a:rPr>
                <a:t>Важные  у с л о в и я  психологической комфортности в жизни первоклассника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благоприятного психологического климата по отношению к ребенку со стороны всех членов семь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оль самооценки ребен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адаптации к школе (чем ниже самооценка, тем больше трудностей у ребенка в школе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интереса к школе, прожитому школьному дн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язательное знакомство с ребятами по классу и возможность их общения после школ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допустимость физических мер воздействия, запугивания, критики в адрес ребенка, особенно в присутствии третьих лиц (бабушек, дедушек, сверстников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ключение таких мер наказания, как лишение удовольствий, физические и психические наказ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т темперамента в период адаптации к школьному обучению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оставление ребенку самостоятельности в учебной работе и организация контроля за его учебной деятельность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ощрение ребенка не только за учебные успехи, но и моральное стимулирование его достиж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самоконтроля и самооценки, самодостаточности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Rectangle 2"/>
          <p:cNvGrpSpPr/>
          <p:nvPr/>
        </p:nvGrpSpPr>
        <p:grpSpPr>
          <a:xfrm>
            <a:off x="-6480" y="182520"/>
            <a:ext cx="9156960" cy="1152720"/>
            <a:chOff x="-6480" y="182520"/>
            <a:chExt cx="9156960" cy="1152720"/>
          </a:xfrm>
        </p:grpSpPr>
        <p:pic>
          <p:nvPicPr>
            <p:cNvPr id="93" name="Rectangle 2" descr=""/>
            <p:cNvPicPr/>
            <p:nvPr/>
          </p:nvPicPr>
          <p:blipFill>
            <a:blip r:embed="rId1"/>
            <a:stretch/>
          </p:blipFill>
          <p:spPr>
            <a:xfrm>
              <a:off x="-6480" y="182520"/>
              <a:ext cx="915696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4"/>
            <p:cNvSpPr/>
            <p:nvPr/>
          </p:nvSpPr>
          <p:spPr>
            <a:xfrm>
              <a:off x="0" y="18900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Cambria"/>
                </a:rPr>
                <a:t>Правила предложенные известным педагогом и психологом </a:t>
              </a:r>
              <a:br>
                <a:rPr sz="2900"/>
              </a:br>
              <a:r>
                <a:rPr b="1" lang="ru-RU" sz="2900" spc="-1" strike="noStrike">
                  <a:solidFill>
                    <a:srgbClr val="000000"/>
                  </a:solidFill>
                  <a:latin typeface="Cambria"/>
                </a:rPr>
                <a:t>Симоном Соловейчиком:</a:t>
              </a:r>
              <a:r>
                <a:rPr b="1" lang="ru-RU" sz="3600" spc="-1" strike="noStrike">
                  <a:solidFill>
                    <a:srgbClr val="f2f2f2"/>
                  </a:solidFill>
                  <a:latin typeface="Cambria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50560" y="1571760"/>
            <a:ext cx="65530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отнимай чужого, но и свое не отдава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 Попросили – дай, пытаются отнять – старайся защит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 Не дерись без прич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 Зовут играть – иди, не зовут – спроси разрешения играть вместе, это не стыд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 Играй честно, не подводи своих товари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 Не дразни никого, не канючь, не выпрашивай ничего. Два раза ни у кого ничего не прос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 Из-за отметок не плачь, будь гордым. С учителем из-за отметок не спорь и на учителя за отметки не обижайся. Старайся все делать вовремя и думай о хороших результатах, они обязательно у тебя буд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 Не ябедничай и не наговаривай ни на 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 Старайся быть аккура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 Почаще говори: давай дружить, давай играть, давай вместе пойдем до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 П о м н и: ты не лучше всех, ты не хуже всех! Ты – неповторимый для самого себя, родителей, учителей, друзе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6948360" y="2060640"/>
            <a:ext cx="1963800" cy="3500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255600" y="450720"/>
            <a:ext cx="8881920" cy="1060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61748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Тысячу раз говорили тебе,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Сколько раз надо повтори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И о чем ты только думаеш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Неужели так трудно запомнить!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Ты становишься невыносимы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Отстань, мне некогд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Иди, сам подумай (или читай еще раз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Почему Лена (Вася, Петя и т.д.) такая умница, а ты  - нет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даптация-э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836280"/>
            <a:ext cx="478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стественное состояние человека, проявляющееся в приспособлении (привыкании) к новым условиям жизни, новой деятельности, новым социальным контактам, новым социальным роля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3" descr="137741.jpg"/>
          <p:cNvPicPr/>
          <p:nvPr/>
        </p:nvPicPr>
        <p:blipFill>
          <a:blip r:embed="rId1"/>
          <a:stretch/>
        </p:blipFill>
        <p:spPr>
          <a:xfrm>
            <a:off x="4788000" y="1268280"/>
            <a:ext cx="4051080" cy="51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60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83204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Ты у меня умниц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Как здорово, молодец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Как хорошо у тебя получилось, научи мен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Спасибо теб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Если бы ты не помог (помогла), мне бы одной не справить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веты родителям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475920"/>
            <a:ext cx="871380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ужно стараться, чтобы ребёнок дольше оставался 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«почемучко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Школьник, не задающий вопросов, - это повод для родительской трево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Любознательность создаёт учёных». Надо учить задавать вопросы, прежде всего самому себе, использовать словари и т.п. Родители должны провоцировать задавание вопросов и ни в коем случае не отмахиваться от н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Семья должны формировать 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ульт интеллект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– в создании домашней библиотеки, в интересных беседах, спорах. Объяснить ребёнку, что бесполезных знаний нет: всякое знание приносит пользу, только одно – сегодня, другое – завтра. Нужно всё начинать делать вместе с ребён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ужно ставить ребёнка в 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итуацию размышл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Умение размышлять сформирует у него представление о последствиях каждого действия. Задача взрослого не столько в том, чтобы отвечать на вопрос ребёнка, сколько в том, чтобы побудить его думать, предлагать, выбирать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ужно научить ребёнка 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анализировать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ою работу. Не указывать на совершённую ошибку в работе, а направлять его внимание на поиск её. Необходим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вивать внимание и память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бё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лагоприятно действует на него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туация успеха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Она удовлетворяет потребность ребёнка в самоуважении и повышении престижа. Всегда можно найти какие-то успехи ребёнка, сравнивая его предыдущие успехи, отмечая его продвижение вперёд. Но нельзя сравнивать их с другими деть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ценивая результаты деятельности ребёнка,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переносить их на личность самого ребёнка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Он как личность всегда хороший и желанный для своих родителей. Нельзя сказать: «Ты всегда неаккуратный», а нужно: «Вот эта часть работы сделана неаккуратно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очаще ставить себя на место своего ребёнка и вспоминать себя в его возра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1565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Одинаково не правы как те родители, которые предоставляют первоклашке полную самостоятельность, так и те, которые</a:t>
            </a:r>
            <a:br>
              <a:rPr sz="1800"/>
            </a:b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устанавливают тотальный контроль за всей его деятельностью</a:t>
            </a: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Уроки задают тебе, ты их и делай», - заявляет усталая мама, приходя с работы поздним вечером. Услышав подобную фразу, ребенок ощущает ваше глубокое равнодушие к своим нужд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Ну, что нам сегодня задано?» - спрашивает бабушка, распаковывая портфель и листая страницы учебника. В такой ситуации первоклашка скоро придет к выводу, что учеба больше нужна взрослым, и они сами все сделают, нечего даже напряга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учший вариант – сидеть рядом с ребенком, наблюдать за его работой, быть готовым помочь, но не вмешиваться без его просьбы. После выполнения задания спокойно спросите ребенка, доволен ли он своей работой, что получилось хорошо, а что – не оч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 уроки нужно садиться через час-полтора после возвращения из школ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когда ребенок уже слегка отдохнул, но еще не успел перевозбудиться от домашних игр и развлечений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Между выполнением уроков следует делать перерывы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15-20 минут занятий – 5 минут отдых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редуйте устные и письменные задания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Начинайте приготовление уроков с самых трудоемких или тех, что даются ученику тяжелее остальных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чень важно приучить ребенка к самоконтролю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После выполнения задания попросите сына или дочь проверить написанное. Если он сам нашел и исправил ошибку – обязательно похвалите! Лишь когда самопроверка войдет в привычку, можно прекратить напоминать. 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15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шибки ребенка не должны вас раздражать, они должны удивлять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йте ребенку почувствовать вашу уверенность в его успехе. Не ругайте за ошибки, не восклицайте: «Мы столько раз писали это слово, а ты опять пишешь неправильно!» Лучше удивитесь: «Ой! Как же это получилось?» 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стречая ребенка из школы, постарайтесь усилить в нем положительные впечатления и не акцентировать внимание на негативных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Поставьте вопрос так: «Что сегодня было хорошего? Что было самое интересное?»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осле выполнения уроков похвалите ребен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«Ты сегодня так быстро и хорошо все сделал!» Радуйтесь его успехам и новым знаниям: «Неужели ты уже знаешь, как решать такие сложные задачи?»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люч к успеху –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нимание трудностей ребенка и спокойная родительская уверенность в его возможностях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С такой поддержкой ребенок будет чувствовать себя в безопасности и легче справится с любыми сложностям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сном шепните ребенку на ушко: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Я так счастлива, что ты у меня есть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ef6f1"/>
                </a:solidFill>
                <a:latin typeface="Georgia"/>
              </a:rPr>
              <a:t>Необходимость укрепления психики ребё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звитие его мышления и эмоционально-волевой сф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ейтрализация страхов и негативных пережи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День-семьи"/>
          <p:cNvPicPr/>
          <p:nvPr/>
        </p:nvPicPr>
        <p:blipFill>
          <a:blip r:embed="rId1"/>
          <a:stretch/>
        </p:blipFill>
        <p:spPr>
          <a:xfrm>
            <a:off x="5580000" y="981000"/>
            <a:ext cx="3168720" cy="2627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95"/>
          <p:cNvPicPr/>
          <p:nvPr/>
        </p:nvPicPr>
        <p:blipFill>
          <a:blip r:embed="rId2"/>
          <a:stretch/>
        </p:blipFill>
        <p:spPr>
          <a:xfrm>
            <a:off x="1332000" y="4365720"/>
            <a:ext cx="2449440" cy="208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skola02"/>
          <p:cNvPicPr/>
          <p:nvPr/>
        </p:nvPicPr>
        <p:blipFill>
          <a:blip r:embed="rId3"/>
          <a:stretch/>
        </p:blipFill>
        <p:spPr>
          <a:xfrm>
            <a:off x="6084720" y="4221000"/>
            <a:ext cx="2519640" cy="2303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alcogolizm"/>
          <p:cNvPicPr/>
          <p:nvPr/>
        </p:nvPicPr>
        <p:blipFill>
          <a:blip r:embed="rId4"/>
          <a:stretch/>
        </p:blipFill>
        <p:spPr>
          <a:xfrm>
            <a:off x="4140360" y="4292640"/>
            <a:ext cx="1645920" cy="22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гда уместна тревога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ыч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ается первоначально непосредственный интерес к школе, занят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инает время от времени ныть, что учиться надоело (особенно в конце недели и четверти), но активно интересуется всем оста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дуется, когда не надо делать домашнее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мя от времени хочет остаться дома, пропустить уро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огда выражает недовольство учителем или опасения по его пов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асн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ое отсутствие интереса к учёб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лает уроки только «из-под пал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желание ходить в школу и вообще учиться выражается постоянно и открыто в формах активного протеста, либо симптомами болезней (кашель, насморк, рвота, понос), которые кончаются сразу после того, как разрешат остаться дома, либо, что гораздо реже, простой симуляцией этих симптом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чень не любит или боится учителя, испытывает по отношению к нему страх, бессилие или агресс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чего не интересно, безразличен ко всему, даже играм, если они требуют хоть какого-то напря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ялость и безынициативность, когда дело касается школы и уро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еспокоиться нужно тогда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когда нежелание учиться является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тойчивым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ражается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ктивно,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ражает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о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отношение ребёнка к школ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ровни адаптации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тимальны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– высокие адаптационные результаты при адекватных условиях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сок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– избыточный уровень; высокие результаты адаптации, достигнутые благодаря значительному психическому и моральному напряжению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изк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– обусловлен недостаточной требовательностью к себе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задаптационны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– плохое эмоциональное самочувствие; невротические реакции (неумение приспосабливаться к школьной жизн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Школа – это не страшно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бость и неуверенность перед школой возникает у большинства детей младшего школьного возраста, многие не хотят идти в школ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лучше чем родители уладить эту проблему никто не смож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ром поднимите ребёнка пораньше, чтобы неторопливо, спокойно собраться в школу. Помните: спешка усиливает тревож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тарайтесь накормить ребёнка его любимым блюдом. Вкусная, съеденная с удовольствием пища поднимает настро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ежда, в которую вы нарядили ребёнка, должна нравиться не только вам, но и ему самому, при этом она должна быть максимально удобной, чтобы он не чувствовал себя в ней неловко. Когда человек себе нравится, он чувствует себя уверенн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гда ребёнок приходит с хорошими отметками, хвалите его. А в конце четверти устройте с ним праздник. Играйте с ним дома в «Школу», пусть он побудит учителем, и вы сможете увидеть его отношение к шк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айте возникшие трудности совместно с учителем, и не умалчивайте пробле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усть школа для вашего ребёнка будет дверью в сказку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кола тоже не т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оритетная цель современной школы – личностно-ориентированное обу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построения такого обучения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§ Сформировать все психические процессы, которые обеспечат полноценное образовани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§ Развить коммуникативную деятельность, умение общаться и сотрудничать с другими людь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§ Сформировать учебную деятельность. Научить ребёнка учиться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 уметь принимать учебную задачу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 находить способы её решения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 отбирать нужные средств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 контролировать свои шаг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 самому оценивать полученные результат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плюсы даёт такое обучение?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ку: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ума, воли, чувств, формирование потребности учиться; радость от свободного умственного труда, творчества и общения; самостоятельность, уверенность, ответственность; стремление к сотрудничеств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ю: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ение взгляда на образование ученика; технологию развития личности учащихся, их познавательных и созидательных способностей; расширение возможностей для творчества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телям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ренность в успешном будущем своего ребё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владение навыками учеб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воение организационных навыков ( внешняя и внутренняя готовность к уроку, порядок на столе, в портфеле, в тетради, контроль за наличием школьных принадлежност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ие слушать, действовать по инстр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мыслительных процессов: анализ, синтез, классиф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логических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психических процессов: памяти, внимания, вооб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школьной мотив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187280" y="5157720"/>
            <a:ext cx="66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бёнок должен «научиться учитьс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язан делать то, что ему не всегда хоч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лжен контролировать своё по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_"/>
          <p:cNvPicPr/>
          <p:nvPr/>
        </p:nvPicPr>
        <p:blipFill>
          <a:blip r:embed="rId1"/>
          <a:stretch/>
        </p:blipFill>
        <p:spPr>
          <a:xfrm>
            <a:off x="6516720" y="4724280"/>
            <a:ext cx="2255760" cy="16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3" descr="b81db69fee3010142fa7d693aa37006b.jpg"/>
          <p:cNvPicPr/>
          <p:nvPr/>
        </p:nvPicPr>
        <p:blipFill>
          <a:blip r:embed="rId1"/>
          <a:stretch/>
        </p:blipFill>
        <p:spPr>
          <a:xfrm>
            <a:off x="6300720" y="4508640"/>
            <a:ext cx="2195640" cy="2089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адаптационного пери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3640" y="1125360"/>
            <a:ext cx="7993080" cy="523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здать психолого – педагогические условия, обеспечивающие </a:t>
            </a:r>
            <a:r>
              <a:rPr b="0" lang="ru-RU" sz="4000" spc="-1" strike="noStrike">
                <a:solidFill>
                  <a:srgbClr val="3333ff"/>
                </a:solidFill>
                <a:latin typeface="Arial"/>
              </a:rPr>
              <a:t>благоприятное течен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адаптации первоклассников к школьному обучен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214280"/>
            <a:ext cx="86868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Bookman Old Style"/>
              </a:rPr>
              <a:t>Желаю удач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Bookman Old Style"/>
              </a:rPr>
              <a:t>в воспитани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Bookman Old Style"/>
              </a:rPr>
              <a:t>детей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Содержимое 3" descr="1252933915_1252300422-shutterstock_104901313.jpg"/>
          <p:cNvPicPr/>
          <p:nvPr/>
        </p:nvPicPr>
        <p:blipFill>
          <a:blip r:embed="rId1"/>
          <a:srcRect l="14612" t="-1992" r="0" b="0"/>
          <a:stretch/>
        </p:blipFill>
        <p:spPr>
          <a:xfrm>
            <a:off x="6659640" y="4149720"/>
            <a:ext cx="2054160" cy="2154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30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помочь первокласснику в учеб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готовка руки к письм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сьмо - сложных координационный навык, требующий слаженной работы мышц кисти, всей руки, правильной координации движений всего те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к письму - один из самых сложных этапов подготовки ребенка к систематическому обуче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детей дошкольного возраста слабо развиты мелкие мышцы руки, несовершенна координация движений, не закончено окостенение запястий и фаланг пальце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этому в дошкольном возрасте важна именно подготовка к письму, а не обучение ему. Важно развить механизмы, необходимые для овладения письмом, создать условия для накопления ребенком двигательного и практического опыта, развития навыков ручной умел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2133720"/>
            <a:ext cx="75708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a800"/>
                </a:solidFill>
                <a:latin typeface="Arial"/>
              </a:rPr>
              <a:t>Средства развития мелкой мотор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395280" y="3716280"/>
            <a:ext cx="2521080" cy="1379520"/>
          </a:xfrm>
          <a:prstGeom prst="cloudCallout">
            <a:avLst>
              <a:gd name="adj1" fmla="val -6865"/>
              <a:gd name="adj2" fmla="val 100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альчиковая гимн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4356000" y="115920"/>
            <a:ext cx="2376720" cy="2374920"/>
          </a:xfrm>
          <a:prstGeom prst="cloudCallout">
            <a:avLst>
              <a:gd name="adj1" fmla="val -29157"/>
              <a:gd name="adj2" fmla="val 209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гры с крупой, бусинками, пуговицами, камеш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6372360" y="5013360"/>
            <a:ext cx="2447640" cy="1595520"/>
          </a:xfrm>
          <a:prstGeom prst="cloudCallout">
            <a:avLst>
              <a:gd name="adj1" fmla="val 36185"/>
              <a:gd name="adj2" fmla="val -24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гры с пластили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900000" y="5084640"/>
            <a:ext cx="2808360" cy="1584360"/>
          </a:xfrm>
          <a:prstGeom prst="cloudCallout">
            <a:avLst>
              <a:gd name="adj1" fmla="val 84935"/>
              <a:gd name="adj2" fmla="val 4869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гры с конструкторами и мозаик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6659640" y="3645000"/>
            <a:ext cx="2087640" cy="1224000"/>
          </a:xfrm>
          <a:prstGeom prst="cloudCallout">
            <a:avLst>
              <a:gd name="adj1" fmla="val -21560"/>
              <a:gd name="adj2" fmla="val 284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ырезание ножниц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3348000" y="4076640"/>
            <a:ext cx="2879640" cy="936720"/>
          </a:xfrm>
          <a:prstGeom prst="cloudCallout">
            <a:avLst>
              <a:gd name="adj1" fmla="val 34620"/>
              <a:gd name="adj2" fmla="val 542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исование и раскраши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324000" y="476280"/>
            <a:ext cx="2519280" cy="2087640"/>
          </a:xfrm>
          <a:prstGeom prst="cloudCallout">
            <a:avLst>
              <a:gd name="adj1" fmla="val 35379"/>
              <a:gd name="adj2" fmla="val -1517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абота с бумагой. Складывание (оригами). Плетение. Апплик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3924360" y="5157720"/>
            <a:ext cx="2376360" cy="1440000"/>
          </a:xfrm>
          <a:prstGeom prst="cloudCallout">
            <a:avLst>
              <a:gd name="adj1" fmla="val 30893"/>
              <a:gd name="adj2" fmla="val -4702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гры с веревочкой, шнур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6516720" y="1484280"/>
            <a:ext cx="2376360" cy="1473120"/>
          </a:xfrm>
          <a:prstGeom prst="cloudCallout">
            <a:avLst>
              <a:gd name="adj1" fmla="val -37976"/>
              <a:gd name="adj2" fmla="val -161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Графические упражнения. Штрихов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3"/>
          <p:cNvSpPr/>
          <p:nvPr/>
        </p:nvSpPr>
        <p:spPr>
          <a:xfrm>
            <a:off x="2268360" y="1484280"/>
            <a:ext cx="1944720" cy="1440000"/>
          </a:xfrm>
          <a:prstGeom prst="cloudCallout">
            <a:avLst>
              <a:gd name="adj1" fmla="val -13430"/>
              <a:gd name="adj2" fmla="val 3577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ссаж кистей рук и паль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лезные книг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53388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26195"/>
          <p:cNvPicPr/>
          <p:nvPr/>
        </p:nvPicPr>
        <p:blipFill>
          <a:blip r:embed="rId1"/>
          <a:stretch/>
        </p:blipFill>
        <p:spPr>
          <a:xfrm>
            <a:off x="324000" y="3860640"/>
            <a:ext cx="1657080" cy="2232360"/>
          </a:xfrm>
          <a:prstGeom prst="rect">
            <a:avLst/>
          </a:prstGeom>
          <a:ln w="9360">
            <a:solidFill>
              <a:srgbClr val="8dc6ff"/>
            </a:solidFill>
            <a:miter/>
          </a:ln>
        </p:spPr>
      </p:pic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5796000" y="1341360"/>
            <a:ext cx="1655640" cy="2160720"/>
          </a:xfrm>
          <a:prstGeom prst="rect">
            <a:avLst/>
          </a:prstGeom>
          <a:ln w="9360">
            <a:solidFill>
              <a:srgbClr val="8dc6ff"/>
            </a:solidFill>
            <a:miter/>
          </a:ln>
        </p:spPr>
      </p:pic>
      <p:pic>
        <p:nvPicPr>
          <p:cNvPr id="145" name="Picture 6" descr="i"/>
          <p:cNvPicPr/>
          <p:nvPr/>
        </p:nvPicPr>
        <p:blipFill>
          <a:blip r:embed="rId3"/>
          <a:stretch/>
        </p:blipFill>
        <p:spPr>
          <a:xfrm>
            <a:off x="250920" y="1341360"/>
            <a:ext cx="1655640" cy="2303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TNCA0LL1W6CAAH2IWTCANKZ11FCAA5QOWLCA4ID73ICAR0030FCABI083BCAZA92DOCAV4N5J0CA54LK0ACAWQDREXCADJE3PVCABAY41OCA384XKCCA4NY2U1CA7GDMRACA79TQSPCA7QWVBXCAM4D726"/>
          <p:cNvPicPr/>
          <p:nvPr/>
        </p:nvPicPr>
        <p:blipFill>
          <a:blip r:embed="rId4"/>
          <a:stretch/>
        </p:blipFill>
        <p:spPr>
          <a:xfrm>
            <a:off x="2050920" y="1341360"/>
            <a:ext cx="1656000" cy="2303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UMCAXGTPCZCA1CGYX7CADJDBSOCA6G9W6CCA72AEJGCAY1QE3XCAB0EWX8CAU20QKWCAH3SVEXCA25A2CXCAKSPI9PCAZMESO4CAOSQ0ZUCA4NQCLRCAN6MSERCA2E761TCARNJD2QCAA2OJ10CAJMV23B"/>
          <p:cNvPicPr/>
          <p:nvPr/>
        </p:nvPicPr>
        <p:blipFill>
          <a:blip r:embed="rId5"/>
          <a:stretch/>
        </p:blipFill>
        <p:spPr>
          <a:xfrm>
            <a:off x="3851280" y="1341360"/>
            <a:ext cx="1800360" cy="2232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"/>
          <p:cNvPicPr/>
          <p:nvPr/>
        </p:nvPicPr>
        <p:blipFill>
          <a:blip r:embed="rId6"/>
          <a:stretch/>
        </p:blipFill>
        <p:spPr>
          <a:xfrm>
            <a:off x="5940360" y="3860640"/>
            <a:ext cx="1513080" cy="2233800"/>
          </a:xfrm>
          <a:prstGeom prst="rect">
            <a:avLst/>
          </a:prstGeom>
          <a:ln w="9360">
            <a:solidFill>
              <a:srgbClr val="8dc6ff"/>
            </a:solidFill>
            <a:miter/>
          </a:ln>
        </p:spPr>
      </p:pic>
      <p:pic>
        <p:nvPicPr>
          <p:cNvPr id="149" name="Picture 10" descr="UGCABZAVEBCAJDW6OBCAX5J9AWCAS0HS3KCAAXLC6PCAYXF35YCA42H02ICA1CGCEUCAV9LW9MCA2P1S69CA75Y15OCA6I8CWNCAZL97DBCAAP0FIDCAZVQ704CAWH7WLZCA48KQO2CAGOF460CACAOVT3"/>
          <p:cNvPicPr/>
          <p:nvPr/>
        </p:nvPicPr>
        <p:blipFill>
          <a:blip r:embed="rId7"/>
          <a:stretch/>
        </p:blipFill>
        <p:spPr>
          <a:xfrm>
            <a:off x="3924360" y="3860640"/>
            <a:ext cx="1727280" cy="2232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2HCADB7ZHKCAUL4YRACAWCKG7BCAG7PUVYCAHUI8JACAD6S287CABSVMSCCADX3JKBCAZM6XV6CAUMP7SLCAZPMPDLCADKVSM3CA634FJUCAELL370CAKYL8U1CAOGJ98JCA56DSLFCAW95N76CAVI4ZCU"/>
          <p:cNvPicPr/>
          <p:nvPr/>
        </p:nvPicPr>
        <p:blipFill>
          <a:blip r:embed="rId8"/>
          <a:stretch/>
        </p:blipFill>
        <p:spPr>
          <a:xfrm>
            <a:off x="7596360" y="1341360"/>
            <a:ext cx="1322280" cy="2158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JECAW6E0UOCAV2P7ACCALLL55LCA1XXBF2CA6ZKC3TCAYLW9GRCADC79I0CA53LVX5CAQYD6Q4CAHGDF38CA3XEHK1CAOZRZGLCAI28MC0CAE5K927CA080Z04CA5VXVCFCARM0453CAIH7YISCAWADUKL"/>
          <p:cNvPicPr/>
          <p:nvPr/>
        </p:nvPicPr>
        <p:blipFill>
          <a:blip r:embed="rId9"/>
          <a:stretch/>
        </p:blipFill>
        <p:spPr>
          <a:xfrm>
            <a:off x="2268360" y="3860640"/>
            <a:ext cx="1440000" cy="2160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SRCAP7UTVXCAL0EMI6CAII21COCAXWWE6RCANLZ5TUCAIBD2IXCA3EK5CCCAFFV1GTCAHT0BXVCA0VN2KNCAUWCPO9CANYN9KPCAKAMSFWCAVJ5K0XCAHVT3B6CACSHHK3CA24ACG9CA6T5JBDCAZ1IN0I"/>
          <p:cNvPicPr/>
          <p:nvPr/>
        </p:nvPicPr>
        <p:blipFill>
          <a:blip r:embed="rId10"/>
          <a:stretch/>
        </p:blipFill>
        <p:spPr>
          <a:xfrm>
            <a:off x="7596360" y="3789360"/>
            <a:ext cx="1296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лаю плодотворной работы и успешной учеб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67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Начало обучения в школе – один из наиболее сложных и ответственных моментов, как в социально-психологическом, так и в физиологическом пла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Школа требует от ребёнка максимальной мобилизации интеллектуальных и физических с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1260644604_deti"/>
          <p:cNvPicPr/>
          <p:nvPr/>
        </p:nvPicPr>
        <p:blipFill>
          <a:blip r:embed="rId1"/>
          <a:stretch/>
        </p:blipFill>
        <p:spPr>
          <a:xfrm>
            <a:off x="6443640" y="404640"/>
            <a:ext cx="2370240" cy="2951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AB66E1E8-C3DD-4FA1-B59B-3200A6BB7049_mw800_mh600_s"/>
          <p:cNvPicPr/>
          <p:nvPr/>
        </p:nvPicPr>
        <p:blipFill>
          <a:blip r:embed="rId2"/>
          <a:stretch/>
        </p:blipFill>
        <p:spPr>
          <a:xfrm>
            <a:off x="5148360" y="4005360"/>
            <a:ext cx="3671640" cy="26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ормируется самооценка личност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классник уже понимает, что оценка его поступков определяется прежде всего тем, как его поступки выглядят в глазах окружающи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возбудимы, легко отвлекаются, т.к. лобные доли больших полушарий не сформированы, они сформируются к 13 го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ую роль в жизни школьника играет учитель, который выступает как центр его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од приспособления к требованиям школы, существует у 1-классников. У одних он длиться 1 месяц, у других 1 четверть, у 3-их растягивается на 1-ый учебный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 класс: учимся составлять распис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5904000" y="1859040"/>
            <a:ext cx="3276360" cy="2506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179280" y="1488960"/>
            <a:ext cx="5688000" cy="52214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6084720" y="12114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b03f5"/>
                </a:solidFill>
                <a:latin typeface="Arial"/>
              </a:rPr>
              <a:t>Образец:</a:t>
            </a:r>
            <a:r>
              <a:rPr b="1" lang="ru-RU" sz="2800" spc="-1" strike="noStrike">
                <a:solidFill>
                  <a:srgbClr val="2b03f5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6326280" y="4365720"/>
            <a:ext cx="220644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цени свою работу на урок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125000"/>
            <a:ext cx="850752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т ошибок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fa"/>
                </a:solidFill>
                <a:latin typeface="Arial"/>
              </a:rPr>
              <a:t>Моло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ошибка           </a:t>
            </a:r>
            <a:r>
              <a:rPr b="1" lang="ru-RU" sz="3200" spc="-1" strike="noStrike">
                <a:solidFill>
                  <a:srgbClr val="0000fa"/>
                </a:solidFill>
                <a:latin typeface="Arial"/>
              </a:rPr>
              <a:t>Хорош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льше  1 ошиб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3200" spc="-1" strike="noStrike">
                <a:solidFill>
                  <a:srgbClr val="0000fa"/>
                </a:solidFill>
                <a:latin typeface="Arial"/>
              </a:rPr>
              <a:t>Нужно  быть внимательны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"/>
          <p:cNvSpPr/>
          <p:nvPr/>
        </p:nvSpPr>
        <p:spPr>
          <a:xfrm>
            <a:off x="324000" y="836640"/>
            <a:ext cx="1285560" cy="114300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4"/>
          <p:cNvSpPr/>
          <p:nvPr/>
        </p:nvSpPr>
        <p:spPr>
          <a:xfrm>
            <a:off x="395280" y="2133720"/>
            <a:ext cx="1285920" cy="1143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5"/>
          <p:cNvSpPr/>
          <p:nvPr/>
        </p:nvSpPr>
        <p:spPr>
          <a:xfrm>
            <a:off x="468360" y="3645000"/>
            <a:ext cx="1224000" cy="1071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7777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 класс: учимся оценивать свое эмоциональное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стоя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0" y="3906720"/>
            <a:ext cx="2340000" cy="2254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2700360" y="3429000"/>
            <a:ext cx="6443640" cy="3246480"/>
          </a:xfrm>
          <a:prstGeom prst="rect">
            <a:avLst/>
          </a:prstGeom>
          <a:ln w="0">
            <a:noFill/>
          </a:ln>
        </p:spPr>
      </p:pic>
      <p:sp>
        <p:nvSpPr>
          <p:cNvPr id="68" name="Line 5"/>
          <p:cNvSpPr/>
          <p:nvPr/>
        </p:nvSpPr>
        <p:spPr>
          <a:xfrm flipH="1" flipV="1">
            <a:off x="1979280" y="5778360"/>
            <a:ext cx="647640" cy="503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 flipH="1">
            <a:off x="1979640" y="4194000"/>
            <a:ext cx="720720" cy="432000"/>
          </a:xfrm>
          <a:prstGeom prst="line">
            <a:avLst/>
          </a:prstGeom>
          <a:ln w="57240">
            <a:solidFill>
              <a:srgbClr val="2994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3"/>
          <a:stretch/>
        </p:blipFill>
        <p:spPr>
          <a:xfrm>
            <a:off x="4689360" y="836640"/>
            <a:ext cx="445464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чины </a:t>
            </a:r>
            <a:r>
              <a:rPr b="0" lang="ru-RU" sz="4400" spc="-1" strike="noStrike">
                <a:solidFill>
                  <a:srgbClr val="3333ff"/>
                </a:solidFill>
                <a:latin typeface="Arial"/>
              </a:rPr>
              <a:t>дезадап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ояние здор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о-бытовые условия сем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утрисемейные отно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жим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муникативные особенности лич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rebenok-uchitsya"/>
          <p:cNvPicPr/>
          <p:nvPr/>
        </p:nvPicPr>
        <p:blipFill>
          <a:blip r:embed="rId1"/>
          <a:stretch/>
        </p:blipFill>
        <p:spPr>
          <a:xfrm>
            <a:off x="5940360" y="4724280"/>
            <a:ext cx="2737080" cy="181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a8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a8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a8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a8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" dur="1" fill="hold"/>
                                  <p:tgtEl>
                                    <p:spTgt spid="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a8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12:21:49Z</dcterms:created>
  <dc:creator>viki</dc:creator>
  <dc:description/>
  <dc:language>en-US</dc:language>
  <cp:lastModifiedBy>User</cp:lastModifiedBy>
  <dcterms:modified xsi:type="dcterms:W3CDTF">2015-09-05T07:17:43Z</dcterms:modified>
  <cp:revision>10</cp:revision>
  <dc:subject/>
  <dc:title>Адаптация первоклассника в школе</dc:title>
</cp:coreProperties>
</file>