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cashreg.wav" ContentType="audio/x-wav"/>
  <Override PartName="/ppt/media/image21.jpeg" ContentType="image/jpeg"/>
  <Override PartName="/ppt/media/chimes.wav" ContentType="audio/x-wav"/>
  <Override PartName="/ppt/media/image19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20.png" ContentType="image/png"/>
  <Override PartName="/ppt/media/hammer.wav" ContentType="audio/x-wav"/>
  <Override PartName="/ppt/media/image2.jpeg" ContentType="image/jpeg"/>
  <Override PartName="/ppt/media/image36.jpeg" ContentType="image/jpeg"/>
  <Override PartName="/ppt/media/image18.png" ContentType="image/png"/>
  <Override PartName="/ppt/media/image4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6.jpeg" ContentType="image/jpeg"/>
  <Override PartName="/ppt/media/image33.jpeg" ContentType="image/jpeg"/>
  <Override PartName="/ppt/media/image27.png" ContentType="image/png"/>
  <Override PartName="/ppt/media/image28.jpeg" ContentType="image/jpeg"/>
  <Override PartName="/ppt/media/image34.jpeg" ContentType="image/jpeg"/>
  <Override PartName="/ppt/media/image29.jpeg" ContentType="image/jpeg"/>
  <Override PartName="/ppt/media/image35.jpeg" ContentType="image/jpeg"/>
  <Override PartName="/ppt/media/image13.wmf" ContentType="image/x-wmf"/>
  <Override PartName="/ppt/media/image6.wmf" ContentType="image/x-wmf"/>
  <Override PartName="/ppt/media/image24.jpeg" ContentType="image/jpeg"/>
  <Override PartName="/ppt/media/voltage.wav" ContentType="audio/x-wav"/>
  <Override PartName="/ppt/media/image3.jpeg" ContentType="image/jpeg"/>
  <Override PartName="/ppt/media/image14.png" ContentType="image/png"/>
  <Override PartName="/ppt/media/image5.jpeg" ContentType="image/jpeg"/>
  <Override PartName="/ppt/media/image11.wmf" ContentType="image/x-wmf"/>
  <Override PartName="/ppt/media/image23.jpeg" ContentType="image/jpeg"/>
  <Override PartName="/ppt/media/coin.wav" ContentType="audio/x-wav"/>
  <Override PartName="/ppt/media/image8.png" ContentType="image/png"/>
  <Override PartName="/ppt/media/image30.jpeg" ContentType="image/jpeg"/>
  <Override PartName="/ppt/media/image7.wmf" ContentType="image/x-wmf"/>
  <Override PartName="/ppt/media/image9.wmf" ContentType="image/x-wmf"/>
  <Override PartName="/ppt/media/wind.wav" ContentType="audio/x-wav"/>
  <Override PartName="/ppt/media/image16.png" ContentType="image/png"/>
  <Override PartName="/ppt/media/image1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B1B-4FD2-4F03-AEB1-256653BF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543-56A6-454B-B79B-53C284EB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DA9-07FD-464F-B1B6-BDBCCCF6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7B8-E372-4510-BFA4-C301B252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5A3-53A2-4549-9000-EF7A3BB9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5A7-AC15-40E3-97A4-5E9EEFDB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A32-EBA3-4711-902D-068B8F36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6EA-8B71-4A95-A50D-1F046809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B2D-F9ED-420D-81A2-86431859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75B-CE53-4E38-92F6-21148BB8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2B6-EA40-406F-ACA9-1EB7DB87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C25-F690-4B55-BC1A-657D1058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7906-AB78-42D2-838C-912E82229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voltag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hammer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81342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даптация первоклассника в 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2852280"/>
            <a:ext cx="6192720" cy="646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Адаптация. 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BL00545_"/>
          <p:cNvPicPr/>
          <p:nvPr/>
        </p:nvPicPr>
        <p:blipFill>
          <a:blip r:embed="rId1"/>
          <a:stretch/>
        </p:blipFill>
        <p:spPr>
          <a:xfrm>
            <a:off x="2268360" y="3573360"/>
            <a:ext cx="4969080" cy="27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Effect filter="diamond(out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современного первоклассни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ете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ие различ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аспортного и физиологического развития. Сегодня нет ни одного класса, где был бы ровный контингент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етей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ширная информирова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актически по любым вопросам. Но она совершенно бессис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овременных дете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ьнее ощущение своего «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и более свободное независимое поведение. Завышен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ровень само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верчив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 словам и поступкам взрослых. Нет веры во всё сказанное ими. Авторитет – не то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овременных детей более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лабое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в большинстве своём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стали игр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 коллективные «дворовые» игры. Их заменили телевизоры, компьютеры. И как следствие - дети приходят в школу не обладая навыками общения со сверстниками, плохо понимают, как себя вести, какие существуют нормы поведения в общ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первоклаш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j0089036"/>
          <p:cNvPicPr/>
          <p:nvPr/>
        </p:nvPicPr>
        <p:blipFill>
          <a:blip r:embed="rId1"/>
          <a:stretch/>
        </p:blipFill>
        <p:spPr>
          <a:xfrm>
            <a:off x="1692360" y="1700280"/>
            <a:ext cx="5543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" dur="1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1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8320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415"/>
          <p:cNvPicPr/>
          <p:nvPr/>
        </p:nvPicPr>
        <p:blipFill>
          <a:blip r:embed="rId2"/>
          <a:stretch/>
        </p:blipFill>
        <p:spPr>
          <a:xfrm>
            <a:off x="3132000" y="4797360"/>
            <a:ext cx="2735280" cy="1809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920" y="189000"/>
            <a:ext cx="8686800" cy="58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</a:t>
            </a:r>
            <a:r>
              <a:rPr b="0" lang="ru-RU" sz="2600" spc="-1" strike="noStrike" u="sng">
                <a:solidFill>
                  <a:srgbClr val="7030a0"/>
                </a:solidFill>
                <a:uFillTx/>
                <a:latin typeface="Bookman Old Style"/>
              </a:rPr>
              <a:t>бесполезны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4920" y="33300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2"/>
          <p:cNvGrpSpPr/>
          <p:nvPr/>
        </p:nvGrpSpPr>
        <p:grpSpPr>
          <a:xfrm>
            <a:off x="0" y="212760"/>
            <a:ext cx="9144000" cy="1146240"/>
            <a:chOff x="0" y="212760"/>
            <a:chExt cx="9144000" cy="1146240"/>
          </a:xfrm>
        </p:grpSpPr>
        <p:pic>
          <p:nvPicPr>
            <p:cNvPr id="85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21276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амятка для родителей №1.</a:t>
              </a:r>
              <a:br>
                <a:rPr sz="2900"/>
              </a:b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роблемы здоровья связанные с изменением статуса ребёнка: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айте режим дня. Укладывайте спать в 21.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правильной посадкой во время выполнения домашних заданий, соблюдение светового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близорукости, искривление позвоночника тренировка мелких мышц кистей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полноценного питания. Витаминизированное 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та родителей о закаливании ребёнка, максимальное развитие двигательной активности (кружки, спортивные сек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самостоятельности и ответственност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ectangle 2"/>
          <p:cNvGrpSpPr/>
          <p:nvPr/>
        </p:nvGrpSpPr>
        <p:grpSpPr>
          <a:xfrm>
            <a:off x="0" y="212760"/>
            <a:ext cx="9144000" cy="1146240"/>
            <a:chOff x="0" y="212760"/>
            <a:chExt cx="9144000" cy="1146240"/>
          </a:xfrm>
        </p:grpSpPr>
        <p:pic>
          <p:nvPicPr>
            <p:cNvPr id="89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21276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Cambria"/>
                </a:rPr>
                <a:t>Памятка для родителей №2.</a:t>
              </a:r>
              <a:br>
                <a:rPr sz="2500"/>
              </a:br>
              <a:r>
                <a:rPr b="1" lang="ru-RU" sz="2500" spc="-1" strike="noStrike">
                  <a:solidFill>
                    <a:srgbClr val="000000"/>
                  </a:solidFill>
                  <a:latin typeface="Cambria"/>
                </a:rPr>
                <a:t>Важные  у с л о в и я  психологической комфортности в жизни первоклассника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благоприятного психологического климата по отношению к ребенку со стороны всех члено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ль самооценки реб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адаптации к школе (чем ниже самооценка, тем больше трудностей у ребенка в школ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тереса к школе, прожитому школьному дн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е знакомство с ребятами по классу и возможность их общения после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третьих лиц (бабушек, дедушек, сверстнико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темперамента в период адаптации к школьному обучен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контроля за его учебной деятельн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щрение ребенка не только за учебные успехи, но и моральное стимулирование его дост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самоконтроля и самооценки, самодостаточн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-6480" y="182520"/>
            <a:ext cx="9156960" cy="1152720"/>
            <a:chOff x="-6480" y="182520"/>
            <a:chExt cx="9156960" cy="115272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182520"/>
              <a:ext cx="91569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4"/>
            <p:cNvSpPr/>
            <p:nvPr/>
          </p:nvSpPr>
          <p:spPr>
            <a:xfrm>
              <a:off x="0" y="1890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равила предложенные известным педагогом и психологом </a:t>
              </a:r>
              <a:br>
                <a:rPr sz="2900"/>
              </a:b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Симоном Соловейчиком:</a:t>
              </a:r>
              <a:r>
                <a:rPr b="1" lang="ru-RU" sz="3600" spc="-1" strike="noStrike">
                  <a:solidFill>
                    <a:srgbClr val="f2f2f2"/>
                  </a:solidFill>
                  <a:latin typeface="Cambri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571760"/>
            <a:ext cx="6553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отнимай чужого, но и свое не отдав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опросили – дай, пытаются отнять – старайся защит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дерись без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Зовут играть – иди, не зовут – спроси разрешения играть вместе, это не сты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Играй честно, не подводи своих товари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дразни никого, не канючь, не выпрашивай ничего. Два раза ни у кого ничего не про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Из-за отметок не плачь, будь гордым. С учителем из-за отметок не спорь и на учителя за отметки не обижайся. Старайся все делать вовремя и думай о хороших результатах, они обязательно у тебя бу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ябедничай и не наговаривай ни на 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Старайся быть аккура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очаще говори: давай дружить, давай играть, давай вместе пойдем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 о м н и: ты не лучше всех, ты не хуже всех! Ты – неповторимый для самого себя, родителей, учителей, друз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1963800" cy="3500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255600" y="450720"/>
            <a:ext cx="8881920" cy="106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174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даптация-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83628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тественное состояние человека, проявляющееся в приспособлении (привыкании) к новым условиям жизни, новой деятельности, новым социальным контактам, новым социальным ро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137741.jpg"/>
          <p:cNvPicPr/>
          <p:nvPr/>
        </p:nvPicPr>
        <p:blipFill>
          <a:blip r:embed="rId1"/>
          <a:stretch/>
        </p:blipFill>
        <p:spPr>
          <a:xfrm>
            <a:off x="4788000" y="1268280"/>
            <a:ext cx="4051080" cy="51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320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еты родителя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713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стараться, чтобы ребёнок дольше оставался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почемучк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Школьник, не задающий вопросов, - это повод для родительской трево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Любознательность создаёт учёных». Надо учить задавать вопросы, прежде всего самому себе, использовать словари и т.п. Родители должны провоцировать задавание вопросов и ни в коем случае не отмахиваться от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емья должны формировать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ульт интелле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в создании домашней библиотеки, в интересных беседах, спорах. Объяснить ребёнку, что бесполезных знаний нет: всякое знание приносит пользу, только одно – сегодня, другое – завтра. Нужно всё начинать делать вместе с ребён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ставить ребёнка в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туацию размышл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мение размышлять сформирует у него представление о последствиях каждого действия. Задача взрослого не столько в том, чтобы отвечать на вопрос ребёнка, сколько в том, чтобы побудить его думать, предлагать, выбира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научить ребёнка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нализировать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ю работу. Не указывать на совершённую ошибку в работе, а направлять его внимание на поиск её. Необходим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вать внимание и память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приятно действует на него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туация успех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на удовлетворяет потребность ребёнка в самоуважении и повышении престижа. Всегда можно найти какие-то успехи ребёнка, сравнивая его предыдущие успехи, отмечая его продвижение вперёд. Но нельзя сравнивать их с другими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ивая результаты деятельности ребёнка,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ереносить их на личность самого ребён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н как личность всегда хороший и желанный для своих родителей. Нельзя сказать: «Ты всегда неаккуратный», а нужно: «Вот эта часть работы сделана неаккуратн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чаще ставить себя на место своего ребёнка и вспоминать себя в его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156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Одинаково не правы как те родители, которые предоставляют первоклашке полную самостоятельность, так и те, которые</a:t>
            </a:r>
            <a:br>
              <a:rPr sz="1800"/>
            </a:b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устанавливают тотальный контроль за всей его деятельностью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Уроки задают тебе, ты их и делай», - заявляет усталая мама, приходя с работы поздним вечером. Услышав подобную фразу, ребенок ощущает ваше глубокое равнодушие к своим нужд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Ну, что нам сегодня задано?» - спрашивает бабушка, распаковывая портфель и листая страницы учебника. В такой ситуации первоклашка скоро придет к выводу, что учеба больше нужна взрослым, и они сами все сделают, нечего даже напряг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чший вариант – сидеть рядом с ребенком, наблюдать за его работой, быть готовым помочь, но не вмешиваться без его просьбы. После выполнения задания спокойно спросите ребенка, доволен ли он своей работой, что получилось хорошо, а что – не оч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уроки нужно садиться через час-полтора после возвращения из школ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гда ребенок уже слегка отдохнул, но еще не успел перевозбудиться от домашних игр и развлечен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жду выполнением уроков следует делать перерыв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15-20 минут занятий – 5 минут отдых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дуйте устные и письменные задан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Начинайте приготовление уроков с самых трудоемких или тех, что даются ученику тяжелее остальных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чень важно приучить ребенка к самоконтролю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После выполнения задания попросите сына или дочь проверить написанное. Если он сам нашел и исправил ошибку – обязательно похвалите! Лишь когда самопроверка войдет в привычку, можно прекратить напоминать. 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ребенка не должны вас раздражать, они должны удивлять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йте ребенку почувствовать вашу уверенность в его успехе. Не ругайте за ошибки, не восклицайте: «Мы столько раз писали это слово, а ты опять пишешь неправильно!» Лучше удивитесь: «Ой! Как же это получилось?»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тречая ребенка из школы, постарайтесь усилить в нем положительные впечатления и не акцентировать внимание на негативны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оставьте вопрос так: «Что сегодня было хорошего? Что было самое интересное?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сле выполнения уроков похвалите реб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«Ты сегодня так быстро и хорошо все сделал!» Радуйтесь его успехам и новым знаниям: «Неужели ты уже знаешь, как решать такие сложные задачи?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люч к успеху –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имание трудностей ребенка и спокойная родительская уверенность в его возможностя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 такой поддержкой ребенок будет чувствовать себя в безопасности и легче справится с любыми сложностя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сном шепните ребенку на ушко: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так счастлива, что ты у меня есть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ef6f1"/>
                </a:solidFill>
                <a:latin typeface="Georgia"/>
              </a:rPr>
              <a:t>Необходимость укрепления психики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тие его мышления и эмоционально-волев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йтрализация страхов и негативных пережи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День-семьи"/>
          <p:cNvPicPr/>
          <p:nvPr/>
        </p:nvPicPr>
        <p:blipFill>
          <a:blip r:embed="rId1"/>
          <a:stretch/>
        </p:blipFill>
        <p:spPr>
          <a:xfrm>
            <a:off x="5580000" y="981000"/>
            <a:ext cx="3168720" cy="262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95"/>
          <p:cNvPicPr/>
          <p:nvPr/>
        </p:nvPicPr>
        <p:blipFill>
          <a:blip r:embed="rId2"/>
          <a:stretch/>
        </p:blipFill>
        <p:spPr>
          <a:xfrm>
            <a:off x="1332000" y="4365720"/>
            <a:ext cx="24494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skola02"/>
          <p:cNvPicPr/>
          <p:nvPr/>
        </p:nvPicPr>
        <p:blipFill>
          <a:blip r:embed="rId3"/>
          <a:stretch/>
        </p:blipFill>
        <p:spPr>
          <a:xfrm>
            <a:off x="6084720" y="4221000"/>
            <a:ext cx="2519640" cy="230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lcogolizm"/>
          <p:cNvPicPr/>
          <p:nvPr/>
        </p:nvPicPr>
        <p:blipFill>
          <a:blip r:embed="rId4"/>
          <a:stretch/>
        </p:blipFill>
        <p:spPr>
          <a:xfrm>
            <a:off x="4140360" y="4292640"/>
            <a:ext cx="164592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гда уместна тревог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первоначально непосредственный интерес к школе, занят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ет время от времени ныть, что учиться надоело (особенно в конце недели и четверти), но активно интересуется всем ост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уется, когда не надо делать 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от времени хочет остаться дома, пропустить у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выражает недовольство учителем или опасения по его по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асн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ое отсутствие интереса к учёб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ает уроки только «из-под пал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елание ходить в школу и вообще учиться выражается постоянно и открыто в формах активного протеста, либо симптомами болезней (кашель, насморк, рвота, понос), которые кончаются сразу после того, как разрешат остаться дома, либо, что гораздо реже, простой симуляцией этих симпто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не любит или боится учителя, испытывает по отношению к нему страх, бессилие или агресс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чего не интересно, безразличен ко всему, даже играм, если они требуют хоть какого-то напря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ялость и безынициативность, когда дело касается школы и у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покоиться нужно тогд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когда нежелание учиться является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ым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ается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,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ажает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тношение ребёнка к школ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ни адаптации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тималь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высокие адаптационные результаты при адекватных условиях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избыточный уровень; высокие результаты адаптации, достигнутые благодаря значительному психическому и моральному напряжению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з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обусловлен недостаточной требовательностью к себе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задаптацио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плохое эмоциональное самочувствие; невротические реакции (неумение приспосабливаться к школьной жизн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ола – это не страшно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бость и неуверенность перед школой возникает у большинства детей младшего школьного возраста, многие не хотят идти в шко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лучше чем родители уладить эту проблему никто не смож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ром поднимите ребёнка пораньше, чтобы неторопливо, спокойно собраться в школу. Помните: спешка усиливает трево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райтесь накормить ребёнка его любимым блюдом. Вкусная, съеденная с удовольствием пища поднимает настр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ежда, в которую вы нарядили ребёнка, должна нравиться не только вам, но и ему самому, при этом она должна быть максимально удобной, чтобы он не чувствовал себя в ней неловко. Когда человек себе нравится, он чувствует себя уверен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ребёнок приходит с хорошими отметками, хвалите его. А в конце четверти устройте с ним праздник. Играйте с ним дома в «Школу», пусть он побудит учителем, и вы сможете увидеть его отношение к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айте возникшие трудности совместно с учителем, и не умалчивайте пробл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сть школа для вашего ребёнка будет дверью в сказк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а тоже не 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ритетная цель современной школы – личностно-ориентированное об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построения такого обучени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Сформировать все психические процессы, которые обеспечат полноценное образова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Развить коммуникативную деятельность, умение общаться и сотрудничать с другими людь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Сформировать учебную деятельность. Научить ребёнка учить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уметь принимать учебную задач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находить способы её реше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отбирать нужные средств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контролировать свои шаг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самому оценивать полученные результа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люсы даёт такое обучение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у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ума, воли, чувств, формирование потребности учиться; радость от свободного умственного труда, творчества и общения; самостоятельность, уверенность, ответственность; стремление к сотрудничест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ю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взгляда на образование ученика; технологию развития личности учащихся, их познавательных и созидательных способностей; расширение возможностей для творчест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ренность в успешном будущем своего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ладение навыками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ение организационных навыков ( внешняя и внутренняя готовность к уроку, порядок на столе, в портфеле, в тетради, контроль за наличием школьных принадлежнос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слушать, действовать по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мыслительных процессов: анализ, синтез, 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логически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сихических процессов: памяти, внимания, во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школьной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187280" y="515772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ёнок должен «научиться учить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н делать то, что ему не всегда хоч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жен контролировать своё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_"/>
          <p:cNvPicPr/>
          <p:nvPr/>
        </p:nvPicPr>
        <p:blipFill>
          <a:blip r:embed="rId1"/>
          <a:stretch/>
        </p:blipFill>
        <p:spPr>
          <a:xfrm>
            <a:off x="6516720" y="4724280"/>
            <a:ext cx="2255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b81db69fee3010142fa7d693aa37006b.jpg"/>
          <p:cNvPicPr/>
          <p:nvPr/>
        </p:nvPicPr>
        <p:blipFill>
          <a:blip r:embed="rId1"/>
          <a:stretch/>
        </p:blipFill>
        <p:spPr>
          <a:xfrm>
            <a:off x="6300720" y="4508640"/>
            <a:ext cx="2195640" cy="2089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адаптационного пери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360"/>
            <a:ext cx="7993080" cy="52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ть психолого – педагогические условия, обеспечивающие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благоприятное теч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даптации первоклассников к школьному обуч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Содержимое 3" descr="1252933915_1252300422-shutterstock_104901313.jpg"/>
          <p:cNvPicPr/>
          <p:nvPr/>
        </p:nvPicPr>
        <p:blipFill>
          <a:blip r:embed="rId1"/>
          <a:srcRect l="14612" t="-1992" r="0" b="0"/>
          <a:stretch/>
        </p:blipFill>
        <p:spPr>
          <a:xfrm>
            <a:off x="6659640" y="4149720"/>
            <a:ext cx="2054160" cy="215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первокласснику в уче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готовка руки к пись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о - сложных координационный навык, требующий слаженной работы мышц кисти, всей руки, правильной координации движений всего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к письму - один из самых сложных этапов подготовки ребенка к систематическому обуч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дошкольного возраста слабо развиты мелкие мышцы руки, несовершенна координация движений, не закончено окостенение запястий и фаланг пальц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в дошкольном возрасте важна именно подготовка к письму, а не обучение ему. Важно развить механизмы, необходимые для овладения письмом, создать условия для накопления ребенком двигательного и практического опыта, развития навыков ручной уме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5708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a800"/>
                </a:solidFill>
                <a:latin typeface="Arial"/>
              </a:rPr>
              <a:t>Средства развития мелкой мото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95280" y="3716280"/>
            <a:ext cx="2521080" cy="1379520"/>
          </a:xfrm>
          <a:prstGeom prst="cloudCallout">
            <a:avLst>
              <a:gd name="adj1" fmla="val -6865"/>
              <a:gd name="adj2" fmla="val 10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4356000" y="115920"/>
            <a:ext cx="2376720" cy="2374920"/>
          </a:xfrm>
          <a:prstGeom prst="cloudCallout">
            <a:avLst>
              <a:gd name="adj1" fmla="val -29157"/>
              <a:gd name="adj2" fmla="val 20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крупой, бусинками, пуговицами, каме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372360" y="5013360"/>
            <a:ext cx="2447640" cy="1595520"/>
          </a:xfrm>
          <a:prstGeom prst="cloudCallout">
            <a:avLst>
              <a:gd name="adj1" fmla="val 36185"/>
              <a:gd name="adj2" fmla="val -24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пластили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900000" y="5084640"/>
            <a:ext cx="2808360" cy="1584360"/>
          </a:xfrm>
          <a:prstGeom prst="cloudCallout">
            <a:avLst>
              <a:gd name="adj1" fmla="val 84935"/>
              <a:gd name="adj2" fmla="val 48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конструкторами и мозаи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6659640" y="3645000"/>
            <a:ext cx="2087640" cy="1224000"/>
          </a:xfrm>
          <a:prstGeom prst="cloudCallout">
            <a:avLst>
              <a:gd name="adj1" fmla="val -21560"/>
              <a:gd name="adj2" fmla="val 284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резание нож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348000" y="4076640"/>
            <a:ext cx="2879640" cy="936720"/>
          </a:xfrm>
          <a:prstGeom prst="cloudCallout">
            <a:avLst>
              <a:gd name="adj1" fmla="val 34620"/>
              <a:gd name="adj2" fmla="val 54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исование и раскраш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24000" y="476280"/>
            <a:ext cx="2519280" cy="2087640"/>
          </a:xfrm>
          <a:prstGeom prst="cloudCallout">
            <a:avLst>
              <a:gd name="adj1" fmla="val 35379"/>
              <a:gd name="adj2" fmla="val -151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бота с бумагой. Складывание (оригами). Плетение. Апплик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3924360" y="5157720"/>
            <a:ext cx="2376360" cy="1440000"/>
          </a:xfrm>
          <a:prstGeom prst="cloudCallout">
            <a:avLst>
              <a:gd name="adj1" fmla="val 30893"/>
              <a:gd name="adj2" fmla="val -470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гры с веревочкой, шну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6516720" y="1484280"/>
            <a:ext cx="2376360" cy="1473120"/>
          </a:xfrm>
          <a:prstGeom prst="cloudCallout">
            <a:avLst>
              <a:gd name="adj1" fmla="val -37976"/>
              <a:gd name="adj2" fmla="val -16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рафические упражнения. Штрихов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2268360" y="1484280"/>
            <a:ext cx="1944720" cy="1440000"/>
          </a:xfrm>
          <a:prstGeom prst="cloudCallout">
            <a:avLst>
              <a:gd name="adj1" fmla="val -13430"/>
              <a:gd name="adj2" fmla="val 357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ссаж кистей рук и па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лезные книг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26195"/>
          <p:cNvPicPr/>
          <p:nvPr/>
        </p:nvPicPr>
        <p:blipFill>
          <a:blip r:embed="rId1"/>
          <a:stretch/>
        </p:blipFill>
        <p:spPr>
          <a:xfrm>
            <a:off x="324000" y="3860640"/>
            <a:ext cx="1657080" cy="223236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1655640" cy="216072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5" name="Picture 6" descr="i"/>
          <p:cNvPicPr/>
          <p:nvPr/>
        </p:nvPicPr>
        <p:blipFill>
          <a:blip r:embed="rId3"/>
          <a:stretch/>
        </p:blipFill>
        <p:spPr>
          <a:xfrm>
            <a:off x="250920" y="134136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NCA0LL1W6CAAH2IWTCANKZ11FCAA5QOWLCA4ID73ICAR0030FCABI083BCAZA92DOCAV4N5J0CA54LK0ACAWQDREXCADJE3PVCABAY41OCA384XKCCA4NY2U1CA7GDMRACA79TQSPCA7QWVBXCAM4D726"/>
          <p:cNvPicPr/>
          <p:nvPr/>
        </p:nvPicPr>
        <p:blipFill>
          <a:blip r:embed="rId4"/>
          <a:stretch/>
        </p:blipFill>
        <p:spPr>
          <a:xfrm>
            <a:off x="2050920" y="1341360"/>
            <a:ext cx="1656000" cy="230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UMCAXGTPCZCA1CGYX7CADJDBSOCA6G9W6CCA72AEJGCAY1QE3XCAB0EWX8CAU20QKWCAH3SVEXCA25A2CXCAKSPI9PCAZMESO4CAOSQ0ZUCA4NQCLRCAN6MSERCA2E761TCARNJD2QCAA2OJ10CAJMV23B"/>
          <p:cNvPicPr/>
          <p:nvPr/>
        </p:nvPicPr>
        <p:blipFill>
          <a:blip r:embed="rId5"/>
          <a:stretch/>
        </p:blipFill>
        <p:spPr>
          <a:xfrm>
            <a:off x="3851280" y="134136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6"/>
          <a:stretch/>
        </p:blipFill>
        <p:spPr>
          <a:xfrm>
            <a:off x="5940360" y="3860640"/>
            <a:ext cx="1513080" cy="22338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9" name="Picture 10" descr="UGCABZAVEBCAJDW6OBCAX5J9AWCAS0HS3KCAAXLC6PCAYXF35YCA42H02ICA1CGCEUCAV9LW9MCA2P1S69CA75Y15OCA6I8CWNCAZL97DBCAAP0FIDCAZVQ704CAWH7WLZCA48KQO2CAGOF460CACAOVT3"/>
          <p:cNvPicPr/>
          <p:nvPr/>
        </p:nvPicPr>
        <p:blipFill>
          <a:blip r:embed="rId7"/>
          <a:stretch/>
        </p:blipFill>
        <p:spPr>
          <a:xfrm>
            <a:off x="3924360" y="3860640"/>
            <a:ext cx="1727280" cy="223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2HCADB7ZHKCAUL4YRACAWCKG7BCAG7PUVYCAHUI8JACAD6S287CABSVMSCCADX3JKBCAZM6XV6CAUMP7SLCAZPMPDLCADKVSM3CA634FJUCAELL370CAKYL8U1CAOGJ98JCA56DSLFCAW95N76CAVI4ZCU"/>
          <p:cNvPicPr/>
          <p:nvPr/>
        </p:nvPicPr>
        <p:blipFill>
          <a:blip r:embed="rId8"/>
          <a:stretch/>
        </p:blipFill>
        <p:spPr>
          <a:xfrm>
            <a:off x="7596360" y="1341360"/>
            <a:ext cx="1322280" cy="2158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JECAW6E0UOCAV2P7ACCALLL55LCA1XXBF2CA6ZKC3TCAYLW9GRCADC79I0CA53LVX5CAQYD6Q4CAHGDF38CA3XEHK1CAOZRZGLCAI28MC0CAE5K927CA080Z04CA5VXVCFCARM0453CAIH7YISCAWADUKL"/>
          <p:cNvPicPr/>
          <p:nvPr/>
        </p:nvPicPr>
        <p:blipFill>
          <a:blip r:embed="rId9"/>
          <a:stretch/>
        </p:blipFill>
        <p:spPr>
          <a:xfrm>
            <a:off x="2268360" y="386064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SRCAP7UTVXCAL0EMI6CAII21COCAXWWE6RCANLZ5TUCAIBD2IXCA3EK5CCCAFFV1GTCAHT0BXVCA0VN2KNCAUWCPO9CANYN9KPCAKAMSFWCAVJ5K0XCAHVT3B6CACSHHK3CA24ACG9CA6T5JBDCAZ1IN0I"/>
          <p:cNvPicPr/>
          <p:nvPr/>
        </p:nvPicPr>
        <p:blipFill>
          <a:blip r:embed="rId10"/>
          <a:stretch/>
        </p:blipFill>
        <p:spPr>
          <a:xfrm>
            <a:off x="7596360" y="3789360"/>
            <a:ext cx="1296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ю плодотворной работы и успешной уч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7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чало обучения в школе – один из наиболее сложных и ответственных моментов, как в социально-психологическом, так и в физиологическом пл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Школа требует от ребёнка максимальной мобилизации интеллектуальных и физических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260644604_deti"/>
          <p:cNvPicPr/>
          <p:nvPr/>
        </p:nvPicPr>
        <p:blipFill>
          <a:blip r:embed="rId1"/>
          <a:stretch/>
        </p:blipFill>
        <p:spPr>
          <a:xfrm>
            <a:off x="6443640" y="404640"/>
            <a:ext cx="2370240" cy="29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AB66E1E8-C3DD-4FA1-B59B-3200A6BB7049_mw800_mh600_s"/>
          <p:cNvPicPr/>
          <p:nvPr/>
        </p:nvPicPr>
        <p:blipFill>
          <a:blip r:embed="rId2"/>
          <a:stretch/>
        </p:blipFill>
        <p:spPr>
          <a:xfrm>
            <a:off x="5148360" y="4005360"/>
            <a:ext cx="367164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ируется самооценка личн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классник уже понимает, что оценка его поступков определяется прежде всего тем, как его поступки выглядят в глазах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возбудимы, легко отвлекаются, т.к. лобные доли больших полушарий не сформированы, они сформируются к 13 г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ую роль в жизни школьника играет учитель, который выступает как центр ег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приспособления к требованиям школы, существует у 1-классников. У одних он длиться 1 месяц, у других 1 четверть, у 3-их растягивается на 1-ый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класс: учимся составлять рас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904000" y="1859040"/>
            <a:ext cx="3276360" cy="25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179280" y="1488960"/>
            <a:ext cx="5688000" cy="5221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084720" y="12114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b03f5"/>
                </a:solidFill>
                <a:latin typeface="Arial"/>
              </a:rPr>
              <a:t>Образец:</a:t>
            </a:r>
            <a:r>
              <a:rPr b="1" lang="ru-RU" sz="2800" spc="-1" strike="noStrike">
                <a:solidFill>
                  <a:srgbClr val="2b03f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6326280" y="4365720"/>
            <a:ext cx="220644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5000"/>
            <a:ext cx="85075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 ошиб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ошибка    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Хорош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е  1 ошиб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Нужно  быть внимательн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"/>
          <p:cNvSpPr/>
          <p:nvPr/>
        </p:nvSpPr>
        <p:spPr>
          <a:xfrm>
            <a:off x="324000" y="836640"/>
            <a:ext cx="1285560" cy="114300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395280" y="2133720"/>
            <a:ext cx="1285920" cy="114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468360" y="3645000"/>
            <a:ext cx="1224000" cy="10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ласс: учимся оценивать свое эмоционально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3906720"/>
            <a:ext cx="2340000" cy="225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6443640" cy="324648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 flipH="1" flipV="1">
            <a:off x="1979280" y="5778360"/>
            <a:ext cx="64764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H="1">
            <a:off x="1979640" y="4194000"/>
            <a:ext cx="720720" cy="432000"/>
          </a:xfrm>
          <a:prstGeom prst="line">
            <a:avLst/>
          </a:prstGeom>
          <a:ln w="5724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4689360" y="836640"/>
            <a:ext cx="445464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бытовые условия сем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исемейны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ые особенности ли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rebenok-uchitsya"/>
          <p:cNvPicPr/>
          <p:nvPr/>
        </p:nvPicPr>
        <p:blipFill>
          <a:blip r:embed="rId1"/>
          <a:stretch/>
        </p:blipFill>
        <p:spPr>
          <a:xfrm>
            <a:off x="5940360" y="4724280"/>
            <a:ext cx="273708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2:21:49Z</dcterms:created>
  <dc:creator>viki</dc:creator>
  <dc:description/>
  <dc:language>en-US</dc:language>
  <cp:lastModifiedBy>User</cp:lastModifiedBy>
  <dcterms:modified xsi:type="dcterms:W3CDTF">2015-09-05T07:17:43Z</dcterms:modified>
  <cp:revision>10</cp:revision>
  <dc:subject/>
  <dc:title>Адаптация первоклассника в школе</dc:title>
</cp:coreProperties>
</file>