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96FE-0E67-477D-A983-AB61064B5B1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F6A9-B27E-42A7-9020-9E1964F7AD1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7BDC-1422-42A2-9CD8-43AB76C3000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ABCA-54D8-4AFA-9767-BD93D3603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8551-9922-46ED-ABF0-226A5687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6261-3D58-4718-8C74-BE8DBCABE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EF5F-1126-4C48-B51D-AD85A8A6F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E983-132F-49C4-8E66-980469664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7AAD-ECB7-4D86-98EB-D14E9966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D4FB-3AC2-41E5-8A21-B0C5F2EF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4A60-C81D-4AA8-B937-E45B1F53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DC20-DE8B-45A9-881A-52EC1F6A6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3B071-5D26-480C-B744-1C991029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500A-8481-4D5E-8F9C-71AB0828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CF05-B74A-4233-86E1-59382C5B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7E03-664B-40ED-9D1F-7F5D8939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EE4D-2C71-4EA4-91FC-1C007ABF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89F1-E7C0-4BAB-92B6-CB37C5A6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3B2B-C342-428C-B205-C191A400E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32B2-CC05-4272-AAF5-D318ABA05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BE08-A152-473C-9C34-FB05A483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0162-D42D-455B-8ACD-952155AF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6390-1924-4015-A537-398CF866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C89B-903E-4B68-8700-7E528C4A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2D50-79DA-4D56-8B3B-131AB355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CBB5-5C4E-4B38-AAAB-92F543CB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8D46-F2B8-4A28-A3D0-10C47E44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630C-A17A-4D97-88E3-C9A2867624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E0BE-9A73-424C-B6EC-273E59CBF53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1536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Учет возрастных особенностей обучающихся  при исследовательской деятельности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580920"/>
            <a:ext cx="81532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0" y="2286000"/>
            <a:ext cx="8991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239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76212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умно подобранные, с учетом возраста, уровня знаний и способностей учеников, учебно-исследовательские задания вызывают интерес у школьников и являются хорошим стимулом для мотивации изучения соответствующего предме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b7"/>
                </a:solidFill>
                <a:latin typeface="Arial Black"/>
              </a:rPr>
              <a:t>Начальная школа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емы детских работ выбираются из содержания учебных предметов или близкие к ни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блема исследования, обеспечивающая мотивацию включения в самостоятельную работу, должна быть в области познавательных интересов ребёнка и находиться в зоне ближайшего развит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ительность выполнения исследования целесообразно ограничить 1-2 неделями в режиме урочно-внеурочных занятий или 1-2 сдвоенными урок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кскурсии, прогулки-наблюдения, социальные акции, работу с различными текстовыми источниками информации, подготовку практически значимых продуктов и широкую общественную презентацию (с приглашением старших ребят, родителей, коллег педагогов и руководителей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b7"/>
                </a:solidFill>
                <a:latin typeface="Arial Black"/>
              </a:rPr>
              <a:t>Основная школа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тие коммуникативных навык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следовательскую деятельность целесообразно организовывать в групповых форма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тивация в обучен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ы детских работ выбираются из любой содержательной области (предметной, межпредметной, внепредметно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блемы - близкие пониманию и волнующие подростков в личном плане, социальных, коллективных и личных взаимоотнош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6000" spc="-1" strike="noStrike">
                <a:solidFill>
                  <a:srgbClr val="ffffb7"/>
                </a:solidFill>
                <a:latin typeface="Arial Black"/>
              </a:rPr>
              <a:t>Старшая школа </a:t>
            </a:r>
            <a:br>
              <a:rPr sz="4000"/>
            </a:b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328840"/>
            <a:ext cx="793296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следования можно проводить на более высоком уровне  (сами формулируют цель, планируют и осуществляют эксперимент, анализируют полученные результаты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дивидуальные или мини групповые формы работ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ирокое использование разнообразных форм исследовательской деятельности: экспедиций, конференций и др.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Таким образом, 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т возрастных особенностей и поуровневый подход к подготовке и проведению исследований дает возможность развития у  учащихся познавательной деятельности, формирует исследовательский стиль мышления и соответствующие ум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Пользователь</cp:lastModifiedBy>
  <dcterms:modified xsi:type="dcterms:W3CDTF">2018-03-26T11:37:25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