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1D34-1AA2-43DD-AF60-0D844616D4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49BC-30A5-4892-A752-ECBFFCF549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9E7F-54C6-4650-A988-6F575F506C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25F-93BD-491D-A2F0-1D601DC7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FC6-CCEC-4B24-A110-A03FAA08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1B4-CB29-4317-95C0-A0AA57FE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31A-D124-4755-83EB-0C2E0485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572D-840F-45C8-86CD-D0EC5A6D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B0AC-8297-4620-9119-E6F668EA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B2EF-5735-4298-89C3-99509521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7AE8-C297-470B-8D96-91E2AD2F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4F3A-ECED-4070-8D07-372039E8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0519-85F9-43DD-BDC2-5890CF6B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B34B-30D8-4318-9B7B-D7F5D3FA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B91-20B3-46EC-B181-E5419E60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A6BA-94DA-4B61-83A3-BB808C57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07F4-38E8-4B90-8B22-80E1C2DF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2226-2F95-46F5-A9CB-8C857F9F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ECA5-C2A2-4CE3-8595-BF0B4EB9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751D-0067-49DD-B7B1-3B2C8BD3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ACE-8846-47D3-A460-90632E1A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6A3-98DA-4B40-B910-BE634A6B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F3F-F8D7-4DA6-B31A-5208885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F1A-2327-40D0-A542-E023B1BF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11B-DBC0-46B7-9141-D8C1C47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CD1-69D6-4A07-A836-FEAFCEDC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C15-A29D-4A75-978A-93767A8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1F0D-0C18-45F9-BD83-75A95840F1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E85D-9F1F-4A91-959D-14CD00A871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Учет возрастных особенностей обучающихся  при исследовательской деятельност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286000"/>
            <a:ext cx="8991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умно подобранные, с учетом возраста, уровня знаний и способностей учеников, учебно-исследовательские задания вызывают интерес у школьников и являются хорошим стимулом для мотивации изучения соответствующего предм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Начальная школ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мы детских работ выбираются из содержания учебных предметов или близкие к н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блема исследования, обеспечивающая мотивацию включения в самостоятельную работу, должна быть в области познавательных интересов ребёнка и находиться в зоне ближайшего разви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тельность выполнения исследования целесообразно ограничить 1-2 неделями в режиме урочно-внеурочных занятий или 1-2 сдвоенными уро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курсии, прогулки-наблюдения, социальные акции, работу с различными текстовыми источниками информации, подготовку практически значимых продуктов и широкую общественную презентацию (с приглашением старших ребят, родителей, коллег педагогов и руководител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Основная школ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коммуникативных навы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тельскую деятельность целесообразно организовывать в групповых форм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тивация в обуч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ы детских работ выбираются из любой содержательной области (предметной, межпредметной, внепредметн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- близкие пониманию и волнующие подростков в личном плане, социальных, коллективных и личных взаимоотно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Старшая школа </a:t>
            </a:r>
            <a:br>
              <a:rPr sz="4000"/>
            </a:b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28840"/>
            <a:ext cx="79329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я можно проводить на более высоком уровне  (сами формулируют цель, планируют и осуществляют эксперимент, анализируют полученные результаты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видуальные или мини групповые формы раб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рокое использование разнообразных форм исследовательской деятельности: экспедиций, конференций и др.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аким образом,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возрастных особенностей и поуровневый подход к подготовке и проведению исследований дает возможность развития у  учащихся познавательной деятельности, формирует исследовательский стиль мышления и соответствующие ум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8-03-26T11:37:2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