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8D52-4419-4971-B01F-3ADBD3DF1B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77D0-34D4-4100-84BA-C332CADBB9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4056-82A0-47B4-8EB2-2AB59FBFCC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0727-ECA1-4081-B88A-26CEE75C38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E029-515E-44AD-9C4C-9D5BA23DF2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31E2-543D-4F5D-8AA1-B78B01A4DA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0A0-750C-44CF-A9A9-871CEFE6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9C5-F869-46CB-9116-1B025031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A0C-8E65-4C27-8D2D-830F0FFF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BEA-55AC-4F36-9336-0432D2B7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F2D3-6354-4695-A1AA-1887FD6B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85BF-582E-4DE9-B654-9DB5092E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7545-5F4F-44E9-8841-9D6471C6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AAB1-A093-4C55-B7C0-39A3695E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1EF9-4086-424D-ACD6-6FA80B64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C161-54B8-4461-8D96-25CD289A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276B-7B56-433B-AF9F-023AADD9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AAD-9B94-49D2-914F-003C2AFF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FC66-BEB5-4B0C-A80E-426B8B96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54A0-7C08-4DFD-B086-DC49FCFA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4D89-F998-4EB1-B217-D8BC583F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4183-DCC9-49AF-9859-DDC2AB2C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7B14-BF89-4A6D-8945-AE673E89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9A3-2B32-4AB5-B555-15FA28CD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A43-7934-4231-BC55-03256EF5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50B-1967-4622-85EF-4F018589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798-56FB-43CE-996E-CB6B2804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05A-70BE-4FA5-9364-EEAB2276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C19-4432-4FBE-BCF8-4995E02B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C6C-8787-44A6-9133-BD560F03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9DE4-CFBB-484D-A04A-1849FE931F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8C58-7279-4489-A651-2B3202A33D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lang="en-US" sz="9600" spc="-1" strike="noStrike">
                <a:solidFill>
                  <a:srgbClr val="ffffb7"/>
                </a:solidFill>
                <a:latin typeface="Arial Black"/>
              </a:rPr>
              <a:t>FUNNY ENGLISH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286000"/>
            <a:ext cx="8991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Этап 5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Stage 5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Name the number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азовите числ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380880"/>
          <a:ext cx="8763120" cy="689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1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7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52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6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9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7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45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Этап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6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Stage 6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Name the year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азовите год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380880"/>
          <a:ext cx="8763120" cy="695808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1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7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9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2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2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7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4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5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37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520" y="380520"/>
            <a:ext cx="846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You are the greatest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ank you very much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239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обираемся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ы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месте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тобы было весел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обираемся играть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e are going to play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тап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ge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280" y="19047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Finish the phras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Закончите фраз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тап 2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tage 2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Let us count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Давайте посчитаем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380880"/>
          <a:ext cx="8540640" cy="601056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6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wenty plus fifty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ighteen plus four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venty minus fif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xteen plus four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ifty- two minus eigh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inety-six plus three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venteen minus nine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xty-eight plus twenty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rty-nine minus seven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ineteen minus t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ven plus twelve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wenty minus six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inety plus five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en minus eight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rty plus thir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rty-five minus sev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xty -three plus fif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ighty-two minus twelve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venteen plus thirty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wenty-six minus elev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тап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ge 3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1143000" y="21337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rite in figur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Запишите числа цифрам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533520"/>
          <a:ext cx="8077320" cy="586728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3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ur hundred and sixty-f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hree thousand, eight hundred and ninety- tw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x hundred and fift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wo thousand, three hundred and seventy- 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ine hundred and eighty- f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ne thousand, five hundred and sixty-n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ven thousand, four hundred and twen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x thousand, two hundred and ninety- 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hree hundred and seventy- f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ine thousand, fife hundred and sixty-f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wo hundred and nine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ven thousand, four hundred and fifty -si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ight hundred and forty- sev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ive thousand, nine hundred and thirty- f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Этап 4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Stage 4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What time is it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оторый час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83883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304920"/>
          <a:ext cx="8610480" cy="64926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0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.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.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.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.3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.0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.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.4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.2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.0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.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8-03-17T09:09:1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