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2732-5196-4B5A-9AC8-8A220DD2F4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0DB3-9043-4406-85DD-1CE641F30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0673-DE07-4AAD-97A0-7AE8912701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BC8-8EA0-412B-A31D-33120404B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3620-D7D5-4993-9E9B-D71379EE48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432A-63CA-4FFD-8AE9-9725A75825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5EC-626F-46FD-90FF-B29B0A5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979-9271-4C1E-A42C-6994207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82F-0236-48BF-83B8-D41FEB7D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ED9-7C28-48D0-B3B7-5206712A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22F-2A70-47E4-ACA5-14B64850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1D5-B87D-4854-A7AC-058E7F2B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455-D737-4D0C-8DEB-708FFB70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E18D-F108-470F-88A8-E79F8B2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2247-7EC0-4FE2-91D6-EC474DC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4C78-9A7E-4405-B236-1B269B6A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6FF-6B2E-49B0-AB4B-D8553060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DE9-93BA-40F0-9590-DA1BCB2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889-6052-4222-A7E9-1B5FCC10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C1B1-AF1D-474F-AE18-D92B61A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6B3-8F46-4045-A286-35140D35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33B5-5FA1-40CE-A58A-22255A9D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A88A-5C29-4DE7-957D-CE5441F4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266-92B9-42BD-AA5C-0CCE215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904-54C2-483A-AB8C-FCA4BD22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FEE-CD26-4478-8A57-2888C118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9EC-839B-40CB-8EA6-9387B59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3F6-86FE-4027-81FF-EA90E1A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991-CF2E-4682-8C64-F8101EC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D24-4CD9-4520-B1A0-10B7D64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9EC3-F8CC-40AF-82D8-C3221E6EE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B08-6A4C-46F5-AA6F-D644E6A71A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FUNNY ENGLISH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286000"/>
            <a:ext cx="8991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Этап 5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Stage 5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Name the number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азовите числ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380880"/>
          <a:ext cx="8763120" cy="689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4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Этап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6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Stage 6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Name the year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азовите год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380880"/>
          <a:ext cx="8763120" cy="695808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7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9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7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4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37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520" y="380520"/>
            <a:ext cx="846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You are the greatest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 very much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обираемс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ы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мест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бы было весел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обираемся играть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e are going to play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тап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ge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9047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inish the phr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Закончите фраз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ап 2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tage 2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Let us coun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Давайте посчитаем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380880"/>
          <a:ext cx="8540640" cy="60105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6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enty plus fifty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ighteen plus four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ty minus fif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teen plus four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ifty- two minus eigh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ty-six plus thre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teen minus nin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ty-eight plus twenty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rty-nine minus seven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teen minus t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 plus twelv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enty minus six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ty plus fiv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en minus eight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rty plus thir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rty-five minus sev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ty -three plus fifte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ighty-two minus twelve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teen plus thirty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enty-six minus eleven 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тап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ge 3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143000" y="21337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rite in figur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Запишите числа цифрам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533520"/>
          <a:ext cx="8077320" cy="586728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ur hundred and sixty-f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hree thousand, eight hundred and ninety- 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 hundred and fift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o thousand, three hundred and seventy- 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 hundred and eighty- f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e thousand, five hundred and sixty-n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 thousand, four hundred and twen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x thousand, two hundred and ninety- 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hree hundred and seventy- f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ine thousand, fife hundred and sixty-f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o hundred and nine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ven thousand, four hundred and fifty -si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ight hundred and forty- s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ive thousand, nine hundred and thirty- f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Этап 4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age 4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What time is it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торый час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8388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10480" cy="64926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 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.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.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.3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.0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.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.4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2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.0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5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.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17T09:09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