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B090-30E7-4A9E-BD75-AC2576EA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C1A-7A56-4861-BFE1-2327F850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277-7D5E-4D17-A712-94820225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7E17-7A2B-4EAA-AA56-A8462B52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022-EE45-43CF-B6AD-13861451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519-5149-4702-A6C8-CCD5B674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60A-7184-4B03-9B60-A4BF091F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13C-1DC5-4B9B-AC54-E0A5F358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198-5C46-4DD0-B503-3ECEEFB9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E9B7-7CAF-459F-9743-7AB29957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A1A-C346-4E37-B9F6-E2800128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FD9A-EBDE-477A-B857-6799378B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17E5-9498-4E49-9785-B1C12A7E6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52480" y="2133720"/>
            <a:ext cx="5562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lt"/>
              </a:rPr>
              <a:t>Речевые зву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275720" y="4952880"/>
            <a:ext cx="416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 учитель-логопед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ДОУ ДС №46 г. Нижневартовск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йфуллина Рушания Сягит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ридумайте предложения по сх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838080" y="1371600"/>
            <a:ext cx="4686480" cy="993600"/>
            <a:chOff x="838080" y="1371600"/>
            <a:chExt cx="4686480" cy="993600"/>
          </a:xfrm>
        </p:grpSpPr>
        <p:sp>
          <p:nvSpPr>
            <p:cNvPr id="98" name="AutoShape 10"/>
            <p:cNvSpPr/>
            <p:nvPr/>
          </p:nvSpPr>
          <p:spPr>
            <a:xfrm>
              <a:off x="838080" y="1371600"/>
              <a:ext cx="4686480" cy="993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1"/>
            <p:cNvSpPr/>
            <p:nvPr/>
          </p:nvSpPr>
          <p:spPr>
            <a:xfrm>
              <a:off x="1065960" y="1461600"/>
              <a:ext cx="0" cy="63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1065960" y="2094120"/>
              <a:ext cx="125784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3"/>
            <p:cNvSpPr/>
            <p:nvPr/>
          </p:nvSpPr>
          <p:spPr>
            <a:xfrm>
              <a:off x="2552400" y="2094120"/>
              <a:ext cx="114300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3809880" y="2004120"/>
              <a:ext cx="227880" cy="180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5"/>
          <p:cNvGrpSpPr/>
          <p:nvPr/>
        </p:nvGrpSpPr>
        <p:grpSpPr>
          <a:xfrm>
            <a:off x="838080" y="2514600"/>
            <a:ext cx="6096240" cy="1066680"/>
            <a:chOff x="838080" y="2514600"/>
            <a:chExt cx="6096240" cy="1066680"/>
          </a:xfrm>
        </p:grpSpPr>
        <p:sp>
          <p:nvSpPr>
            <p:cNvPr id="104" name="AutoShape 16"/>
            <p:cNvSpPr/>
            <p:nvPr/>
          </p:nvSpPr>
          <p:spPr>
            <a:xfrm>
              <a:off x="838080" y="2514600"/>
              <a:ext cx="6096240" cy="1066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1059120" y="2760480"/>
              <a:ext cx="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1059120" y="3335400"/>
              <a:ext cx="121896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2500560" y="3335400"/>
              <a:ext cx="121932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0"/>
            <p:cNvSpPr/>
            <p:nvPr/>
          </p:nvSpPr>
          <p:spPr>
            <a:xfrm>
              <a:off x="5271480" y="3252600"/>
              <a:ext cx="222120" cy="16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1"/>
            <p:cNvSpPr/>
            <p:nvPr/>
          </p:nvSpPr>
          <p:spPr>
            <a:xfrm>
              <a:off x="3830760" y="3335400"/>
              <a:ext cx="121932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2"/>
          <p:cNvGrpSpPr/>
          <p:nvPr/>
        </p:nvGrpSpPr>
        <p:grpSpPr>
          <a:xfrm>
            <a:off x="838080" y="3809880"/>
            <a:ext cx="6400800" cy="1122480"/>
            <a:chOff x="838080" y="3809880"/>
            <a:chExt cx="6400800" cy="1122480"/>
          </a:xfrm>
        </p:grpSpPr>
        <p:sp>
          <p:nvSpPr>
            <p:cNvPr id="111" name="AutoShape 23"/>
            <p:cNvSpPr/>
            <p:nvPr/>
          </p:nvSpPr>
          <p:spPr>
            <a:xfrm>
              <a:off x="838080" y="3809880"/>
              <a:ext cx="6400800" cy="1122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>
              <a:off x="1070280" y="4068720"/>
              <a:ext cx="0" cy="604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5"/>
            <p:cNvSpPr/>
            <p:nvPr/>
          </p:nvSpPr>
          <p:spPr>
            <a:xfrm>
              <a:off x="1070280" y="4673520"/>
              <a:ext cx="127980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6"/>
            <p:cNvSpPr/>
            <p:nvPr/>
          </p:nvSpPr>
          <p:spPr>
            <a:xfrm>
              <a:off x="7006680" y="4586760"/>
              <a:ext cx="230400" cy="17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7"/>
            <p:cNvSpPr/>
            <p:nvPr/>
          </p:nvSpPr>
          <p:spPr>
            <a:xfrm>
              <a:off x="5609160" y="4673520"/>
              <a:ext cx="127908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8"/>
            <p:cNvSpPr/>
            <p:nvPr/>
          </p:nvSpPr>
          <p:spPr>
            <a:xfrm>
              <a:off x="4096440" y="4673520"/>
              <a:ext cx="128016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9"/>
            <p:cNvSpPr/>
            <p:nvPr/>
          </p:nvSpPr>
          <p:spPr>
            <a:xfrm>
              <a:off x="2583720" y="4673520"/>
              <a:ext cx="128016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63"/>
          <p:cNvGrpSpPr/>
          <p:nvPr/>
        </p:nvGrpSpPr>
        <p:grpSpPr>
          <a:xfrm>
            <a:off x="838080" y="5105520"/>
            <a:ext cx="7848720" cy="1143000"/>
            <a:chOff x="838080" y="5105520"/>
            <a:chExt cx="7848720" cy="1143000"/>
          </a:xfrm>
        </p:grpSpPr>
        <p:sp>
          <p:nvSpPr>
            <p:cNvPr id="119" name="AutoShape 64"/>
            <p:cNvSpPr/>
            <p:nvPr/>
          </p:nvSpPr>
          <p:spPr>
            <a:xfrm>
              <a:off x="838080" y="5105520"/>
              <a:ext cx="7848720" cy="114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5"/>
            <p:cNvSpPr/>
            <p:nvPr/>
          </p:nvSpPr>
          <p:spPr>
            <a:xfrm>
              <a:off x="1068480" y="5369040"/>
              <a:ext cx="0" cy="615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66"/>
            <p:cNvSpPr/>
            <p:nvPr/>
          </p:nvSpPr>
          <p:spPr>
            <a:xfrm>
              <a:off x="1068480" y="5985000"/>
              <a:ext cx="126936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67"/>
            <p:cNvSpPr/>
            <p:nvPr/>
          </p:nvSpPr>
          <p:spPr>
            <a:xfrm>
              <a:off x="8340120" y="5896440"/>
              <a:ext cx="228960" cy="176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8"/>
            <p:cNvSpPr/>
            <p:nvPr/>
          </p:nvSpPr>
          <p:spPr>
            <a:xfrm>
              <a:off x="5569920" y="5985000"/>
              <a:ext cx="126864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69"/>
            <p:cNvSpPr/>
            <p:nvPr/>
          </p:nvSpPr>
          <p:spPr>
            <a:xfrm>
              <a:off x="4069800" y="5985000"/>
              <a:ext cx="126972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0"/>
            <p:cNvSpPr/>
            <p:nvPr/>
          </p:nvSpPr>
          <p:spPr>
            <a:xfrm>
              <a:off x="2569320" y="5985000"/>
              <a:ext cx="126972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71"/>
            <p:cNvSpPr/>
            <p:nvPr/>
          </p:nvSpPr>
          <p:spPr>
            <a:xfrm>
              <a:off x="6955200" y="5985000"/>
              <a:ext cx="127044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о-помощ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3581280" y="2362320"/>
            <a:ext cx="2514600" cy="26668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создании презентации были использованы следующие картинки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к – сканированное изображение мака из пособия Четверушкиной Н.С. «Слоговая структура слова: система коррекционных упражнений для детей 5-7 ле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мик – http://static6.depositphotos.com/1000126/578/v/950/depositphotos_5782083-Fairy-tale-house-among-tree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бор – http://www.mebel-vzglyad.ru/images/stories/detsad/zaborchik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рпичи – http://domys.ru/Good_Builder/manage/pictures/969/42708/11864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ушка - http://forum.myjane.ru/files/655b_69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ласные зв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3047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А  У  О  И   Ы  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1981440" cy="1585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4419720" y="12193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ух свободно идет через ро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препятствий разных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с участвует, голос зове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вук получается …</a:t>
            </a:r>
            <a:br>
              <a:rPr sz="20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ла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80880" y="4876920"/>
            <a:ext cx="5486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сные тянутся в песенке звонкой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гут заплакать и закрича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гут в кроватке ребенка баюка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не желают скрипеть и ворч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гласные зв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 rot="2327400">
            <a:off x="533160" y="25909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 rot="2327400">
            <a:off x="7009920" y="25146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H="1">
            <a:off x="6552720" y="2209680"/>
            <a:ext cx="205740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6781680" y="2286000"/>
            <a:ext cx="205740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 rot="2836800">
            <a:off x="2309760" y="1924200"/>
            <a:ext cx="380880" cy="1295280"/>
          </a:xfrm>
          <a:prstGeom prst="downArrow">
            <a:avLst>
              <a:gd name="adj1" fmla="val 50000"/>
              <a:gd name="adj2" fmla="val 850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 rot="18462000">
            <a:off x="6248160" y="1828440"/>
            <a:ext cx="380880" cy="1295280"/>
          </a:xfrm>
          <a:prstGeom prst="downArrow">
            <a:avLst>
              <a:gd name="adj1" fmla="val 50000"/>
              <a:gd name="adj2" fmla="val 850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2438280" y="5181480"/>
            <a:ext cx="1067040" cy="99072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5410080" y="5181480"/>
            <a:ext cx="1067040" cy="99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 rot="1738800">
            <a:off x="2895120" y="2590920"/>
            <a:ext cx="381240" cy="2438280"/>
          </a:xfrm>
          <a:prstGeom prst="downArrow">
            <a:avLst>
              <a:gd name="adj1" fmla="val 50000"/>
              <a:gd name="adj2" fmla="val 15989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 rot="19876800">
            <a:off x="5715000" y="2590920"/>
            <a:ext cx="380880" cy="2438280"/>
          </a:xfrm>
          <a:prstGeom prst="downArrow">
            <a:avLst>
              <a:gd name="adj1" fmla="val 50000"/>
              <a:gd name="adj2" fmla="val 1600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8" descr=""/>
          <p:cNvPicPr/>
          <p:nvPr/>
        </p:nvPicPr>
        <p:blipFill>
          <a:blip r:embed="rId3"/>
          <a:stretch/>
        </p:blipFill>
        <p:spPr>
          <a:xfrm>
            <a:off x="380880" y="50292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"/>
          <p:cNvPicPr/>
          <p:nvPr/>
        </p:nvPicPr>
        <p:blipFill>
          <a:blip r:embed="rId4"/>
          <a:stretch/>
        </p:blipFill>
        <p:spPr>
          <a:xfrm>
            <a:off x="3276720" y="1371600"/>
            <a:ext cx="2438280" cy="171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"/>
          <p:cNvPicPr/>
          <p:nvPr/>
        </p:nvPicPr>
        <p:blipFill>
          <a:blip r:embed="rId5"/>
          <a:stretch/>
        </p:blipFill>
        <p:spPr>
          <a:xfrm>
            <a:off x="6781680" y="4876920"/>
            <a:ext cx="182880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274680"/>
          <a:ext cx="8229600" cy="6126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0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  У  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  Ы  Э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48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1981080" cy="158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2" descr=""/>
          <p:cNvPicPr/>
          <p:nvPr/>
        </p:nvPicPr>
        <p:blipFill>
          <a:blip r:embed="rId2"/>
          <a:stretch/>
        </p:blipFill>
        <p:spPr>
          <a:xfrm>
            <a:off x="3276720" y="4419720"/>
            <a:ext cx="1676160" cy="125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3" descr=""/>
          <p:cNvPicPr/>
          <p:nvPr/>
        </p:nvPicPr>
        <p:blipFill>
          <a:blip r:embed="rId3"/>
          <a:stretch/>
        </p:blipFill>
        <p:spPr>
          <a:xfrm rot="2327400">
            <a:off x="3809520" y="259092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6"/>
          <p:cNvSpPr/>
          <p:nvPr/>
        </p:nvSpPr>
        <p:spPr>
          <a:xfrm>
            <a:off x="1371600" y="2895480"/>
            <a:ext cx="10666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7"/>
          <p:cNvSpPr/>
          <p:nvPr/>
        </p:nvSpPr>
        <p:spPr>
          <a:xfrm>
            <a:off x="4800600" y="5334120"/>
            <a:ext cx="1066680" cy="990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8"/>
          <p:cNvSpPr/>
          <p:nvPr/>
        </p:nvSpPr>
        <p:spPr>
          <a:xfrm>
            <a:off x="7543800" y="5334120"/>
            <a:ext cx="1066680" cy="990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9" descr=""/>
          <p:cNvPicPr/>
          <p:nvPr/>
        </p:nvPicPr>
        <p:blipFill>
          <a:blip r:embed="rId4"/>
          <a:stretch/>
        </p:blipFill>
        <p:spPr>
          <a:xfrm rot="2327400">
            <a:off x="6705360" y="259092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Line 60"/>
          <p:cNvSpPr/>
          <p:nvPr/>
        </p:nvSpPr>
        <p:spPr>
          <a:xfrm>
            <a:off x="6400800" y="2590920"/>
            <a:ext cx="205740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1"/>
          <p:cNvSpPr/>
          <p:nvPr/>
        </p:nvSpPr>
        <p:spPr>
          <a:xfrm flipH="1">
            <a:off x="6171840" y="2514600"/>
            <a:ext cx="205740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4" descr=""/>
          <p:cNvPicPr/>
          <p:nvPr/>
        </p:nvPicPr>
        <p:blipFill>
          <a:blip r:embed="rId5"/>
          <a:stretch/>
        </p:blipFill>
        <p:spPr>
          <a:xfrm>
            <a:off x="4800600" y="533520"/>
            <a:ext cx="2438280" cy="171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5" descr=""/>
          <p:cNvPicPr/>
          <p:nvPr/>
        </p:nvPicPr>
        <p:blipFill>
          <a:blip r:embed="rId6"/>
          <a:stretch/>
        </p:blipFill>
        <p:spPr>
          <a:xfrm>
            <a:off x="6095880" y="4419720"/>
            <a:ext cx="129564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во – дом для зву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914400" y="5334120"/>
            <a:ext cx="106668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4191120" y="5257800"/>
            <a:ext cx="1066680" cy="99072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7315200" y="5257800"/>
            <a:ext cx="1066680" cy="99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"/>
          <p:cNvPicPr/>
          <p:nvPr/>
        </p:nvPicPr>
        <p:blipFill>
          <a:blip r:embed="rId1"/>
          <a:stretch/>
        </p:blipFill>
        <p:spPr>
          <a:xfrm>
            <a:off x="3048120" y="990720"/>
            <a:ext cx="3143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505320" y="4572000"/>
          <a:ext cx="4937040" cy="1447920"/>
        </p:xfrm>
        <a:graphic>
          <a:graphicData uri="http://schemas.openxmlformats.org/drawingml/2006/table">
            <a:tbl>
              <a:tblPr/>
              <a:tblGrid>
                <a:gridCol w="1646280"/>
                <a:gridCol w="1645920"/>
                <a:gridCol w="164484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31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2116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8"/>
          <p:cNvSpPr/>
          <p:nvPr/>
        </p:nvSpPr>
        <p:spPr>
          <a:xfrm>
            <a:off x="3048120" y="4419720"/>
            <a:ext cx="1447560" cy="12952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4495680" y="4419720"/>
            <a:ext cx="144792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7391520" y="4419720"/>
            <a:ext cx="144756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5943600" y="4419720"/>
            <a:ext cx="144792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76364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2"/>
          <a:stretch/>
        </p:blipFill>
        <p:spPr>
          <a:xfrm>
            <a:off x="2286000" y="838080"/>
            <a:ext cx="1704960" cy="2210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3"/>
          <a:stretch/>
        </p:blipFill>
        <p:spPr>
          <a:xfrm>
            <a:off x="762120" y="2209680"/>
            <a:ext cx="1763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дберите слова к схем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352680" y="3124080"/>
          <a:ext cx="5334120" cy="1249560"/>
        </p:xfrm>
        <a:graphic>
          <a:graphicData uri="http://schemas.openxmlformats.org/drawingml/2006/table">
            <a:tbl>
              <a:tblPr/>
              <a:tblGrid>
                <a:gridCol w="1333800"/>
                <a:gridCol w="1333440"/>
                <a:gridCol w="1333440"/>
                <a:gridCol w="1333440"/>
              </a:tblGrid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57200" y="1447920"/>
          <a:ext cx="3962520" cy="121896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1940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09480" y="5029200"/>
          <a:ext cx="6858000" cy="12193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600200"/>
          <a:ext cx="4114800" cy="1219320"/>
        </p:xfrm>
        <a:graphic>
          <a:graphicData uri="http://schemas.openxmlformats.org/drawingml/2006/table">
            <a:tbl>
              <a:tblPr/>
              <a:tblGrid>
                <a:gridCol w="1371600"/>
                <a:gridCol w="1373040"/>
                <a:gridCol w="137016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819520" y="3276720"/>
          <a:ext cx="6019560" cy="1195200"/>
        </p:xfrm>
        <a:graphic>
          <a:graphicData uri="http://schemas.openxmlformats.org/drawingml/2006/table">
            <a:tbl>
              <a:tblPr/>
              <a:tblGrid>
                <a:gridCol w="1203120"/>
                <a:gridCol w="1204920"/>
                <a:gridCol w="1203480"/>
                <a:gridCol w="1204920"/>
                <a:gridCol w="1203120"/>
              </a:tblGrid>
              <a:tr h="11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33520" y="5181480"/>
          <a:ext cx="6019560" cy="1173240"/>
        </p:xfrm>
        <a:graphic>
          <a:graphicData uri="http://schemas.openxmlformats.org/drawingml/2006/table">
            <a:tbl>
              <a:tblPr/>
              <a:tblGrid>
                <a:gridCol w="1204920"/>
                <a:gridCol w="1204920"/>
                <a:gridCol w="1199880"/>
                <a:gridCol w="1204920"/>
                <a:gridCol w="1204920"/>
              </a:tblGrid>
              <a:tr h="11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дберите слова к схем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ушана Сайфуллина</cp:lastModifiedBy>
  <dcterms:modified xsi:type="dcterms:W3CDTF">2018-03-28T16:24:02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