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7.jpeg" ContentType="image/jpeg"/>
  <Override PartName="/ppt/media/image33.jpeg" ContentType="image/jpeg"/>
  <Override PartName="/ppt/media/image1.jpeg" ContentType="image/jpeg"/>
  <Override PartName="/ppt/media/image7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5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7088-C405-4C7B-A3BC-22EB15C7E6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F362-892E-4DCB-B97B-0D2CEF11FF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embl_shk"/>
          <p:cNvPicPr/>
          <p:nvPr/>
        </p:nvPicPr>
        <p:blipFill>
          <a:blip r:embed="rId3"/>
          <a:stretch/>
        </p:blipFill>
        <p:spPr>
          <a:xfrm>
            <a:off x="8893080" y="0"/>
            <a:ext cx="250920" cy="237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0" y="657072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Лазарева Лидия Андреевна,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 учитель начальных классов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Рижская основная школа «ПАРДАУГАВА»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Рига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009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,  e-mail: lazareva@pdps.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одовинновская СОШ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"/>
          <p:cNvSpPr/>
          <p:nvPr/>
        </p:nvSpPr>
        <p:spPr>
          <a:xfrm>
            <a:off x="4067280" y="4361040"/>
            <a:ext cx="44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Шеломенцева Ан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роекта: Созыкина Л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2411280" y="242100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ИННЫЕ    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ый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291920" y="602136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7-2018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инус 5"/>
          <p:cNvSpPr/>
          <p:nvPr/>
        </p:nvSpPr>
        <p:spPr>
          <a:xfrm>
            <a:off x="-214200" y="6286680"/>
            <a:ext cx="9501120" cy="822240"/>
          </a:xfrm>
          <a:custGeom>
            <a:avLst/>
            <a:gdLst/>
            <a:ahLst/>
            <a:rect l="l" t="t" r="r" b="b"/>
            <a:pathLst>
              <a:path w="9501188" h="822325">
                <a:moveTo>
                  <a:pt x="1259382" y="314457"/>
                </a:moveTo>
                <a:lnTo>
                  <a:pt x="8241806" y="314457"/>
                </a:lnTo>
                <a:lnTo>
                  <a:pt x="8241806" y="507868"/>
                </a:lnTo>
                <a:lnTo>
                  <a:pt x="1259382" y="507868"/>
                </a:lnTo>
                <a:lnTo>
                  <a:pt x="1259382" y="314457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инные меры измере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ей и объе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инус 2"/>
          <p:cNvSpPr/>
          <p:nvPr/>
        </p:nvSpPr>
        <p:spPr>
          <a:xfrm>
            <a:off x="-357120" y="6572160"/>
            <a:ext cx="10001160" cy="285840"/>
          </a:xfrm>
          <a:custGeom>
            <a:avLst/>
            <a:gdLst/>
            <a:ahLst/>
            <a:rect l="l" t="t" r="r" b="b"/>
            <a:pathLst>
              <a:path w="10001251" h="285750">
                <a:moveTo>
                  <a:pt x="1325666" y="64251"/>
                </a:moveTo>
                <a:lnTo>
                  <a:pt x="8675585" y="64251"/>
                </a:lnTo>
                <a:lnTo>
                  <a:pt x="8675585" y="221499"/>
                </a:lnTo>
                <a:lnTo>
                  <a:pt x="1325666" y="221499"/>
                </a:lnTo>
                <a:lnTo>
                  <a:pt x="1325666" y="6425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714240" y="1714680"/>
            <a:ext cx="442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ина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лощадь квадрата со стороной, равной десятой части вер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ка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щадь квадрата со стороной 10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ро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1 лит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ф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ая часть вед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лон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ло 4 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шель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36 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рель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159 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788000" y="4079880"/>
            <a:ext cx="3335400" cy="1298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4788000" y="2349360"/>
            <a:ext cx="33354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71480" y="1785960"/>
            <a:ext cx="57452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ше время для измерения длины мы пользуемся мерой, названной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Мет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ая единица метрической системы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рическая система была принята во 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Фран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 конце 18 века. Метр определили как одну десятимиллионную долю участка земного меридиана от Северного полюса до экватора. Метрическая система в 1875 году была законодательно признана в 17 странах, в том числе и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инус 2"/>
          <p:cNvSpPr/>
          <p:nvPr/>
        </p:nvSpPr>
        <p:spPr>
          <a:xfrm>
            <a:off x="-285840" y="6572160"/>
            <a:ext cx="9644040" cy="285840"/>
          </a:xfrm>
          <a:custGeom>
            <a:avLst/>
            <a:gdLst/>
            <a:ahLst/>
            <a:rect l="l" t="t" r="r" b="b"/>
            <a:pathLst>
              <a:path w="9644063" h="285750">
                <a:moveTo>
                  <a:pt x="1278321" y="64251"/>
                </a:moveTo>
                <a:lnTo>
                  <a:pt x="8365742" y="64251"/>
                </a:lnTo>
                <a:lnTo>
                  <a:pt x="8365742" y="221499"/>
                </a:lnTo>
                <a:lnTo>
                  <a:pt x="1278321" y="221499"/>
                </a:lnTo>
                <a:lnTo>
                  <a:pt x="1278321" y="6425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3" descr="http://images.myshared.ru/17/1103223/slide_17.jpg"/>
          <p:cNvPicPr/>
          <p:nvPr/>
        </p:nvPicPr>
        <p:blipFill>
          <a:blip r:embed="rId1"/>
          <a:stretch/>
        </p:blipFill>
        <p:spPr>
          <a:xfrm>
            <a:off x="609480" y="1987560"/>
            <a:ext cx="2036880" cy="3090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5"/>
          <p:cNvSpPr/>
          <p:nvPr/>
        </p:nvSpPr>
        <p:spPr>
          <a:xfrm>
            <a:off x="1948680" y="785880"/>
            <a:ext cx="5508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ременные меры изме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stop">
            <a:hlinkClick r:id="" action="ppaction://hlinkshowjump?jump=endshow"/>
          </p:cNvPr>
          <p:cNvPicPr/>
          <p:nvPr/>
        </p:nvPicPr>
        <p:blipFill>
          <a:blip r:embed="rId1">
            <a:grayscl/>
          </a:blip>
          <a:stretch/>
        </p:blipFill>
        <p:spPr>
          <a:xfrm>
            <a:off x="8820000" y="6524640"/>
            <a:ext cx="324000" cy="333360"/>
          </a:xfrm>
          <a:prstGeom prst="rect">
            <a:avLst/>
          </a:prstGeom>
          <a:ln w="0">
            <a:noFill/>
          </a:ln>
        </p:spPr>
      </p:pic>
      <p:sp>
        <p:nvSpPr>
          <p:cNvPr id="116" name="Минус 3"/>
          <p:cNvSpPr/>
          <p:nvPr/>
        </p:nvSpPr>
        <p:spPr>
          <a:xfrm>
            <a:off x="-214200" y="6572160"/>
            <a:ext cx="9644040" cy="285840"/>
          </a:xfrm>
          <a:custGeom>
            <a:avLst/>
            <a:gdLst/>
            <a:ahLst/>
            <a:rect l="l" t="t" r="r" b="b"/>
            <a:pathLst>
              <a:path w="9644063" h="285750">
                <a:moveTo>
                  <a:pt x="1278321" y="41742"/>
                </a:moveTo>
                <a:lnTo>
                  <a:pt x="8365742" y="41742"/>
                </a:lnTo>
                <a:lnTo>
                  <a:pt x="8365742" y="244008"/>
                </a:lnTo>
                <a:lnTo>
                  <a:pt x="1278321" y="244008"/>
                </a:lnTo>
                <a:lnTo>
                  <a:pt x="1278321" y="41742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ременные меры измер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5" descr="https://stendy.by/image/cache/data/20000/22028_st_mery-800x800.jpg"/>
          <p:cNvPicPr/>
          <p:nvPr/>
        </p:nvPicPr>
        <p:blipFill>
          <a:blip r:embed="rId2"/>
          <a:stretch/>
        </p:blipFill>
        <p:spPr>
          <a:xfrm>
            <a:off x="500040" y="1428840"/>
            <a:ext cx="80726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инус 4"/>
          <p:cNvSpPr/>
          <p:nvPr/>
        </p:nvSpPr>
        <p:spPr>
          <a:xfrm>
            <a:off x="-214200" y="6215040"/>
            <a:ext cx="9644040" cy="914400"/>
          </a:xfrm>
          <a:custGeom>
            <a:avLst/>
            <a:gdLst/>
            <a:ahLst/>
            <a:rect l="l" t="t" r="r" b="b"/>
            <a:pathLst>
              <a:path w="9644063" h="914400">
                <a:moveTo>
                  <a:pt x="1278321" y="349667"/>
                </a:moveTo>
                <a:lnTo>
                  <a:pt x="8365742" y="349667"/>
                </a:lnTo>
                <a:lnTo>
                  <a:pt x="8365742" y="564733"/>
                </a:lnTo>
                <a:lnTo>
                  <a:pt x="1278321" y="564733"/>
                </a:lnTo>
                <a:lnTo>
                  <a:pt x="1278321" y="349667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http://im7-tub-ru.yandex.net/i?id=104876333-10-72&amp;n=21"/>
          <p:cNvPicPr/>
          <p:nvPr/>
        </p:nvPicPr>
        <p:blipFill>
          <a:blip r:embed="rId1"/>
          <a:stretch/>
        </p:blipFill>
        <p:spPr>
          <a:xfrm>
            <a:off x="571680" y="1285920"/>
            <a:ext cx="1457280" cy="14288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Izhitsa"/>
              </a:rPr>
              <a:t>Старинные мер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Izhitsa"/>
              </a:rPr>
              <a:t> в пословицах и поговорка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7"/>
          <p:cNvSpPr/>
          <p:nvPr/>
        </p:nvSpPr>
        <p:spPr>
          <a:xfrm>
            <a:off x="2214720" y="1428840"/>
            <a:ext cx="6143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т пуду должен  уступи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иметь уважение к старшим,  более опытн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8"/>
          <p:cNvSpPr/>
          <p:nvPr/>
        </p:nvSpPr>
        <p:spPr>
          <a:xfrm>
            <a:off x="714240" y="285768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довое горе с плеч свалишь, а золотниковыми подавишь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е следует пренебрегать даже ничтожной опас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9"/>
          <p:cNvSpPr/>
          <p:nvPr/>
        </p:nvSpPr>
        <p:spPr>
          <a:xfrm>
            <a:off x="714240" y="414324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с да мера до греха не допустя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.е. до обмана,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571680" y="49312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уступить ни пяд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отдать даже самой мал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928800" y="564588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мь пядей во лб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 очень умном челове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zhitsa"/>
              </a:rPr>
              <a:t>Старинные меры</a:t>
            </a:r>
            <a:r>
              <a:rPr b="0" lang="en-US" sz="3200" spc="-1" strike="noStrike">
                <a:solidFill>
                  <a:srgbClr val="000000"/>
                </a:solidFill>
                <a:latin typeface="Izhits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Izhitsa"/>
              </a:rPr>
              <a:t>в литературных произвед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инус 2"/>
          <p:cNvSpPr/>
          <p:nvPr/>
        </p:nvSpPr>
        <p:spPr>
          <a:xfrm>
            <a:off x="-285840" y="6500880"/>
            <a:ext cx="9715680" cy="357120"/>
          </a:xfrm>
          <a:custGeom>
            <a:avLst/>
            <a:gdLst/>
            <a:ahLst/>
            <a:rect l="l" t="t" r="r" b="b"/>
            <a:pathLst>
              <a:path w="9715500" h="357187">
                <a:moveTo>
                  <a:pt x="1287790" y="80315"/>
                </a:moveTo>
                <a:lnTo>
                  <a:pt x="8427710" y="80315"/>
                </a:lnTo>
                <a:lnTo>
                  <a:pt x="8427710" y="276872"/>
                </a:lnTo>
                <a:lnTo>
                  <a:pt x="1287790" y="276872"/>
                </a:lnTo>
                <a:lnTo>
                  <a:pt x="1287790" y="80315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"/>
          <p:cNvSpPr/>
          <p:nvPr/>
        </p:nvSpPr>
        <p:spPr>
          <a:xfrm>
            <a:off x="857160" y="1357200"/>
            <a:ext cx="7500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инные меры встречаются в литературных и исторических произведениях, пословицах, поговор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media.vorotila.ru/ru/items/t1@ed48b306-dcf5-4ce7-99c9-27a5005bd466/Petr-Ershov-KonekGorbunok.jpg"/>
          <p:cNvPicPr/>
          <p:nvPr/>
        </p:nvPicPr>
        <p:blipFill>
          <a:blip r:embed="rId1"/>
          <a:stretch/>
        </p:blipFill>
        <p:spPr>
          <a:xfrm>
            <a:off x="642960" y="2857680"/>
            <a:ext cx="1781280" cy="32860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9"/>
          <p:cNvSpPr/>
          <p:nvPr/>
        </p:nvSpPr>
        <p:spPr>
          <a:xfrm>
            <a:off x="2571840" y="2857680"/>
            <a:ext cx="335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ещё рожу кон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ом только в тр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пине с двумя гор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шинны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ш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://www.mp3-kniga.ru/bibliofil/img/pushkin-zimnaa.jpg"/>
          <p:cNvPicPr/>
          <p:nvPr/>
        </p:nvPicPr>
        <p:blipFill>
          <a:blip r:embed="rId2"/>
          <a:stretch/>
        </p:blipFill>
        <p:spPr>
          <a:xfrm>
            <a:off x="6429240" y="2928960"/>
            <a:ext cx="2044800" cy="320508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11"/>
          <p:cNvSpPr/>
          <p:nvPr/>
        </p:nvSpPr>
        <p:spPr>
          <a:xfrm>
            <a:off x="3143160" y="4500720"/>
            <a:ext cx="335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 огня, ни черной хат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ушь и снег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встречу мн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с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осат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адаются одне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2"/>
          <p:cNvSpPr/>
          <p:nvPr/>
        </p:nvSpPr>
        <p:spPr>
          <a:xfrm>
            <a:off x="642960" y="500040"/>
            <a:ext cx="785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ные  меры веса  в литературных произвед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инус 3"/>
          <p:cNvSpPr/>
          <p:nvPr/>
        </p:nvSpPr>
        <p:spPr>
          <a:xfrm>
            <a:off x="-214200" y="6357960"/>
            <a:ext cx="9786960" cy="642960"/>
          </a:xfrm>
          <a:custGeom>
            <a:avLst/>
            <a:gdLst/>
            <a:ahLst/>
            <a:rect l="l" t="t" r="r" b="b"/>
            <a:pathLst>
              <a:path w="9786938" h="642937">
                <a:moveTo>
                  <a:pt x="1297259" y="245859"/>
                </a:moveTo>
                <a:lnTo>
                  <a:pt x="8489679" y="245859"/>
                </a:lnTo>
                <a:lnTo>
                  <a:pt x="8489679" y="397078"/>
                </a:lnTo>
                <a:lnTo>
                  <a:pt x="1297259" y="397078"/>
                </a:lnTo>
                <a:lnTo>
                  <a:pt x="1297259" y="24585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3714840" y="37148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произведении 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инзоне Круз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стречаемся с таким описан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не сундука я нашел три мешочка с деньгами и несколько небольших слитков золота, весом, я думаю, около фунта»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8" descr="http://booked.narod.ru/6560s.JPG"/>
          <p:cNvPicPr/>
          <p:nvPr/>
        </p:nvPicPr>
        <p:blipFill>
          <a:blip r:embed="rId1"/>
          <a:stretch/>
        </p:blipFill>
        <p:spPr>
          <a:xfrm>
            <a:off x="714240" y="3786120"/>
            <a:ext cx="2143440" cy="2730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http://android-ebook.ru/uploads/posts/2013-11/1385228880_nikolay-nekrasov-dedushka-mazay-i-zaycy.jpg"/>
          <p:cNvPicPr/>
          <p:nvPr/>
        </p:nvPicPr>
        <p:blipFill>
          <a:blip r:embed="rId2"/>
          <a:stretch/>
        </p:blipFill>
        <p:spPr>
          <a:xfrm>
            <a:off x="5572080" y="1143000"/>
            <a:ext cx="2428920" cy="265572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8"/>
          <p:cNvSpPr/>
          <p:nvPr/>
        </p:nvSpPr>
        <p:spPr>
          <a:xfrm>
            <a:off x="714240" y="157176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каждой минутой вода подбира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 бедным зверька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ж под ними остало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ньш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ршин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земли в ширин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ньш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ажен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длину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инус 5"/>
          <p:cNvSpPr/>
          <p:nvPr/>
        </p:nvSpPr>
        <p:spPr>
          <a:xfrm>
            <a:off x="-285840" y="6357960"/>
            <a:ext cx="9715680" cy="642960"/>
          </a:xfrm>
          <a:custGeom>
            <a:avLst/>
            <a:gdLst/>
            <a:ahLst/>
            <a:rect l="l" t="t" r="r" b="b"/>
            <a:pathLst>
              <a:path w="9715500" h="642937">
                <a:moveTo>
                  <a:pt x="1287790" y="245859"/>
                </a:moveTo>
                <a:lnTo>
                  <a:pt x="8427710" y="245859"/>
                </a:lnTo>
                <a:lnTo>
                  <a:pt x="8427710" y="397078"/>
                </a:lnTo>
                <a:lnTo>
                  <a:pt x="1287790" y="397078"/>
                </a:lnTo>
                <a:lnTo>
                  <a:pt x="1287790" y="24585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2643120" y="1500120"/>
            <a:ext cx="5572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ираясь на слова великого русского ученого Дмитрия Ивановича Менделеева, который сказал, что 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ка начинается с тех пор, как начинают измерять. Точная наука немыслима без меры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но смело сказать, что пользоваться данными мерами длины было весьма и весьма неудобно, т.к. они были неточны в измерениях и сугубо личными для каждого из нас, даже, несмотря на то, что эти измерения «были всегда при челов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http://ralavada.ru/uploads/images/3734f6b129e04e375861efc615a1633f.jpg"/>
          <p:cNvPicPr/>
          <p:nvPr/>
        </p:nvPicPr>
        <p:blipFill>
          <a:blip r:embed="rId1"/>
          <a:stretch/>
        </p:blipFill>
        <p:spPr>
          <a:xfrm>
            <a:off x="571680" y="1857240"/>
            <a:ext cx="1836720" cy="17859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7"/>
          <p:cNvSpPr/>
          <p:nvPr/>
        </p:nvSpPr>
        <p:spPr>
          <a:xfrm>
            <a:off x="642960" y="40006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. И. Мендел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1834 – 1907г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инус 3"/>
          <p:cNvSpPr/>
          <p:nvPr/>
        </p:nvSpPr>
        <p:spPr>
          <a:xfrm>
            <a:off x="-214200" y="6500880"/>
            <a:ext cx="9644040" cy="357120"/>
          </a:xfrm>
          <a:custGeom>
            <a:avLst/>
            <a:gdLst/>
            <a:ahLst/>
            <a:rect l="l" t="t" r="r" b="b"/>
            <a:pathLst>
              <a:path w="9644063" h="357187">
                <a:moveTo>
                  <a:pt x="1278321" y="94383"/>
                </a:moveTo>
                <a:lnTo>
                  <a:pt x="8365742" y="94383"/>
                </a:lnTo>
                <a:lnTo>
                  <a:pt x="8365742" y="262804"/>
                </a:lnTo>
                <a:lnTo>
                  <a:pt x="1278321" y="262804"/>
                </a:lnTo>
                <a:lnTo>
                  <a:pt x="1278321" y="94383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714240" y="1803240"/>
            <a:ext cx="7572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епман И.Я. За страницами учебника математики /И.Я.Депман, Н.Я.Виленкин.- М: Просвещение,1989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лименченко Д.В. Из истории метрической системы мер. // Н.Ш. – 1991. - № 7 – с.21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рдюкова С. « Единицы, нужные всем» - М.: «Детская литература», 1972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усские народные загадки, пословицы и поговорки. – М.: « Просвещение», 1990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mer.kakras.ru/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 - Старинные русские меры длины, веса, объём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928880" y="514368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емь пядей во лбу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3071880" y="85716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сая сажень в плечах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2766240" y="350028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т слова до дела - целая вер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2571840" y="221472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ал золотник, да доро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инус 7"/>
          <p:cNvSpPr/>
          <p:nvPr/>
        </p:nvSpPr>
        <p:spPr>
          <a:xfrm>
            <a:off x="-428760" y="6572160"/>
            <a:ext cx="9858600" cy="285840"/>
          </a:xfrm>
          <a:custGeom>
            <a:avLst/>
            <a:gdLst/>
            <a:ahLst/>
            <a:rect l="l" t="t" r="r" b="b"/>
            <a:pathLst>
              <a:path w="9858375" h="285750">
                <a:moveTo>
                  <a:pt x="1306728" y="41581"/>
                </a:moveTo>
                <a:lnTo>
                  <a:pt x="8551647" y="41581"/>
                </a:lnTo>
                <a:lnTo>
                  <a:pt x="8551647" y="244169"/>
                </a:lnTo>
                <a:lnTo>
                  <a:pt x="1306728" y="244169"/>
                </a:lnTo>
                <a:lnTo>
                  <a:pt x="1306728" y="4158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285920" y="571680"/>
            <a:ext cx="1428840" cy="207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t2.gstatic.com/images?q=tbn:ANd9GcQMY3__wl0VEg5CjNRuGXO01bVbhZuBe_uxx17HOTT3E7qr8jA0bw"/>
          <p:cNvPicPr/>
          <p:nvPr/>
        </p:nvPicPr>
        <p:blipFill>
          <a:blip r:embed="rId2"/>
          <a:stretch/>
        </p:blipFill>
        <p:spPr>
          <a:xfrm>
            <a:off x="5857920" y="4419720"/>
            <a:ext cx="1643040" cy="171432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1285920" y="3143160"/>
            <a:ext cx="1285920" cy="16430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1" descr="http://im2-tub-ru.yandex.net/i?id=292706088-69-72&amp;n=21"/>
          <p:cNvPicPr/>
          <p:nvPr/>
        </p:nvPicPr>
        <p:blipFill>
          <a:blip r:embed="rId4"/>
          <a:stretch/>
        </p:blipFill>
        <p:spPr>
          <a:xfrm>
            <a:off x="6500880" y="1571760"/>
            <a:ext cx="16430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500040" y="1000080"/>
            <a:ext cx="5786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Без меры и лаптя не сплетешь» - говорит русская послов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ым счетным прибором человека были пальцы рук и ног. Те же пальцы, руки, ноги и другие части тела послужили образцами для создания первых мер дл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Я заинтересовалась как измеряли на Руси в старые времена? Почему не используются старинные единицы измерения в наше время? Необходимо ли знание старинных мер в современной школе? Эти вопросы послужили выбором темы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2942640" y="428760"/>
            <a:ext cx="27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инус 3"/>
          <p:cNvSpPr/>
          <p:nvPr/>
        </p:nvSpPr>
        <p:spPr>
          <a:xfrm>
            <a:off x="-214200" y="6357960"/>
            <a:ext cx="9786960" cy="642960"/>
          </a:xfrm>
          <a:custGeom>
            <a:avLst/>
            <a:gdLst/>
            <a:ahLst/>
            <a:rect l="l" t="t" r="r" b="b"/>
            <a:pathLst>
              <a:path w="9786938" h="642937">
                <a:moveTo>
                  <a:pt x="1297259" y="245859"/>
                </a:moveTo>
                <a:lnTo>
                  <a:pt x="8489679" y="245859"/>
                </a:lnTo>
                <a:lnTo>
                  <a:pt x="8489679" y="397078"/>
                </a:lnTo>
                <a:lnTo>
                  <a:pt x="1297259" y="397078"/>
                </a:lnTo>
                <a:lnTo>
                  <a:pt x="1297259" y="24585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6286680" y="1785960"/>
            <a:ext cx="23572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Минус 2"/>
          <p:cNvSpPr/>
          <p:nvPr/>
        </p:nvSpPr>
        <p:spPr>
          <a:xfrm>
            <a:off x="-357120" y="6286680"/>
            <a:ext cx="9715320" cy="857160"/>
          </a:xfrm>
          <a:custGeom>
            <a:avLst/>
            <a:gdLst/>
            <a:ahLst/>
            <a:rect l="l" t="t" r="r" b="b"/>
            <a:pathLst>
              <a:path w="9715501" h="857250">
                <a:moveTo>
                  <a:pt x="1287790" y="327812"/>
                </a:moveTo>
                <a:lnTo>
                  <a:pt x="8427711" y="327812"/>
                </a:lnTo>
                <a:lnTo>
                  <a:pt x="8427711" y="529438"/>
                </a:lnTo>
                <a:lnTo>
                  <a:pt x="1287790" y="529438"/>
                </a:lnTo>
                <a:lnTo>
                  <a:pt x="1287790" y="327812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857160" y="857160"/>
            <a:ext cx="7072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ледить историю возникновения меры длины и веса на Руси, ее совершенствование от времен образования Руси до наших дн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ть историческую значимость возникновения мер на Ру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одобрать литературу с целью получения информации о мерах длины и веса на Рус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становить практическое сравнение старинных русских мер длины и веса с современ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установить связь мер длины и веса с устным народным творчеств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040440" y="2060640"/>
            <a:ext cx="1960560" cy="1225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6369120" y="3286080"/>
            <a:ext cx="1631880" cy="2014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857160" y="1285920"/>
            <a:ext cx="493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расстояние от кончика носа до конца пальцев вытянутой руки. Равен 91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расстояние ступни. Равен 30см 48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инные меры д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инус 7"/>
          <p:cNvSpPr/>
          <p:nvPr/>
        </p:nvSpPr>
        <p:spPr>
          <a:xfrm>
            <a:off x="-357120" y="6500880"/>
            <a:ext cx="9858240" cy="357120"/>
          </a:xfrm>
          <a:custGeom>
            <a:avLst/>
            <a:gdLst/>
            <a:ahLst/>
            <a:rect l="l" t="t" r="r" b="b"/>
            <a:pathLst>
              <a:path w="9858376" h="357187">
                <a:moveTo>
                  <a:pt x="1306728" y="94183"/>
                </a:moveTo>
                <a:lnTo>
                  <a:pt x="8551648" y="94183"/>
                </a:lnTo>
                <a:lnTo>
                  <a:pt x="8551648" y="263004"/>
                </a:lnTo>
                <a:lnTo>
                  <a:pt x="1306728" y="263004"/>
                </a:lnTo>
                <a:lnTo>
                  <a:pt x="1306728" y="94183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8" descr="http://900igr.net/datas/fizika/Mera-massy/0014-014--Novye-mery-vvedeny-s-XVIII-veka.jpg"/>
          <p:cNvPicPr/>
          <p:nvPr/>
        </p:nvPicPr>
        <p:blipFill>
          <a:blip r:embed="rId3"/>
          <a:stretch/>
        </p:blipFill>
        <p:spPr>
          <a:xfrm>
            <a:off x="571680" y="3917880"/>
            <a:ext cx="1552320" cy="19400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0"/>
          <p:cNvSpPr/>
          <p:nvPr/>
        </p:nvSpPr>
        <p:spPr>
          <a:xfrm>
            <a:off x="2428920" y="3500280"/>
            <a:ext cx="408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юй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54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 шир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го пальца или длине трёх сухих зёрен ячменя, взятых из средней части кол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8"/>
          <p:cNvSpPr/>
          <p:nvPr/>
        </p:nvSpPr>
        <p:spPr>
          <a:xfrm>
            <a:off x="642960" y="1214280"/>
            <a:ext cx="57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ая сажень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асстояние от пальцев ноги стоящего человека до кончиков пальцев поднятой вверх р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равно 213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ховая сажен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расстояние между кончиками средних пальцев разведенных в противоположные стор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равно 176 с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инные меры д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инус 6"/>
          <p:cNvSpPr/>
          <p:nvPr/>
        </p:nvSpPr>
        <p:spPr>
          <a:xfrm>
            <a:off x="-214200" y="6286680"/>
            <a:ext cx="9715320" cy="785520"/>
          </a:xfrm>
          <a:custGeom>
            <a:avLst/>
            <a:gdLst/>
            <a:ahLst/>
            <a:rect l="l" t="t" r="r" b="b"/>
            <a:pathLst>
              <a:path w="9715501" h="785813">
                <a:moveTo>
                  <a:pt x="1287790" y="300495"/>
                </a:moveTo>
                <a:lnTo>
                  <a:pt x="8427711" y="300495"/>
                </a:lnTo>
                <a:lnTo>
                  <a:pt x="8427711" y="485318"/>
                </a:lnTo>
                <a:lnTo>
                  <a:pt x="1287790" y="485318"/>
                </a:lnTo>
                <a:lnTo>
                  <a:pt x="1287790" y="300495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7" descr="https://www.uchmet.ru/library/convert/result/470/141194/128148/128148.doc_html_m79c9525b.png"/>
          <p:cNvPicPr/>
          <p:nvPr/>
        </p:nvPicPr>
        <p:blipFill>
          <a:blip r:embed="rId1"/>
          <a:stretch/>
        </p:blipFill>
        <p:spPr>
          <a:xfrm>
            <a:off x="6372360" y="2071800"/>
            <a:ext cx="2141280" cy="39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714240" y="4437000"/>
            <a:ext cx="1428840" cy="18478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9"/>
          <p:cNvSpPr/>
          <p:nvPr/>
        </p:nvSpPr>
        <p:spPr>
          <a:xfrm>
            <a:off x="2163600" y="4476600"/>
            <a:ext cx="453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 длине основной фаланги указательного пальца. Вершок равен  4,4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85880" y="1285920"/>
            <a:ext cx="1893960" cy="121428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3429000" y="156204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ш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ринная русская мера длины  равен 71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714240" y="3429000"/>
            <a:ext cx="1749600" cy="2786040"/>
          </a:xfrm>
          <a:prstGeom prst="rect">
            <a:avLst/>
          </a:prstGeom>
          <a:ln w="0">
            <a:noFill/>
          </a:ln>
        </p:spPr>
      </p:pic>
      <p:sp>
        <p:nvSpPr>
          <p:cNvPr id="83" name="TextBox 9"/>
          <p:cNvSpPr/>
          <p:nvPr/>
        </p:nvSpPr>
        <p:spPr>
          <a:xfrm>
            <a:off x="2714760" y="3365640"/>
            <a:ext cx="397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е расстояния на Руси измерялис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т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менская верста равна 1491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евая верста равна 2130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инные меры д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3429000" y="1928880"/>
            <a:ext cx="4214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инус 8"/>
          <p:cNvSpPr/>
          <p:nvPr/>
        </p:nvSpPr>
        <p:spPr>
          <a:xfrm>
            <a:off x="-357120" y="6500880"/>
            <a:ext cx="9715320" cy="357120"/>
          </a:xfrm>
          <a:custGeom>
            <a:avLst/>
            <a:gdLst/>
            <a:ahLst/>
            <a:rect l="l" t="t" r="r" b="b"/>
            <a:pathLst>
              <a:path w="9715501" h="357187">
                <a:moveTo>
                  <a:pt x="1287790" y="108451"/>
                </a:moveTo>
                <a:lnTo>
                  <a:pt x="8427711" y="108451"/>
                </a:lnTo>
                <a:lnTo>
                  <a:pt x="8427711" y="248736"/>
                </a:lnTo>
                <a:lnTo>
                  <a:pt x="1287790" y="248736"/>
                </a:lnTo>
                <a:lnTo>
                  <a:pt x="1287790" y="10845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9" descr="http://mognovse.ru/mogno/894/893783/893783_html_12000b16.jpg"/>
          <p:cNvPicPr/>
          <p:nvPr/>
        </p:nvPicPr>
        <p:blipFill>
          <a:blip r:embed="rId3"/>
          <a:stretch/>
        </p:blipFill>
        <p:spPr>
          <a:xfrm>
            <a:off x="6659640" y="3332160"/>
            <a:ext cx="19130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инные меры весса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714240" y="1041480"/>
            <a:ext cx="607248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у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древнерусская единица вес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ая  16,38 кг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дами изначально измеряли мед, муку и соль как самые ходовые товары, но впоследствии эта мера объема распространилась на все твердые и тяжелые проду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н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малая мера веса, равная 4,1 г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ревней Руси часто использовалась ювелирных дел мастера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ь такая поговорка «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ал золотник, да дорог!»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единица веса драгоценных камней, бриллиантов, алмазов и пр., а также золота ,которую используют ювелиры всех стр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ом числе и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 карата равен 0,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инус 5"/>
          <p:cNvSpPr/>
          <p:nvPr/>
        </p:nvSpPr>
        <p:spPr>
          <a:xfrm>
            <a:off x="-214200" y="6572160"/>
            <a:ext cx="9358200" cy="285840"/>
          </a:xfrm>
          <a:custGeom>
            <a:avLst/>
            <a:gdLst/>
            <a:ahLst/>
            <a:rect l="l" t="t" r="r" b="b"/>
            <a:pathLst>
              <a:path w="9358313" h="285750">
                <a:moveTo>
                  <a:pt x="1240444" y="52997"/>
                </a:moveTo>
                <a:lnTo>
                  <a:pt x="8117869" y="52997"/>
                </a:lnTo>
                <a:lnTo>
                  <a:pt x="8117869" y="232753"/>
                </a:lnTo>
                <a:lnTo>
                  <a:pt x="1240444" y="232753"/>
                </a:lnTo>
                <a:lnTo>
                  <a:pt x="1240444" y="52997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6715080" y="1428840"/>
            <a:ext cx="171468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6500880" y="3357720"/>
            <a:ext cx="1879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571840" y="4008600"/>
            <a:ext cx="4159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ковец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 пу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0 фунтов = 16,38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6 золотников = 0,41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 золотника = 12,797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ни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27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4001040" y="31431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76364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6929280" y="59292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000080" y="1285920"/>
            <a:ext cx="1928880" cy="24289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5"/>
          <p:cNvSpPr/>
          <p:nvPr/>
        </p:nvSpPr>
        <p:spPr>
          <a:xfrm>
            <a:off x="1146240" y="24289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КОВЕЦ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инные меры в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инус 13"/>
          <p:cNvSpPr/>
          <p:nvPr/>
        </p:nvSpPr>
        <p:spPr>
          <a:xfrm>
            <a:off x="-285840" y="6286680"/>
            <a:ext cx="9858600" cy="785520"/>
          </a:xfrm>
          <a:custGeom>
            <a:avLst/>
            <a:gdLst/>
            <a:ahLst/>
            <a:rect l="l" t="t" r="r" b="b"/>
            <a:pathLst>
              <a:path w="9858375" h="785813">
                <a:moveTo>
                  <a:pt x="1306728" y="300495"/>
                </a:moveTo>
                <a:lnTo>
                  <a:pt x="8551647" y="300495"/>
                </a:lnTo>
                <a:lnTo>
                  <a:pt x="8551647" y="485318"/>
                </a:lnTo>
                <a:lnTo>
                  <a:pt x="1306728" y="485318"/>
                </a:lnTo>
                <a:lnTo>
                  <a:pt x="1306728" y="300495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6786720" y="3929040"/>
            <a:ext cx="1701720" cy="2063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"/>
          <p:cNvPicPr/>
          <p:nvPr/>
        </p:nvPicPr>
        <p:blipFill>
          <a:blip r:embed="rId3"/>
          <a:stretch/>
        </p:blipFill>
        <p:spPr>
          <a:xfrm>
            <a:off x="3449520" y="1382760"/>
            <a:ext cx="1762200" cy="1685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"/>
          <p:cNvPicPr/>
          <p:nvPr/>
        </p:nvPicPr>
        <p:blipFill>
          <a:blip r:embed="rId4"/>
          <a:stretch/>
        </p:blipFill>
        <p:spPr>
          <a:xfrm>
            <a:off x="787320" y="4230720"/>
            <a:ext cx="2141640" cy="188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"/>
          <p:cNvPicPr/>
          <p:nvPr/>
        </p:nvPicPr>
        <p:blipFill>
          <a:blip r:embed="rId5"/>
          <a:stretch/>
        </p:blipFill>
        <p:spPr>
          <a:xfrm>
            <a:off x="6072120" y="1357200"/>
            <a:ext cx="2298600" cy="17128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"/>
          <p:cNvSpPr/>
          <p:nvPr/>
        </p:nvSpPr>
        <p:spPr>
          <a:xfrm>
            <a:off x="6000840" y="30002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текарский фу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 358,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20:26Z</dcterms:created>
  <dc:creator>Людмила</dc:creator>
  <dc:description/>
  <dc:language>en-US</dc:language>
  <cp:lastModifiedBy>Asus</cp:lastModifiedBy>
  <dcterms:modified xsi:type="dcterms:W3CDTF">2018-03-29T13:24:56Z</dcterms:modified>
  <cp:revision>113</cp:revision>
  <dc:subject/>
  <dc:title>Starinnije meri</dc:title>
</cp:coreProperties>
</file>