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44-A6A6-4AE4-932A-C907E6E3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9EC-5FAB-44D7-A2CA-76AB309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DC5-6974-4446-B269-06AFF812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EF0-4471-4C22-9A9A-FB126CE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D292-3A61-4C20-9901-3E24D6C0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0D0A-2C14-4B19-A9FE-7466847F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1B7D-AFA3-443B-A27B-23ABF99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B7C7-B632-4595-BFEC-BD52966C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6ED-433C-4636-8D1F-04522C6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0C6-0083-423E-8EA0-6E72840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B529-3B80-40FE-AB1D-B65C70F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FF5-C6ED-48A7-9CD6-CE186AD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5F7F-B01C-41F2-9AEC-FC357C51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A1B4-3E69-4D97-84DF-64D3A6C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32C8-D179-4023-8A21-39D22C0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283-304F-4AE5-B0AC-55C691E4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01A-B793-4BE9-9FE7-D77A42D8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79B-3B79-47DB-B13B-A9AAFEC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276-4512-4714-B23D-C8C200C1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82E-E85B-49E7-A604-40A49B1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9FE-6703-4D85-8104-D21C02B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9CF-637C-4654-8A24-94ABA33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540-E47C-4B8E-A9EA-05DE174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BA0-E654-49B2-80FD-95AA136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7DB0-F467-4421-9A65-326B7F8A89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F47-F1AE-486C-8F74-A456D802583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Бурятская юрта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полнил: Балданов Эрдыни,  ученик 2 клас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У Тапхарская СОШ Иволгинского района республики Бурят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итель: Айсуева Надежда Алексеевна, учитель начальных класс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юю утварь я сделал из глины и разместил строго по зонам, а людей и  животных я вылепил из пластилин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730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тем установил юрту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от что получилось у меня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АЛ ГУЛАМТА - ОЧА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ал гуламта – центр бурятской юрты, вокруг которого протекает жизнь многих поколений. Это точка отсчета и одновременно оберег, который отгораживает семейную вселенную от неприятностей остального мира. В то же время это связующий элемент между мудростью предков и жизненной энергией потомков, символ единения и преемственности поколе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рятская юрт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 исторически сложившийся образец жилища, идеально приспособленный для кочевого образа жизни. В юрте жили круглый го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ой человек, любой национальности и любого вероисповедания, будет встречен бурятом с большим радушием и разделит с ним и кров, и еду в свой юрт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териалы, которые я использовал для изготовления юрт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олока алюминиевая (для каркас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кан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ли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ластили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ртон (пол юрт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скусственный снег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начала из проволоки изготавливаю каркас круглой формы. Вверху делаем тооно – специальный круг на вершине юрты. Он образует отверстие, которое служит для вывода дыма и освещения жилища днем.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010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крываем юрту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Начинаем обтягивать с крыши юрты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293760" y="1752480"/>
            <a:ext cx="732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шиваю дверь. Дверь юрты  всегда смотрит на восток. Она всегда ждёт рассвета Жизни. Солнце для кочевника – первый и главный гость в этом мир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3072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307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ым ярким украшением юрты является настенный ковер. Его я вырезал из красивой  ткани «Парча»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609480" y="1643040"/>
            <a:ext cx="66945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состоятельных семьях он отделан драгоценными тканями и дорогими вставками, украшены богатой вышивкой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hello_html_796c6eef"/>
          <p:cNvPicPr/>
          <p:nvPr/>
        </p:nvPicPr>
        <p:blipFill>
          <a:blip r:embed="rId2"/>
          <a:stretch/>
        </p:blipFill>
        <p:spPr>
          <a:xfrm>
            <a:off x="380880" y="1600200"/>
            <a:ext cx="7283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снование я сделал из толстого картона. Отметил место для юрты и выкрасил, остальную часть покрыл искусственным снего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8-03-09T02:28:30Z</cp:lastPrinted>
  <dcterms:modified xsi:type="dcterms:W3CDTF">2018-03-29T00:24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