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E1E-09CC-4EA4-B054-87A7D856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71A-78BD-4CD0-8175-5A5D1EB7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4FE-BFF5-4A21-81A8-410D472E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938-09E9-4508-8870-03B39475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1D8F-B347-43FE-89BA-01C460A8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750E-F9F3-47CA-AE3C-DD82160B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2177-7334-4B1D-ADC5-9FE2028F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45E1-E29A-4E0C-A555-6244D351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84EC-FB47-4706-A15C-FE84E14E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558A-0A63-4CC9-809B-90E960CA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D5E0-10C1-419A-A382-706781E8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69A-1C2D-4022-B54B-6DE79D46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9093-772E-4AAC-ACA0-DCC351E0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2D9E-1240-4B76-8BAB-CD4E15FD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DFE9-8B25-4DB0-8A9C-73747961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4DF5-762F-4EFF-99B9-AB39B16D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7646-5688-4236-991F-93EE8A3C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2B8-5E30-41C8-9755-4266B44F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E5B-2487-487C-B2B5-00FEEB69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33A-6EE1-449C-840A-04418525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6E0-21C5-432A-BBD2-3A5A7F75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E27-E60D-490E-A310-7EE5268F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7A2-7DF2-4B48-AB15-25A02D7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1C0-1113-473C-9714-3667F395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7792-2891-4EFF-9076-3F40AD972D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269C-A167-478B-822D-E0561208FF2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Monotype Corsiva"/>
              </a:rPr>
              <a:t>Бурятская юрта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полнил: Балданов Эрдыни,  ученик 2 класс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У Тапхарская СОШ Иволгинского района республики Бурят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ководитель: Айсуева Надежда Алексеевна, учитель начальных класс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машнюю утварь я сделал из глины и разместил строго по зонам, а людей и  животных я вылепил из пластилин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7304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тем установил юрту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7315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от что получилось у меня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АЛ ГУЛАМТА - ОЧА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ал гуламта – центр бурятской юрты, вокруг которого протекает жизнь многих поколений. Это точка отсчета и одновременно оберег, который отгораживает семейную вселенную от неприятностей остального мира. В то же время это связующий элемент между мудростью предков и жизненной энергией потомков, символ единения и преемственности поколени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урятская юрта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- исторически сложившийся образец жилища, идеально приспособленный для кочевого образа жизни. В юрте жили круглый го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юбой человек, любой национальности и любого вероисповедания, будет встречен бурятом с большим радушием и разделит с ним и кров, и еду в свой юрт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атериалы, которые я использовал для изготовления юрты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волока алюминиевая (для каркас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кань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лин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ластили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ртон (пол юрты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скусственный снег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начала из проволоки изготавливаю каркас круглой формы. Вверху делаем тооно – специальный круг на вершине юрты. Он образует отверстие, которое служит для вывода дыма и освещения жилища днем. 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0106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крываем юрту материалом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Начинаем обтягивать с крыши юрты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2"/>
          <a:stretch/>
        </p:blipFill>
        <p:spPr>
          <a:xfrm>
            <a:off x="293760" y="1752480"/>
            <a:ext cx="7326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шиваю дверь. Дверь юрты  всегда смотрит на восток. Она всегда ждёт рассвета Жизни. Солнце для кочевника – первый и главный гость в этом мире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73072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73072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амым ярким украшением юрты является настенный ковер. Его я вырезал из красивой  ткани «Парча»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609480" y="1643040"/>
            <a:ext cx="66945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состоятельных семьях он отделан драгоценными тканями и дорогими вставками, украшены богатой вышивкой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hello_html_796c6eef"/>
          <p:cNvPicPr/>
          <p:nvPr/>
        </p:nvPicPr>
        <p:blipFill>
          <a:blip r:embed="rId2"/>
          <a:stretch/>
        </p:blipFill>
        <p:spPr>
          <a:xfrm>
            <a:off x="380880" y="1600200"/>
            <a:ext cx="7283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Основание я сделал из толстого картона. Отметил место для юрты и выкрасил, остальную часть покрыл искусственным снегом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18-03-09T02:28:30Z</cp:lastPrinted>
  <dcterms:modified xsi:type="dcterms:W3CDTF">2018-03-29T00:24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