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D95-343A-41FE-B82B-553F8E048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44D3-8A4D-4EBC-9D3D-A57021C39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59A-693C-4FA0-823C-4B6F0FE7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1F8-C5D6-42F9-9EF9-2351FCB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E92-05F4-4B77-A47B-85A24657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16A-878B-4323-8500-16022F82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770-5105-4483-8FE9-D21851B6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F26-98C7-4D6E-960C-BB58B9D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E4B2-2B75-4412-A5B5-F5CB7462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C63E-C74A-4135-B9DE-8A18C3E9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96A2-F787-49E3-9CA5-9560AC77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302-3BCF-4CC2-8B69-B1CF41D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381-59F6-4BC8-B8E5-ADABB57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343-6044-43A4-99D1-070375A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4616-7664-450C-89B3-CEFAE6D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C39A-EF80-4AEE-A8B7-0D3C998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3C3-D4BA-41B1-9DCF-69B7073B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AC28-94DD-4B1C-B1F8-B1AD3273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B133-B206-4C8B-84A1-E87D8BB0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8B4C-CB2C-4152-BCD9-82AC28C4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B9CD-2562-49A2-927F-AD4A81D2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7F4D-7FA5-4804-9369-6420BD9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1DC6-50F0-4E9F-8347-FD9F628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514D-7D9B-4DFF-A37D-1669D58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ADF-BF26-436A-936D-ADFE852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C5B7-5E35-4820-9622-0373326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653B-0A2C-4996-AE95-97CFA27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7504-818F-4D4D-95A0-3356237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A903-3F27-443B-8553-54CFA29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9A40-4333-40BC-A5EB-929BB8C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1750-44E0-45BA-8BF3-70EE7E6E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1C2B-35D0-4631-A922-F7DEAB55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8A2A3-9501-41C4-B9E6-232192D4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D256-41F1-44E2-93FB-8C2FEDB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4A8C-6FEC-495D-848A-F91B961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ED2-2B3E-4D87-BC9E-955C2233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46BD-4BD0-4193-B848-5DF96F2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809E-2F91-4325-8EE6-88288BF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ABED-440F-48D8-AE44-01A0607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0B61-27C1-42A9-94A3-29988FA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3475-7AA9-4DFC-9A67-B886B2C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9569F-3554-4949-BB93-1486590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21AD-C6ED-4FC5-B168-959BD0B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0982-A91A-4C9C-8A97-D3CBE07C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3014-DAC8-4185-90C9-1E20FC12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0D78-B93E-495D-9FF9-324EBEAD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D19-CD40-4FAE-A352-2165BC6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6859-8840-4A2F-B8E5-01E4350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19CD-A19F-43D7-9286-5F892F1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7D2B-C722-4DA7-87EC-4E895526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F81B-49E3-4DE1-B001-CBA7647B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1BDF-47F3-4767-80A0-820B074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2297-2730-4E0B-8DC8-6DB27A1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E7E28-B8E4-4C4B-818B-6B187A50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202A-7612-4F23-B842-2949B09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13B9-90F4-4D91-9224-8C85DAD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CE24-3372-40D5-9A2F-3B56DBA4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EB3-AEB3-4F88-B0A6-FB84304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F307-B81C-4268-A2D1-1C79BFE9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DC4B-080E-4653-AFEC-C1980D18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74A9-C66F-4A56-8013-45C3F85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96E8-D1C4-4137-9CD0-16019413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6501-95D3-453B-B1E3-F0ECE3A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E013-6302-4297-844E-710C2F0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AA2D-1865-4707-A804-D9187C28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A48A-E615-438C-AC74-C5A2015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6D44-B814-4C19-9585-4ACC855C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C29B-D550-4F0F-B80F-D4A5515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C45-34A1-427E-A0E1-8121F9BE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49A6-2E50-4133-8045-D9B5130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819C-DB19-45A8-B196-580225C7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C69C-847C-4E0B-BF55-73C6354F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45C2-8B37-41DB-92B8-3B2A5202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05F9-73C5-474B-950C-1BB99EC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DCE3-C023-4BD3-B1CC-A6F2522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3E0A-EB28-4E4A-8963-08C251E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1041-1870-4800-9718-D96E7BC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AD9BC-482A-4F47-9E46-6AF49841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273F-6754-4323-BDFB-E4D0E73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47F-A95B-4838-A093-58CA92E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0106-99FD-47CD-B51A-56D7CDA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85FD2-BFED-403F-B9D3-E07A6B7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1679-9FAB-4EDF-9F02-E8E26375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054B5-5F7F-4B2F-81AC-429942D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FAE8-803B-46E7-A3F9-9A99E7FE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D20-EB32-44C9-B9A8-FB0D44A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257-07DA-4B1E-A96D-F70B877147C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D3A-6593-4233-963F-628024BE1CA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E1B-2D28-4934-AD95-60B76AADC8C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A5F5-020E-4633-8D1A-1488D872567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97C-EC66-4228-8957-47C0ED4C432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48C4-8855-4A6E-BF10-BE38F303BDF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EE5-AC1D-4901-B390-4EE8DF47AB9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математика - Сочинения для школьников."/>
          <p:cNvPicPr/>
          <p:nvPr/>
        </p:nvPicPr>
        <p:blipFill>
          <a:blip r:embed="rId1"/>
          <a:stretch/>
        </p:blipFill>
        <p:spPr>
          <a:xfrm>
            <a:off x="2362320" y="2743200"/>
            <a:ext cx="4389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Прямоугольник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534520" cy="2968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Parabola Problems"/>
          <p:cNvPicPr/>
          <p:nvPr/>
        </p:nvPicPr>
        <p:blipFill>
          <a:blip r:embed="rId2"/>
          <a:stretch/>
        </p:blipFill>
        <p:spPr>
          <a:xfrm>
            <a:off x="1905120" y="3124080"/>
            <a:ext cx="5238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32" repeatCount="1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3"/>
          <p:cNvSpPr/>
          <p:nvPr/>
        </p:nvSpPr>
        <p:spPr>
          <a:xfrm>
            <a:off x="79200" y="101520"/>
            <a:ext cx="8839440" cy="655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"/>
          <p:cNvSpPr/>
          <p:nvPr/>
        </p:nvSpPr>
        <p:spPr>
          <a:xfrm flipV="1">
            <a:off x="4724280" y="380520"/>
            <a:ext cx="0" cy="592164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1560600" y="3643200"/>
            <a:ext cx="5906880" cy="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4077360" y="10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010280" y="364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6"/>
          <p:cNvGraphicFramePr/>
          <p:nvPr/>
        </p:nvGraphicFramePr>
        <p:xfrm>
          <a:off x="4451400" y="671400"/>
          <a:ext cx="183996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671400"/>
                    <a:ext cx="183996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Freeform 51"/>
          <p:cNvSpPr/>
          <p:nvPr/>
        </p:nvSpPr>
        <p:spPr>
          <a:xfrm>
            <a:off x="3151080" y="4597560"/>
            <a:ext cx="1900440" cy="18954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4223520" y="363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84d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1"/>
          <p:cNvSpPr/>
          <p:nvPr/>
        </p:nvSpPr>
        <p:spPr>
          <a:xfrm>
            <a:off x="2716200" y="1674720"/>
            <a:ext cx="2219400" cy="27990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1"/>
          <p:cNvSpPr/>
          <p:nvPr/>
        </p:nvSpPr>
        <p:spPr>
          <a:xfrm rot="10800000">
            <a:off x="4307040" y="1674720"/>
            <a:ext cx="2481120" cy="498024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0" descr="Фотозагадки Санкт-Петербурга: Просто вопрос - Citywalls.RU"/>
          <p:cNvPicPr/>
          <p:nvPr/>
        </p:nvPicPr>
        <p:blipFill>
          <a:blip r:embed="rId3"/>
          <a:stretch/>
        </p:blipFill>
        <p:spPr>
          <a:xfrm>
            <a:off x="289080" y="304920"/>
            <a:ext cx="25416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Monotype Corsiva"/>
              </a:rPr>
              <a:t>Расположение графиков квадратичной функции .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17" descr="Profil użytkownika - Skomentował - Wozniol - Śmieszne Filmy, Filmiki, Gry Online -milanos.pl"/>
          <p:cNvPicPr/>
          <p:nvPr/>
        </p:nvPicPr>
        <p:blipFill>
          <a:blip r:embed="rId1"/>
          <a:stretch/>
        </p:blipFill>
        <p:spPr>
          <a:xfrm>
            <a:off x="990720" y="2819520"/>
            <a:ext cx="3157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ndara"/>
              </a:rPr>
              <a:t>План работы в паре:</a:t>
            </a:r>
            <a:br>
              <a:rPr sz="32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1. Запустите программу 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Excel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2. Постройте график квадратичной функции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3. Поменяйте коэффициенты в формуле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4. Постройте новый график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5. Повторите пункты 3 и 4 несколько раз.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6. Сделайте выводы.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                          Желаю успеха !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70" descr="Фотозагадки Санкт-Петербурга: Просто вопрос - Citywalls.RU"/>
          <p:cNvPicPr/>
          <p:nvPr/>
        </p:nvPicPr>
        <p:blipFill>
          <a:blip r:embed="rId1"/>
          <a:stretch/>
        </p:blipFill>
        <p:spPr>
          <a:xfrm>
            <a:off x="990720" y="5416560"/>
            <a:ext cx="13586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2"/>
          <p:cNvSpPr/>
          <p:nvPr/>
        </p:nvSpPr>
        <p:spPr>
          <a:xfrm>
            <a:off x="1981080" y="2556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роверь себя са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3"/>
          <p:cNvSpPr/>
          <p:nvPr/>
        </p:nvSpPr>
        <p:spPr>
          <a:xfrm>
            <a:off x="66600" y="101520"/>
            <a:ext cx="8839440" cy="655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"/>
          <p:cNvSpPr/>
          <p:nvPr/>
        </p:nvSpPr>
        <p:spPr>
          <a:xfrm flipV="1">
            <a:off x="4724280" y="380520"/>
            <a:ext cx="0" cy="592164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1560600" y="3643200"/>
            <a:ext cx="5906880" cy="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4077360" y="10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7010280" y="364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4451400" y="671400"/>
          <a:ext cx="183996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671400"/>
                    <a:ext cx="183996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Freeform 51"/>
          <p:cNvSpPr/>
          <p:nvPr/>
        </p:nvSpPr>
        <p:spPr>
          <a:xfrm>
            <a:off x="3151080" y="4597560"/>
            <a:ext cx="1900440" cy="18954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4223520" y="363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84d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2716200" y="1674720"/>
            <a:ext cx="2219400" cy="279900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1"/>
          <p:cNvSpPr/>
          <p:nvPr/>
        </p:nvSpPr>
        <p:spPr>
          <a:xfrm rot="10800000">
            <a:off x="4307040" y="1674720"/>
            <a:ext cx="2481120" cy="4980240"/>
          </a:xfrm>
          <a:custGeom>
            <a:avLst/>
            <a:gdLst/>
            <a:ahLst/>
            <a:rect l="l" t="t" r="r" b="b"/>
            <a:pathLst>
              <a:path w="650" h="1209">
                <a:moveTo>
                  <a:pt x="0" y="1096"/>
                </a:moveTo>
                <a:cubicBezTo>
                  <a:pt x="18" y="846"/>
                  <a:pt x="37" y="597"/>
                  <a:pt x="90" y="416"/>
                </a:cubicBezTo>
                <a:cubicBezTo>
                  <a:pt x="143" y="235"/>
                  <a:pt x="241" y="0"/>
                  <a:pt x="317" y="8"/>
                </a:cubicBezTo>
                <a:cubicBezTo>
                  <a:pt x="393" y="16"/>
                  <a:pt x="491" y="280"/>
                  <a:pt x="544" y="461"/>
                </a:cubicBezTo>
                <a:cubicBezTo>
                  <a:pt x="597" y="642"/>
                  <a:pt x="620" y="983"/>
                  <a:pt x="635" y="1096"/>
                </a:cubicBezTo>
                <a:cubicBezTo>
                  <a:pt x="650" y="1209"/>
                  <a:pt x="642" y="1175"/>
                  <a:pt x="635" y="114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epten bedava samalik resimleri indir ve ya paylaş"/>
          <p:cNvPicPr/>
          <p:nvPr/>
        </p:nvPicPr>
        <p:blipFill>
          <a:blip r:embed="rId3"/>
          <a:stretch/>
        </p:blipFill>
        <p:spPr>
          <a:xfrm>
            <a:off x="1440" y="0"/>
            <a:ext cx="31165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2" descr="у = ах Урок алгебры в 7 классе по теме: &quot;Функция. ... - . - …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" descr=""/>
          <p:cNvPicPr/>
          <p:nvPr/>
        </p:nvPicPr>
        <p:blipFill>
          <a:blip r:embed="rId2"/>
          <a:stretch/>
        </p:blipFill>
        <p:spPr>
          <a:xfrm>
            <a:off x="841320" y="2133720"/>
            <a:ext cx="246852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2" descr="Закон джоуля ленца количество теплоты, выделяемое проводником с током равно произведению квадрата силы тока, сопротивления прово"/>
          <p:cNvPicPr/>
          <p:nvPr/>
        </p:nvPicPr>
        <p:blipFill>
          <a:blip r:embed="rId1"/>
          <a:stretch/>
        </p:blipFill>
        <p:spPr>
          <a:xfrm>
            <a:off x="152280" y="114480"/>
            <a:ext cx="8788680" cy="6591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Электронагревательные приборы - Картинка 12900/10"/>
          <p:cNvPicPr/>
          <p:nvPr/>
        </p:nvPicPr>
        <p:blipFill>
          <a:blip r:embed="rId2"/>
          <a:stretch/>
        </p:blipFill>
        <p:spPr>
          <a:xfrm>
            <a:off x="7731000" y="4267080"/>
            <a:ext cx="11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Веселая парабола - d3.ru"/>
          <p:cNvPicPr/>
          <p:nvPr/>
        </p:nvPicPr>
        <p:blipFill>
          <a:blip r:embed="rId1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2"/>
          <p:cNvSpPr/>
          <p:nvPr/>
        </p:nvSpPr>
        <p:spPr>
          <a:xfrm>
            <a:off x="380880" y="76320"/>
            <a:ext cx="9296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ndara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Candara"/>
              </a:rPr>
              <a:t>1. </a:t>
            </a: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Выяснить, как определить коэффициент</a:t>
            </a:r>
            <a:r>
              <a:rPr b="0" lang="en-US" sz="40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i="1" lang="en-US" sz="4000" spc="-1" strike="noStrike">
                <a:solidFill>
                  <a:srgbClr val="00b050"/>
                </a:solidFill>
                <a:latin typeface="Candara"/>
              </a:rPr>
              <a:t>b</a:t>
            </a:r>
            <a:r>
              <a:rPr b="0" lang="en-US" sz="40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по графику квадратичной функции.</a:t>
            </a:r>
            <a:br>
              <a:rPr sz="4000"/>
            </a:br>
            <a:r>
              <a:rPr b="0" lang="ru-RU" sz="4000" spc="-1" strike="noStrike">
                <a:solidFill>
                  <a:srgbClr val="00b0f0"/>
                </a:solidFill>
                <a:latin typeface="Candara"/>
              </a:rPr>
              <a:t>2. Практическая задача.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ndara"/>
              </a:rPr>
              <a:t>3.По желанию: исследовательская работа «Прикладное значение квадратичной функ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1:37Z</dcterms:created>
  <dc:creator>Наталья</dc:creator>
  <dc:description/>
  <dc:language>en-US</dc:language>
  <cp:lastModifiedBy>Дершевич О. М.</cp:lastModifiedBy>
  <dcterms:modified xsi:type="dcterms:W3CDTF">2018-03-27T10:07:5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