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697E-2CDB-4A6A-9A06-D15CAFF23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1002-161E-40DD-B839-796FA10E6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28C-C2D5-426A-9041-75C0DDB0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EBB-D437-4553-90AC-A1768136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300-16E5-4015-BB04-6ACC2A0F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E1C-87B1-4ED9-BE23-DA442D75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FAE3-7943-4E4A-8130-4C266040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5946-6F57-4F4A-B76B-8289B171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7AE2-6783-4ED0-9039-3F80BD74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C82C-8093-4EA2-A151-25151666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7513-C90A-4AE0-9D21-C9276CE5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57EF-A390-446E-B216-A6A993C1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161E-60D0-4FEA-BBCE-A10F9012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7A4-E053-4A40-8DB7-6255DE7A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6846-82F5-4115-8003-154635B7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F093-CDC8-4766-82BA-3AACFF2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B8EA-6AAE-404D-84D3-0104068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3D91-A996-4BA3-9D2F-3516588F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44CC-4F04-4363-A6FD-50FF6D7A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302D-17FE-433C-B0A7-AB125E40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7760-5ACC-4648-AC30-34E98922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B2A2A-68B9-4A1D-B2EC-E859587A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B638-B31A-407F-A5DC-8E3C8A96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53C7-13A5-483A-A10F-2E5CE50D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DD2-0891-44CD-ADD2-53E4AE40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6F77-5F73-49E6-8318-F53A5CC6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4097-D7D7-4380-8D5E-4996392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6D8E-C00C-4431-97B2-231B0B7E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E111-CDEB-4FD4-8196-9B65C87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38A3-E95D-4A69-A945-3E9CBA6A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3DA15-B050-4C02-8C96-1DB7B62B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311D-20DD-4870-83BD-5B2C7FD1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3CD83-228D-429A-8313-9B059D9F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D0D7E-A234-41B8-9CDF-C868B821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1F369-4326-41E8-9921-2F0FB04F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D57-D8CB-45BA-B6C2-B5D9500B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0B0A-BD7E-420C-88A7-400EA2B6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150B-48BA-478B-8EBB-87E4F974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96BFB-6F51-4A9A-A662-7FE6ADCA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07B5F-D3CD-49CD-B369-95805F9E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A18A-8514-4009-8CB1-123EB26C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DA5C-434C-4FF7-9BB8-CD5F1B5E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4FBB8-3D11-4DDF-A824-48E391BF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BBC5F-9DEF-4500-93D1-02A3F9FF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662F-5946-4BDD-B4FE-375CE93B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03FA-4B58-4703-B8DB-A10CF717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1DD-B463-442E-92D5-65EF79AC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59D3-AED7-4C4B-9906-E8241EDD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5AEAD-69AA-4690-B197-B39459D5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0C5A-0E53-4E79-8CE1-08ACF95F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A74FD-D10F-4099-82E2-19804109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42650-2DE7-4109-ADB9-DAB4FC8D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9C32D-F57D-429C-B9F6-1529169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5A6E-94B4-48C3-8551-AC4D4D6D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6A8C7-481B-4DB4-B67B-D47DDB2A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2002D-4016-469A-B259-A2C91345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A0CBD-084F-4725-86C5-7533E198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A55-90B3-4805-88D4-EBCCD0E1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9863-F8DD-4A96-BC8F-1786648A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C64CC-F837-49F7-A87A-421E3E88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422D8-2FAD-453B-AEAC-AE9C688B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38DAA-861A-42BD-96C0-8A9CA954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4359F-8610-48B6-B830-42A70081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06460-8F1E-4EC0-88AF-4EFD9053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7231F-5AC2-4E95-BF7A-6CDBF635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887B4-E500-4E79-A7B2-E0B7E7B8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F7374-2BFD-4E65-9605-437C894C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791CC-44F4-4583-BCE9-691641C8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847-76BE-48AE-BCBF-E03CEC14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45DFE-5692-4807-80B0-7B723639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25F77-C3F4-4471-8806-7DF9374C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EC435-59DE-4D93-8B27-CFE743B4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79932-423B-4AFE-AAAA-F768369E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557C7-B954-4340-8138-9EB0D3F5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E01EE-D988-4299-A6A1-7448AB83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FA6D1-0AAA-4CD3-8572-7C11BE01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A6A9D-30B2-4BA9-89A2-356DC13F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52521-C281-4703-8874-16DF07F0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4306F-1A81-470D-B71A-1EAF6C7B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67F-8258-4366-90F0-A68C78FB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4955A-4EFB-4005-8DFA-2D859AEB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22DBA-5FB4-40D9-9852-A7454661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C50F-8C93-4079-9F2A-6DB97C87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91C59-2EEF-4D25-B5BA-8E8D7195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AE9B6-2F5D-4D92-AEC8-50E409F2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15F-4D6C-429E-AB28-2272F5D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D2CF-C807-468C-A8CA-EBE58271680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8E24-8D47-400D-803E-7B70CAF1D6B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DA1A-B550-4501-96F5-1F2ABB4D758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1556-94C4-46A0-9419-0D2B3E50B0A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8587-5CDF-4910-93F3-04081CF0A18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A362-9DEC-4F16-A028-A934B5D7A17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A33B-86E8-4ADC-8ADE-2342D3AC691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математика - Сочинения для школьников."/>
          <p:cNvPicPr/>
          <p:nvPr/>
        </p:nvPicPr>
        <p:blipFill>
          <a:blip r:embed="rId1"/>
          <a:stretch/>
        </p:blipFill>
        <p:spPr>
          <a:xfrm>
            <a:off x="2362320" y="2743200"/>
            <a:ext cx="4389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Прямоугольник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534520" cy="2968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Parabola Problems"/>
          <p:cNvPicPr/>
          <p:nvPr/>
        </p:nvPicPr>
        <p:blipFill>
          <a:blip r:embed="rId2"/>
          <a:stretch/>
        </p:blipFill>
        <p:spPr>
          <a:xfrm>
            <a:off x="1905120" y="3124080"/>
            <a:ext cx="5238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32" repeatCount="1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3"/>
          <p:cNvSpPr/>
          <p:nvPr/>
        </p:nvSpPr>
        <p:spPr>
          <a:xfrm>
            <a:off x="79200" y="101520"/>
            <a:ext cx="8839440" cy="655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"/>
          <p:cNvSpPr/>
          <p:nvPr/>
        </p:nvSpPr>
        <p:spPr>
          <a:xfrm flipV="1">
            <a:off x="4724280" y="380520"/>
            <a:ext cx="0" cy="592164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1560600" y="3643200"/>
            <a:ext cx="5906880" cy="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4077360" y="101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7010280" y="3646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16"/>
          <p:cNvGraphicFramePr/>
          <p:nvPr/>
        </p:nvGraphicFramePr>
        <p:xfrm>
          <a:off x="4451400" y="671400"/>
          <a:ext cx="1839960" cy="36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1400" y="671400"/>
                    <a:ext cx="183996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Freeform 51"/>
          <p:cNvSpPr/>
          <p:nvPr/>
        </p:nvSpPr>
        <p:spPr>
          <a:xfrm>
            <a:off x="3151080" y="4597560"/>
            <a:ext cx="1900440" cy="189540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4223520" y="363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84d3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51"/>
          <p:cNvSpPr/>
          <p:nvPr/>
        </p:nvSpPr>
        <p:spPr>
          <a:xfrm>
            <a:off x="2716200" y="1674720"/>
            <a:ext cx="2219400" cy="279900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1"/>
          <p:cNvSpPr/>
          <p:nvPr/>
        </p:nvSpPr>
        <p:spPr>
          <a:xfrm rot="10800000">
            <a:off x="4307040" y="1674720"/>
            <a:ext cx="2481120" cy="498024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0" descr="Фотозагадки Санкт-Петербурга: Просто вопрос - Citywalls.RU"/>
          <p:cNvPicPr/>
          <p:nvPr/>
        </p:nvPicPr>
        <p:blipFill>
          <a:blip r:embed="rId3"/>
          <a:stretch/>
        </p:blipFill>
        <p:spPr>
          <a:xfrm>
            <a:off x="289080" y="304920"/>
            <a:ext cx="25416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ffff"/>
                </a:solidFill>
                <a:latin typeface="Monotype Corsiva"/>
              </a:rPr>
              <a:t>Расположение графиков квадратичной функции .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Picture 17" descr="Profil użytkownika - Skomentował - Wozniol - Śmieszne Filmy, Filmiki, Gry Online -milanos.pl"/>
          <p:cNvPicPr/>
          <p:nvPr/>
        </p:nvPicPr>
        <p:blipFill>
          <a:blip r:embed="rId1"/>
          <a:stretch/>
        </p:blipFill>
        <p:spPr>
          <a:xfrm>
            <a:off x="990720" y="2819520"/>
            <a:ext cx="3157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ndara"/>
              </a:rPr>
              <a:t>План работы в паре:</a:t>
            </a:r>
            <a:br>
              <a:rPr sz="32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1. Запустите программу </a:t>
            </a:r>
            <a:r>
              <a:rPr b="0" lang="en-US" sz="2900" spc="-1" strike="noStrike">
                <a:solidFill>
                  <a:srgbClr val="ffffff"/>
                </a:solidFill>
                <a:latin typeface="Candara"/>
              </a:rPr>
              <a:t>Excel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2. Постройте график квадратичной функции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3. Поменяйте коэффициенты в формуле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4. Постройте новый график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5. Повторите пункты 3 и 4 несколько раз.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6. Сделайте выводы.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 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                           Желаю успеха !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Picture 70" descr="Фотозагадки Санкт-Петербурга: Просто вопрос - Citywalls.RU"/>
          <p:cNvPicPr/>
          <p:nvPr/>
        </p:nvPicPr>
        <p:blipFill>
          <a:blip r:embed="rId1"/>
          <a:stretch/>
        </p:blipFill>
        <p:spPr>
          <a:xfrm>
            <a:off x="990720" y="5416560"/>
            <a:ext cx="13586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2"/>
          <p:cNvSpPr/>
          <p:nvPr/>
        </p:nvSpPr>
        <p:spPr>
          <a:xfrm>
            <a:off x="1981080" y="2556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Проверь себя сам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3"/>
          <p:cNvSpPr/>
          <p:nvPr/>
        </p:nvSpPr>
        <p:spPr>
          <a:xfrm>
            <a:off x="66600" y="101520"/>
            <a:ext cx="8839440" cy="655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"/>
          <p:cNvSpPr/>
          <p:nvPr/>
        </p:nvSpPr>
        <p:spPr>
          <a:xfrm flipV="1">
            <a:off x="4724280" y="380520"/>
            <a:ext cx="0" cy="592164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"/>
          <p:cNvSpPr/>
          <p:nvPr/>
        </p:nvSpPr>
        <p:spPr>
          <a:xfrm>
            <a:off x="1560600" y="3643200"/>
            <a:ext cx="5906880" cy="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4077360" y="101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7010280" y="3646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6"/>
          <p:cNvGraphicFramePr/>
          <p:nvPr/>
        </p:nvGraphicFramePr>
        <p:xfrm>
          <a:off x="4451400" y="671400"/>
          <a:ext cx="1839960" cy="36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1400" y="671400"/>
                    <a:ext cx="183996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Freeform 51"/>
          <p:cNvSpPr/>
          <p:nvPr/>
        </p:nvSpPr>
        <p:spPr>
          <a:xfrm>
            <a:off x="3151080" y="4597560"/>
            <a:ext cx="1900440" cy="189540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4223520" y="363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84d3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51"/>
          <p:cNvSpPr/>
          <p:nvPr/>
        </p:nvSpPr>
        <p:spPr>
          <a:xfrm>
            <a:off x="2716200" y="1674720"/>
            <a:ext cx="2219400" cy="279900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51"/>
          <p:cNvSpPr/>
          <p:nvPr/>
        </p:nvSpPr>
        <p:spPr>
          <a:xfrm rot="10800000">
            <a:off x="4307040" y="1674720"/>
            <a:ext cx="2481120" cy="498024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Cepten bedava samalik resimleri indir ve ya paylaş"/>
          <p:cNvPicPr/>
          <p:nvPr/>
        </p:nvPicPr>
        <p:blipFill>
          <a:blip r:embed="rId3"/>
          <a:stretch/>
        </p:blipFill>
        <p:spPr>
          <a:xfrm>
            <a:off x="1440" y="0"/>
            <a:ext cx="31165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3" name="Picture 2" descr="у = ах Урок алгебры в 7 классе по теме: &quot;Функция. ... - . - …"/>
          <p:cNvPicPr/>
          <p:nvPr/>
        </p:nvPicPr>
        <p:blipFill>
          <a:blip r:embed="rId1"/>
          <a:stretch/>
        </p:blipFill>
        <p:spPr>
          <a:xfrm>
            <a:off x="0" y="114480"/>
            <a:ext cx="8991720" cy="674352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3" descr=""/>
          <p:cNvPicPr/>
          <p:nvPr/>
        </p:nvPicPr>
        <p:blipFill>
          <a:blip r:embed="rId2"/>
          <a:stretch/>
        </p:blipFill>
        <p:spPr>
          <a:xfrm>
            <a:off x="841320" y="2133720"/>
            <a:ext cx="246852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7" name="Picture 2" descr="Закон джоуля ленца количество теплоты, выделяемое проводником с током равно произведению квадрата силы тока, сопротивления прово"/>
          <p:cNvPicPr/>
          <p:nvPr/>
        </p:nvPicPr>
        <p:blipFill>
          <a:blip r:embed="rId1"/>
          <a:stretch/>
        </p:blipFill>
        <p:spPr>
          <a:xfrm>
            <a:off x="152280" y="114480"/>
            <a:ext cx="8788680" cy="6591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Электронагревательные приборы - Картинка 12900/10"/>
          <p:cNvPicPr/>
          <p:nvPr/>
        </p:nvPicPr>
        <p:blipFill>
          <a:blip r:embed="rId2"/>
          <a:stretch/>
        </p:blipFill>
        <p:spPr>
          <a:xfrm>
            <a:off x="7731000" y="4267080"/>
            <a:ext cx="1171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Веселая парабола - d3.ru"/>
          <p:cNvPicPr/>
          <p:nvPr/>
        </p:nvPicPr>
        <p:blipFill>
          <a:blip r:embed="rId1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12"/>
          <p:cNvSpPr/>
          <p:nvPr/>
        </p:nvSpPr>
        <p:spPr>
          <a:xfrm>
            <a:off x="380880" y="76320"/>
            <a:ext cx="9296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ndara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cc"/>
                </a:solidFill>
                <a:latin typeface="Candara"/>
              </a:rPr>
              <a:t>1. </a:t>
            </a:r>
            <a:r>
              <a:rPr b="0" lang="ru-RU" sz="4000" spc="-1" strike="noStrike">
                <a:solidFill>
                  <a:srgbClr val="7030a0"/>
                </a:solidFill>
                <a:latin typeface="Candara"/>
              </a:rPr>
              <a:t>Выяснить, как определить коэффициент</a:t>
            </a:r>
            <a:r>
              <a:rPr b="0" lang="en-US" sz="4000" spc="-1" strike="noStrike">
                <a:solidFill>
                  <a:srgbClr val="7030a0"/>
                </a:solidFill>
                <a:latin typeface="Candara"/>
              </a:rPr>
              <a:t> </a:t>
            </a:r>
            <a:r>
              <a:rPr b="1" i="1" lang="en-US" sz="4000" spc="-1" strike="noStrike">
                <a:solidFill>
                  <a:srgbClr val="00b050"/>
                </a:solidFill>
                <a:latin typeface="Candara"/>
              </a:rPr>
              <a:t>b</a:t>
            </a:r>
            <a:r>
              <a:rPr b="0" lang="en-US" sz="4000" spc="-1" strike="noStrike">
                <a:solidFill>
                  <a:srgbClr val="7030a0"/>
                </a:solidFill>
                <a:latin typeface="Candara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Candara"/>
              </a:rPr>
              <a:t>по графику квадратичной функции.</a:t>
            </a:r>
            <a:br>
              <a:rPr sz="4000"/>
            </a:br>
            <a:r>
              <a:rPr b="0" lang="ru-RU" sz="4000" spc="-1" strike="noStrike">
                <a:solidFill>
                  <a:srgbClr val="00b0f0"/>
                </a:solidFill>
                <a:latin typeface="Candara"/>
              </a:rPr>
              <a:t>2. Практическая задача.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ndara"/>
              </a:rPr>
              <a:t>3.По желанию: исследовательская работа «Прикладное значение квадратичной функци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7:41:37Z</dcterms:created>
  <dc:creator>Наталья</dc:creator>
  <dc:description/>
  <dc:language>en-US</dc:language>
  <cp:lastModifiedBy>Дершевич О. М.</cp:lastModifiedBy>
  <dcterms:modified xsi:type="dcterms:W3CDTF">2018-03-27T10:07:59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