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15.gif" ContentType="image/gif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D81-E18E-4DC9-BE8A-031B0994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77BB-E978-42D1-B9B2-BB2C14CD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B1C-2D9E-4AA7-BD1A-406D52A5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38F2-B3FD-443B-8A45-78DDF436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DB7A-F77F-4B07-B151-0D9419B9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B80C-8F97-41AC-92AC-1E7482EE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3E85-E08F-4857-9C5E-D7220FAF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5D07-4788-4997-A031-DC93D8FF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14C7-9AC2-4F70-ADAA-622E8D66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17A8-19BA-4F75-85C4-FE3DC16C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1CE9-C3C0-4E12-8675-131D8E4F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578-B864-47EC-98F4-74064EAC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44AA-12BD-4189-9803-BB682BBC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ECAE-E695-41E2-A1E1-4EDFAA5A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A1EA-492A-4D75-91E7-6664DECB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C78A-F8A9-4A8D-93D5-46FA54D5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7A98-3B75-40C1-8C13-B3BE9B1A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23AF-CAFB-4CEE-926F-A6999686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AC2-6065-4976-83A6-0E5D0871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EEA-CFE8-42E4-95B9-4E13270B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127-7E31-4561-9DF4-646C4571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060-0958-4F31-9A73-FE46FF18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C77-6C65-4663-9778-3096F8A5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697-71A1-45BD-AE35-8185135B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5858ff"/>
                </a:gs>
                <a:gs pos="100000">
                  <a:srgbClr val="333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7327-D795-4F75-8C37-2694830CAE6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5858ff"/>
                </a:gs>
                <a:gs pos="100000">
                  <a:srgbClr val="333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97FE-870E-4BC4-B707-E20D6D18E5E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971640" y="981000"/>
            <a:ext cx="727236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ксический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рафо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1"/>
          <p:cNvSpPr txBox="1"/>
          <p:nvPr/>
        </p:nvSpPr>
        <p:spPr>
          <a:xfrm>
            <a:off x="1116000" y="115920"/>
            <a:ext cx="7128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рфологический разбо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3276720" y="3141720"/>
            <a:ext cx="266364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Морфологически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признак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17"/>
          <p:cNvSpPr/>
          <p:nvPr/>
        </p:nvSpPr>
        <p:spPr>
          <a:xfrm>
            <a:off x="1908000" y="4365720"/>
            <a:ext cx="2160720" cy="93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Постоян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5292720" y="4365720"/>
            <a:ext cx="2160720" cy="93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Непостоян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3276720" y="5661000"/>
            <a:ext cx="266364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Синтаксическа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ол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3564000" y="1916280"/>
            <a:ext cx="2160360" cy="93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Часть реч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Вопрос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Знач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42160" cy="4969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3333ff"/>
                </a:solidFill>
                <a:latin typeface="Arial Black"/>
              </a:rPr>
              <a:t>Разминка: «Верю - не верю»</a:t>
            </a:r>
            <a:r>
              <a:rPr b="1" lang="ru-RU" sz="3200" spc="-1" strike="noStrike">
                <a:solidFill>
                  <a:srgbClr val="3333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Числительное обозначает порядок при счете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Числительное обозначает признак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Числительное обозначает количество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Отвечает на вопрос ЧТО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Отвечает на вопрос КАКОЙ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Отвечает на вопрос ЧЕЙ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Лингвистический кёрлинг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ff"/>
                </a:solidFill>
                <a:latin typeface="Arial Black"/>
              </a:rPr>
              <a:t>Обобщаем: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68000" y="907920"/>
            <a:ext cx="4535640" cy="604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Times New Roman"/>
              </a:rPr>
              <a:t>Числительное – эт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39640" y="1700280"/>
            <a:ext cx="8136000" cy="1556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часть речи, которая обозначает            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ЧИСЛО, КОЛИЧЕСТВО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 и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ОРЯДОК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при счете, отвечает на вопросы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КОЛЬКО? КАКОЙ?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050920" y="3429000"/>
            <a:ext cx="489744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Times New Roman"/>
              </a:rPr>
              <a:t>Дополняем блок-схем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1692360" y="4292640"/>
            <a:ext cx="5329080" cy="2158920"/>
          </a:xfrm>
          <a:prstGeom prst="downArrowCallout">
            <a:avLst>
              <a:gd name="adj1" fmla="val 38401"/>
              <a:gd name="adj2" fmla="val 28752"/>
              <a:gd name="adj3" fmla="val 15838"/>
              <a:gd name="adj4" fmla="val 6986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.Часть речи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- ____________________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Общее значение (вопрос)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__________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9"/>
          <p:cNvGrpSpPr/>
          <p:nvPr/>
        </p:nvGrpSpPr>
        <p:grpSpPr>
          <a:xfrm>
            <a:off x="4500720" y="1125360"/>
            <a:ext cx="4464000" cy="4174920"/>
            <a:chOff x="4500720" y="1125360"/>
            <a:chExt cx="4464000" cy="4174920"/>
          </a:xfrm>
        </p:grpSpPr>
        <p:sp>
          <p:nvSpPr>
            <p:cNvPr id="207" name="Oval 27"/>
            <p:cNvSpPr/>
            <p:nvPr/>
          </p:nvSpPr>
          <p:spPr>
            <a:xfrm>
              <a:off x="4500720" y="1125360"/>
              <a:ext cx="4464000" cy="417492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8" name="Rectangle 28"/>
            <p:cNvSpPr/>
            <p:nvPr/>
          </p:nvSpPr>
          <p:spPr>
            <a:xfrm>
              <a:off x="5942160" y="1722240"/>
              <a:ext cx="183960" cy="36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9" name="Group 25"/>
          <p:cNvGrpSpPr/>
          <p:nvPr/>
        </p:nvGrpSpPr>
        <p:grpSpPr>
          <a:xfrm>
            <a:off x="4859280" y="2133720"/>
            <a:ext cx="3745080" cy="3527280"/>
            <a:chOff x="4859280" y="2133720"/>
            <a:chExt cx="3745080" cy="3527280"/>
          </a:xfrm>
        </p:grpSpPr>
        <p:sp>
          <p:nvSpPr>
            <p:cNvPr id="210" name="Oval 23"/>
            <p:cNvSpPr/>
            <p:nvPr/>
          </p:nvSpPr>
          <p:spPr>
            <a:xfrm>
              <a:off x="4859280" y="2133720"/>
              <a:ext cx="3745080" cy="3527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1" name="Rectangle 24"/>
            <p:cNvSpPr/>
            <p:nvPr/>
          </p:nvSpPr>
          <p:spPr>
            <a:xfrm>
              <a:off x="6156360" y="2638440"/>
              <a:ext cx="184320" cy="370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Лингвистический кёрлинг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48360" cy="5543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Каждой команде дается мишень (4слова), запишите их в тетрадь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Ваша задача: выбить (найти и подчеркнуть) лишнее слово из мишен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1 команд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Удвоить, двоиться, второй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аздвои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2 команд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емь, семеро, седьмой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емидесятилет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3 команд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Три, третий, тройной, тро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5364000" y="3141720"/>
            <a:ext cx="2808360" cy="2592360"/>
            <a:chOff x="5364000" y="3141720"/>
            <a:chExt cx="2808360" cy="2592360"/>
          </a:xfrm>
        </p:grpSpPr>
        <p:sp>
          <p:nvSpPr>
            <p:cNvPr id="215" name="Oval 18"/>
            <p:cNvSpPr/>
            <p:nvPr/>
          </p:nvSpPr>
          <p:spPr>
            <a:xfrm>
              <a:off x="5364000" y="3141720"/>
              <a:ext cx="2808360" cy="259236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Rectangle 20"/>
            <p:cNvSpPr/>
            <p:nvPr/>
          </p:nvSpPr>
          <p:spPr>
            <a:xfrm>
              <a:off x="6082920" y="3718080"/>
              <a:ext cx="184320" cy="3697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17" name="Oval 17"/>
          <p:cNvSpPr/>
          <p:nvPr/>
        </p:nvSpPr>
        <p:spPr>
          <a:xfrm>
            <a:off x="5940360" y="4149720"/>
            <a:ext cx="1727280" cy="158436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9"/>
          <p:cNvGrpSpPr/>
          <p:nvPr/>
        </p:nvGrpSpPr>
        <p:grpSpPr>
          <a:xfrm>
            <a:off x="2428920" y="1000080"/>
            <a:ext cx="4464000" cy="4174920"/>
            <a:chOff x="2428920" y="1000080"/>
            <a:chExt cx="4464000" cy="4174920"/>
          </a:xfrm>
        </p:grpSpPr>
        <p:sp>
          <p:nvSpPr>
            <p:cNvPr id="219" name="Oval 27"/>
            <p:cNvSpPr/>
            <p:nvPr/>
          </p:nvSpPr>
          <p:spPr>
            <a:xfrm>
              <a:off x="2428920" y="1000080"/>
              <a:ext cx="4464000" cy="417492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Rectangle 28"/>
            <p:cNvSpPr/>
            <p:nvPr/>
          </p:nvSpPr>
          <p:spPr>
            <a:xfrm>
              <a:off x="3915000" y="1596960"/>
              <a:ext cx="1458000" cy="3682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Раздвоить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1" name="Group 25"/>
          <p:cNvGrpSpPr/>
          <p:nvPr/>
        </p:nvGrpSpPr>
        <p:grpSpPr>
          <a:xfrm>
            <a:off x="2787480" y="2008080"/>
            <a:ext cx="3745080" cy="3527280"/>
            <a:chOff x="2787480" y="2008080"/>
            <a:chExt cx="3745080" cy="3527280"/>
          </a:xfrm>
        </p:grpSpPr>
        <p:sp>
          <p:nvSpPr>
            <p:cNvPr id="222" name="Oval 23"/>
            <p:cNvSpPr/>
            <p:nvPr/>
          </p:nvSpPr>
          <p:spPr>
            <a:xfrm>
              <a:off x="2787480" y="2008080"/>
              <a:ext cx="3745080" cy="3527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Rectangle 24"/>
            <p:cNvSpPr/>
            <p:nvPr/>
          </p:nvSpPr>
          <p:spPr>
            <a:xfrm>
              <a:off x="4117680" y="2512800"/>
              <a:ext cx="105408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Второй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4" name="Group 21"/>
          <p:cNvGrpSpPr/>
          <p:nvPr/>
        </p:nvGrpSpPr>
        <p:grpSpPr>
          <a:xfrm>
            <a:off x="3292560" y="3016080"/>
            <a:ext cx="2808360" cy="2592360"/>
            <a:chOff x="3292560" y="3016080"/>
            <a:chExt cx="2808360" cy="2592360"/>
          </a:xfrm>
        </p:grpSpPr>
        <p:sp>
          <p:nvSpPr>
            <p:cNvPr id="225" name="Oval 18"/>
            <p:cNvSpPr/>
            <p:nvPr/>
          </p:nvSpPr>
          <p:spPr>
            <a:xfrm>
              <a:off x="3292560" y="3016080"/>
              <a:ext cx="2808360" cy="259236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Rectangle 20"/>
            <p:cNvSpPr/>
            <p:nvPr/>
          </p:nvSpPr>
          <p:spPr>
            <a:xfrm>
              <a:off x="4057560" y="3592440"/>
              <a:ext cx="1325160" cy="368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Двоиться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7" name="Oval 17"/>
          <p:cNvSpPr/>
          <p:nvPr/>
        </p:nvSpPr>
        <p:spPr>
          <a:xfrm>
            <a:off x="3868560" y="4024440"/>
            <a:ext cx="1727280" cy="158436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Удвоить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2500200" y="5857920"/>
            <a:ext cx="4357800" cy="703440"/>
          </a:xfrm>
          <a:prstGeom prst="rect">
            <a:avLst/>
          </a:prstGeom>
          <a:solidFill>
            <a:srgbClr val="4ab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1 команда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Rectangle 26"/>
          <p:cNvSpPr/>
          <p:nvPr/>
        </p:nvSpPr>
        <p:spPr>
          <a:xfrm>
            <a:off x="457200" y="158760"/>
            <a:ext cx="82296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Лингвистический кёрлинг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4"/>
          <p:cNvGrpSpPr/>
          <p:nvPr/>
        </p:nvGrpSpPr>
        <p:grpSpPr>
          <a:xfrm>
            <a:off x="2000160" y="1268280"/>
            <a:ext cx="4464000" cy="4174920"/>
            <a:chOff x="2000160" y="1268280"/>
            <a:chExt cx="4464000" cy="4174920"/>
          </a:xfrm>
        </p:grpSpPr>
        <p:sp>
          <p:nvSpPr>
            <p:cNvPr id="231" name="Oval 15"/>
            <p:cNvSpPr/>
            <p:nvPr/>
          </p:nvSpPr>
          <p:spPr>
            <a:xfrm>
              <a:off x="2000160" y="1268280"/>
              <a:ext cx="4464000" cy="417492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Rectangle 16"/>
            <p:cNvSpPr/>
            <p:nvPr/>
          </p:nvSpPr>
          <p:spPr>
            <a:xfrm>
              <a:off x="3034800" y="1865160"/>
              <a:ext cx="2363040" cy="642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Семидесятилетие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3" name="Group 17"/>
          <p:cNvGrpSpPr/>
          <p:nvPr/>
        </p:nvGrpSpPr>
        <p:grpSpPr>
          <a:xfrm>
            <a:off x="2359080" y="2276640"/>
            <a:ext cx="3744720" cy="3527280"/>
            <a:chOff x="2359080" y="2276640"/>
            <a:chExt cx="3744720" cy="3527280"/>
          </a:xfrm>
        </p:grpSpPr>
        <p:sp>
          <p:nvSpPr>
            <p:cNvPr id="234" name="Oval 18"/>
            <p:cNvSpPr/>
            <p:nvPr/>
          </p:nvSpPr>
          <p:spPr>
            <a:xfrm>
              <a:off x="2359080" y="2276640"/>
              <a:ext cx="3744720" cy="3527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" name="Rectangle 19"/>
            <p:cNvSpPr/>
            <p:nvPr/>
          </p:nvSpPr>
          <p:spPr>
            <a:xfrm>
              <a:off x="3589200" y="2781360"/>
              <a:ext cx="125532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Седьмой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6" name="Group 20"/>
          <p:cNvGrpSpPr/>
          <p:nvPr/>
        </p:nvGrpSpPr>
        <p:grpSpPr>
          <a:xfrm>
            <a:off x="2863800" y="3284640"/>
            <a:ext cx="2808360" cy="2592360"/>
            <a:chOff x="2863800" y="3284640"/>
            <a:chExt cx="2808360" cy="2592360"/>
          </a:xfrm>
        </p:grpSpPr>
        <p:sp>
          <p:nvSpPr>
            <p:cNvPr id="237" name="Oval 21"/>
            <p:cNvSpPr/>
            <p:nvPr/>
          </p:nvSpPr>
          <p:spPr>
            <a:xfrm>
              <a:off x="2863800" y="3284640"/>
              <a:ext cx="2808360" cy="259236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Rectangle 22"/>
            <p:cNvSpPr/>
            <p:nvPr/>
          </p:nvSpPr>
          <p:spPr>
            <a:xfrm>
              <a:off x="3566880" y="3861000"/>
              <a:ext cx="1197000" cy="368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  </a:t>
              </a: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Семеро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9" name="Oval 23"/>
          <p:cNvSpPr/>
          <p:nvPr/>
        </p:nvSpPr>
        <p:spPr>
          <a:xfrm>
            <a:off x="3440160" y="4292640"/>
            <a:ext cx="1727280" cy="158436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Семь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Rectangle 26"/>
          <p:cNvSpPr/>
          <p:nvPr/>
        </p:nvSpPr>
        <p:spPr>
          <a:xfrm>
            <a:off x="457200" y="158760"/>
            <a:ext cx="82296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Лингвистический кёрлинг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Box 22"/>
          <p:cNvSpPr/>
          <p:nvPr/>
        </p:nvSpPr>
        <p:spPr>
          <a:xfrm>
            <a:off x="2214720" y="5929200"/>
            <a:ext cx="4357440" cy="703440"/>
          </a:xfrm>
          <a:prstGeom prst="rect">
            <a:avLst/>
          </a:prstGeom>
          <a:solidFill>
            <a:srgbClr val="4ab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2 команда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"/>
          <p:cNvGrpSpPr/>
          <p:nvPr/>
        </p:nvGrpSpPr>
        <p:grpSpPr>
          <a:xfrm>
            <a:off x="2286000" y="1285920"/>
            <a:ext cx="4464000" cy="4174920"/>
            <a:chOff x="2286000" y="1285920"/>
            <a:chExt cx="4464000" cy="4174920"/>
          </a:xfrm>
        </p:grpSpPr>
        <p:sp>
          <p:nvSpPr>
            <p:cNvPr id="243" name="Oval 5"/>
            <p:cNvSpPr/>
            <p:nvPr/>
          </p:nvSpPr>
          <p:spPr>
            <a:xfrm>
              <a:off x="2286000" y="1285920"/>
              <a:ext cx="4464000" cy="417492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Rectangle 6"/>
            <p:cNvSpPr/>
            <p:nvPr/>
          </p:nvSpPr>
          <p:spPr>
            <a:xfrm>
              <a:off x="4132800" y="1882800"/>
              <a:ext cx="735480" cy="3682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Трое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5" name="Group 7"/>
          <p:cNvGrpSpPr/>
          <p:nvPr/>
        </p:nvGrpSpPr>
        <p:grpSpPr>
          <a:xfrm>
            <a:off x="2644920" y="2293920"/>
            <a:ext cx="3744720" cy="3527280"/>
            <a:chOff x="2644920" y="2293920"/>
            <a:chExt cx="3744720" cy="3527280"/>
          </a:xfrm>
        </p:grpSpPr>
        <p:sp>
          <p:nvSpPr>
            <p:cNvPr id="246" name="Oval 8"/>
            <p:cNvSpPr/>
            <p:nvPr/>
          </p:nvSpPr>
          <p:spPr>
            <a:xfrm>
              <a:off x="2644920" y="2293920"/>
              <a:ext cx="3744720" cy="3527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" name="Rectangle 9"/>
            <p:cNvSpPr/>
            <p:nvPr/>
          </p:nvSpPr>
          <p:spPr>
            <a:xfrm>
              <a:off x="3891960" y="2798640"/>
              <a:ext cx="122148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Тройной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8" name="Group 10"/>
          <p:cNvGrpSpPr/>
          <p:nvPr/>
        </p:nvGrpSpPr>
        <p:grpSpPr>
          <a:xfrm>
            <a:off x="3149640" y="3301920"/>
            <a:ext cx="2808360" cy="2592360"/>
            <a:chOff x="3149640" y="3301920"/>
            <a:chExt cx="2808360" cy="2592360"/>
          </a:xfrm>
        </p:grpSpPr>
        <p:sp>
          <p:nvSpPr>
            <p:cNvPr id="249" name="Oval 11"/>
            <p:cNvSpPr/>
            <p:nvPr/>
          </p:nvSpPr>
          <p:spPr>
            <a:xfrm>
              <a:off x="3149640" y="3301920"/>
              <a:ext cx="2808360" cy="259236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0" name="Rectangle 12"/>
            <p:cNvSpPr/>
            <p:nvPr/>
          </p:nvSpPr>
          <p:spPr>
            <a:xfrm>
              <a:off x="3896280" y="3878280"/>
              <a:ext cx="1049400" cy="368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Третий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51" name="Oval 13"/>
          <p:cNvSpPr/>
          <p:nvPr/>
        </p:nvSpPr>
        <p:spPr>
          <a:xfrm>
            <a:off x="3726000" y="4309920"/>
            <a:ext cx="1726920" cy="158436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Тр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Rectangle 26"/>
          <p:cNvSpPr/>
          <p:nvPr/>
        </p:nvSpPr>
        <p:spPr>
          <a:xfrm>
            <a:off x="457200" y="158760"/>
            <a:ext cx="82296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Лингвистический кёрлинг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2500200" y="5929200"/>
            <a:ext cx="4357800" cy="703440"/>
          </a:xfrm>
          <a:prstGeom prst="rect">
            <a:avLst/>
          </a:prstGeom>
          <a:solidFill>
            <a:srgbClr val="4ab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3 команда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ингвистический биатлон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 этап - гонка</a:t>
            </a: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205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Black"/>
              </a:rPr>
              <a:t>1. 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Распределите признаки на 3 столбик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остоянные     Непостоянные    Лиш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ризнаки          признак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Относительные, количественные, простые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краткая форма, целые, притяжательные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дробные, число, падеж, собирательные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порядковые, спряжение, составные, ро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веряем результат</a:t>
            </a: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24000" y="1413000"/>
            <a:ext cx="8496000" cy="20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Black"/>
              </a:rPr>
              <a:t>1. 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Распределите признаки на 3 столбик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остоянные     Непостоянные    Лиш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ризнаки          признак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24000" y="3716280"/>
            <a:ext cx="266364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Количествен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цел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дроб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собиратель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Порядков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Простые состав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6156360" y="3789360"/>
            <a:ext cx="2671560" cy="2562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Относитель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Краткая форм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Притяжатель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Спряж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3708360" y="3716280"/>
            <a:ext cx="1873440" cy="265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Падеж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Числ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Ро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ff"/>
                </a:solidFill>
                <a:latin typeface="Arial"/>
              </a:rPr>
              <a:t>Дополняем блок-схему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2195640" y="907920"/>
            <a:ext cx="5040360" cy="1081080"/>
          </a:xfrm>
          <a:prstGeom prst="downArrowCallout">
            <a:avLst>
              <a:gd name="adj1" fmla="val 72532"/>
              <a:gd name="adj2" fmla="val 54307"/>
              <a:gd name="adj3" fmla="val 15838"/>
              <a:gd name="adj4" fmla="val 6986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.Часть речи</a:t>
            </a:r>
            <a:r>
              <a:rPr b="0" lang="ru-RU" sz="1800" spc="-1" strike="noStrike">
                <a:solidFill>
                  <a:srgbClr val="3333ff"/>
                </a:solidFill>
                <a:latin typeface="Times New Roman"/>
              </a:rPr>
              <a:t> -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числитель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Общее значение (вопрос)</a:t>
            </a:r>
            <a:r>
              <a:rPr b="0" lang="ru-RU" sz="1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сколько? какой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2771640" y="1989000"/>
            <a:ext cx="4032360" cy="1079640"/>
          </a:xfrm>
          <a:prstGeom prst="downArrowCallout">
            <a:avLst>
              <a:gd name="adj1" fmla="val 55164"/>
              <a:gd name="adj2" fmla="val 51701"/>
              <a:gd name="adj3" fmla="val 25741"/>
              <a:gd name="adj4" fmla="val 5925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. Морфологические признак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.Ф. –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Им. падеж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2556000" y="3068640"/>
            <a:ext cx="4319640" cy="3789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стоян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зряд по составу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     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Простые                  Составные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зряд по значению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Количественные     Порядков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целы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дробны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собирательн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епостоянн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адеж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Числ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Род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468360" y="1484280"/>
          <a:ext cx="8229600" cy="453060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2240"/>
                <a:gridCol w="822240"/>
                <a:gridCol w="825840"/>
                <a:gridCol w="822240"/>
                <a:gridCol w="822240"/>
                <a:gridCol w="824040"/>
                <a:gridCol w="8222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WordArt 74"/>
          <p:cNvSpPr txBox="1"/>
          <p:nvPr/>
        </p:nvSpPr>
        <p:spPr>
          <a:xfrm>
            <a:off x="1835280" y="333360"/>
            <a:ext cx="54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гадайте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3" name="Picture 75" descr="2"/>
          <p:cNvPicPr/>
          <p:nvPr/>
        </p:nvPicPr>
        <p:blipFill>
          <a:blip r:embed="rId1"/>
          <a:stretch/>
        </p:blipFill>
        <p:spPr>
          <a:xfrm>
            <a:off x="539640" y="1268280"/>
            <a:ext cx="8136000" cy="5340600"/>
          </a:xfrm>
          <a:prstGeom prst="rect">
            <a:avLst/>
          </a:prstGeom>
          <a:ln w="0">
            <a:noFill/>
          </a:ln>
        </p:spPr>
      </p:pic>
      <p:sp>
        <p:nvSpPr>
          <p:cNvPr id="164" name="WordArt 76"/>
          <p:cNvSpPr txBox="1"/>
          <p:nvPr/>
        </p:nvSpPr>
        <p:spPr>
          <a:xfrm>
            <a:off x="1763640" y="333360"/>
            <a:ext cx="547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ч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79280" y="1700280"/>
            <a:ext cx="4786560" cy="2720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1.Найти все числительные, выписать в тетрадь, разделив на 2 столбика ( по разряду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2. Над каждым словом указать: простое или составно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Лингвистический биатлон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2 этап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- стрельба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67" name="Picture 5" descr="ол"/>
          <p:cNvPicPr/>
          <p:nvPr/>
        </p:nvPicPr>
        <p:blipFill>
          <a:blip r:embed="rId2"/>
          <a:srcRect l="25263" t="0" r="12934" b="0"/>
          <a:stretch/>
        </p:blipFill>
        <p:spPr>
          <a:xfrm>
            <a:off x="5072040" y="1428840"/>
            <a:ext cx="3825720" cy="3429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214200" y="5143680"/>
            <a:ext cx="8705880" cy="1465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Седьмого февраля 2014 года в 20 часов14 минут по местному времени, в городе Сочи, на стадионе «Фишт», состоялась Церемония открытия XXII зимних Олимпийских Игр. Чашу Олимпийского огня зажгли двое российских спортсменов: фигуристка Ирина Роднина и хоккеист Владислав Третья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50920" y="2781360"/>
          <a:ext cx="4643280" cy="793800"/>
        </p:xfrm>
        <a:graphic>
          <a:graphicData uri="http://schemas.openxmlformats.org/drawingml/2006/table">
            <a:tbl>
              <a:tblPr/>
              <a:tblGrid>
                <a:gridCol w="2143080"/>
                <a:gridCol w="2500200"/>
              </a:tblGrid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Порядков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Количестве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Oval 10"/>
          <p:cNvSpPr/>
          <p:nvPr/>
        </p:nvSpPr>
        <p:spPr>
          <a:xfrm>
            <a:off x="214200" y="928800"/>
            <a:ext cx="3278160" cy="3071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Порядков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(какой?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1. Седьмог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2. Две тысяч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четырнадцатог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3. Двадцать вторых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роверяем</a:t>
            </a: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900000" y="404640"/>
            <a:ext cx="18734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Verdana"/>
              </a:rPr>
              <a:t>1 выстре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6443640" y="333360"/>
            <a:ext cx="18734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Verdana"/>
              </a:rPr>
              <a:t>2 выстре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708360" y="2637000"/>
            <a:ext cx="18734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Verdana"/>
              </a:rPr>
              <a:t>3 выстре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5724360" y="907920"/>
            <a:ext cx="3168720" cy="29275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Количествен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(сколько?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1 Двадца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2. Четырнадцать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3. Дв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2771640" y="3357720"/>
            <a:ext cx="3600720" cy="3240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Прост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1. Седьмог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2. Двадца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3. Четырнадцать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4. Дв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Состав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e5"/>
                </a:solidFill>
                <a:latin typeface="Verdana"/>
              </a:rPr>
              <a:t>1. Две тысяч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e5"/>
                </a:solidFill>
                <a:latin typeface="Verdana"/>
              </a:rPr>
              <a:t>четырнадцатог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e5"/>
                </a:solidFill>
                <a:latin typeface="Verdana"/>
              </a:rPr>
              <a:t>2. Двадцать вторы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7"/>
          <p:cNvSpPr/>
          <p:nvPr/>
        </p:nvSpPr>
        <p:spPr>
          <a:xfrm>
            <a:off x="357120" y="2357280"/>
            <a:ext cx="18734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Verdana"/>
              </a:rPr>
              <a:t>1 команд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3564000" y="2421000"/>
            <a:ext cx="187308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Verdana"/>
              </a:rPr>
              <a:t>2 команд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6804000" y="2421000"/>
            <a:ext cx="18734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Verdana"/>
              </a:rPr>
              <a:t>3 команд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214200" y="714240"/>
            <a:ext cx="8705880" cy="1465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Седьмого февраля 2014 года в 20 часов 14 минут по местному времени, в городе Сочи, на стадионе «Фишт», состоялась Церемония открытия XXII зимних Олимпийских Игр. Чашу Олимпийского огня зажгли двое российских спортсменов: фигуристка Ирина Роднина и хоккеист Владислав Третья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Багетная рамка 20"/>
          <p:cNvSpPr/>
          <p:nvPr/>
        </p:nvSpPr>
        <p:spPr>
          <a:xfrm>
            <a:off x="857160" y="3857760"/>
            <a:ext cx="1571760" cy="71424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Verdana"/>
              </a:rPr>
              <a:t>Р.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Прямоугольная выноска 21"/>
          <p:cNvSpPr/>
          <p:nvPr/>
        </p:nvSpPr>
        <p:spPr>
          <a:xfrm>
            <a:off x="285840" y="3071880"/>
            <a:ext cx="2143080" cy="642960"/>
          </a:xfrm>
          <a:prstGeom prst="wedgeRectCallout">
            <a:avLst>
              <a:gd name="adj1" fmla="val -20833"/>
              <a:gd name="adj2" fmla="val 99203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Седьмого феврал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Прямоугольная выноска 22"/>
          <p:cNvSpPr/>
          <p:nvPr/>
        </p:nvSpPr>
        <p:spPr>
          <a:xfrm>
            <a:off x="3419640" y="3068640"/>
            <a:ext cx="2143080" cy="642960"/>
          </a:xfrm>
          <a:prstGeom prst="wedgeRectCallout">
            <a:avLst>
              <a:gd name="adj1" fmla="val -20833"/>
              <a:gd name="adj2" fmla="val 99203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2014 год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Багетная рамка 23"/>
          <p:cNvSpPr/>
          <p:nvPr/>
        </p:nvSpPr>
        <p:spPr>
          <a:xfrm>
            <a:off x="3924360" y="3933720"/>
            <a:ext cx="1571400" cy="71460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Verdana"/>
              </a:rPr>
              <a:t>Р.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Прямоугольная выноска 24"/>
          <p:cNvSpPr/>
          <p:nvPr/>
        </p:nvSpPr>
        <p:spPr>
          <a:xfrm>
            <a:off x="6732720" y="2997360"/>
            <a:ext cx="2143080" cy="642600"/>
          </a:xfrm>
          <a:prstGeom prst="wedgeRectCallout">
            <a:avLst>
              <a:gd name="adj1" fmla="val -20833"/>
              <a:gd name="adj2" fmla="val 99203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в 20 час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Багетная рамка 25"/>
          <p:cNvSpPr/>
          <p:nvPr/>
        </p:nvSpPr>
        <p:spPr>
          <a:xfrm>
            <a:off x="7380360" y="3789360"/>
            <a:ext cx="1571400" cy="71424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Verdana"/>
              </a:rPr>
              <a:t>В.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Прямоугольная выноска 26"/>
          <p:cNvSpPr/>
          <p:nvPr/>
        </p:nvSpPr>
        <p:spPr>
          <a:xfrm>
            <a:off x="3492360" y="4797360"/>
            <a:ext cx="2143440" cy="642960"/>
          </a:xfrm>
          <a:prstGeom prst="wedgeRectCallout">
            <a:avLst>
              <a:gd name="adj1" fmla="val -20833"/>
              <a:gd name="adj2" fmla="val 99203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XXII Иг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Прямоугольная выноска 27"/>
          <p:cNvSpPr/>
          <p:nvPr/>
        </p:nvSpPr>
        <p:spPr>
          <a:xfrm>
            <a:off x="357120" y="4786200"/>
            <a:ext cx="2143080" cy="642960"/>
          </a:xfrm>
          <a:prstGeom prst="wedgeRectCallout">
            <a:avLst>
              <a:gd name="adj1" fmla="val -20833"/>
              <a:gd name="adj2" fmla="val 99203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14 мину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Прямоугольная выноска 28"/>
          <p:cNvSpPr/>
          <p:nvPr/>
        </p:nvSpPr>
        <p:spPr>
          <a:xfrm>
            <a:off x="6804000" y="4653000"/>
            <a:ext cx="2143080" cy="642960"/>
          </a:xfrm>
          <a:prstGeom prst="wedgeRectCallout">
            <a:avLst>
              <a:gd name="adj1" fmla="val -20833"/>
              <a:gd name="adj2" fmla="val 99203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двое спортсмен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Багетная рамка 29"/>
          <p:cNvSpPr/>
          <p:nvPr/>
        </p:nvSpPr>
        <p:spPr>
          <a:xfrm>
            <a:off x="928800" y="5572080"/>
            <a:ext cx="1571400" cy="71460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Verdana"/>
              </a:rPr>
              <a:t>В.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Багетная рамка 30"/>
          <p:cNvSpPr/>
          <p:nvPr/>
        </p:nvSpPr>
        <p:spPr>
          <a:xfrm>
            <a:off x="7380360" y="5516640"/>
            <a:ext cx="1571400" cy="71424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Verdana"/>
              </a:rPr>
              <a:t>И.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Багетная рамка 31"/>
          <p:cNvSpPr/>
          <p:nvPr/>
        </p:nvSpPr>
        <p:spPr>
          <a:xfrm>
            <a:off x="4067280" y="5589720"/>
            <a:ext cx="1571400" cy="71424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Verdana"/>
              </a:rPr>
              <a:t>Р.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53964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ингвистический биатлон (3 этап – гонка)</a:t>
            </a: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1911600" y="638172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стно определить падеж числительны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utoShape 6"/>
          <p:cNvSpPr/>
          <p:nvPr/>
        </p:nvSpPr>
        <p:spPr>
          <a:xfrm>
            <a:off x="2411280" y="5373720"/>
            <a:ext cx="4392720" cy="1247760"/>
          </a:xfrm>
          <a:prstGeom prst="upArrowCallout">
            <a:avLst>
              <a:gd name="adj1" fmla="val 88020"/>
              <a:gd name="adj2" fmla="val 88012"/>
              <a:gd name="adj3" fmla="val 16667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III.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 Синтаксическая рол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Может быть любым членом предложен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923160" cy="549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ff"/>
                </a:solidFill>
                <a:latin typeface="Arial"/>
              </a:rPr>
              <a:t>Дополняем блок-схему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2124000" y="549360"/>
            <a:ext cx="5040360" cy="1081080"/>
          </a:xfrm>
          <a:prstGeom prst="downArrowCallout">
            <a:avLst>
              <a:gd name="adj1" fmla="val 72532"/>
              <a:gd name="adj2" fmla="val 54307"/>
              <a:gd name="adj3" fmla="val 15838"/>
              <a:gd name="adj4" fmla="val 6986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.Часть речи</a:t>
            </a:r>
            <a:r>
              <a:rPr b="0" lang="ru-RU" sz="1800" spc="-1" strike="noStrike">
                <a:solidFill>
                  <a:srgbClr val="3333ff"/>
                </a:solidFill>
                <a:latin typeface="Times New Roman"/>
              </a:rPr>
              <a:t> -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числитель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Общее значение (вопрос)</a:t>
            </a:r>
            <a:r>
              <a:rPr b="0" lang="ru-RU" sz="1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сколько? какой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2556000" y="1413000"/>
            <a:ext cx="4032000" cy="1079280"/>
          </a:xfrm>
          <a:prstGeom prst="downArrowCallout">
            <a:avLst>
              <a:gd name="adj1" fmla="val 55178"/>
              <a:gd name="adj2" fmla="val 51713"/>
              <a:gd name="adj3" fmla="val 25741"/>
              <a:gd name="adj4" fmla="val 5925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. Морфологические признак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.Ф. –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Им. падеж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2411280" y="2349360"/>
            <a:ext cx="4319640" cy="324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стоян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зряд по составу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     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Простые                  Составные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зряд по значению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Количественные     Порядков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целы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дробны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собирательн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епостоянн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адеж Число  Род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826920" y="2708280"/>
            <a:ext cx="7705800" cy="1068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Verdana"/>
              </a:rPr>
              <a:t>Синтаксическая роль числительног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интаксический скелетон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28760" y="1213920"/>
            <a:ext cx="8229600" cy="5094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Ваша задача: проехать трассу на санках, для этого спишите предложение вашей команды, определите, каким членом предложения является числительное, и подчеркнит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ругим  командам  - показать: подлежащее – махи одной рукой, сказуемое – двумя, определение – волна, дополнение – рывки руками, обстоятельство – рывки руками с раскрытие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1. В число олимпийских видов спорта скелетон вошел в 1928 году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2. Первое «золото» по скелетону в истории России завоевал Александр Третьяк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3. Это было   на чемпионате мира в 2013 в Санкт-Мориц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6"/>
          <p:cNvSpPr/>
          <p:nvPr/>
        </p:nvSpPr>
        <p:spPr>
          <a:xfrm>
            <a:off x="2500200" y="5286240"/>
            <a:ext cx="4392720" cy="1247760"/>
          </a:xfrm>
          <a:prstGeom prst="upArrowCallout">
            <a:avLst>
              <a:gd name="adj1" fmla="val 88020"/>
              <a:gd name="adj2" fmla="val 88012"/>
              <a:gd name="adj3" fmla="val 16667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III.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 Синтаксическая рол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Может быть любым членом предложен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929800" cy="549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Блок-схема «Разбор числительного»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2143080" y="857160"/>
            <a:ext cx="5040360" cy="1081080"/>
          </a:xfrm>
          <a:prstGeom prst="downArrowCallout">
            <a:avLst>
              <a:gd name="adj1" fmla="val 72532"/>
              <a:gd name="adj2" fmla="val 54307"/>
              <a:gd name="adj3" fmla="val 15838"/>
              <a:gd name="adj4" fmla="val 6986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.Часть речи</a:t>
            </a:r>
            <a:r>
              <a:rPr b="0" lang="ru-RU" sz="1800" spc="-1" strike="noStrike">
                <a:solidFill>
                  <a:srgbClr val="3333ff"/>
                </a:solidFill>
                <a:latin typeface="Times New Roman"/>
              </a:rPr>
              <a:t> -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числитель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Общее значение (вопрос)</a:t>
            </a:r>
            <a:r>
              <a:rPr b="0" lang="ru-RU" sz="1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сколько? какой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2571840" y="1643040"/>
            <a:ext cx="4032000" cy="1079640"/>
          </a:xfrm>
          <a:prstGeom prst="downArrowCallout">
            <a:avLst>
              <a:gd name="adj1" fmla="val 55159"/>
              <a:gd name="adj2" fmla="val 51696"/>
              <a:gd name="adj3" fmla="val 25741"/>
              <a:gd name="adj4" fmla="val 5925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. Морфологические признак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.Ф. –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Им. падеж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2500200" y="2357280"/>
            <a:ext cx="4319640" cy="3214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стоян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зряд по составу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     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Простые                  Составные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зряд по значению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Количественные     Порядков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целы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дробны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собирательн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епостоянн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адеж Число  Род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7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Морфологический бобслей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57880" y="928800"/>
            <a:ext cx="35719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История бобслея началась в Швейцарии в 1888 год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AutoShape 6"/>
          <p:cNvSpPr/>
          <p:nvPr/>
        </p:nvSpPr>
        <p:spPr>
          <a:xfrm>
            <a:off x="571680" y="5286240"/>
            <a:ext cx="4392360" cy="1247760"/>
          </a:xfrm>
          <a:prstGeom prst="upArrowCallout">
            <a:avLst>
              <a:gd name="adj1" fmla="val 88013"/>
              <a:gd name="adj2" fmla="val 88005"/>
              <a:gd name="adj3" fmla="val 16667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III.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 Синтаксическая рол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Может быть любым членом предложен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214200" y="857160"/>
            <a:ext cx="5040360" cy="1081080"/>
          </a:xfrm>
          <a:prstGeom prst="downArrowCallout">
            <a:avLst>
              <a:gd name="adj1" fmla="val 72532"/>
              <a:gd name="adj2" fmla="val 54307"/>
              <a:gd name="adj3" fmla="val 15838"/>
              <a:gd name="adj4" fmla="val 6986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.Часть речи</a:t>
            </a:r>
            <a:r>
              <a:rPr b="0" lang="ru-RU" sz="1800" spc="-1" strike="noStrike">
                <a:solidFill>
                  <a:srgbClr val="3333ff"/>
                </a:solidFill>
                <a:latin typeface="Times New Roman"/>
              </a:rPr>
              <a:t> -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числитель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Общее значение (вопрос)</a:t>
            </a:r>
            <a:r>
              <a:rPr b="0" lang="ru-RU" sz="1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сколько? какой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642960" y="1643040"/>
            <a:ext cx="4032360" cy="1079640"/>
          </a:xfrm>
          <a:prstGeom prst="downArrowCallout">
            <a:avLst>
              <a:gd name="adj1" fmla="val 55164"/>
              <a:gd name="adj2" fmla="val 51701"/>
              <a:gd name="adj3" fmla="val 25741"/>
              <a:gd name="adj4" fmla="val 5925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. Морфологические признак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.Ф. –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Им. падеж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571680" y="2357280"/>
            <a:ext cx="4319280" cy="3214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стоян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зряд по составу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     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Простые                  Составные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зряд по значению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Количественные     Порядков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целы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дробны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собирательн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епостоянн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адеж Число  Род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TextBox 8"/>
          <p:cNvSpPr/>
          <p:nvPr/>
        </p:nvSpPr>
        <p:spPr>
          <a:xfrm>
            <a:off x="5572080" y="2786040"/>
            <a:ext cx="307188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e5"/>
                </a:solidFill>
                <a:latin typeface="Verdana"/>
              </a:rPr>
              <a:t>1. В тысяча восемьсот восемьдесят восьмом (году) – числ., какой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Box 9"/>
          <p:cNvSpPr/>
          <p:nvPr/>
        </p:nvSpPr>
        <p:spPr>
          <a:xfrm>
            <a:off x="5214960" y="3857760"/>
            <a:ext cx="364320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e5"/>
                </a:solidFill>
                <a:latin typeface="Verdana"/>
              </a:rPr>
              <a:t>2. Н.Ф. – тысяча восемьсот восемьдесят восьмо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e5"/>
                </a:solidFill>
                <a:latin typeface="Verdana"/>
              </a:rPr>
              <a:t>составное, порядковое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e5"/>
                </a:solidFill>
                <a:latin typeface="Verdana"/>
              </a:rPr>
              <a:t>в П.п, ед.ч., м.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TextBox 10"/>
          <p:cNvSpPr/>
          <p:nvPr/>
        </p:nvSpPr>
        <p:spPr>
          <a:xfrm>
            <a:off x="5214960" y="5429160"/>
            <a:ext cx="3643200" cy="1160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e5"/>
                </a:solidFill>
                <a:latin typeface="Verdana"/>
              </a:rPr>
              <a:t>3. Началась (когда?) в тысяча восемьсо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e5"/>
                </a:solidFill>
                <a:latin typeface="Verdana"/>
              </a:rPr>
              <a:t>___ .  ___  .  ____  .  ____  .  ___  .  ___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e5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e5"/>
                </a:solidFill>
                <a:latin typeface="Verdana"/>
              </a:rPr>
              <a:t>восемьдесят восьмом (году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e5"/>
                </a:solidFill>
                <a:latin typeface="Verdana"/>
              </a:rPr>
              <a:t>___  .  ___  .  ___  .  ___  .  ___  .  ___  .  ___  .  ___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5"/>
          <p:cNvSpPr/>
          <p:nvPr/>
        </p:nvSpPr>
        <p:spPr>
          <a:xfrm>
            <a:off x="2670120" y="171360"/>
            <a:ext cx="44416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Контрольный заез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4857840" y="2000160"/>
            <a:ext cx="4033800" cy="2562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Все правильно – 5 баллов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-2 ошибки – 4 балла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3-4 ошибки – 3 балла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больше 4-х, надо пройти трассу еще раз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Прямоугольник 4"/>
          <p:cNvSpPr/>
          <p:nvPr/>
        </p:nvSpPr>
        <p:spPr>
          <a:xfrm>
            <a:off x="214200" y="1000080"/>
            <a:ext cx="4513320" cy="4480920"/>
          </a:xfrm>
          <a:prstGeom prst="rect">
            <a:avLst/>
          </a:prstGeom>
          <a:solidFill>
            <a:srgbClr val="4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e5"/>
                </a:solidFill>
                <a:latin typeface="Verdana"/>
              </a:rPr>
              <a:t>Английский путешественник Уилсон Смит, решив скатиться с горы, соединил двое саней при помощи доски и, сам того не ведая, изобрел новый вид спорт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571680" y="928800"/>
            <a:ext cx="3571560" cy="5572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1. Двое (саней) – числ. (сколько?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2. Н.Ф. – двое; пост.признаки: количественное,  собирательное, простое; непост.признак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 В.п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3. Соединил (что?) двое саней  (доп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800" spc="-1" strike="noStrike">
                <a:solidFill>
                  <a:srgbClr val="0000ff"/>
                </a:solidFill>
                <a:latin typeface="Times New Roman"/>
              </a:rPr>
              <a:t>-------    --------   --------   ----------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8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Прямоугольник 2" descr=""/>
          <p:cNvPicPr/>
          <p:nvPr/>
        </p:nvPicPr>
        <p:blipFill>
          <a:blip r:embed="rId1"/>
          <a:stretch/>
        </p:blipFill>
        <p:spPr>
          <a:xfrm>
            <a:off x="1109520" y="231840"/>
            <a:ext cx="7278840" cy="1127160"/>
          </a:xfrm>
          <a:prstGeom prst="rect">
            <a:avLst/>
          </a:prstGeom>
          <a:ln w="0">
            <a:noFill/>
          </a:ln>
        </p:spPr>
      </p:pic>
      <p:grpSp>
        <p:nvGrpSpPr>
          <p:cNvPr id="322" name="Группа 8"/>
          <p:cNvGrpSpPr/>
          <p:nvPr/>
        </p:nvGrpSpPr>
        <p:grpSpPr>
          <a:xfrm>
            <a:off x="214200" y="4286160"/>
            <a:ext cx="3214800" cy="1857600"/>
            <a:chOff x="214200" y="4286160"/>
            <a:chExt cx="3214800" cy="1857600"/>
          </a:xfrm>
        </p:grpSpPr>
        <p:sp>
          <p:nvSpPr>
            <p:cNvPr id="323" name="Прямоугольник 5"/>
            <p:cNvSpPr/>
            <p:nvPr/>
          </p:nvSpPr>
          <p:spPr>
            <a:xfrm>
              <a:off x="1866960" y="5214960"/>
              <a:ext cx="1562040" cy="9288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e5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4" name="Прямоугольник 6"/>
            <p:cNvSpPr/>
            <p:nvPr/>
          </p:nvSpPr>
          <p:spPr>
            <a:xfrm>
              <a:off x="214200" y="5214960"/>
              <a:ext cx="1652760" cy="9288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e5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5" name="Прямоугольник 7"/>
            <p:cNvSpPr/>
            <p:nvPr/>
          </p:nvSpPr>
          <p:spPr>
            <a:xfrm>
              <a:off x="1133280" y="4286160"/>
              <a:ext cx="1560600" cy="9288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e5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26" name="TextBox 9"/>
          <p:cNvSpPr/>
          <p:nvPr/>
        </p:nvSpPr>
        <p:spPr>
          <a:xfrm>
            <a:off x="6084720" y="1628640"/>
            <a:ext cx="2592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Verdana"/>
                <a:ea typeface="Times New Roman"/>
              </a:rPr>
              <a:t>Личный зач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TextBox 10"/>
          <p:cNvSpPr/>
          <p:nvPr/>
        </p:nvSpPr>
        <p:spPr>
          <a:xfrm>
            <a:off x="887760" y="1557360"/>
            <a:ext cx="1758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Verdana"/>
              </a:rPr>
              <a:t>Команд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8" name="Группа 11"/>
          <p:cNvGrpSpPr/>
          <p:nvPr/>
        </p:nvGrpSpPr>
        <p:grpSpPr>
          <a:xfrm>
            <a:off x="5572080" y="4286160"/>
            <a:ext cx="3214800" cy="1857600"/>
            <a:chOff x="5572080" y="4286160"/>
            <a:chExt cx="3214800" cy="1857600"/>
          </a:xfrm>
        </p:grpSpPr>
        <p:sp>
          <p:nvSpPr>
            <p:cNvPr id="329" name="Прямоугольник 12"/>
            <p:cNvSpPr/>
            <p:nvPr/>
          </p:nvSpPr>
          <p:spPr>
            <a:xfrm>
              <a:off x="7224840" y="5214960"/>
              <a:ext cx="1562040" cy="9288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e5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0" name="Прямоугольник 13"/>
            <p:cNvSpPr/>
            <p:nvPr/>
          </p:nvSpPr>
          <p:spPr>
            <a:xfrm>
              <a:off x="5572080" y="5214960"/>
              <a:ext cx="1652760" cy="9288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e5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" name="Прямоугольник 14"/>
            <p:cNvSpPr/>
            <p:nvPr/>
          </p:nvSpPr>
          <p:spPr>
            <a:xfrm>
              <a:off x="6491160" y="4286160"/>
              <a:ext cx="1560600" cy="9288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e5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332" name="Рисунок 19" descr="http://images-partners.google.com/images?q=tbn:E5gjNzN67BDuxM::http://planetashkol.ru/upload/iblock/7af/zanim_th.jpg"/>
          <p:cNvPicPr/>
          <p:nvPr/>
        </p:nvPicPr>
        <p:blipFill>
          <a:blip r:embed="rId2"/>
          <a:stretch/>
        </p:blipFill>
        <p:spPr>
          <a:xfrm>
            <a:off x="2859120" y="1511280"/>
            <a:ext cx="3054240" cy="342108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21" descr="http://images-partners.google.com/images?q=tbn:s8NYGOs9d2p2jM::http://www.seti.ee/narva/uploads/newbb/10862_48e27980da10f.jpg"/>
          <p:cNvPicPr/>
          <p:nvPr/>
        </p:nvPicPr>
        <p:blipFill>
          <a:blip r:embed="rId3"/>
          <a:stretch/>
        </p:blipFill>
        <p:spPr>
          <a:xfrm>
            <a:off x="1187280" y="2637000"/>
            <a:ext cx="1395720" cy="150336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21" descr="http://images-partners.google.com/images?q=tbn:s8NYGOs9d2p2jM::http://www.seti.ee/narva/uploads/newbb/10862_48e27980da10f.jpg"/>
          <p:cNvPicPr/>
          <p:nvPr/>
        </p:nvPicPr>
        <p:blipFill>
          <a:blip r:embed="rId4"/>
          <a:stretch/>
        </p:blipFill>
        <p:spPr>
          <a:xfrm>
            <a:off x="0" y="4005360"/>
            <a:ext cx="993600" cy="107136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21" descr="http://images-partners.google.com/images?q=tbn:s8NYGOs9d2p2jM::http://www.seti.ee/narva/uploads/newbb/10862_48e27980da10f.jpg"/>
          <p:cNvPicPr/>
          <p:nvPr/>
        </p:nvPicPr>
        <p:blipFill>
          <a:blip r:embed="rId5"/>
          <a:stretch/>
        </p:blipFill>
        <p:spPr>
          <a:xfrm>
            <a:off x="2843280" y="4005360"/>
            <a:ext cx="993600" cy="10713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21" descr="http://images-partners.google.com/images?q=tbn:s8NYGOs9d2p2jM::http://www.seti.ee/narva/uploads/newbb/10862_48e27980da10f.jpg"/>
          <p:cNvPicPr/>
          <p:nvPr/>
        </p:nvPicPr>
        <p:blipFill>
          <a:blip r:embed="rId6"/>
          <a:stretch/>
        </p:blipFill>
        <p:spPr>
          <a:xfrm>
            <a:off x="5364000" y="4005360"/>
            <a:ext cx="993960" cy="107136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21" descr="http://images-partners.google.com/images?q=tbn:s8NYGOs9d2p2jM::http://www.seti.ee/narva/uploads/newbb/10862_48e27980da10f.jpg"/>
          <p:cNvPicPr/>
          <p:nvPr/>
        </p:nvPicPr>
        <p:blipFill>
          <a:blip r:embed="rId7"/>
          <a:stretch/>
        </p:blipFill>
        <p:spPr>
          <a:xfrm>
            <a:off x="8150400" y="4076640"/>
            <a:ext cx="993600" cy="107172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21" descr="http://images-partners.google.com/images?q=tbn:s8NYGOs9d2p2jM::http://www.seti.ee/narva/uploads/newbb/10862_48e27980da10f.jpg"/>
          <p:cNvPicPr/>
          <p:nvPr/>
        </p:nvPicPr>
        <p:blipFill>
          <a:blip r:embed="rId8"/>
          <a:stretch/>
        </p:blipFill>
        <p:spPr>
          <a:xfrm>
            <a:off x="6516720" y="2708280"/>
            <a:ext cx="1395360" cy="1503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357120" y="500040"/>
          <a:ext cx="8429760" cy="4786200"/>
        </p:xfrm>
        <a:graphic>
          <a:graphicData uri="http://schemas.openxmlformats.org/drawingml/2006/table">
            <a:tbl>
              <a:tblPr/>
              <a:tblGrid>
                <a:gridCol w="8429760"/>
              </a:tblGrid>
              <a:tr h="4786200">
                <a:tc>
                  <a:txBody>
                    <a:bodyPr lIns="114480" rIns="114480" tIns="0" bIns="0" anchor="t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buClr>
                          <a:srgbClr val="0000e5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buClr>
                          <a:srgbClr val="0000e5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buClr>
                          <a:srgbClr val="0000e5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buClr>
                          <a:srgbClr val="0000e5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buClr>
                          <a:srgbClr val="0000e5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buClr>
                          <a:srgbClr val="0000e5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Достигли ли мы целей, поставленных в начале урока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2.   Чему мы научились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539640" y="1484280"/>
          <a:ext cx="8229600" cy="4530600"/>
        </p:xfrm>
        <a:graphic>
          <a:graphicData uri="http://schemas.openxmlformats.org/drawingml/2006/table">
            <a:tbl>
              <a:tblPr/>
              <a:tblGrid>
                <a:gridCol w="822600"/>
                <a:gridCol w="823680"/>
                <a:gridCol w="822240"/>
                <a:gridCol w="822600"/>
                <a:gridCol w="822240"/>
                <a:gridCol w="825480"/>
                <a:gridCol w="822240"/>
                <a:gridCol w="822240"/>
                <a:gridCol w="824040"/>
                <a:gridCol w="8222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WordArt 74"/>
          <p:cNvSpPr txBox="1"/>
          <p:nvPr/>
        </p:nvSpPr>
        <p:spPr>
          <a:xfrm>
            <a:off x="1835280" y="333360"/>
            <a:ext cx="54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гадайте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7" name="Picture 75" descr="2"/>
          <p:cNvPicPr/>
          <p:nvPr/>
        </p:nvPicPr>
        <p:blipFill>
          <a:blip r:embed="rId1"/>
          <a:stretch/>
        </p:blipFill>
        <p:spPr>
          <a:xfrm>
            <a:off x="1692360" y="1341360"/>
            <a:ext cx="5904000" cy="5067360"/>
          </a:xfrm>
          <a:prstGeom prst="rect">
            <a:avLst/>
          </a:prstGeom>
          <a:ln w="0">
            <a:noFill/>
          </a:ln>
        </p:spPr>
      </p:pic>
      <p:sp>
        <p:nvSpPr>
          <p:cNvPr id="168" name="WordArt 76"/>
          <p:cNvSpPr txBox="1"/>
          <p:nvPr/>
        </p:nvSpPr>
        <p:spPr>
          <a:xfrm>
            <a:off x="1763640" y="404640"/>
            <a:ext cx="547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ёрлинг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8" descr="с"/>
          <p:cNvPicPr/>
          <p:nvPr/>
        </p:nvPicPr>
        <p:blipFill>
          <a:blip r:embed="rId1"/>
          <a:stretch/>
        </p:blipFill>
        <p:spPr>
          <a:xfrm>
            <a:off x="2195640" y="2060640"/>
            <a:ext cx="4968720" cy="4468680"/>
          </a:xfrm>
          <a:prstGeom prst="rect">
            <a:avLst/>
          </a:prstGeom>
          <a:ln w="0">
            <a:noFill/>
          </a:ln>
        </p:spPr>
      </p:pic>
      <p:sp>
        <p:nvSpPr>
          <p:cNvPr id="341" name="WordArt 4"/>
          <p:cNvSpPr txBox="1"/>
          <p:nvPr/>
        </p:nvSpPr>
        <p:spPr>
          <a:xfrm>
            <a:off x="684360" y="189000"/>
            <a:ext cx="8064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6372000" y="4005000"/>
            <a:ext cx="226836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8000"/>
          </a:bodyPr>
          <a:p>
            <a:pPr marL="2858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2d05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уш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117, 117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19, 9, 5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117, 117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48, 35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2195640" y="836640"/>
            <a:ext cx="4751280" cy="258084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ушки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714, 15, 3247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16, 318, 140, 327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3, 28, 220, 126, 145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615, 18, 2225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713, 116, 512, 43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2 000 000, 320, 17, 333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395280" y="3933720"/>
            <a:ext cx="259236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аяковский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2, 46, 38, 1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116, 14, 20!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15, 14, 21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14, 0, 17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1386360" y="260280"/>
            <a:ext cx="69915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Задание. </a:t>
            </a: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Прочитайте вслух стихи, написанные цифрами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3834000" y="3933720"/>
            <a:ext cx="1642320" cy="1922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Весёлые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2, 15, 42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42, 1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37, 0, 8, 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20, 20, 20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7" name="Рисунок 16" descr="Цифры"/>
          <p:cNvPicPr/>
          <p:nvPr/>
        </p:nvPicPr>
        <p:blipFill>
          <a:blip r:embed="rId1"/>
          <a:stretch/>
        </p:blipFill>
        <p:spPr>
          <a:xfrm>
            <a:off x="250920" y="1108080"/>
            <a:ext cx="2305080" cy="181764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16" descr="Цифры"/>
          <p:cNvPicPr/>
          <p:nvPr/>
        </p:nvPicPr>
        <p:blipFill>
          <a:blip r:embed="rId2"/>
          <a:stretch/>
        </p:blipFill>
        <p:spPr>
          <a:xfrm>
            <a:off x="6732720" y="1052640"/>
            <a:ext cx="2411280" cy="1900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468360" y="1341360"/>
          <a:ext cx="8229600" cy="453096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2240"/>
                <a:gridCol w="822240"/>
                <a:gridCol w="825840"/>
                <a:gridCol w="822240"/>
                <a:gridCol w="822240"/>
                <a:gridCol w="824040"/>
                <a:gridCol w="8222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й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WordArt 72"/>
          <p:cNvSpPr txBox="1"/>
          <p:nvPr/>
        </p:nvSpPr>
        <p:spPr>
          <a:xfrm>
            <a:off x="1835280" y="333360"/>
            <a:ext cx="54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гадайте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73"/>
          <p:cNvSpPr txBox="1"/>
          <p:nvPr/>
        </p:nvSpPr>
        <p:spPr>
          <a:xfrm>
            <a:off x="1908000" y="333360"/>
            <a:ext cx="547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обсле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2" name="Picture 75" descr="1"/>
          <p:cNvPicPr/>
          <p:nvPr/>
        </p:nvPicPr>
        <p:blipFill>
          <a:blip r:embed="rId1"/>
          <a:stretch/>
        </p:blipFill>
        <p:spPr>
          <a:xfrm>
            <a:off x="1476360" y="1413000"/>
            <a:ext cx="6337440" cy="5016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468360" y="1557360"/>
          <a:ext cx="8229600" cy="453060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2240"/>
                <a:gridCol w="822240"/>
                <a:gridCol w="825840"/>
                <a:gridCol w="822240"/>
                <a:gridCol w="822240"/>
                <a:gridCol w="824040"/>
                <a:gridCol w="8222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й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WordArt 144"/>
          <p:cNvSpPr txBox="1"/>
          <p:nvPr/>
        </p:nvSpPr>
        <p:spPr>
          <a:xfrm>
            <a:off x="1835280" y="333360"/>
            <a:ext cx="54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гадайте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146"/>
          <p:cNvSpPr txBox="1"/>
          <p:nvPr/>
        </p:nvSpPr>
        <p:spPr>
          <a:xfrm>
            <a:off x="1763640" y="404640"/>
            <a:ext cx="547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келето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6" name="Picture 147" descr="skeleton"/>
          <p:cNvPicPr/>
          <p:nvPr/>
        </p:nvPicPr>
        <p:blipFill>
          <a:blip r:embed="rId1"/>
          <a:stretch/>
        </p:blipFill>
        <p:spPr>
          <a:xfrm>
            <a:off x="826920" y="1484280"/>
            <a:ext cx="7561440" cy="5013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539640" y="1628640"/>
          <a:ext cx="8229600" cy="4530960"/>
        </p:xfrm>
        <a:graphic>
          <a:graphicData uri="http://schemas.openxmlformats.org/drawingml/2006/table">
            <a:tbl>
              <a:tblPr/>
              <a:tblGrid>
                <a:gridCol w="822600"/>
                <a:gridCol w="823680"/>
                <a:gridCol w="822240"/>
                <a:gridCol w="822600"/>
                <a:gridCol w="822240"/>
                <a:gridCol w="825480"/>
                <a:gridCol w="822240"/>
                <a:gridCol w="822240"/>
                <a:gridCol w="824040"/>
                <a:gridCol w="8222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й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WordArt 71"/>
          <p:cNvSpPr txBox="1"/>
          <p:nvPr/>
        </p:nvSpPr>
        <p:spPr>
          <a:xfrm>
            <a:off x="1835280" y="333360"/>
            <a:ext cx="54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гадайте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9" name="Picture 72" descr="1"/>
          <p:cNvPicPr/>
          <p:nvPr/>
        </p:nvPicPr>
        <p:blipFill>
          <a:blip r:embed="rId1"/>
          <a:stretch/>
        </p:blipFill>
        <p:spPr>
          <a:xfrm>
            <a:off x="2571840" y="1214280"/>
            <a:ext cx="4089240" cy="5457960"/>
          </a:xfrm>
          <a:prstGeom prst="rect">
            <a:avLst/>
          </a:prstGeom>
          <a:ln w="0">
            <a:noFill/>
          </a:ln>
        </p:spPr>
      </p:pic>
      <p:sp>
        <p:nvSpPr>
          <p:cNvPr id="180" name="WordArt 73"/>
          <p:cNvSpPr txBox="1"/>
          <p:nvPr/>
        </p:nvSpPr>
        <p:spPr>
          <a:xfrm>
            <a:off x="1835280" y="260280"/>
            <a:ext cx="54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атло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1" name="Picture 72" descr="сочи"/>
          <p:cNvPicPr/>
          <p:nvPr/>
        </p:nvPicPr>
        <p:blipFill>
          <a:blip r:embed="rId2"/>
          <a:stretch/>
        </p:blipFill>
        <p:spPr>
          <a:xfrm>
            <a:off x="250920" y="1197000"/>
            <a:ext cx="8675640" cy="5400720"/>
          </a:xfrm>
          <a:prstGeom prst="rect">
            <a:avLst/>
          </a:prstGeom>
          <a:ln w="0">
            <a:noFill/>
          </a:ln>
        </p:spPr>
      </p:pic>
      <p:sp>
        <p:nvSpPr>
          <p:cNvPr id="182" name="WordArt 73"/>
          <p:cNvSpPr txBox="1"/>
          <p:nvPr/>
        </p:nvSpPr>
        <p:spPr>
          <a:xfrm>
            <a:off x="1476360" y="189000"/>
            <a:ext cx="6481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лимпиад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539640" y="476280"/>
            <a:ext cx="81360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ингвистическая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лимпиад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1258920" y="5516640"/>
            <a:ext cx="685800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нгвистика – наука о язык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258920" y="4437000"/>
            <a:ext cx="685800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лимпиада – вид состязани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539640" y="1628640"/>
          <a:ext cx="8229600" cy="4530960"/>
        </p:xfrm>
        <a:graphic>
          <a:graphicData uri="http://schemas.openxmlformats.org/drawingml/2006/table">
            <a:tbl>
              <a:tblPr/>
              <a:tblGrid>
                <a:gridCol w="822600"/>
                <a:gridCol w="823680"/>
                <a:gridCol w="822240"/>
                <a:gridCol w="822600"/>
                <a:gridCol w="822240"/>
                <a:gridCol w="825480"/>
                <a:gridCol w="822240"/>
                <a:gridCol w="822240"/>
                <a:gridCol w="824040"/>
                <a:gridCol w="8222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й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WordArt 70"/>
          <p:cNvSpPr txBox="1"/>
          <p:nvPr/>
        </p:nvSpPr>
        <p:spPr>
          <a:xfrm>
            <a:off x="1835280" y="333360"/>
            <a:ext cx="54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гадайте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WordArt 72"/>
          <p:cNvSpPr txBox="1"/>
          <p:nvPr/>
        </p:nvSpPr>
        <p:spPr>
          <a:xfrm>
            <a:off x="539640" y="260280"/>
            <a:ext cx="820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ислительно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39640" y="1628640"/>
          <a:ext cx="8229600" cy="4530960"/>
        </p:xfrm>
        <a:graphic>
          <a:graphicData uri="http://schemas.openxmlformats.org/drawingml/2006/table">
            <a:tbl>
              <a:tblPr/>
              <a:tblGrid>
                <a:gridCol w="822600"/>
                <a:gridCol w="823680"/>
                <a:gridCol w="822240"/>
                <a:gridCol w="822600"/>
                <a:gridCol w="822240"/>
                <a:gridCol w="825480"/>
                <a:gridCol w="822240"/>
                <a:gridCol w="822240"/>
                <a:gridCol w="824040"/>
                <a:gridCol w="8222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й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83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Тема урока: </a:t>
            </a:r>
            <a:r>
              <a:rPr b="1" i="1" lang="ru-RU" sz="4000" spc="-1" strike="noStrike">
                <a:solidFill>
                  <a:srgbClr val="3333ff"/>
                </a:solidFill>
                <a:latin typeface="Georgia"/>
              </a:rPr>
              <a:t>Морфологический разбор имени числительного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2519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Девиз уро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eorgia"/>
              </a:rPr>
              <a:t>Расчет во всяком деле нужен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eorgia"/>
              </a:rPr>
              <a:t>И ты с числительным будь дружен!!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Рисунок 16" descr="ЧП4.jpg"/>
          <p:cNvPicPr/>
          <p:nvPr/>
        </p:nvPicPr>
        <p:blipFill>
          <a:blip r:embed="rId1"/>
          <a:stretch/>
        </p:blipFill>
        <p:spPr>
          <a:xfrm>
            <a:off x="2411280" y="4797360"/>
            <a:ext cx="4168800" cy="1928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2T16:14:34Z</dcterms:created>
  <dc:creator>User</dc:creator>
  <dc:description/>
  <dc:language>en-US</dc:language>
  <cp:lastModifiedBy>Гость</cp:lastModifiedBy>
  <dcterms:modified xsi:type="dcterms:W3CDTF">2018-02-13T10:12:41Z</dcterms:modified>
  <cp:revision>38</cp:revision>
  <dc:subject/>
  <dc:title>Слайд 1</dc:title>
</cp:coreProperties>
</file>