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26B-B2EA-496F-8FA7-7214CED6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291-D9C3-45B4-B798-8F148FF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64C-C38D-468F-86B7-762FFC46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428-FF10-48CC-A96C-F565FA0A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EEF8-56DB-43B9-892A-2AFC7621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B980-7ED8-487F-9FEB-F80EF76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AE2-1BDE-4B0D-867E-84870F0E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EB1-2770-4F33-9774-1E8D289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DFFC-39FD-45AE-9164-6337883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C8DB-9F5A-4E2D-89CC-1EBE940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CA1-3ED8-43A7-AFD4-D2A4227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7EE-4F9C-4C68-819D-C48AC17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9E6-5B57-493A-9F8F-222FDEC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89E-C2E6-4947-88A6-848BCCE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AFB9-BF9E-41CF-AB18-939EF51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855D-65CD-489A-AB1A-81454EA3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8DE-7ACE-440B-8BD0-00708890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E47-C9B4-49EB-8245-4FFFCF8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B80-BBC4-44D5-B16B-02D6331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4E5-0B01-471A-AE9E-CFD888DF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29E-B1AB-4439-9DFF-3EC7082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088-4D31-4517-9992-F3DD6FE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50E-B683-4918-9685-0B7912C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BCC-7748-44C7-B601-E56844D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5858ff"/>
                </a:gs>
                <a:gs pos="100000">
                  <a:srgbClr val="33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FEE1-3C25-4789-8E35-1802A4813DC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5858ff"/>
                </a:gs>
                <a:gs pos="100000">
                  <a:srgbClr val="33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66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536D-45F3-4D53-88C8-84D1D5884FA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971640" y="981000"/>
            <a:ext cx="7272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ческий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аф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1"/>
          <p:cNvSpPr txBox="1"/>
          <p:nvPr/>
        </p:nvSpPr>
        <p:spPr>
          <a:xfrm>
            <a:off x="1116000" y="11592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рфологический разб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3276720" y="3141720"/>
            <a:ext cx="2663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рфологическ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908000" y="4365720"/>
            <a:ext cx="216072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292720" y="4365720"/>
            <a:ext cx="216072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3276720" y="5661000"/>
            <a:ext cx="2663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интаксичес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564000" y="1916280"/>
            <a:ext cx="216036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Часть реч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Вопро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Знач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4969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Arial Black"/>
              </a:rPr>
              <a:t>Разминка: «Верю - не верю»</a:t>
            </a:r>
            <a:r>
              <a:rPr b="1" lang="ru-RU" sz="32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порядок при счете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признак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Числительное обозначает количество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ЧТО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КАКОЙ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Отвечает на вопрос ЧЕЙ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 Black"/>
              </a:rPr>
              <a:t>Обобщаем: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68000" y="907920"/>
            <a:ext cx="4535640" cy="60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Числительное – э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1700280"/>
            <a:ext cx="8136000" cy="155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часть речи, которая обозначает     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ИСЛО, КОЛИЧЕСТВО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 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РЯДОК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при счете, отвечает на вопросы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050920" y="3429000"/>
            <a:ext cx="4897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Дополняем блок-схе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692360" y="4292640"/>
            <a:ext cx="5329080" cy="2158920"/>
          </a:xfrm>
          <a:prstGeom prst="downArrowCallout">
            <a:avLst>
              <a:gd name="adj1" fmla="val 38401"/>
              <a:gd name="adj2" fmla="val 28752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- ___________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_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9"/>
          <p:cNvGrpSpPr/>
          <p:nvPr/>
        </p:nvGrpSpPr>
        <p:grpSpPr>
          <a:xfrm>
            <a:off x="4500720" y="1125360"/>
            <a:ext cx="4464000" cy="4174920"/>
            <a:chOff x="4500720" y="1125360"/>
            <a:chExt cx="4464000" cy="4174920"/>
          </a:xfrm>
        </p:grpSpPr>
        <p:sp>
          <p:nvSpPr>
            <p:cNvPr id="207" name="Oval 27"/>
            <p:cNvSpPr/>
            <p:nvPr/>
          </p:nvSpPr>
          <p:spPr>
            <a:xfrm>
              <a:off x="4500720" y="112536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Rectangle 28"/>
            <p:cNvSpPr/>
            <p:nvPr/>
          </p:nvSpPr>
          <p:spPr>
            <a:xfrm>
              <a:off x="5942160" y="1722240"/>
              <a:ext cx="183960" cy="36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4859280" y="2133720"/>
            <a:ext cx="3745080" cy="3527280"/>
            <a:chOff x="4859280" y="2133720"/>
            <a:chExt cx="3745080" cy="3527280"/>
          </a:xfrm>
        </p:grpSpPr>
        <p:sp>
          <p:nvSpPr>
            <p:cNvPr id="210" name="Oval 23"/>
            <p:cNvSpPr/>
            <p:nvPr/>
          </p:nvSpPr>
          <p:spPr>
            <a:xfrm>
              <a:off x="4859280" y="2133720"/>
              <a:ext cx="374508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Rectangle 24"/>
            <p:cNvSpPr/>
            <p:nvPr/>
          </p:nvSpPr>
          <p:spPr>
            <a:xfrm>
              <a:off x="6156360" y="2638440"/>
              <a:ext cx="184320" cy="370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48360" cy="554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аждой команде дается мишень (4слова), запишите их в тетрад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аша задача: выбить (найти и подчеркнуть) лишнее слово из мишен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1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двоить, двоиться, втор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двои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2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мь, семеро, седьм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мидесятилет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3 коман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ри, третий, тройной, тро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5364000" y="3141720"/>
            <a:ext cx="2808360" cy="2592360"/>
            <a:chOff x="5364000" y="3141720"/>
            <a:chExt cx="2808360" cy="2592360"/>
          </a:xfrm>
        </p:grpSpPr>
        <p:sp>
          <p:nvSpPr>
            <p:cNvPr id="215" name="Oval 18"/>
            <p:cNvSpPr/>
            <p:nvPr/>
          </p:nvSpPr>
          <p:spPr>
            <a:xfrm>
              <a:off x="5364000" y="314172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6082920" y="3718080"/>
              <a:ext cx="184320" cy="36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7" name="Oval 17"/>
          <p:cNvSpPr/>
          <p:nvPr/>
        </p:nvSpPr>
        <p:spPr>
          <a:xfrm>
            <a:off x="5940360" y="414972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9"/>
          <p:cNvGrpSpPr/>
          <p:nvPr/>
        </p:nvGrpSpPr>
        <p:grpSpPr>
          <a:xfrm>
            <a:off x="2428920" y="1000080"/>
            <a:ext cx="4464000" cy="4174920"/>
            <a:chOff x="2428920" y="1000080"/>
            <a:chExt cx="4464000" cy="4174920"/>
          </a:xfrm>
        </p:grpSpPr>
        <p:sp>
          <p:nvSpPr>
            <p:cNvPr id="219" name="Oval 27"/>
            <p:cNvSpPr/>
            <p:nvPr/>
          </p:nvSpPr>
          <p:spPr>
            <a:xfrm>
              <a:off x="2428920" y="100008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Rectangle 28"/>
            <p:cNvSpPr/>
            <p:nvPr/>
          </p:nvSpPr>
          <p:spPr>
            <a:xfrm>
              <a:off x="3915000" y="1596960"/>
              <a:ext cx="145800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Раздвои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Group 25"/>
          <p:cNvGrpSpPr/>
          <p:nvPr/>
        </p:nvGrpSpPr>
        <p:grpSpPr>
          <a:xfrm>
            <a:off x="2787480" y="2008080"/>
            <a:ext cx="3745080" cy="3527280"/>
            <a:chOff x="2787480" y="2008080"/>
            <a:chExt cx="3745080" cy="3527280"/>
          </a:xfrm>
        </p:grpSpPr>
        <p:sp>
          <p:nvSpPr>
            <p:cNvPr id="222" name="Oval 23"/>
            <p:cNvSpPr/>
            <p:nvPr/>
          </p:nvSpPr>
          <p:spPr>
            <a:xfrm>
              <a:off x="2787480" y="2008080"/>
              <a:ext cx="374508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24"/>
            <p:cNvSpPr/>
            <p:nvPr/>
          </p:nvSpPr>
          <p:spPr>
            <a:xfrm>
              <a:off x="4117680" y="2512800"/>
              <a:ext cx="10540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Втор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292560" y="3016080"/>
            <a:ext cx="2808360" cy="2592360"/>
            <a:chOff x="3292560" y="3016080"/>
            <a:chExt cx="2808360" cy="2592360"/>
          </a:xfrm>
        </p:grpSpPr>
        <p:sp>
          <p:nvSpPr>
            <p:cNvPr id="225" name="Oval 18"/>
            <p:cNvSpPr/>
            <p:nvPr/>
          </p:nvSpPr>
          <p:spPr>
            <a:xfrm>
              <a:off x="3292560" y="301608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057560" y="3592440"/>
              <a:ext cx="132516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Двоитьс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7" name="Oval 17"/>
          <p:cNvSpPr/>
          <p:nvPr/>
        </p:nvSpPr>
        <p:spPr>
          <a:xfrm>
            <a:off x="3868560" y="402444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Удвои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2500200" y="5857920"/>
            <a:ext cx="435780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1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4"/>
          <p:cNvGrpSpPr/>
          <p:nvPr/>
        </p:nvGrpSpPr>
        <p:grpSpPr>
          <a:xfrm>
            <a:off x="2000160" y="1268280"/>
            <a:ext cx="4464000" cy="4174920"/>
            <a:chOff x="2000160" y="1268280"/>
            <a:chExt cx="4464000" cy="4174920"/>
          </a:xfrm>
        </p:grpSpPr>
        <p:sp>
          <p:nvSpPr>
            <p:cNvPr id="231" name="Oval 15"/>
            <p:cNvSpPr/>
            <p:nvPr/>
          </p:nvSpPr>
          <p:spPr>
            <a:xfrm>
              <a:off x="2000160" y="126828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3034800" y="1865160"/>
              <a:ext cx="2363040" cy="642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мидесятилети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2359080" y="2276640"/>
            <a:ext cx="3744720" cy="3527280"/>
            <a:chOff x="2359080" y="2276640"/>
            <a:chExt cx="3744720" cy="3527280"/>
          </a:xfrm>
        </p:grpSpPr>
        <p:sp>
          <p:nvSpPr>
            <p:cNvPr id="234" name="Oval 18"/>
            <p:cNvSpPr/>
            <p:nvPr/>
          </p:nvSpPr>
          <p:spPr>
            <a:xfrm>
              <a:off x="2359080" y="2276640"/>
              <a:ext cx="374472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3589200" y="2781360"/>
              <a:ext cx="12553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дьм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2863800" y="3284640"/>
            <a:ext cx="2808360" cy="2592360"/>
            <a:chOff x="2863800" y="3284640"/>
            <a:chExt cx="2808360" cy="2592360"/>
          </a:xfrm>
        </p:grpSpPr>
        <p:sp>
          <p:nvSpPr>
            <p:cNvPr id="237" name="Oval 21"/>
            <p:cNvSpPr/>
            <p:nvPr/>
          </p:nvSpPr>
          <p:spPr>
            <a:xfrm>
              <a:off x="2863800" y="328464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3566880" y="3861000"/>
              <a:ext cx="119700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Семер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9" name="Oval 23"/>
          <p:cNvSpPr/>
          <p:nvPr/>
        </p:nvSpPr>
        <p:spPr>
          <a:xfrm>
            <a:off x="3440160" y="4292640"/>
            <a:ext cx="172728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ем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214720" y="5929200"/>
            <a:ext cx="435744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2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2286000" y="1285920"/>
            <a:ext cx="4464000" cy="4174920"/>
            <a:chOff x="2286000" y="1285920"/>
            <a:chExt cx="4464000" cy="4174920"/>
          </a:xfrm>
        </p:grpSpPr>
        <p:sp>
          <p:nvSpPr>
            <p:cNvPr id="243" name="Oval 5"/>
            <p:cNvSpPr/>
            <p:nvPr/>
          </p:nvSpPr>
          <p:spPr>
            <a:xfrm>
              <a:off x="2286000" y="1285920"/>
              <a:ext cx="4464000" cy="41749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4132800" y="1882800"/>
              <a:ext cx="7354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о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Group 7"/>
          <p:cNvGrpSpPr/>
          <p:nvPr/>
        </p:nvGrpSpPr>
        <p:grpSpPr>
          <a:xfrm>
            <a:off x="2644920" y="2293920"/>
            <a:ext cx="3744720" cy="3527280"/>
            <a:chOff x="2644920" y="2293920"/>
            <a:chExt cx="3744720" cy="3527280"/>
          </a:xfrm>
        </p:grpSpPr>
        <p:sp>
          <p:nvSpPr>
            <p:cNvPr id="246" name="Oval 8"/>
            <p:cNvSpPr/>
            <p:nvPr/>
          </p:nvSpPr>
          <p:spPr>
            <a:xfrm>
              <a:off x="2644920" y="2293920"/>
              <a:ext cx="3744720" cy="3527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3891960" y="2798640"/>
              <a:ext cx="12214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ойно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Group 10"/>
          <p:cNvGrpSpPr/>
          <p:nvPr/>
        </p:nvGrpSpPr>
        <p:grpSpPr>
          <a:xfrm>
            <a:off x="3149640" y="3301920"/>
            <a:ext cx="2808360" cy="2592360"/>
            <a:chOff x="3149640" y="3301920"/>
            <a:chExt cx="2808360" cy="2592360"/>
          </a:xfrm>
        </p:grpSpPr>
        <p:sp>
          <p:nvSpPr>
            <p:cNvPr id="249" name="Oval 11"/>
            <p:cNvSpPr/>
            <p:nvPr/>
          </p:nvSpPr>
          <p:spPr>
            <a:xfrm>
              <a:off x="3149640" y="3301920"/>
              <a:ext cx="2808360" cy="259236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896280" y="3878280"/>
              <a:ext cx="104940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Трети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1" name="Oval 13"/>
          <p:cNvSpPr/>
          <p:nvPr/>
        </p:nvSpPr>
        <p:spPr>
          <a:xfrm>
            <a:off x="3726000" y="4309920"/>
            <a:ext cx="1726920" cy="158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Тр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57200" y="158760"/>
            <a:ext cx="8229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кёрлин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500200" y="5929200"/>
            <a:ext cx="4357800" cy="703440"/>
          </a:xfrm>
          <a:prstGeom prst="rect">
            <a:avLst/>
          </a:prstGeom>
          <a:solidFill>
            <a:srgbClr val="4a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3 команд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ингвистический биатло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 этап - гонка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05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1.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Распределите признаки на 3 столби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стоянные     Непостоянные    Лиш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изнаки          при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Относительные, количественные, прост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краткая форма, целые, притяжательн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дробные, число, падеж, собирательн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порядковые, спряжение, составные, р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ряем результат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24000" y="1413000"/>
            <a:ext cx="8496000" cy="20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1.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Распределите признаки на 3 столби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стоянные     Непостоянные    Лиш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изнаки          при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4000" y="3716280"/>
            <a:ext cx="266364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лич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цел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роб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обира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орядков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ростые состав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156360" y="3789360"/>
            <a:ext cx="2671560" cy="256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Относи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раткая фор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ритяжатель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пряж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3708360" y="3716280"/>
            <a:ext cx="1873440" cy="26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адеж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Р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Дополняем блок-схему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2195640" y="90792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1989000"/>
            <a:ext cx="4032360" cy="1079640"/>
          </a:xfrm>
          <a:prstGeom prst="downArrowCallout">
            <a:avLst>
              <a:gd name="adj1" fmla="val 55164"/>
              <a:gd name="adj2" fmla="val 51701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56000" y="3068640"/>
            <a:ext cx="4319640" cy="378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Числ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6836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WordArt 7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75" descr="2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3406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76"/>
          <p:cNvSpPr txBox="1"/>
          <p:nvPr/>
        </p:nvSpPr>
        <p:spPr>
          <a:xfrm>
            <a:off x="1763640" y="33336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ч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4786560" cy="272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1.Найти все числительные, выписать в тетрадь, разделив на 2 столбика ( по разряду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2. Над каждым словом указать: простое или составно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ингвистический биатлон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 этап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 стрельба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67" name="Picture 5" descr="ол"/>
          <p:cNvPicPr/>
          <p:nvPr/>
        </p:nvPicPr>
        <p:blipFill>
          <a:blip r:embed="rId2"/>
          <a:srcRect l="25263" t="0" r="12934" b="0"/>
          <a:stretch/>
        </p:blipFill>
        <p:spPr>
          <a:xfrm>
            <a:off x="5072040" y="1428840"/>
            <a:ext cx="382572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214200" y="5143680"/>
            <a:ext cx="8705880" cy="1465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2014 года в 20 часов14 минут по местному времени, в городе Сочи, на стадионе «Фишт», состоялась Церемония открытия XXII зимних Олимпийских Игр. Чашу Олимпийского огня зажгли двое российских спортсменов: фигуристка Ирина Роднина и хоккеист Владислав Треть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81360"/>
          <a:ext cx="4643280" cy="793800"/>
        </p:xfrm>
        <a:graphic>
          <a:graphicData uri="http://schemas.openxmlformats.org/drawingml/2006/table">
            <a:tbl>
              <a:tblPr/>
              <a:tblGrid>
                <a:gridCol w="2143080"/>
                <a:gridCol w="250020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оряд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Количе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Oval 10"/>
          <p:cNvSpPr/>
          <p:nvPr/>
        </p:nvSpPr>
        <p:spPr>
          <a:xfrm>
            <a:off x="214200" y="928800"/>
            <a:ext cx="3278160" cy="3071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(какой?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. Седьм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Две тысяч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четырнадцат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Двадцать вторых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оверяем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00000" y="40464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1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443640" y="33336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2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708360" y="263700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3 выстре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24360" y="907920"/>
            <a:ext cx="3168720" cy="2927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Колич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(сколько?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 Двадц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Четырнадц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Дв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2771640" y="3357720"/>
            <a:ext cx="3600720" cy="3240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ост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1. Седьм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2. Двадц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3. Четырнадц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4. Дв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Состав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1. Две тысяч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четырнадцат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2. Двадцать втор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7"/>
          <p:cNvSpPr/>
          <p:nvPr/>
        </p:nvSpPr>
        <p:spPr>
          <a:xfrm>
            <a:off x="357120" y="235728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1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564000" y="2421000"/>
            <a:ext cx="1873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2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6804000" y="2421000"/>
            <a:ext cx="18734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3 коман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214200" y="714240"/>
            <a:ext cx="8705880" cy="1465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2014 года в 20 часов 14 минут по местному времени, в городе Сочи, на стадионе «Фишт», состоялась Церемония открытия XXII зимних Олимпийских Игр. Чашу Олимпийского огня зажгли двое российских спортсменов: фигуристка Ирина Роднина и хоккеист Владислав Треть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Багетная рамка 20"/>
          <p:cNvSpPr/>
          <p:nvPr/>
        </p:nvSpPr>
        <p:spPr>
          <a:xfrm>
            <a:off x="857160" y="3857760"/>
            <a:ext cx="157176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Прямоугольная выноска 21"/>
          <p:cNvSpPr/>
          <p:nvPr/>
        </p:nvSpPr>
        <p:spPr>
          <a:xfrm>
            <a:off x="285840" y="307188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едьмого февра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Прямоугольная выноска 22"/>
          <p:cNvSpPr/>
          <p:nvPr/>
        </p:nvSpPr>
        <p:spPr>
          <a:xfrm>
            <a:off x="3419640" y="306864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2014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Багетная рамка 23"/>
          <p:cNvSpPr/>
          <p:nvPr/>
        </p:nvSpPr>
        <p:spPr>
          <a:xfrm>
            <a:off x="3924360" y="3933720"/>
            <a:ext cx="1571400" cy="71460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Прямоугольная выноска 24"/>
          <p:cNvSpPr/>
          <p:nvPr/>
        </p:nvSpPr>
        <p:spPr>
          <a:xfrm>
            <a:off x="6732720" y="2997360"/>
            <a:ext cx="2143080" cy="64260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 20 ча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Багетная рамка 25"/>
          <p:cNvSpPr/>
          <p:nvPr/>
        </p:nvSpPr>
        <p:spPr>
          <a:xfrm>
            <a:off x="7380360" y="378936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В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ая выноска 26"/>
          <p:cNvSpPr/>
          <p:nvPr/>
        </p:nvSpPr>
        <p:spPr>
          <a:xfrm>
            <a:off x="3492360" y="4797360"/>
            <a:ext cx="214344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XXII Иг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Прямоугольная выноска 27"/>
          <p:cNvSpPr/>
          <p:nvPr/>
        </p:nvSpPr>
        <p:spPr>
          <a:xfrm>
            <a:off x="357120" y="478620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14 мину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Прямоугольная выноска 28"/>
          <p:cNvSpPr/>
          <p:nvPr/>
        </p:nvSpPr>
        <p:spPr>
          <a:xfrm>
            <a:off x="6804000" y="4653000"/>
            <a:ext cx="2143080" cy="642960"/>
          </a:xfrm>
          <a:prstGeom prst="wedgeRectCallout">
            <a:avLst>
              <a:gd name="adj1" fmla="val -20833"/>
              <a:gd name="adj2" fmla="val 99203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вое спортсме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Багетная рамка 29"/>
          <p:cNvSpPr/>
          <p:nvPr/>
        </p:nvSpPr>
        <p:spPr>
          <a:xfrm>
            <a:off x="928800" y="5572080"/>
            <a:ext cx="1571400" cy="71460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В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Багетная рамка 30"/>
          <p:cNvSpPr/>
          <p:nvPr/>
        </p:nvSpPr>
        <p:spPr>
          <a:xfrm>
            <a:off x="7380360" y="551664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Багетная рамка 31"/>
          <p:cNvSpPr/>
          <p:nvPr/>
        </p:nvSpPr>
        <p:spPr>
          <a:xfrm>
            <a:off x="4067280" y="5589720"/>
            <a:ext cx="1571400" cy="71424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нгвистический биатлон (3 этап – гонка)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1911600" y="638172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стно определить падеж числитель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6"/>
          <p:cNvSpPr/>
          <p:nvPr/>
        </p:nvSpPr>
        <p:spPr>
          <a:xfrm>
            <a:off x="2411280" y="5373720"/>
            <a:ext cx="4392720" cy="1247760"/>
          </a:xfrm>
          <a:prstGeom prst="upArrowCallout">
            <a:avLst>
              <a:gd name="adj1" fmla="val 88020"/>
              <a:gd name="adj2" fmla="val 88012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923160" cy="549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Дополняем блок-схему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2124000" y="5493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556000" y="1413000"/>
            <a:ext cx="4032000" cy="1079280"/>
          </a:xfrm>
          <a:prstGeom prst="downArrowCallout">
            <a:avLst>
              <a:gd name="adj1" fmla="val 55178"/>
              <a:gd name="adj2" fmla="val 51713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411280" y="2349360"/>
            <a:ext cx="4319640" cy="324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26920" y="2708280"/>
            <a:ext cx="77058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Синтаксическая роль числитель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нтаксический скелетон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509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аша задача: проехать трассу на санках, для этого спишите предложение вашей команды, определите, каким членом предложения является числительное, и подчеркни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ругим  командам  - показать: подлежащее – махи одной рукой, сказуемое – двумя, определение – волна, дополнение – рывки руками, обстоятельство – рывки руками с раскрыти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. В число олимпийских видов спорта скелетон вошел в 1928 год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2. Первое «золото» по скелетону в истории России завоевал Александр Третья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3. Это было   на чемпионате мира в 2013 в Санкт-Мориц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500200" y="5286240"/>
            <a:ext cx="4392720" cy="1247760"/>
          </a:xfrm>
          <a:prstGeom prst="upArrowCallout">
            <a:avLst>
              <a:gd name="adj1" fmla="val 88020"/>
              <a:gd name="adj2" fmla="val 88012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549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Блок-схема «Разбор числительного»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2143080" y="8571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2571840" y="1643040"/>
            <a:ext cx="4032000" cy="1079640"/>
          </a:xfrm>
          <a:prstGeom prst="downArrowCallout">
            <a:avLst>
              <a:gd name="adj1" fmla="val 55159"/>
              <a:gd name="adj2" fmla="val 51696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500200" y="2357280"/>
            <a:ext cx="4319640" cy="3214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рфологический бобслей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57880" y="928800"/>
            <a:ext cx="3571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стория бобслея началась в Швейцарии в 1888 год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571680" y="5286240"/>
            <a:ext cx="4392360" cy="1247760"/>
          </a:xfrm>
          <a:prstGeom prst="upArrowCallout">
            <a:avLst>
              <a:gd name="adj1" fmla="val 88013"/>
              <a:gd name="adj2" fmla="val 88005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II.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Синтаксическая р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ожет быть любым членом предло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214200" y="857160"/>
            <a:ext cx="5040360" cy="1081080"/>
          </a:xfrm>
          <a:prstGeom prst="downArrowCallout">
            <a:avLst>
              <a:gd name="adj1" fmla="val 72532"/>
              <a:gd name="adj2" fmla="val 54307"/>
              <a:gd name="adj3" fmla="val 15838"/>
              <a:gd name="adj4" fmla="val 698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.Часть речи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-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исл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Общее значение (вопрос)</a:t>
            </a: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колько?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642960" y="1643040"/>
            <a:ext cx="4032360" cy="1079640"/>
          </a:xfrm>
          <a:prstGeom prst="downArrowCallout">
            <a:avLst>
              <a:gd name="adj1" fmla="val 55164"/>
              <a:gd name="adj2" fmla="val 51701"/>
              <a:gd name="adj3" fmla="val 25741"/>
              <a:gd name="adj4" fmla="val 59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 Морфологические призна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Ф. –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м. паде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71680" y="2357280"/>
            <a:ext cx="4319280" cy="3214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стоя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составу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остые                  Составные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ряд по значению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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оличественные     Порядков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цел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роб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обиратель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постоянн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адеж Число  Р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5572080" y="2786040"/>
            <a:ext cx="30718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1. В тысяча восемьсот восемьдесят восьмом (году) – числ., како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5214960" y="3857760"/>
            <a:ext cx="36432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2. Н.Ф. – тысяча восемьсот восемьдесят восьм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составное, порядково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в П.п, ед.ч., м.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5214960" y="5429160"/>
            <a:ext cx="364320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3. Началась (когда?) в тысяча восемьсо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e5"/>
                </a:solidFill>
                <a:latin typeface="Verdana"/>
              </a:rPr>
              <a:t>___ .  ___  .  ____  .  ____  .  ___  .  __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e5"/>
                </a:solidFill>
                <a:latin typeface="Verdana"/>
              </a:rPr>
              <a:t>восемьдесят восьмом (году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e5"/>
                </a:solidFill>
                <a:latin typeface="Verdana"/>
              </a:rPr>
              <a:t>___  .  ___  .  ___  .  ___  .  ___  .  ___  .  ___  .  __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2670120" y="171360"/>
            <a:ext cx="44416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Контрольный заез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857840" y="2000160"/>
            <a:ext cx="4033800" cy="256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Все правильно – 5 баллов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-2 ошибки – 4 балл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-4 ошибки – 3 балл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больше 4-х, надо пройти трассу еще ра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214200" y="1000080"/>
            <a:ext cx="4513320" cy="4480920"/>
          </a:xfrm>
          <a:prstGeom prst="rect">
            <a:avLst/>
          </a:prstGeom>
          <a:solidFill>
            <a:srgbClr val="4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e5"/>
                </a:solidFill>
                <a:latin typeface="Verdana"/>
              </a:rPr>
              <a:t>Английский путешественник Уилсон Смит, решив скатиться с горы, соединил двое саней при помощи доски и, сам того не ведая, изобрел новый вид спор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571680" y="928800"/>
            <a:ext cx="3571560" cy="5572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. Двое (саней) – числ. (сколько?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. Н.Ф. – двое; пост.признаки: количественное,  собирательное, простое; непост.признак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В.п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3. Соединил (что?) двое саней  (доп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-------    --------   --------   ----------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2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72788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22" name="Группа 8"/>
          <p:cNvGrpSpPr/>
          <p:nvPr/>
        </p:nvGrpSpPr>
        <p:grpSpPr>
          <a:xfrm>
            <a:off x="214200" y="4286160"/>
            <a:ext cx="3214800" cy="1857600"/>
            <a:chOff x="214200" y="4286160"/>
            <a:chExt cx="3214800" cy="1857600"/>
          </a:xfrm>
        </p:grpSpPr>
        <p:sp>
          <p:nvSpPr>
            <p:cNvPr id="323" name="Прямоугольник 5"/>
            <p:cNvSpPr/>
            <p:nvPr/>
          </p:nvSpPr>
          <p:spPr>
            <a:xfrm>
              <a:off x="1866960" y="5214960"/>
              <a:ext cx="156204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Прямоугольник 6"/>
            <p:cNvSpPr/>
            <p:nvPr/>
          </p:nvSpPr>
          <p:spPr>
            <a:xfrm>
              <a:off x="214200" y="5214960"/>
              <a:ext cx="165276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Прямоугольник 7"/>
            <p:cNvSpPr/>
            <p:nvPr/>
          </p:nvSpPr>
          <p:spPr>
            <a:xfrm>
              <a:off x="1133280" y="4286160"/>
              <a:ext cx="156060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6" name="TextBox 9"/>
          <p:cNvSpPr/>
          <p:nvPr/>
        </p:nvSpPr>
        <p:spPr>
          <a:xfrm>
            <a:off x="6084720" y="1628640"/>
            <a:ext cx="259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Verdana"/>
                <a:ea typeface="Times New Roman"/>
              </a:rPr>
              <a:t>Личный зач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887760" y="1557360"/>
            <a:ext cx="1758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Verdana"/>
              </a:rPr>
              <a:t>Команд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Группа 11"/>
          <p:cNvGrpSpPr/>
          <p:nvPr/>
        </p:nvGrpSpPr>
        <p:grpSpPr>
          <a:xfrm>
            <a:off x="5572080" y="4286160"/>
            <a:ext cx="3214800" cy="1857600"/>
            <a:chOff x="5572080" y="4286160"/>
            <a:chExt cx="3214800" cy="1857600"/>
          </a:xfrm>
        </p:grpSpPr>
        <p:sp>
          <p:nvSpPr>
            <p:cNvPr id="329" name="Прямоугольник 12"/>
            <p:cNvSpPr/>
            <p:nvPr/>
          </p:nvSpPr>
          <p:spPr>
            <a:xfrm>
              <a:off x="7224840" y="5214960"/>
              <a:ext cx="156204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Прямоугольник 13"/>
            <p:cNvSpPr/>
            <p:nvPr/>
          </p:nvSpPr>
          <p:spPr>
            <a:xfrm>
              <a:off x="5572080" y="5214960"/>
              <a:ext cx="165276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Прямоугольник 14"/>
            <p:cNvSpPr/>
            <p:nvPr/>
          </p:nvSpPr>
          <p:spPr>
            <a:xfrm>
              <a:off x="6491160" y="4286160"/>
              <a:ext cx="1560600" cy="928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5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32" name="Рисунок 19" descr="http://images-partners.google.com/images?q=tbn:E5gjNzN67BDuxM::http://planetashkol.ru/upload/iblock/7af/zanim_th.jpg"/>
          <p:cNvPicPr/>
          <p:nvPr/>
        </p:nvPicPr>
        <p:blipFill>
          <a:blip r:embed="rId2"/>
          <a:stretch/>
        </p:blipFill>
        <p:spPr>
          <a:xfrm>
            <a:off x="2859120" y="1511280"/>
            <a:ext cx="3054240" cy="34210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http://images-partners.google.com/images?q=tbn:s8NYGOs9d2p2jM::http://www.seti.ee/narva/uploads/newbb/10862_48e27980da10f.jpg"/>
          <p:cNvPicPr/>
          <p:nvPr/>
        </p:nvPicPr>
        <p:blipFill>
          <a:blip r:embed="rId3"/>
          <a:stretch/>
        </p:blipFill>
        <p:spPr>
          <a:xfrm>
            <a:off x="1187280" y="2637000"/>
            <a:ext cx="1395720" cy="1503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1" descr="http://images-partners.google.com/images?q=tbn:s8NYGOs9d2p2jM::http://www.seti.ee/narva/uploads/newbb/10862_48e27980da10f.jpg"/>
          <p:cNvPicPr/>
          <p:nvPr/>
        </p:nvPicPr>
        <p:blipFill>
          <a:blip r:embed="rId4"/>
          <a:stretch/>
        </p:blipFill>
        <p:spPr>
          <a:xfrm>
            <a:off x="0" y="4005360"/>
            <a:ext cx="993600" cy="1071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1" descr="http://images-partners.google.com/images?q=tbn:s8NYGOs9d2p2jM::http://www.seti.ee/narva/uploads/newbb/10862_48e27980da10f.jpg"/>
          <p:cNvPicPr/>
          <p:nvPr/>
        </p:nvPicPr>
        <p:blipFill>
          <a:blip r:embed="rId5"/>
          <a:stretch/>
        </p:blipFill>
        <p:spPr>
          <a:xfrm>
            <a:off x="2843280" y="4005360"/>
            <a:ext cx="99360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1" descr="http://images-partners.google.com/images?q=tbn:s8NYGOs9d2p2jM::http://www.seti.ee/narva/uploads/newbb/10862_48e27980da10f.jpg"/>
          <p:cNvPicPr/>
          <p:nvPr/>
        </p:nvPicPr>
        <p:blipFill>
          <a:blip r:embed="rId6"/>
          <a:stretch/>
        </p:blipFill>
        <p:spPr>
          <a:xfrm>
            <a:off x="5364000" y="4005360"/>
            <a:ext cx="993960" cy="107136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1" descr="http://images-partners.google.com/images?q=tbn:s8NYGOs9d2p2jM::http://www.seti.ee/narva/uploads/newbb/10862_48e27980da10f.jpg"/>
          <p:cNvPicPr/>
          <p:nvPr/>
        </p:nvPicPr>
        <p:blipFill>
          <a:blip r:embed="rId7"/>
          <a:stretch/>
        </p:blipFill>
        <p:spPr>
          <a:xfrm>
            <a:off x="8150400" y="4076640"/>
            <a:ext cx="993600" cy="10717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21" descr="http://images-partners.google.com/images?q=tbn:s8NYGOs9d2p2jM::http://www.seti.ee/narva/uploads/newbb/10862_48e27980da10f.jpg"/>
          <p:cNvPicPr/>
          <p:nvPr/>
        </p:nvPicPr>
        <p:blipFill>
          <a:blip r:embed="rId8"/>
          <a:stretch/>
        </p:blipFill>
        <p:spPr>
          <a:xfrm>
            <a:off x="6516720" y="2708280"/>
            <a:ext cx="1395360" cy="150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357120" y="500040"/>
          <a:ext cx="8429760" cy="478620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478620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0000e5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Достигли ли мы целей, поставленных в начале урока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2.   Чему мы научились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WordArt 7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75" descr="2"/>
          <p:cNvPicPr/>
          <p:nvPr/>
        </p:nvPicPr>
        <p:blipFill>
          <a:blip r:embed="rId1"/>
          <a:stretch/>
        </p:blipFill>
        <p:spPr>
          <a:xfrm>
            <a:off x="1692360" y="1341360"/>
            <a:ext cx="5904000" cy="50673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76"/>
          <p:cNvSpPr txBox="1"/>
          <p:nvPr/>
        </p:nvSpPr>
        <p:spPr>
          <a:xfrm>
            <a:off x="1763640" y="404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ёрлин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с"/>
          <p:cNvPicPr/>
          <p:nvPr/>
        </p:nvPicPr>
        <p:blipFill>
          <a:blip r:embed="rId1"/>
          <a:stretch/>
        </p:blipFill>
        <p:spPr>
          <a:xfrm>
            <a:off x="2195640" y="2060640"/>
            <a:ext cx="4968720" cy="4468680"/>
          </a:xfrm>
          <a:prstGeom prst="rect">
            <a:avLst/>
          </a:prstGeom>
          <a:ln w="0">
            <a:noFill/>
          </a:ln>
        </p:spPr>
      </p:pic>
      <p:sp>
        <p:nvSpPr>
          <p:cNvPr id="341" name="WordArt 4"/>
          <p:cNvSpPr txBox="1"/>
          <p:nvPr/>
        </p:nvSpPr>
        <p:spPr>
          <a:xfrm>
            <a:off x="684360" y="189000"/>
            <a:ext cx="806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6372000" y="4005000"/>
            <a:ext cx="226836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уш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7, 1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9, 9, 5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7, 117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48, 35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195640" y="836640"/>
            <a:ext cx="4751280" cy="2580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ушки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714, 15, 324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6, 318, 140, 32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3, 28, 220, 126, 14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615, 18, 222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713, 116, 512, 43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 000 000, 320, 17, 333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395280" y="3933720"/>
            <a:ext cx="25923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яковский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2, 46, 38, 1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16, 14, 20!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5, 14, 21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4, 0, 17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386360" y="260280"/>
            <a:ext cx="69915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Задание. 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Прочитайте вслух стихи, написанные цифрам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834000" y="3933720"/>
            <a:ext cx="164232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есёлые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, 15, 42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42, 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37, 0, 8, 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20, 20, 20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16" descr="Цифры"/>
          <p:cNvPicPr/>
          <p:nvPr/>
        </p:nvPicPr>
        <p:blipFill>
          <a:blip r:embed="rId1"/>
          <a:stretch/>
        </p:blipFill>
        <p:spPr>
          <a:xfrm>
            <a:off x="250920" y="1108080"/>
            <a:ext cx="2305080" cy="18176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6" descr="Цифры"/>
          <p:cNvPicPr/>
          <p:nvPr/>
        </p:nvPicPr>
        <p:blipFill>
          <a:blip r:embed="rId2"/>
          <a:stretch/>
        </p:blipFill>
        <p:spPr>
          <a:xfrm>
            <a:off x="6732720" y="1052640"/>
            <a:ext cx="241128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468360" y="1341360"/>
          <a:ext cx="8229600" cy="45309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72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73"/>
          <p:cNvSpPr txBox="1"/>
          <p:nvPr/>
        </p:nvSpPr>
        <p:spPr>
          <a:xfrm>
            <a:off x="1908000" y="33336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бсл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75" descr="1"/>
          <p:cNvPicPr/>
          <p:nvPr/>
        </p:nvPicPr>
        <p:blipFill>
          <a:blip r:embed="rId1"/>
          <a:stretch/>
        </p:blipFill>
        <p:spPr>
          <a:xfrm>
            <a:off x="1476360" y="1413000"/>
            <a:ext cx="6337440" cy="501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68360" y="1557360"/>
          <a:ext cx="8229600" cy="4530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2240"/>
                <a:gridCol w="822240"/>
                <a:gridCol w="82584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WordArt 144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46"/>
          <p:cNvSpPr txBox="1"/>
          <p:nvPr/>
        </p:nvSpPr>
        <p:spPr>
          <a:xfrm>
            <a:off x="1763640" y="404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елет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Picture 147" descr="skeleton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501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WordArt 71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Picture 72" descr="1"/>
          <p:cNvPicPr/>
          <p:nvPr/>
        </p:nvPicPr>
        <p:blipFill>
          <a:blip r:embed="rId1"/>
          <a:stretch/>
        </p:blipFill>
        <p:spPr>
          <a:xfrm>
            <a:off x="2571840" y="1214280"/>
            <a:ext cx="4089240" cy="5457960"/>
          </a:xfrm>
          <a:prstGeom prst="rect">
            <a:avLst/>
          </a:prstGeom>
          <a:ln w="0">
            <a:noFill/>
          </a:ln>
        </p:spPr>
      </p:pic>
      <p:sp>
        <p:nvSpPr>
          <p:cNvPr id="180" name="WordArt 73"/>
          <p:cNvSpPr txBox="1"/>
          <p:nvPr/>
        </p:nvSpPr>
        <p:spPr>
          <a:xfrm>
            <a:off x="1835280" y="26028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Picture 72" descr="сочи"/>
          <p:cNvPicPr/>
          <p:nvPr/>
        </p:nvPicPr>
        <p:blipFill>
          <a:blip r:embed="rId2"/>
          <a:stretch/>
        </p:blipFill>
        <p:spPr>
          <a:xfrm>
            <a:off x="250920" y="1197000"/>
            <a:ext cx="8675640" cy="540072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3"/>
          <p:cNvSpPr txBox="1"/>
          <p:nvPr/>
        </p:nvSpPr>
        <p:spPr>
          <a:xfrm>
            <a:off x="1476360" y="189000"/>
            <a:ext cx="648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539640" y="476280"/>
            <a:ext cx="8136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нгвистическ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258920" y="5516640"/>
            <a:ext cx="6858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гвистика – наука о язык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258920" y="4437000"/>
            <a:ext cx="6858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а – вид состяза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WordArt 70"/>
          <p:cNvSpPr txBox="1"/>
          <p:nvPr/>
        </p:nvSpPr>
        <p:spPr>
          <a:xfrm>
            <a:off x="183528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т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72"/>
          <p:cNvSpPr txBox="1"/>
          <p:nvPr/>
        </p:nvSpPr>
        <p:spPr>
          <a:xfrm>
            <a:off x="539640" y="26028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ислительно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229600" cy="453096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2600"/>
                <a:gridCol w="822240"/>
                <a:gridCol w="825480"/>
                <a:gridCol w="822240"/>
                <a:gridCol w="822240"/>
                <a:gridCol w="824040"/>
                <a:gridCol w="822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83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Тема урока: </a:t>
            </a:r>
            <a:r>
              <a:rPr b="1" i="1" lang="ru-RU" sz="4000" spc="-1" strike="noStrike">
                <a:solidFill>
                  <a:srgbClr val="3333ff"/>
                </a:solidFill>
                <a:latin typeface="Georgia"/>
              </a:rPr>
              <a:t>Морфологический разбор имени числительного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5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евиз уро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Расчет во всяком деле нужен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И ты с числительным будь дружен!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Рисунок 16" descr="ЧП4.jpg"/>
          <p:cNvPicPr/>
          <p:nvPr/>
        </p:nvPicPr>
        <p:blipFill>
          <a:blip r:embed="rId1"/>
          <a:stretch/>
        </p:blipFill>
        <p:spPr>
          <a:xfrm>
            <a:off x="2411280" y="4797360"/>
            <a:ext cx="416880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16:14:34Z</dcterms:created>
  <dc:creator>User</dc:creator>
  <dc:description/>
  <dc:language>en-US</dc:language>
  <cp:lastModifiedBy>Гость</cp:lastModifiedBy>
  <dcterms:modified xsi:type="dcterms:W3CDTF">2018-02-13T10:12:41Z</dcterms:modified>
  <cp:revision>38</cp:revision>
  <dc:subject/>
  <dc:title>Слайд 1</dc:title>
</cp:coreProperties>
</file>