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jpeg" ContentType="image/jpeg"/>
  <Override PartName="/ppt/media/image29.gif" ContentType="image/gif"/>
  <Override PartName="/ppt/media/image23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2.gif" ContentType="image/gif"/>
  <Override PartName="/ppt/media/image11.png" ContentType="image/png"/>
  <Override PartName="/ppt/media/image19.jpeg" ContentType="image/jpeg"/>
  <Override PartName="/ppt/media/image42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7.gif" ContentType="image/gif"/>
  <Override PartName="/ppt/media/image26.jpeg" ContentType="image/jpeg"/>
  <Override PartName="/ppt/media/image33.gif" ContentType="image/gif"/>
  <Override PartName="/ppt/media/image34.jpeg" ContentType="image/jpeg"/>
  <Override PartName="/ppt/media/image44.gif" ContentType="image/gif"/>
  <Override PartName="/ppt/media/image36.jpeg" ContentType="image/jpeg"/>
  <Override PartName="/ppt/media/image37.jpeg" ContentType="image/jpeg"/>
  <Override PartName="/ppt/media/image31.jpeg" ContentType="image/jpeg"/>
  <Override PartName="/ppt/media/image38.gif" ContentType="image/gif"/>
  <Override PartName="/ppt/media/image3.png" ContentType="image/png"/>
  <Override PartName="/ppt/media/image40.gif" ContentType="image/gif"/>
  <Override PartName="/ppt/media/image43.jpeg" ContentType="image/jpeg"/>
  <Override PartName="/ppt/media/image10.jpeg" ContentType="image/jpeg"/>
  <Override PartName="/ppt/media/image45.gif" ContentType="image/gif"/>
  <Override PartName="/ppt/media/image8.jpeg" ContentType="image/jpeg"/>
  <Override PartName="/ppt/media/image39.gif" ContentType="image/gif"/>
  <Override PartName="/ppt/media/image9.gif" ContentType="image/gif"/>
  <Override PartName="/ppt/media/image16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D38-2E16-4B93-A9C0-13A523EFC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5E94-9AEB-49FA-9AA2-149F4F9A5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ED5-780F-4271-9472-FA57F09A2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F97-2C47-4C37-A4E7-10D26FFC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157-9C5B-40FA-9AE6-61EE585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A1A-79E1-4AD2-A5CB-5912E029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545-B698-4B36-8A6C-0847C1C5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2D3-B89D-46C5-ACC6-605B0632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308D-4294-4AC7-A2EB-8E90E62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DEAC-B90B-4A7E-96B6-F031943F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E7D-A91F-4656-B5D2-0AC12AFB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5756-8B62-416A-AED1-DA8E414D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72C-F102-4AD2-A848-86AD1A96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9CF1-D826-45A0-9FA6-183E0A7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601-79D5-4B86-B756-D537E38F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6CAB-9073-4381-AB04-BF4AE5A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FBEE-97B0-4B67-9B97-5150DB9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1A7-469D-43E3-9157-90C446D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1BA-9F45-4D35-8F00-BADE7F3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1BE5-499B-4017-AA74-78B828A2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1722-1145-41E5-AFB8-EDE1652F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4B1C-B52B-48F4-860D-14C9CD0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209C-633C-4693-8297-FEDE74B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7DDC-4F07-44E3-A3A3-204D010F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F3AD-B230-4629-94F9-C2160C7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30C-212C-4E95-9570-C6C57CC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7B6F-463A-4BD2-8842-52C0926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35DE-C16C-48BF-8B8A-9C64EBE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D7E2-37D6-4A46-A1DD-7631620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0503-290E-4C58-8649-EE4E7548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35B8-DA1D-472E-A8D3-240C2F37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DE0D-43D8-4F97-B2A7-F82E198A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B46E-807F-45B1-9C72-C5AF1FB2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75F6-83A5-42CF-A5AD-75CCE8F5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1458-9B97-4497-B34E-D9F0E86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6AB8-AD4E-471F-9C14-482E228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61F-C373-410E-99E9-D4A434D5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2AFE-0962-4AE2-A239-71C79A7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357E-798F-47E2-BE51-9C8ED7A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C731-5989-4FAD-9F91-CABF25D2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4E0B-6C66-439A-937C-7BF098BB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8AC4-FD76-4EDE-A2B9-CEA8FFE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F503-7A5B-4701-9654-ED54275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6490-B09E-4189-88C2-EB41318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E459-4151-45B7-A2FF-4CB1F52F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B7D3-4126-45E3-A36D-51DDFDB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3599-9AF1-41C3-813C-77A4052B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37A-B58D-4160-98AB-A0AC00B0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7CBE-DC7E-47AC-BD04-BF35237C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DE71-D54E-40C5-8961-98A8480F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B068-C37A-4688-84E6-92986B8A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1A8B-30A7-4FA3-BB0E-A4FC4709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2019-C6A5-4882-BA0B-A6B839C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2E64-D916-4405-A236-B99F016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5CF5-77DE-4FA5-AF12-1F4AE59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4525-CFA6-4F10-8E14-907440D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D7AE0-DEAB-426A-8B65-52A00AE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B429-553B-4D1B-B95E-D459CDCB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A80-0687-4B54-869D-4B2DA17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A8BE9-AB0F-4F35-81F6-D9BD65E4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F408-9726-44D9-8CCB-D8654A6C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14F2-8385-4698-968B-0DB2487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F3AAF-7825-4FA9-9D69-2343266D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80C49-9D27-4774-8F13-42B4B5C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479D-4D2A-4884-AF86-FF8421E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30036-42BE-44DF-8860-ED5521C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5CD1-A4EA-4C85-B57B-E5470F5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FC186-5B83-479A-90D7-1539FA9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33B5F-E31E-41A7-9C57-DA2B57E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DBF-AD43-40A1-AC5D-BFD3FF6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4978-D42C-4EE9-B6F3-19AF13F0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5121-4244-4B79-93E5-5CA07A37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BE21-3F8F-4A9A-B7CC-3F225BC4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B1593-8E74-434A-B353-2F676BFD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7B91-CF0C-4AC4-A4F1-C009720C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4184-88CA-4976-96EB-CFB7516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8F42-41A8-4DD4-847E-2E58E07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BCF2A-72A1-4604-9D5C-DD1C47F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9920-3541-4CFC-AD63-54DCFF9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B456-33BA-400B-8E0E-93B33FB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E1E-A0FE-4A14-BAA6-E44803C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C3DE-2708-42B2-AA28-3FCD9F5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32F0-DB08-452C-931A-B360A8A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D943-884B-461A-A8AA-E72677D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6E2F-6310-44C8-939C-C0F700A9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092D-01BE-4063-ADCC-52C76968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C62-AE43-4316-A715-544B935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963-0A2F-488D-AFE3-E2988558FB2E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026-2B98-4D9E-8530-962A427591EF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73D2-2B4E-46D7-9B69-5C371C273D94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7FD-AF38-47E7-942A-52922FBA145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2FB-9D0C-4276-A26C-8A5937DC3EF0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144-87B9-4F15-B28B-73510E6E87DC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9CE8-E687-4EBF-9007-DA57525AA0C7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3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gif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Анима (100).gif"/>
          <p:cNvPicPr/>
          <p:nvPr/>
        </p:nvPicPr>
        <p:blipFill>
          <a:blip r:embed="rId2"/>
          <a:stretch/>
        </p:blipFill>
        <p:spPr>
          <a:xfrm>
            <a:off x="2556000" y="0"/>
            <a:ext cx="4929120" cy="262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7407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2ea4"/>
                </a:solidFill>
                <a:latin typeface="Corbel"/>
              </a:rPr>
              <a:t>Поговорим о дружбе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7407360" cy="3357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0f6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Что такое дружба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Какая бывает дружб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Где можно встретить дружб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5" descr="сова.jpg"/>
          <p:cNvPicPr/>
          <p:nvPr/>
        </p:nvPicPr>
        <p:blipFill>
          <a:blip r:embed="rId3"/>
          <a:stretch/>
        </p:blipFill>
        <p:spPr>
          <a:xfrm>
            <a:off x="6227640" y="2997360"/>
            <a:ext cx="1746360" cy="15206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Анима (8).gif"/>
          <p:cNvPicPr/>
          <p:nvPr/>
        </p:nvPicPr>
        <p:blipFill>
          <a:blip r:embed="rId4"/>
          <a:stretch/>
        </p:blipFill>
        <p:spPr>
          <a:xfrm>
            <a:off x="7380360" y="4581360"/>
            <a:ext cx="150948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Открытки к 8 Марта (18).jpg"/>
          <p:cNvPicPr/>
          <p:nvPr/>
        </p:nvPicPr>
        <p:blipFill>
          <a:blip r:embed="rId2"/>
          <a:stretch/>
        </p:blipFill>
        <p:spPr>
          <a:xfrm>
            <a:off x="6357960" y="3643200"/>
            <a:ext cx="2535120" cy="3000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695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     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Ребята, </a:t>
            </a:r>
            <a:br>
              <a:rPr sz="4000"/>
            </a:br>
            <a:r>
              <a:rPr b="1" lang="en-US" sz="40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давайте жить дружно!</a:t>
            </a:r>
            <a:endParaRPr b="0" lang="en-US" sz="40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Кто любит лгать, того нельзя в друзья брать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Лучше честный враг,                                            чем коварный друг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Не бойся вра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умного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бойся дру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глупого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Рисунок 4" descr="Анима (99).gif"/>
          <p:cNvPicPr/>
          <p:nvPr/>
        </p:nvPicPr>
        <p:blipFill>
          <a:blip r:embed="rId3"/>
          <a:stretch/>
        </p:blipFill>
        <p:spPr>
          <a:xfrm>
            <a:off x="1143000" y="50004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5" descr="1191179443_2.jpg"/>
          <p:cNvPicPr/>
          <p:nvPr/>
        </p:nvPicPr>
        <p:blipFill>
          <a:blip r:embed="rId2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7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Теперь </a:t>
            </a:r>
            <a:r>
              <a:rPr b="1" lang="en-US" sz="3200" spc="-1" strike="noStrike">
                <a:solidFill>
                  <a:srgbClr val="c22ea4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ы знае</a:t>
            </a:r>
            <a:r>
              <a:rPr b="1" lang="en-US" sz="3200" spc="-1" strike="noStrike">
                <a:solidFill>
                  <a:srgbClr val="c22ea4"/>
                </a:solidFill>
                <a:latin typeface="Arial"/>
              </a:rPr>
              <a:t>те</a:t>
            </a: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 о дружбе всё!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00080" y="149976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Друзей находит тот,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кто сам встречает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их улыбк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Удачи в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е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м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в поисках настоящего друга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Рисунок 3" descr="66i.jpeg"/>
          <p:cNvPicPr/>
          <p:nvPr/>
        </p:nvPicPr>
        <p:blipFill>
          <a:blip r:embed="rId3"/>
          <a:stretch/>
        </p:blipFill>
        <p:spPr>
          <a:xfrm>
            <a:off x="3995640" y="98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Анима(104).gif"/>
          <p:cNvPicPr/>
          <p:nvPr/>
        </p:nvPicPr>
        <p:blipFill>
          <a:blip r:embed="rId4"/>
          <a:stretch/>
        </p:blipFill>
        <p:spPr>
          <a:xfrm flipH="1">
            <a:off x="7380360" y="1125360"/>
            <a:ext cx="1589040" cy="22971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1" descr="Анима (29).gif"/>
          <p:cNvPicPr/>
          <p:nvPr/>
        </p:nvPicPr>
        <p:blipFill>
          <a:blip r:embed="rId5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2" descr="Анима (19).gif"/>
          <p:cNvPicPr/>
          <p:nvPr/>
        </p:nvPicPr>
        <p:blipFill>
          <a:blip r:embed="rId6"/>
          <a:stretch/>
        </p:blipFill>
        <p:spPr>
          <a:xfrm>
            <a:off x="1042920" y="4762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7" name="chimes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3" descr="Перевал Дружба.jpg"/>
          <p:cNvPicPr/>
          <p:nvPr/>
        </p:nvPicPr>
        <p:blipFill>
          <a:blip r:embed="rId2"/>
          <a:stretch/>
        </p:blipFill>
        <p:spPr>
          <a:xfrm>
            <a:off x="1000080" y="1071720"/>
            <a:ext cx="8143920" cy="55004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2932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          </a:t>
            </a: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Д</a:t>
            </a: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ружб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а:</a:t>
            </a:r>
            <a:r>
              <a:rPr b="1" i="1" lang="en-US" sz="3900" spc="-1" strike="noStrike" u="sng">
                <a:solidFill>
                  <a:srgbClr val="c22ea4"/>
                </a:solidFill>
                <a:uFillTx/>
                <a:latin typeface="Corbel"/>
              </a:rPr>
              <a:t>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42884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– близкие отношени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основанные на взаимном доверии,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ривязанности, общности интерес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– главное чудо всегд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то открытий для всех настоящее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И любая беда – не беда,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Если рядом друзья настоящ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4" descr="Анима (99).gif"/>
          <p:cNvPicPr/>
          <p:nvPr/>
        </p:nvPicPr>
        <p:blipFill>
          <a:blip r:embed="rId3"/>
          <a:stretch/>
        </p:blipFill>
        <p:spPr>
          <a:xfrm>
            <a:off x="7858080" y="285840"/>
            <a:ext cx="828720" cy="69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       </a:t>
            </a:r>
            <a:r>
              <a:rPr b="1" lang="en-US" sz="4300" spc="-1" strike="noStrike">
                <a:solidFill>
                  <a:srgbClr val="c22ea4"/>
                </a:solidFill>
                <a:latin typeface="Arial"/>
              </a:rPr>
              <a:t>    </a:t>
            </a: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en-US" sz="4300" spc="-1" strike="noStrike" u="sng">
                <a:solidFill>
                  <a:srgbClr val="c22ea4"/>
                </a:solidFill>
                <a:uFillTx/>
                <a:latin typeface="Corbel"/>
              </a:rPr>
              <a:t>Правила дружбы: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Не ссор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Уступ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бояться просить прощения,              если обидел дру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Быть вежлив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зл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жаднич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Помогать дру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Быть чест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Быть вниматель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4" descr="Гарфилд.jpg"/>
          <p:cNvPicPr/>
          <p:nvPr/>
        </p:nvPicPr>
        <p:blipFill>
          <a:blip r:embed="rId2"/>
          <a:stretch/>
        </p:blipFill>
        <p:spPr>
          <a:xfrm>
            <a:off x="1214280" y="0"/>
            <a:ext cx="1141560" cy="1500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menu5_2.gif"/>
          <p:cNvPicPr/>
          <p:nvPr/>
        </p:nvPicPr>
        <p:blipFill>
          <a:blip r:embed="rId3"/>
          <a:srcRect l="0" t="17975" r="1360" b="0"/>
          <a:stretch/>
        </p:blipFill>
        <p:spPr>
          <a:xfrm>
            <a:off x="6659640" y="1268280"/>
            <a:ext cx="2071440" cy="1303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Анима (82).gif"/>
          <p:cNvPicPr/>
          <p:nvPr/>
        </p:nvPicPr>
        <p:blipFill>
          <a:blip r:embed="rId4"/>
          <a:stretch/>
        </p:blipFill>
        <p:spPr>
          <a:xfrm>
            <a:off x="5364000" y="1557360"/>
            <a:ext cx="642960" cy="603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C:\Users\рпм\Desktop\1191177881_8.jpg"/>
          <p:cNvPicPr/>
          <p:nvPr/>
        </p:nvPicPr>
        <p:blipFill>
          <a:blip r:embed="rId5"/>
          <a:stretch/>
        </p:blipFill>
        <p:spPr>
          <a:xfrm>
            <a:off x="7093080" y="4076640"/>
            <a:ext cx="1000080" cy="2282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6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8480" y="404640"/>
            <a:ext cx="487188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c22ea4"/>
                </a:solidFill>
                <a:uFillTx/>
                <a:latin typeface="Corbel"/>
              </a:rPr>
              <a:t>Дружба народов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00000"/>
              </a:buClr>
              <a:buSzPct val="180000"/>
              <a:buFont typeface="Wingdings 2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Если дружбой дорожи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Можно спорить и дружи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И не вспыхнет ссо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Из любого сп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Рисунок 5" descr="word.jpg"/>
          <p:cNvPicPr/>
          <p:nvPr/>
        </p:nvPicPr>
        <p:blipFill>
          <a:blip r:embed="rId2"/>
          <a:stretch/>
        </p:blipFill>
        <p:spPr>
          <a:xfrm>
            <a:off x="6929280" y="357120"/>
            <a:ext cx="2022480" cy="17859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8" descr="195_add1.jpg"/>
          <p:cNvPicPr/>
          <p:nvPr/>
        </p:nvPicPr>
        <p:blipFill>
          <a:blip r:embed="rId3"/>
          <a:stretch/>
        </p:blipFill>
        <p:spPr>
          <a:xfrm>
            <a:off x="6215040" y="2571840"/>
            <a:ext cx="2643120" cy="18270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amshen1.jpg"/>
          <p:cNvPicPr/>
          <p:nvPr/>
        </p:nvPicPr>
        <p:blipFill>
          <a:blip r:embed="rId4"/>
          <a:stretch/>
        </p:blipFill>
        <p:spPr>
          <a:xfrm>
            <a:off x="6286680" y="4643280"/>
            <a:ext cx="2643120" cy="1981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0" descr="002746_594178.jpg"/>
          <p:cNvPicPr/>
          <p:nvPr/>
        </p:nvPicPr>
        <p:blipFill>
          <a:blip r:embed="rId5"/>
          <a:stretch/>
        </p:blipFill>
        <p:spPr>
          <a:xfrm>
            <a:off x="1071720" y="3714840"/>
            <a:ext cx="2428560" cy="1822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1" descr="002749_162322.jpg"/>
          <p:cNvPicPr/>
          <p:nvPr/>
        </p:nvPicPr>
        <p:blipFill>
          <a:blip r:embed="rId6"/>
          <a:stretch/>
        </p:blipFill>
        <p:spPr>
          <a:xfrm>
            <a:off x="3643200" y="500076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07chr.jpg"/>
          <p:cNvPicPr/>
          <p:nvPr/>
        </p:nvPicPr>
        <p:blipFill>
          <a:blip r:embed="rId7"/>
          <a:stretch/>
        </p:blipFill>
        <p:spPr>
          <a:xfrm>
            <a:off x="1428840" y="5643720"/>
            <a:ext cx="1517400" cy="10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8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2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2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2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2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048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22ea4"/>
                </a:solidFill>
                <a:latin typeface="Corbel"/>
              </a:rPr>
              <a:t>Орден дружбы народов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5892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з Президиума Верховного Совета ССС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17 декабря 1973 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знаменование 50-летия образования Союза Советских Социалистических Республик учредить орден Дружбы народов для награждения за большие заслуги в укреплении дружбы и братского сотрудничества социалистических наций и народностей, за значительный вклад в экономическое, социально-политическое и культурное развитие Союза ССР и союзных республик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Орден Дружбы народов.jpg"/>
          <p:cNvPicPr/>
          <p:nvPr/>
        </p:nvPicPr>
        <p:blipFill>
          <a:blip r:embed="rId2"/>
          <a:stretch/>
        </p:blipFill>
        <p:spPr>
          <a:xfrm>
            <a:off x="7236000" y="260280"/>
            <a:ext cx="1214280" cy="145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6" descr="Изображение 106.jpg"/>
          <p:cNvPicPr/>
          <p:nvPr/>
        </p:nvPicPr>
        <p:blipFill>
          <a:blip r:embed="rId2"/>
          <a:stretch/>
        </p:blipFill>
        <p:spPr>
          <a:xfrm>
            <a:off x="6300720" y="4941720"/>
            <a:ext cx="2643120" cy="176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404640"/>
            <a:ext cx="65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Дружба в жизни человека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646280" y="1341360"/>
            <a:ext cx="5518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фонтан дружбы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а ВДН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интересны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мероприят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Рисунок 3" descr="ВДНХ фонтан Дружба народов.jpg"/>
          <p:cNvPicPr/>
          <p:nvPr/>
        </p:nvPicPr>
        <p:blipFill>
          <a:blip r:embed="rId3"/>
          <a:stretch/>
        </p:blipFill>
        <p:spPr>
          <a:xfrm>
            <a:off x="5148360" y="1143000"/>
            <a:ext cx="328140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logo.gif"/>
          <p:cNvPicPr/>
          <p:nvPr/>
        </p:nvPicPr>
        <p:blipFill>
          <a:blip r:embed="rId4"/>
          <a:stretch/>
        </p:blipFill>
        <p:spPr>
          <a:xfrm>
            <a:off x="7308720" y="3860640"/>
            <a:ext cx="1193760" cy="900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8" descr="В зоопарке (12).jpg"/>
          <p:cNvPicPr/>
          <p:nvPr/>
        </p:nvPicPr>
        <p:blipFill>
          <a:blip r:embed="rId5"/>
          <a:stretch/>
        </p:blipFill>
        <p:spPr>
          <a:xfrm>
            <a:off x="1116000" y="2852640"/>
            <a:ext cx="2786040" cy="18226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Беседа по ПДД (2).jpg"/>
          <p:cNvPicPr/>
          <p:nvPr/>
        </p:nvPicPr>
        <p:blipFill>
          <a:blip r:embed="rId6"/>
          <a:stretch/>
        </p:blipFill>
        <p:spPr>
          <a:xfrm>
            <a:off x="4067280" y="3860640"/>
            <a:ext cx="2714400" cy="17146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Изображение 053.jpg"/>
          <p:cNvPicPr/>
          <p:nvPr/>
        </p:nvPicPr>
        <p:blipFill>
          <a:blip r:embed="rId7"/>
          <a:stretch/>
        </p:blipFill>
        <p:spPr>
          <a:xfrm>
            <a:off x="1214280" y="4857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0" descr="Тедди (222).jpg"/>
          <p:cNvPicPr/>
          <p:nvPr/>
        </p:nvPicPr>
        <p:blipFill>
          <a:blip r:embed="rId8"/>
          <a:stretch/>
        </p:blipFill>
        <p:spPr>
          <a:xfrm>
            <a:off x="4429080" y="5705640"/>
            <a:ext cx="14288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9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7" descr="Рисунок (18).jpg"/>
          <p:cNvPicPr/>
          <p:nvPr/>
        </p:nvPicPr>
        <p:blipFill>
          <a:blip r:embed="rId2"/>
          <a:stretch/>
        </p:blipFill>
        <p:spPr>
          <a:xfrm>
            <a:off x="3780000" y="4508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Животные </a:t>
            </a:r>
            <a:r>
              <a:rPr b="1" i="1" lang="en-US" sz="3600" spc="-1" strike="noStrike">
                <a:solidFill>
                  <a:srgbClr val="c22ea4"/>
                </a:solidFill>
                <a:latin typeface="Arial"/>
              </a:rPr>
              <a:t>- </a:t>
            </a: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наши друзья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16000" y="1341360"/>
            <a:ext cx="6192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89720" indent="-146880">
              <a:spcBef>
                <a:spcPts val="601"/>
              </a:spcBef>
              <a:buClr>
                <a:srgbClr val="b83d68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Дружба — это созвучие душ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9720" indent="-14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в соединённости судеб.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89720" indent="-146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Рисунок 3" descr="Анима (39).gif"/>
          <p:cNvPicPr/>
          <p:nvPr/>
        </p:nvPicPr>
        <p:blipFill>
          <a:blip r:embed="rId3"/>
          <a:stretch/>
        </p:blipFill>
        <p:spPr>
          <a:xfrm>
            <a:off x="7500960" y="214200"/>
            <a:ext cx="1428840" cy="1568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1183004805_004_friends_53.jpg"/>
          <p:cNvPicPr/>
          <p:nvPr/>
        </p:nvPicPr>
        <p:blipFill>
          <a:blip r:embed="rId4"/>
          <a:stretch/>
        </p:blipFill>
        <p:spPr>
          <a:xfrm>
            <a:off x="4788000" y="2781360"/>
            <a:ext cx="1928880" cy="14223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073.jpg"/>
          <p:cNvPicPr/>
          <p:nvPr/>
        </p:nvPicPr>
        <p:blipFill>
          <a:blip r:embed="rId5"/>
          <a:stretch/>
        </p:blipFill>
        <p:spPr>
          <a:xfrm>
            <a:off x="6143760" y="4572000"/>
            <a:ext cx="2636640" cy="20448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6" descr="042.jpg"/>
          <p:cNvPicPr/>
          <p:nvPr/>
        </p:nvPicPr>
        <p:blipFill>
          <a:blip r:embed="rId6"/>
          <a:stretch/>
        </p:blipFill>
        <p:spPr>
          <a:xfrm>
            <a:off x="1071720" y="4643280"/>
            <a:ext cx="2543040" cy="19828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8" descr="Анима (64).gif"/>
          <p:cNvPicPr/>
          <p:nvPr/>
        </p:nvPicPr>
        <p:blipFill>
          <a:blip r:embed="rId7"/>
          <a:stretch/>
        </p:blipFill>
        <p:spPr>
          <a:xfrm>
            <a:off x="6786720" y="2071800"/>
            <a:ext cx="2143080" cy="2065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9" descr="1183004805_008_friends_40.jpg"/>
          <p:cNvPicPr/>
          <p:nvPr/>
        </p:nvPicPr>
        <p:blipFill>
          <a:blip r:embed="rId8"/>
          <a:stretch/>
        </p:blipFill>
        <p:spPr>
          <a:xfrm>
            <a:off x="1143000" y="2714760"/>
            <a:ext cx="2000160" cy="14364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0" descr="Фото 020.JPG"/>
          <p:cNvPicPr/>
          <p:nvPr/>
        </p:nvPicPr>
        <p:blipFill>
          <a:blip r:embed="rId9"/>
          <a:stretch/>
        </p:blipFill>
        <p:spPr>
          <a:xfrm>
            <a:off x="3357720" y="2500200"/>
            <a:ext cx="11127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0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    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Пословицы о дружбе: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85560" y="1428480"/>
            <a:ext cx="74977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Человек без друзей, что дерево без корне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Нет друга - ищи, а нашел - берег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жба крепка не лестью, а правдой и честью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жба как стекло: разобьешь - не сложиш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Скажи мне кто твой друг, и я скажу, кто т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Не тот друг, кто на пиру гуляет, а тот, кто в беде помог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г спорит, а враг поддакив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Рисунок 3" descr="Тедди.jpg"/>
          <p:cNvPicPr/>
          <p:nvPr/>
        </p:nvPicPr>
        <p:blipFill>
          <a:blip r:embed="rId2"/>
          <a:stretch/>
        </p:blipFill>
        <p:spPr>
          <a:xfrm>
            <a:off x="1285920" y="0"/>
            <a:ext cx="1357200" cy="1393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Тэдди (118).jpg"/>
          <p:cNvPicPr/>
          <p:nvPr/>
        </p:nvPicPr>
        <p:blipFill>
          <a:blip r:embed="rId3"/>
          <a:stretch/>
        </p:blipFill>
        <p:spPr>
          <a:xfrm>
            <a:off x="3995640" y="5084640"/>
            <a:ext cx="1452600" cy="134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6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lang="en-US" sz="2400" spc="-1" strike="noStrike">
                <a:solidFill>
                  <a:srgbClr val="c22ea4"/>
                </a:solidFill>
                <a:latin typeface="Corbel"/>
              </a:rPr>
              <a:t>И в песнях о дружбе поется…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1428480"/>
            <a:ext cx="74991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Я иду и пою обо вс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ё</a:t>
            </a: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Жил на свете добрый жук, старый добрый друг.                                       Никогда он не ворчал, не кричал, не пищал,                                            Громко крыльями трещал, строго ссоры запреща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Если с другом вышел в путь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веселей дорог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Друг в беде не бросит, лишнего не спросит.                                                     Вот, что значит настоящий друг.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Рисунок 3" descr="Анима (19).gif"/>
          <p:cNvPicPr/>
          <p:nvPr/>
        </p:nvPicPr>
        <p:blipFill>
          <a:blip r:embed="rId2"/>
          <a:stretch/>
        </p:blipFill>
        <p:spPr>
          <a:xfrm>
            <a:off x="7429680" y="5143680"/>
            <a:ext cx="1250640" cy="12236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Анима (28).gif"/>
          <p:cNvPicPr/>
          <p:nvPr/>
        </p:nvPicPr>
        <p:blipFill>
          <a:blip r:embed="rId3"/>
          <a:stretch/>
        </p:blipFill>
        <p:spPr>
          <a:xfrm>
            <a:off x="1071720" y="214200"/>
            <a:ext cx="1071360" cy="12304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Анима (68).gif"/>
          <p:cNvPicPr/>
          <p:nvPr/>
        </p:nvPicPr>
        <p:blipFill>
          <a:blip r:embed="rId4"/>
          <a:stretch/>
        </p:blipFill>
        <p:spPr>
          <a:xfrm>
            <a:off x="7093080" y="1268280"/>
            <a:ext cx="118584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9:38:42Z</dcterms:created>
  <dc:creator>Л.Ф.</dc:creator>
  <dc:description/>
  <dc:language>en-US</dc:language>
  <cp:lastModifiedBy>User</cp:lastModifiedBy>
  <dcterms:modified xsi:type="dcterms:W3CDTF">2008-12-16T10:27:05Z</dcterms:modified>
  <cp:revision>45</cp:revision>
  <dc:subject/>
  <dc:title>Поговорим о дружбе</dc:title>
</cp:coreProperties>
</file>