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jpeg" ContentType="image/jpeg"/>
  <Override PartName="/ppt/media/image29.gif" ContentType="image/gif"/>
  <Override PartName="/ppt/media/image23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2.gif" ContentType="image/gif"/>
  <Override PartName="/ppt/media/image11.png" ContentType="image/png"/>
  <Override PartName="/ppt/media/image19.jpeg" ContentType="image/jpeg"/>
  <Override PartName="/ppt/media/image42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7.gif" ContentType="image/gif"/>
  <Override PartName="/ppt/media/image26.jpeg" ContentType="image/jpeg"/>
  <Override PartName="/ppt/media/image33.gif" ContentType="image/gif"/>
  <Override PartName="/ppt/media/image34.jpeg" ContentType="image/jpeg"/>
  <Override PartName="/ppt/media/image44.gif" ContentType="image/gif"/>
  <Override PartName="/ppt/media/image36.jpeg" ContentType="image/jpeg"/>
  <Override PartName="/ppt/media/image37.jpeg" ContentType="image/jpeg"/>
  <Override PartName="/ppt/media/image31.jpeg" ContentType="image/jpeg"/>
  <Override PartName="/ppt/media/image38.gif" ContentType="image/gif"/>
  <Override PartName="/ppt/media/image3.png" ContentType="image/png"/>
  <Override PartName="/ppt/media/image40.gif" ContentType="image/gif"/>
  <Override PartName="/ppt/media/image43.jpeg" ContentType="image/jpeg"/>
  <Override PartName="/ppt/media/image10.jpeg" ContentType="image/jpeg"/>
  <Override PartName="/ppt/media/image45.gif" ContentType="image/gif"/>
  <Override PartName="/ppt/media/image8.jpeg" ContentType="image/jpeg"/>
  <Override PartName="/ppt/media/image39.gif" ContentType="image/gif"/>
  <Override PartName="/ppt/media/image9.gif" ContentType="image/gif"/>
  <Override PartName="/ppt/media/image16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37D-33E1-499B-BEFE-B994B6D3D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B9E-6C54-40D5-A677-6D27B97798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7D1B-D8BA-4B11-B407-57F1AB648F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493-CE11-4600-9378-A1AC3DA4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24D-60B3-4969-A8FF-B4B63DF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DF8-5528-4126-A0B5-54C6AA93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ABE-D14D-4622-98F0-40E6F93F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DF4-F091-4EF1-8873-8749D779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2234-7FA6-4014-8A5C-89F5CAF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7E0-D3A7-4946-8A86-C6F036F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BCDF-C96E-43C8-A906-AAE8DC25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8320-7575-407A-8DC1-CF6F17E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8823-D5C2-4EF4-A568-65E0EEB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1A54-335F-4E40-A01E-B6F17CA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D13-B248-487F-8CF9-DBFDB95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D38-6958-4179-B443-1FB9B1D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6A4-1F10-4FE1-B564-80736927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8B16-738F-40B8-9FD4-2307B0F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DD61-9EAA-42AD-91F5-AE6A384B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C03-A4CF-4408-86B1-B864EF09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037F-0F99-4B8E-BE32-6E583F50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178F-1435-4B6C-9DDD-20D3B28C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F923-60B4-4286-B685-EB4BD1B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8C8B-A1AF-4566-9814-9E17BF6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67FD-568C-4E26-A5B4-9AA7A260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1DA-CE4B-4EE0-AB59-5460797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8886-35A8-4C16-A036-EBE425B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7E50-354C-48D9-B9D1-E01C02F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D7AE-16F2-49DE-AECB-BB96003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6836-8A81-47FD-8954-F5DDD98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A62A-73EA-475D-A4F1-14CDABB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4167-765D-41D8-87B4-CF70AF1E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6E37-DE74-49FB-9403-AE29BDA9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A3215-31AC-483A-BF0E-559E6D85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42C2-0531-4FE3-940A-9B41F563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ADDF-70D0-4E00-B7FE-9D21FD4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CE8-EB60-45EE-A57D-ED98536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DAA5-FCB2-4523-B33F-517A1548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90EE-9734-482D-A001-E244F878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CD5B-DA5E-4042-8682-D1D44E1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B788-61CA-44D7-B666-2CCA255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E699-848F-4D6E-A293-8C5E2CE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F6A6-3ADF-4A6F-844E-C8C0C29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585C-8379-4D08-ABA7-7EF788E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1647-AB98-4D73-87B1-0923BCED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35BD-A5C9-4A0D-80F6-800BD629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1689-B304-4C61-BE55-9384CB53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D13-07B4-48D1-A2D6-A1EED78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914E-0728-49CD-A416-59D08E3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36C1-8FFE-492A-AFEF-AF11D33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184C-B72F-4E97-96A5-936E45E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5BF9-8298-49D9-AF24-98654C5F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34AC-9A75-4450-BDBC-E65C513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3CA1-51E7-4E7E-912B-269DC49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78C9-6397-49B9-A7F8-302E56F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7E02-983B-4C47-8513-03B8388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9B81-E353-4222-B34E-F4EDAEE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11AE-6C1F-4494-8BE4-40DB4777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55A-F9DF-4D10-858D-A3F57EFC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BBF7-BB23-4D3E-9BA8-D1751119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255A-DA29-4DF1-9A01-2E50D58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D719C-9F42-4857-BF91-A4995B5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049E-FA08-41A8-81B3-A5D247D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050F-8D75-4718-A70C-29C080E9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C171-4789-4D68-89B1-70417DDB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B471-C3A2-4FAE-9264-607FF17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7243-1C9F-4BAF-98EF-4F39EF4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1C13-2C84-418C-9A5E-C2AF16F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B2150-21F5-419E-AAA5-B52362D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202-698F-4422-8A18-6E17EC84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9389-F26A-4EF3-966C-DF90C4C9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5ADED-2497-4437-BF24-3F41C2BB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779D-C1B0-4880-A137-21A86FD4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1256-0D3E-438D-9032-E6C55D43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818E-D107-4D5A-8FD2-F99EBAB2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4548E-D46A-4E86-AAA9-1DE27910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C0E3-10E9-4ABF-94E3-19333B94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0972-C95B-4C56-B094-4F46B7FE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D1A91-FE4A-4182-A122-7A77FD0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4D2B-56A2-4A3D-AA6A-026B07A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D27-88B2-4178-8808-9BB28A6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F05A-0F47-4D50-B737-9F213C6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ED67-B09F-411A-BF26-AD8FA68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6FB1-9524-4201-907D-0046F7B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EAB6-A0C2-4F26-8B1E-D47741B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68F0-DB3E-4ABA-9907-93B81B9C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8BB-344A-4079-ADC0-09F95C6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188-626F-4D44-9ACE-B43D64B7F9E4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9238-59B1-473D-B834-B09B35398C05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1DA-6925-47DA-BA5A-213356241BC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8E89-A7DA-41C8-B96E-E5C080F93A3D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326B-94F6-4F4F-AF6F-B077AB56BE5B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B4F8-DA2C-401F-BFE4-85D930590670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976-7367-42A1-9455-B963831538C8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3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gif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Анима (100).gif"/>
          <p:cNvPicPr/>
          <p:nvPr/>
        </p:nvPicPr>
        <p:blipFill>
          <a:blip r:embed="rId2"/>
          <a:stretch/>
        </p:blipFill>
        <p:spPr>
          <a:xfrm>
            <a:off x="2556000" y="0"/>
            <a:ext cx="4929120" cy="262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7407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2ea4"/>
                </a:solidFill>
                <a:latin typeface="Corbel"/>
              </a:rPr>
              <a:t>Поговорим о дружбе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7407360" cy="3357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0f6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Что такое дружба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Какая бывает дружб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30000"/>
              </a:lnSpc>
              <a:spcBef>
                <a:spcPts val="601"/>
              </a:spcBef>
              <a:buClr>
                <a:srgbClr val="852f74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70f62"/>
                </a:solidFill>
                <a:latin typeface="Times New Roman"/>
              </a:rPr>
              <a:t>Где можно встретить дружб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5" descr="сова.jpg"/>
          <p:cNvPicPr/>
          <p:nvPr/>
        </p:nvPicPr>
        <p:blipFill>
          <a:blip r:embed="rId3"/>
          <a:stretch/>
        </p:blipFill>
        <p:spPr>
          <a:xfrm>
            <a:off x="6227640" y="2997360"/>
            <a:ext cx="1746360" cy="15206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Анима (8).gif"/>
          <p:cNvPicPr/>
          <p:nvPr/>
        </p:nvPicPr>
        <p:blipFill>
          <a:blip r:embed="rId4"/>
          <a:stretch/>
        </p:blipFill>
        <p:spPr>
          <a:xfrm>
            <a:off x="7380360" y="4581360"/>
            <a:ext cx="150948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Открытки к 8 Марта (18).jpg"/>
          <p:cNvPicPr/>
          <p:nvPr/>
        </p:nvPicPr>
        <p:blipFill>
          <a:blip r:embed="rId2"/>
          <a:stretch/>
        </p:blipFill>
        <p:spPr>
          <a:xfrm>
            <a:off x="6357960" y="3643200"/>
            <a:ext cx="2535120" cy="3000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695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     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Ребята, </a:t>
            </a:r>
            <a:br>
              <a:rPr sz="4000"/>
            </a:br>
            <a:r>
              <a:rPr b="1" lang="en-US" sz="40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давайте жить дружно!</a:t>
            </a:r>
            <a:endParaRPr b="0" lang="en-US" sz="40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Кто любит лгать, того нельзя в друзья брать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Лучше честный враг,                                            чем коварный друг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Не бойся вра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умного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бойся дру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глупого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Рисунок 4" descr="Анима (99).gif"/>
          <p:cNvPicPr/>
          <p:nvPr/>
        </p:nvPicPr>
        <p:blipFill>
          <a:blip r:embed="rId3"/>
          <a:stretch/>
        </p:blipFill>
        <p:spPr>
          <a:xfrm>
            <a:off x="1143000" y="50004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5" descr="1191179443_2.jpg"/>
          <p:cNvPicPr/>
          <p:nvPr/>
        </p:nvPicPr>
        <p:blipFill>
          <a:blip r:embed="rId2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7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Теперь </a:t>
            </a:r>
            <a:r>
              <a:rPr b="1" lang="en-US" sz="3200" spc="-1" strike="noStrike">
                <a:solidFill>
                  <a:srgbClr val="c22ea4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ы знае</a:t>
            </a:r>
            <a:r>
              <a:rPr b="1" lang="en-US" sz="3200" spc="-1" strike="noStrike">
                <a:solidFill>
                  <a:srgbClr val="c22ea4"/>
                </a:solidFill>
                <a:latin typeface="Arial"/>
              </a:rPr>
              <a:t>те</a:t>
            </a:r>
            <a:r>
              <a:rPr b="1" lang="en-US" sz="3200" spc="-1" strike="noStrike">
                <a:solidFill>
                  <a:srgbClr val="c22ea4"/>
                </a:solidFill>
                <a:latin typeface="Corbel"/>
              </a:rPr>
              <a:t> о дружбе всё!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00080" y="149976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Друзей находит тот,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кто сам встречает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их улыбк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Удачи в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е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м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в поисках настоящего друга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Рисунок 3" descr="66i.jpeg"/>
          <p:cNvPicPr/>
          <p:nvPr/>
        </p:nvPicPr>
        <p:blipFill>
          <a:blip r:embed="rId3"/>
          <a:stretch/>
        </p:blipFill>
        <p:spPr>
          <a:xfrm>
            <a:off x="3995640" y="98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Анима(104).gif"/>
          <p:cNvPicPr/>
          <p:nvPr/>
        </p:nvPicPr>
        <p:blipFill>
          <a:blip r:embed="rId4"/>
          <a:stretch/>
        </p:blipFill>
        <p:spPr>
          <a:xfrm flipH="1">
            <a:off x="7380360" y="1125360"/>
            <a:ext cx="1589040" cy="22971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1" descr="Анима (29).gif"/>
          <p:cNvPicPr/>
          <p:nvPr/>
        </p:nvPicPr>
        <p:blipFill>
          <a:blip r:embed="rId5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2" descr="Анима (19).gif"/>
          <p:cNvPicPr/>
          <p:nvPr/>
        </p:nvPicPr>
        <p:blipFill>
          <a:blip r:embed="rId6"/>
          <a:stretch/>
        </p:blipFill>
        <p:spPr>
          <a:xfrm>
            <a:off x="1042920" y="4762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7" name="chimes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3" descr="Перевал Дружба.jpg"/>
          <p:cNvPicPr/>
          <p:nvPr/>
        </p:nvPicPr>
        <p:blipFill>
          <a:blip r:embed="rId2"/>
          <a:stretch/>
        </p:blipFill>
        <p:spPr>
          <a:xfrm>
            <a:off x="1000080" y="1071720"/>
            <a:ext cx="8143920" cy="55004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2932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          </a:t>
            </a: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Д</a:t>
            </a: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ружб</a:t>
            </a:r>
            <a:r>
              <a:rPr b="1" i="1" lang="en-US" sz="3900" spc="-1" strike="noStrike">
                <a:solidFill>
                  <a:srgbClr val="c22ea4"/>
                </a:solidFill>
                <a:latin typeface="Arial"/>
              </a:rPr>
              <a:t>а:</a:t>
            </a:r>
            <a:r>
              <a:rPr b="1" i="1" lang="en-US" sz="3900" spc="-1" strike="noStrike" u="sng">
                <a:solidFill>
                  <a:srgbClr val="c22ea4"/>
                </a:solidFill>
                <a:uFillTx/>
                <a:latin typeface="Corbel"/>
              </a:rPr>
              <a:t>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42884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– близкие отношени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основанные на взаимном доверии,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ривязанности, общности интерес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– главное чудо всегд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то открытий для всех настоящее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И любая беда – не беда,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Если рядом друзья настоящ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4" descr="Анима (99).gif"/>
          <p:cNvPicPr/>
          <p:nvPr/>
        </p:nvPicPr>
        <p:blipFill>
          <a:blip r:embed="rId3"/>
          <a:stretch/>
        </p:blipFill>
        <p:spPr>
          <a:xfrm>
            <a:off x="7858080" y="285840"/>
            <a:ext cx="828720" cy="69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       </a:t>
            </a:r>
            <a:r>
              <a:rPr b="1" lang="en-US" sz="4300" spc="-1" strike="noStrike">
                <a:solidFill>
                  <a:srgbClr val="c22ea4"/>
                </a:solidFill>
                <a:latin typeface="Arial"/>
              </a:rPr>
              <a:t>    </a:t>
            </a: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en-US" sz="4300" spc="-1" strike="noStrike" u="sng">
                <a:solidFill>
                  <a:srgbClr val="c22ea4"/>
                </a:solidFill>
                <a:uFillTx/>
                <a:latin typeface="Corbel"/>
              </a:rPr>
              <a:t>Правила дружбы: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Не ссор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Уступ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бояться просить прощения,              если обидел дру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Быть вежлив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зл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е жаднич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Помогать дру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Быть чест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Быть вниматель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4" descr="Гарфилд.jpg"/>
          <p:cNvPicPr/>
          <p:nvPr/>
        </p:nvPicPr>
        <p:blipFill>
          <a:blip r:embed="rId2"/>
          <a:stretch/>
        </p:blipFill>
        <p:spPr>
          <a:xfrm>
            <a:off x="1214280" y="0"/>
            <a:ext cx="1141560" cy="1500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menu5_2.gif"/>
          <p:cNvPicPr/>
          <p:nvPr/>
        </p:nvPicPr>
        <p:blipFill>
          <a:blip r:embed="rId3"/>
          <a:srcRect l="0" t="17975" r="1360" b="0"/>
          <a:stretch/>
        </p:blipFill>
        <p:spPr>
          <a:xfrm>
            <a:off x="6659640" y="1268280"/>
            <a:ext cx="2071440" cy="1303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Анима (82).gif"/>
          <p:cNvPicPr/>
          <p:nvPr/>
        </p:nvPicPr>
        <p:blipFill>
          <a:blip r:embed="rId4"/>
          <a:stretch/>
        </p:blipFill>
        <p:spPr>
          <a:xfrm>
            <a:off x="5364000" y="1557360"/>
            <a:ext cx="642960" cy="603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C:\Users\рпм\Desktop\1191177881_8.jpg"/>
          <p:cNvPicPr/>
          <p:nvPr/>
        </p:nvPicPr>
        <p:blipFill>
          <a:blip r:embed="rId5"/>
          <a:stretch/>
        </p:blipFill>
        <p:spPr>
          <a:xfrm>
            <a:off x="7093080" y="4076640"/>
            <a:ext cx="1000080" cy="2282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6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8480" y="404640"/>
            <a:ext cx="487188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c22ea4"/>
                </a:solidFill>
                <a:uFillTx/>
                <a:latin typeface="Corbel"/>
              </a:rPr>
              <a:t>Дружба народов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00000"/>
              </a:buClr>
              <a:buSzPct val="180000"/>
              <a:buFont typeface="Wingdings 2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Если дружбой дорожи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Можно спорить и дружи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И не вспыхнет ссо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i="1" lang="en-US" sz="2800" spc="-1" strike="noStrike">
                <a:solidFill>
                  <a:srgbClr val="0070c0"/>
                </a:solidFill>
                <a:latin typeface="Corbel"/>
              </a:rPr>
              <a:t>Из любого сп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Рисунок 5" descr="word.jpg"/>
          <p:cNvPicPr/>
          <p:nvPr/>
        </p:nvPicPr>
        <p:blipFill>
          <a:blip r:embed="rId2"/>
          <a:stretch/>
        </p:blipFill>
        <p:spPr>
          <a:xfrm>
            <a:off x="6929280" y="357120"/>
            <a:ext cx="2022480" cy="17859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8" descr="195_add1.jpg"/>
          <p:cNvPicPr/>
          <p:nvPr/>
        </p:nvPicPr>
        <p:blipFill>
          <a:blip r:embed="rId3"/>
          <a:stretch/>
        </p:blipFill>
        <p:spPr>
          <a:xfrm>
            <a:off x="6215040" y="2571840"/>
            <a:ext cx="2643120" cy="18270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amshen1.jpg"/>
          <p:cNvPicPr/>
          <p:nvPr/>
        </p:nvPicPr>
        <p:blipFill>
          <a:blip r:embed="rId4"/>
          <a:stretch/>
        </p:blipFill>
        <p:spPr>
          <a:xfrm>
            <a:off x="6286680" y="4643280"/>
            <a:ext cx="2643120" cy="1981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0" descr="002746_594178.jpg"/>
          <p:cNvPicPr/>
          <p:nvPr/>
        </p:nvPicPr>
        <p:blipFill>
          <a:blip r:embed="rId5"/>
          <a:stretch/>
        </p:blipFill>
        <p:spPr>
          <a:xfrm>
            <a:off x="1071720" y="3714840"/>
            <a:ext cx="2428560" cy="1822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1" descr="002749_162322.jpg"/>
          <p:cNvPicPr/>
          <p:nvPr/>
        </p:nvPicPr>
        <p:blipFill>
          <a:blip r:embed="rId6"/>
          <a:stretch/>
        </p:blipFill>
        <p:spPr>
          <a:xfrm>
            <a:off x="3643200" y="500076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07chr.jpg"/>
          <p:cNvPicPr/>
          <p:nvPr/>
        </p:nvPicPr>
        <p:blipFill>
          <a:blip r:embed="rId7"/>
          <a:stretch/>
        </p:blipFill>
        <p:spPr>
          <a:xfrm>
            <a:off x="1428840" y="5643720"/>
            <a:ext cx="1517400" cy="10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8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2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2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2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2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048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22ea4"/>
                </a:solidFill>
                <a:latin typeface="Corbel"/>
              </a:rPr>
              <a:t>Орден дружбы народов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5892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з Президиума Верховного Совета ССС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17 декабря 1973 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знаменование 50-летия образования Союза Советских Социалистических Республик учредить орден Дружбы народов для награждения за большие заслуги в укреплении дружбы и братского сотрудничества социалистических наций и народностей, за значительный вклад в экономическое, социально-политическое и культурное развитие Союза ССР и союзных республик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Орден Дружбы народов.jpg"/>
          <p:cNvPicPr/>
          <p:nvPr/>
        </p:nvPicPr>
        <p:blipFill>
          <a:blip r:embed="rId2"/>
          <a:stretch/>
        </p:blipFill>
        <p:spPr>
          <a:xfrm>
            <a:off x="7236000" y="260280"/>
            <a:ext cx="1214280" cy="145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6" descr="Изображение 106.jpg"/>
          <p:cNvPicPr/>
          <p:nvPr/>
        </p:nvPicPr>
        <p:blipFill>
          <a:blip r:embed="rId2"/>
          <a:stretch/>
        </p:blipFill>
        <p:spPr>
          <a:xfrm>
            <a:off x="6300720" y="4941720"/>
            <a:ext cx="2643120" cy="176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404640"/>
            <a:ext cx="65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c22ea4"/>
                </a:solidFill>
                <a:latin typeface="Corbel"/>
              </a:rPr>
              <a:t>Дружба в жизни человека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646280" y="1341360"/>
            <a:ext cx="5518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фонтан дружбы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на ВДН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интересны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Corbel"/>
              </a:rPr>
              <a:t>мероприят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Рисунок 3" descr="ВДНХ фонтан Дружба народов.jpg"/>
          <p:cNvPicPr/>
          <p:nvPr/>
        </p:nvPicPr>
        <p:blipFill>
          <a:blip r:embed="rId3"/>
          <a:stretch/>
        </p:blipFill>
        <p:spPr>
          <a:xfrm>
            <a:off x="5148360" y="1143000"/>
            <a:ext cx="328140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logo.gif"/>
          <p:cNvPicPr/>
          <p:nvPr/>
        </p:nvPicPr>
        <p:blipFill>
          <a:blip r:embed="rId4"/>
          <a:stretch/>
        </p:blipFill>
        <p:spPr>
          <a:xfrm>
            <a:off x="7308720" y="3860640"/>
            <a:ext cx="1193760" cy="900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8" descr="В зоопарке (12).jpg"/>
          <p:cNvPicPr/>
          <p:nvPr/>
        </p:nvPicPr>
        <p:blipFill>
          <a:blip r:embed="rId5"/>
          <a:stretch/>
        </p:blipFill>
        <p:spPr>
          <a:xfrm>
            <a:off x="1116000" y="2852640"/>
            <a:ext cx="2786040" cy="18226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Беседа по ПДД (2).jpg"/>
          <p:cNvPicPr/>
          <p:nvPr/>
        </p:nvPicPr>
        <p:blipFill>
          <a:blip r:embed="rId6"/>
          <a:stretch/>
        </p:blipFill>
        <p:spPr>
          <a:xfrm>
            <a:off x="4067280" y="3860640"/>
            <a:ext cx="2714400" cy="17146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Изображение 053.jpg"/>
          <p:cNvPicPr/>
          <p:nvPr/>
        </p:nvPicPr>
        <p:blipFill>
          <a:blip r:embed="rId7"/>
          <a:stretch/>
        </p:blipFill>
        <p:spPr>
          <a:xfrm>
            <a:off x="1214280" y="4857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0" descr="Тедди (222).jpg"/>
          <p:cNvPicPr/>
          <p:nvPr/>
        </p:nvPicPr>
        <p:blipFill>
          <a:blip r:embed="rId8"/>
          <a:stretch/>
        </p:blipFill>
        <p:spPr>
          <a:xfrm>
            <a:off x="4429080" y="5705640"/>
            <a:ext cx="14288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9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7" descr="Рисунок (18).jpg"/>
          <p:cNvPicPr/>
          <p:nvPr/>
        </p:nvPicPr>
        <p:blipFill>
          <a:blip r:embed="rId2"/>
          <a:stretch/>
        </p:blipFill>
        <p:spPr>
          <a:xfrm>
            <a:off x="3780000" y="4508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Животные </a:t>
            </a:r>
            <a:r>
              <a:rPr b="1" i="1" lang="en-US" sz="3600" spc="-1" strike="noStrike">
                <a:solidFill>
                  <a:srgbClr val="c22ea4"/>
                </a:solidFill>
                <a:latin typeface="Arial"/>
              </a:rPr>
              <a:t>- </a:t>
            </a: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наши друзья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16000" y="1341360"/>
            <a:ext cx="6192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89720" indent="-146880">
              <a:spcBef>
                <a:spcPts val="601"/>
              </a:spcBef>
              <a:buClr>
                <a:srgbClr val="b83d68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Дружба — это созвучие душ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9720" indent="-14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70c0"/>
                </a:solidFill>
                <a:latin typeface="Corbel"/>
              </a:rPr>
              <a:t>в соединённости судеб.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89720" indent="-146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Рисунок 3" descr="Анима (39).gif"/>
          <p:cNvPicPr/>
          <p:nvPr/>
        </p:nvPicPr>
        <p:blipFill>
          <a:blip r:embed="rId3"/>
          <a:stretch/>
        </p:blipFill>
        <p:spPr>
          <a:xfrm>
            <a:off x="7500960" y="214200"/>
            <a:ext cx="1428840" cy="1568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1183004805_004_friends_53.jpg"/>
          <p:cNvPicPr/>
          <p:nvPr/>
        </p:nvPicPr>
        <p:blipFill>
          <a:blip r:embed="rId4"/>
          <a:stretch/>
        </p:blipFill>
        <p:spPr>
          <a:xfrm>
            <a:off x="4788000" y="2781360"/>
            <a:ext cx="1928880" cy="14223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073.jpg"/>
          <p:cNvPicPr/>
          <p:nvPr/>
        </p:nvPicPr>
        <p:blipFill>
          <a:blip r:embed="rId5"/>
          <a:stretch/>
        </p:blipFill>
        <p:spPr>
          <a:xfrm>
            <a:off x="6143760" y="4572000"/>
            <a:ext cx="2636640" cy="20448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6" descr="042.jpg"/>
          <p:cNvPicPr/>
          <p:nvPr/>
        </p:nvPicPr>
        <p:blipFill>
          <a:blip r:embed="rId6"/>
          <a:stretch/>
        </p:blipFill>
        <p:spPr>
          <a:xfrm>
            <a:off x="1071720" y="4643280"/>
            <a:ext cx="2543040" cy="19828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8" descr="Анима (64).gif"/>
          <p:cNvPicPr/>
          <p:nvPr/>
        </p:nvPicPr>
        <p:blipFill>
          <a:blip r:embed="rId7"/>
          <a:stretch/>
        </p:blipFill>
        <p:spPr>
          <a:xfrm>
            <a:off x="6786720" y="2071800"/>
            <a:ext cx="2143080" cy="2065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9" descr="1183004805_008_friends_40.jpg"/>
          <p:cNvPicPr/>
          <p:nvPr/>
        </p:nvPicPr>
        <p:blipFill>
          <a:blip r:embed="rId8"/>
          <a:stretch/>
        </p:blipFill>
        <p:spPr>
          <a:xfrm>
            <a:off x="1143000" y="2714760"/>
            <a:ext cx="2000160" cy="14364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0" descr="Фото 020.JPG"/>
          <p:cNvPicPr/>
          <p:nvPr/>
        </p:nvPicPr>
        <p:blipFill>
          <a:blip r:embed="rId9"/>
          <a:stretch/>
        </p:blipFill>
        <p:spPr>
          <a:xfrm>
            <a:off x="3357720" y="2500200"/>
            <a:ext cx="11127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0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     </a:t>
            </a: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Пословицы о дружбе: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85560" y="1428480"/>
            <a:ext cx="74977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Человек без друзей, что дерево без корне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Нет друга - ищи, а нашел - берег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жба крепка не лестью, а правдой и честью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жба как стекло: разобьешь - не сложиш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Скажи мне кто твой друг, и я скажу, кто т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Не тот друг, кто на пиру гуляет, а тот, кто в беде помог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Друг спорит, а враг поддакив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Рисунок 3" descr="Тедди.jpg"/>
          <p:cNvPicPr/>
          <p:nvPr/>
        </p:nvPicPr>
        <p:blipFill>
          <a:blip r:embed="rId2"/>
          <a:stretch/>
        </p:blipFill>
        <p:spPr>
          <a:xfrm>
            <a:off x="1285920" y="0"/>
            <a:ext cx="1357200" cy="1393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Тэдди (118).jpg"/>
          <p:cNvPicPr/>
          <p:nvPr/>
        </p:nvPicPr>
        <p:blipFill>
          <a:blip r:embed="rId3"/>
          <a:stretch/>
        </p:blipFill>
        <p:spPr>
          <a:xfrm>
            <a:off x="3995640" y="5084640"/>
            <a:ext cx="1452600" cy="134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6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lang="en-US" sz="2400" spc="-1" strike="noStrike">
                <a:solidFill>
                  <a:srgbClr val="c22ea4"/>
                </a:solidFill>
                <a:latin typeface="Corbel"/>
              </a:rPr>
              <a:t>И в песнях о дружбе поется…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1428480"/>
            <a:ext cx="74991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Я иду и пою обо вс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ё</a:t>
            </a: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Жил на свете добрый жук, старый добрый друг.                                       Никогда он не ворчал, не кричал, не пищал,                                            Громко крыльями трещал, строго ссоры запреща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Если с другом вышел в путь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веселей дорог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Друг в беде не бросит, лишнего не спросит.                                                     Вот, что значит настоящий друг.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Рисунок 3" descr="Анима (19).gif"/>
          <p:cNvPicPr/>
          <p:nvPr/>
        </p:nvPicPr>
        <p:blipFill>
          <a:blip r:embed="rId2"/>
          <a:stretch/>
        </p:blipFill>
        <p:spPr>
          <a:xfrm>
            <a:off x="7429680" y="5143680"/>
            <a:ext cx="1250640" cy="12236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Анима (28).gif"/>
          <p:cNvPicPr/>
          <p:nvPr/>
        </p:nvPicPr>
        <p:blipFill>
          <a:blip r:embed="rId3"/>
          <a:stretch/>
        </p:blipFill>
        <p:spPr>
          <a:xfrm>
            <a:off x="1071720" y="214200"/>
            <a:ext cx="1071360" cy="12304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Анима (68).gif"/>
          <p:cNvPicPr/>
          <p:nvPr/>
        </p:nvPicPr>
        <p:blipFill>
          <a:blip r:embed="rId4"/>
          <a:stretch/>
        </p:blipFill>
        <p:spPr>
          <a:xfrm>
            <a:off x="7093080" y="1268280"/>
            <a:ext cx="118584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9:38:42Z</dcterms:created>
  <dc:creator>Л.Ф.</dc:creator>
  <dc:description/>
  <dc:language>en-US</dc:language>
  <cp:lastModifiedBy>User</cp:lastModifiedBy>
  <dcterms:modified xsi:type="dcterms:W3CDTF">2008-12-16T10:27:05Z</dcterms:modified>
  <cp:revision>45</cp:revision>
  <dc:subject/>
  <dc:title>Поговорим о дружбе</dc:title>
</cp:coreProperties>
</file>