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F08-8460-4AA5-BED7-B9EC7E02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117-BC18-484B-95F1-B8256A1A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625-3642-496C-A425-31F4EAE6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123-2CDC-4D39-8275-18FD85A9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BE84-8A12-4E7E-931B-401EC540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2A5A-9282-410A-91CA-D437F8AC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0F8D-F89B-4A47-8C6A-42BE7E0A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CB1-2ADF-4C32-A2D6-DF61402D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2E40-E228-40BD-B0E3-B54085C1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46FB-BF4C-46D3-A92A-C1B0B9FD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AB19-58B0-4A44-B2AA-EE52502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269-E947-48FE-8FF6-6539B6FB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DD75-FB17-48A3-B20F-1CE325F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B4D0-AD33-45DB-896E-C3DF8F6B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0C4A-4187-4354-B37C-CB2BACC4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C479-650A-4E97-BAA4-ED83DDF5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F51B-A97C-49C9-A1EC-31A66468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67DA-2AA9-4890-A8C8-DD6B70C3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20C1-CA85-4E7A-A2EC-EC156029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FDCE-F58D-44FE-950E-D44E7690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0433-93C5-4BAA-B4A6-29321390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5083-B7D8-47D5-B4BE-08BF1C17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068-FBDF-49DE-A43B-1CCAC5C7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3372-37D7-42F6-A7BA-62261A35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E8EE-A99D-461E-ACF2-385D72C2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8A4F-FB26-4771-BA12-778E4353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421D-B0AA-403A-8895-929A537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798F-3760-4E43-9879-4331D35D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848D-4500-492A-B301-F7B22BDB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0A67-C130-4E98-BE45-FB508351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635F2-F34F-462C-BB3C-282C026B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FAD3-ED30-4F5A-8F46-B7BDA65E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73C6-A0D1-44BA-BF07-BBC4F184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C1D-59DF-4EA5-8B7E-FB2BABDA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C5C8-8FC5-4AED-AB59-F55DA3A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2DCB4-7CAF-4226-8B75-D247E0C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137D-0CC1-445E-95E5-18CF751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7FB5-F312-4DC7-9462-A4FEB07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A0F7-A069-4D39-A974-ABBF74C5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38EBA-1BD7-42B1-8052-747F1E28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DEBFD-ADD1-4E3F-973B-836BFFE6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DF30-4A79-4A6E-B653-715BC5BE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A7D71-CBA5-4822-BDE7-5BC004F4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6D6-5726-4A8A-BB9A-8CAD656E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318-60A9-443B-B1B0-127A56D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65A-DDCF-4936-8AF0-B1B87D35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873-EFC1-482D-8E80-E3F871D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B66-9A74-4FE7-BC1F-DB920782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3918-3FD0-433D-9D93-F8FE47DB1F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1892-DEFC-4AE2-87EE-AE38F640D22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693-6D2D-4264-93A8-200FF17751C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61CF-E278-47B8-9EA9-5ABE5BDAAC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682560" y="1627200"/>
            <a:ext cx="83520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281400" cy="310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429080" y="1714680"/>
            <a:ext cx="350064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85840" y="1857240"/>
          <a:ext cx="8429400" cy="2143440"/>
        </p:xfrm>
        <a:graphic>
          <a:graphicData uri="http://schemas.openxmlformats.org/drawingml/2006/table">
            <a:tbl>
              <a:tblPr/>
              <a:tblGrid>
                <a:gridCol w="1204920"/>
                <a:gridCol w="1203120"/>
                <a:gridCol w="1204920"/>
                <a:gridCol w="1101960"/>
                <a:gridCol w="1306440"/>
                <a:gridCol w="1203120"/>
                <a:gridCol w="1204920"/>
              </a:tblGrid>
              <a:tr h="2143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pic>
        <p:nvPicPr>
          <p:cNvPr id="211" name="Прямоугольник 7" descr=""/>
          <p:cNvPicPr/>
          <p:nvPr/>
        </p:nvPicPr>
        <p:blipFill>
          <a:blip r:embed="rId1"/>
          <a:stretch/>
        </p:blipFill>
        <p:spPr>
          <a:xfrm>
            <a:off x="1500120" y="1859040"/>
            <a:ext cx="1212840" cy="156672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8" descr=""/>
          <p:cNvPicPr/>
          <p:nvPr/>
        </p:nvPicPr>
        <p:blipFill>
          <a:blip r:embed="rId2"/>
          <a:stretch/>
        </p:blipFill>
        <p:spPr>
          <a:xfrm>
            <a:off x="4998960" y="1859040"/>
            <a:ext cx="1285920" cy="156672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9" descr=""/>
          <p:cNvPicPr/>
          <p:nvPr/>
        </p:nvPicPr>
        <p:blipFill>
          <a:blip r:embed="rId3"/>
          <a:stretch/>
        </p:blipFill>
        <p:spPr>
          <a:xfrm>
            <a:off x="285840" y="1859040"/>
            <a:ext cx="1214280" cy="156672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0" descr=""/>
          <p:cNvPicPr/>
          <p:nvPr/>
        </p:nvPicPr>
        <p:blipFill>
          <a:blip r:embed="rId4"/>
          <a:stretch/>
        </p:blipFill>
        <p:spPr>
          <a:xfrm>
            <a:off x="3932280" y="1859040"/>
            <a:ext cx="1066680" cy="156672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1" descr=""/>
          <p:cNvPicPr/>
          <p:nvPr/>
        </p:nvPicPr>
        <p:blipFill>
          <a:blip r:embed="rId5"/>
          <a:stretch/>
        </p:blipFill>
        <p:spPr>
          <a:xfrm>
            <a:off x="2712960" y="1859040"/>
            <a:ext cx="1146240" cy="156672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6"/>
          <a:stretch/>
        </p:blipFill>
        <p:spPr>
          <a:xfrm>
            <a:off x="6284880" y="1859040"/>
            <a:ext cx="1212840" cy="156672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13" descr=""/>
          <p:cNvPicPr/>
          <p:nvPr/>
        </p:nvPicPr>
        <p:blipFill>
          <a:blip r:embed="rId7"/>
          <a:stretch/>
        </p:blipFill>
        <p:spPr>
          <a:xfrm>
            <a:off x="7497720" y="1859040"/>
            <a:ext cx="12193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:\МО1\Юбка\00000000000000000000000000.jpg"/>
          <p:cNvPicPr/>
          <p:nvPr/>
        </p:nvPicPr>
        <p:blipFill>
          <a:blip r:embed="rId1"/>
          <a:stretch/>
        </p:blipFill>
        <p:spPr>
          <a:xfrm>
            <a:off x="3500280" y="642960"/>
            <a:ext cx="1919520" cy="2741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taisia[1]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43760" y="500040"/>
            <a:ext cx="2717640" cy="407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Documents and Settings\Administrator\Мои документы\Мои рисунки\платья\3365-red_m(1).jpg"/>
          <p:cNvPicPr/>
          <p:nvPr/>
        </p:nvPicPr>
        <p:blipFill>
          <a:blip r:embed="rId3"/>
          <a:srcRect l="13113" t="878" r="20493" b="0"/>
          <a:stretch/>
        </p:blipFill>
        <p:spPr>
          <a:xfrm>
            <a:off x="428760" y="357120"/>
            <a:ext cx="2571480" cy="4469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Administrator\Рабочий стол\Блузки\блузка117.jpg"/>
          <p:cNvPicPr/>
          <p:nvPr/>
        </p:nvPicPr>
        <p:blipFill>
          <a:blip r:embed="rId4"/>
          <a:srcRect l="15436" t="1719" r="0" b="0"/>
          <a:stretch/>
        </p:blipFill>
        <p:spPr>
          <a:xfrm>
            <a:off x="3143160" y="3571920"/>
            <a:ext cx="2835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:\МО1\Юбка\194638.jpg"/>
          <p:cNvPicPr/>
          <p:nvPr/>
        </p:nvPicPr>
        <p:blipFill>
          <a:blip r:embed="rId1"/>
          <a:srcRect l="70318" t="46789" r="-1559" b="1786"/>
          <a:stretch/>
        </p:blipFill>
        <p:spPr>
          <a:xfrm>
            <a:off x="3357720" y="571680"/>
            <a:ext cx="221436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лан пошива цельнокроеного плат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ботка горловин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Обработка плечевых срез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ботка вытаче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Обработка прой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бработка нижнего среза издел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ботка боковых срез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. Влажно-тепловая обработка издел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лан пошива цельнокроеного плат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Обработка вытач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Обработка плечевых срез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Обработка горловины окантовочным ш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Обработка пройм окантовочным ш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 Обработка боковых срез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 Обработка нижнего среза издел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. Влажно-тепловая обработка издел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1427040"/>
            <a:ext cx="7358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1571760" y="785880"/>
            <a:ext cx="56829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281400" cy="310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429080" y="1714680"/>
            <a:ext cx="350064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 Обработка вытачек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06:06Z</dcterms:created>
  <dc:creator>Admin</dc:creator>
  <dc:description/>
  <dc:language>en-US</dc:language>
  <cp:lastModifiedBy>Александр Брусилов</cp:lastModifiedBy>
  <dcterms:modified xsi:type="dcterms:W3CDTF">2018-03-19T17:10:30Z</dcterms:modified>
  <cp:revision>19</cp:revision>
  <dc:subject/>
  <dc:title>Слайд 1</dc:title>
</cp:coreProperties>
</file>