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3D0-3FD2-4160-9646-A684DCBC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6D2-4862-490F-80A4-7E8ADFC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B06-E027-4296-B0C2-183877DB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6D2-8298-479F-B3BB-A900DE2C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8DEE-95E0-4747-A257-2588F0DB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D7AA-1483-45B2-910E-26C712D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FD9-10BF-4F37-B47C-1E10CF75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1117-78CD-49E9-9EFC-C0884C2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40DE-BAFF-48EF-ADBE-CDC4E17E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663-B663-49C9-97F9-154C6DE6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6EF1-A5D5-4A7B-B375-95CF67A5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9D2-29B7-414C-86B9-CEE57056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B91-614C-41AC-94B9-986CD40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8B21-109A-49A8-872E-01DB98AA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2EB-4FEC-4CB9-B9AC-41BFC19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9331-2835-4884-B491-C696C711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9FCF-6D2C-4270-A953-C7E995ED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811C-62A9-47C0-AB1D-0B7363FC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DD769-B23E-4C5C-A0D4-E1BF414D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A3E5-2C59-4340-836D-9EA1CD75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0BAA-65A6-4A85-BD3F-977B0F4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D4CD-168C-49CF-B473-6265872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287-B48E-403A-B99A-F6421A8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3DC2-6530-42DF-9925-C39E53A6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40B9-F35E-4AE5-9AE7-FA1EF7D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33CE-5AA4-4EB0-ACE7-3CE66B5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1FEF-5CB8-4916-9450-62294FB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DA6D-7EF3-4251-B30B-13CFAF29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C007-B027-43B5-A414-7FA072E0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82A2-7868-4852-94CA-3B5F6ED3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8F01-EA0B-4921-8F05-D7CD150F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E2D9-7BB3-470C-8BF3-14037FCE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0285-4A12-4653-9323-818FEA8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FFC-B833-46AA-9815-70EE5742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9276-DFE1-45C7-83AD-46E7C806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683E-C879-46CE-8CCF-BD038BD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6A48-5FA5-40CB-83CB-AC99480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2D05-472D-45D4-8F78-44511D0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872A-2CFB-4978-A494-C4DB0A9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2825-4DB5-45F5-B197-0AA38F47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2466-EF54-4A99-A9D2-CF358975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6457-3CED-46DC-95EA-FA757E23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0C85-4D5A-4E94-865F-350F4E21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415-E003-4F8A-8A5B-27271C4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D63-16AC-42F8-B1B9-903C2740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343-6A87-46D7-A117-A8E01A8F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62F-6AFB-42D6-9FF8-01AB7747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99B-C34F-4839-90A2-47AAA23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A9A-81AF-42E1-BF39-E90F69C9B2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5DF-326F-4336-9AB1-CDB8FB55CB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9D01-EE9E-413F-8C3B-160A566C06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B98-21EF-42D9-A8E2-E60D8048B7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1627200"/>
            <a:ext cx="8352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281400" cy="310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429080" y="1714680"/>
            <a:ext cx="350064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85840" y="1857240"/>
          <a:ext cx="8429400" cy="2143440"/>
        </p:xfrm>
        <a:graphic>
          <a:graphicData uri="http://schemas.openxmlformats.org/drawingml/2006/table">
            <a:tbl>
              <a:tblPr/>
              <a:tblGrid>
                <a:gridCol w="1204920"/>
                <a:gridCol w="1203120"/>
                <a:gridCol w="1204920"/>
                <a:gridCol w="1101960"/>
                <a:gridCol w="1306440"/>
                <a:gridCol w="1203120"/>
                <a:gridCol w="1204920"/>
              </a:tblGrid>
              <a:tr h="2143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pic>
        <p:nvPicPr>
          <p:cNvPr id="211" name="Прямоугольник 7" descr=""/>
          <p:cNvPicPr/>
          <p:nvPr/>
        </p:nvPicPr>
        <p:blipFill>
          <a:blip r:embed="rId1"/>
          <a:stretch/>
        </p:blipFill>
        <p:spPr>
          <a:xfrm>
            <a:off x="1500120" y="1859040"/>
            <a:ext cx="1212840" cy="15667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2"/>
          <a:stretch/>
        </p:blipFill>
        <p:spPr>
          <a:xfrm>
            <a:off x="4998960" y="1859040"/>
            <a:ext cx="1285920" cy="156672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3"/>
          <a:stretch/>
        </p:blipFill>
        <p:spPr>
          <a:xfrm>
            <a:off x="285840" y="1859040"/>
            <a:ext cx="1214280" cy="15667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0" descr=""/>
          <p:cNvPicPr/>
          <p:nvPr/>
        </p:nvPicPr>
        <p:blipFill>
          <a:blip r:embed="rId4"/>
          <a:stretch/>
        </p:blipFill>
        <p:spPr>
          <a:xfrm>
            <a:off x="3932280" y="1859040"/>
            <a:ext cx="1066680" cy="15667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1" descr=""/>
          <p:cNvPicPr/>
          <p:nvPr/>
        </p:nvPicPr>
        <p:blipFill>
          <a:blip r:embed="rId5"/>
          <a:stretch/>
        </p:blipFill>
        <p:spPr>
          <a:xfrm>
            <a:off x="2712960" y="1859040"/>
            <a:ext cx="1146240" cy="1566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6"/>
          <a:stretch/>
        </p:blipFill>
        <p:spPr>
          <a:xfrm>
            <a:off x="6284880" y="1859040"/>
            <a:ext cx="1212840" cy="1566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3" descr=""/>
          <p:cNvPicPr/>
          <p:nvPr/>
        </p:nvPicPr>
        <p:blipFill>
          <a:blip r:embed="rId7"/>
          <a:stretch/>
        </p:blipFill>
        <p:spPr>
          <a:xfrm>
            <a:off x="7497720" y="1859040"/>
            <a:ext cx="1219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:\МО1\Юбка\00000000000000000000000000.jpg"/>
          <p:cNvPicPr/>
          <p:nvPr/>
        </p:nvPicPr>
        <p:blipFill>
          <a:blip r:embed="rId1"/>
          <a:stretch/>
        </p:blipFill>
        <p:spPr>
          <a:xfrm>
            <a:off x="3500280" y="642960"/>
            <a:ext cx="1919520" cy="274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taisia[1]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43760" y="500040"/>
            <a:ext cx="2717640" cy="40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Documents and Settings\Administrator\Мои документы\Мои рисунки\платья\3365-red_m(1).jpg"/>
          <p:cNvPicPr/>
          <p:nvPr/>
        </p:nvPicPr>
        <p:blipFill>
          <a:blip r:embed="rId3"/>
          <a:srcRect l="13113" t="878" r="20493" b="0"/>
          <a:stretch/>
        </p:blipFill>
        <p:spPr>
          <a:xfrm>
            <a:off x="428760" y="357120"/>
            <a:ext cx="2571480" cy="4469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Administrator\Рабочий стол\Блузки\блузка117.jpg"/>
          <p:cNvPicPr/>
          <p:nvPr/>
        </p:nvPicPr>
        <p:blipFill>
          <a:blip r:embed="rId4"/>
          <a:srcRect l="15436" t="1719" r="0" b="0"/>
          <a:stretch/>
        </p:blipFill>
        <p:spPr>
          <a:xfrm>
            <a:off x="3143160" y="3571920"/>
            <a:ext cx="2835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МО1\Юбка\194638.jpg"/>
          <p:cNvPicPr/>
          <p:nvPr/>
        </p:nvPicPr>
        <p:blipFill>
          <a:blip r:embed="rId1"/>
          <a:srcRect l="70318" t="46789" r="-1559" b="1786"/>
          <a:stretch/>
        </p:blipFill>
        <p:spPr>
          <a:xfrm>
            <a:off x="3357720" y="571680"/>
            <a:ext cx="22143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н пошива цельнокроеного пла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горлови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бработка плече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вытаче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Обработка прой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бработка нижнего среза издел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боковых срез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 Влажно-тепловая обработк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н пошива цельнокроеного пла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Обработка вытач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бработка плече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Обработка горловины окантовочным ш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Обработка пройм окантовочным ш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Обработка боко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Обработка нижнего срез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 Влажно-тепловая обработк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142704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1571760" y="785880"/>
            <a:ext cx="5682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281400" cy="310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429080" y="1714680"/>
            <a:ext cx="350064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 Обработка вытачек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06:06Z</dcterms:created>
  <dc:creator>Admin</dc:creator>
  <dc:description/>
  <dc:language>en-US</dc:language>
  <cp:lastModifiedBy>Александр Брусилов</cp:lastModifiedBy>
  <dcterms:modified xsi:type="dcterms:W3CDTF">2018-03-19T17:10:30Z</dcterms:modified>
  <cp:revision>19</cp:revision>
  <dc:subject/>
  <dc:title>Слайд 1</dc:title>
</cp:coreProperties>
</file>