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A55F-FDEF-4D0A-99CF-EA8B509D6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ку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7542-2E40-4043-A55A-624539FF39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DAD-DDD0-451E-A212-0CDF2814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CAD-2B78-4532-BACA-BB751090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489-80F0-41E8-A7F4-664C9FD3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EC0-A797-4C0D-86FA-8F5E3EE3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C18E-C4F5-4DE9-821E-A8BA638B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2715-5973-48AB-94EE-E8712CE3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7597-F473-4074-ACDD-61B9F9C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FB70-0B4E-4609-98E1-E638E40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1DF5-39DF-47EE-B2AF-1648BFCF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5698-A25F-4EA0-AED0-EB36212C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8E18-A914-429C-82CF-339BEDDB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8F6-1230-4441-A13A-E001F8C5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5644-9170-4D9F-A9EE-E94338E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F1BE-D2E4-4F3E-AE24-5D198A0C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3119-AE6D-4E8C-A7AB-EE29E76A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2A5D-E5B5-4B07-AEFA-F682B03D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B0B6-B970-4910-A84D-F3A55863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6DB2-D00B-48A8-A94A-FB9879A3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97E1-A8F6-4E51-A7D8-2C569B47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86DF-0233-4705-8AAE-248FA7A9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AC76-222E-475C-A570-6D7A60A8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3558-BFC3-4F50-8A16-CFB8B419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A84-89D3-44AA-A6EB-C2FA0121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42EC-56CB-48A8-BEDF-FF93C9BA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B3B5-D486-43D3-824B-5373728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4381-7FCC-4961-B8F4-C78F8270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9D31-AF85-4647-9AA9-B6F290FF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6488-DA5A-4C1C-BF55-E1213B3B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B3DA-06ED-474A-A988-2963E4F3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07EE-9D27-4A50-97E1-97F5970A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6436-E162-4A6D-BB8C-CBD1F45A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024E-A514-417A-B2D9-97816DA6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F5C4-0BA6-43D2-8DC9-D5524509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0D8-870D-4C37-AE62-8BBF77C6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0306-46A0-4EAB-BC79-72874B49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866E-03ED-49B2-9339-BBDE0143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30CBD-33D1-4F15-8F8A-D3168A56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DC2CE-834C-4A8C-9EF8-B5CB715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7E5A-7F7D-415F-84FA-80A13B6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9D5F-257C-4EC8-B272-5E4EE07C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7F07-25B2-4DCD-B05E-853DDC3F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9741E-9528-4717-BBDF-5EEF29BA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B9E82-4E2B-4B7C-B572-3269FD41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746B-02F1-4E69-893E-29701E87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D52-26F9-43E7-905B-D1418F5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74038-63E9-46D5-9D6F-1FC093F4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F58D-3F3C-49BC-8FE1-0DE64089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356D-7CB7-450E-8D2B-2692FEAF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C52B7-6827-4E2C-B04C-3E960A6F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080E1-A32A-493D-83D8-C386BAB2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95C40-6435-41B4-916B-7EA6B5A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3BC6-66D0-4053-A6CB-EA26DEF8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17F79-3823-4346-8424-47680E7D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632C0-492A-489E-AF0F-602AA363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AB854-3178-48A9-BEC1-9E0C74B7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66A-9D68-4F13-ADCF-CEEC309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6EF8C-C068-4874-8FF6-827953A0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4DCDC-A8A6-4634-9284-56ACEE4F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CC0B1-F99E-4949-B4AC-2BCC2610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D4009-7C73-4D3E-956C-F6F4121F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20D5-91A1-482D-907B-BFBFDE88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F041A-9160-4F79-B180-96593FED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235A3-2A12-45B2-A62F-C1CEB73D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5B6A-4E2B-4ADA-81A0-D75721F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DBEAD-7CE6-4B42-A4C7-DD7CCBA8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42FCD-269F-493F-B07E-68AE2D76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ED3-90C1-4882-BDB8-126BF0B0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DF61D-CA3D-487E-986D-D86335CB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E2928-81D7-4D14-941F-F398418E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D724F-AE1E-4DCE-A634-0B5174AB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B50C1-F886-4EB0-BA82-AD801CF9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E3576-1EE8-4125-92BE-6E55F06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4205D-1C46-486F-AC64-99C19EA9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E99B1-7184-45E5-8456-7B84AE3F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4700C-174B-405C-BD90-ED33DBEA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8E0FF-1316-4BDF-A240-1E0B7BBF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4495-AE48-42BF-94D6-FAD15D7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5DB-F4BE-42F8-B694-DA3823C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845A6-D782-4FF4-B0A6-5048974C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C0704-4611-43D5-A8D7-0BD2A7B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E7A1A-4941-4D69-A6BC-35A5220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CD5D-8C83-4106-A4FF-B1EB133C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DCDCD-39F7-4F97-9A64-2601B744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FD2-ABA8-4477-95DA-34552555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190E-87CC-4444-96D0-896873947CC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8AC3-4D9C-4AB6-84BB-FCB2FD54C77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07F-83EA-4A57-BB35-CAC4E467190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930-C5C3-4439-84C3-0700794D2FC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6BC-CDC0-4DE4-8190-851F3E6BCA6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79FC-41E8-40DB-B22B-D03C1694328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60B3-E13F-4EE4-A397-8858E7D1EDC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1" descr="83707.jpg"/>
          <p:cNvPicPr/>
          <p:nvPr/>
        </p:nvPicPr>
        <p:blipFill>
          <a:blip r:embed="rId1"/>
          <a:stretch/>
        </p:blipFill>
        <p:spPr>
          <a:xfrm>
            <a:off x="2143080" y="285840"/>
            <a:ext cx="4572000" cy="6262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Рисунок 1" descr="94994213_81508603_large_2835299_00004292.jpg"/>
          <p:cNvPicPr/>
          <p:nvPr/>
        </p:nvPicPr>
        <p:blipFill>
          <a:blip r:embed="rId1"/>
          <a:stretch/>
        </p:blipFill>
        <p:spPr>
          <a:xfrm>
            <a:off x="428760" y="642960"/>
            <a:ext cx="8272440" cy="5672160"/>
          </a:xfrm>
          <a:prstGeom prst="rect">
            <a:avLst/>
          </a:prstGeom>
          <a:ln w="0">
            <a:noFill/>
          </a:ln>
        </p:spPr>
      </p:pic>
      <p:pic>
        <p:nvPicPr>
          <p:cNvPr id="390" name="Golosa-ptic-Snegir_(muzofon.com).mp3" descr=""/>
          <p:cNvPicPr/>
          <p:nvPr/>
        </p:nvPicPr>
        <p:blipFill>
          <a:blip r:embed="rId2"/>
          <a:stretch/>
        </p:blipFill>
        <p:spPr>
          <a:xfrm>
            <a:off x="8001000" y="5438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919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83295094_082e82a92202ebe79e6b473c634fd745.jpg"/>
          <p:cNvPicPr/>
          <p:nvPr/>
        </p:nvPicPr>
        <p:blipFill>
          <a:blip r:embed="rId1"/>
          <a:stretch/>
        </p:blipFill>
        <p:spPr>
          <a:xfrm>
            <a:off x="928800" y="357120"/>
            <a:ext cx="7432560" cy="625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1" descr="0_74409_29115e8a_L.jpg.gif"/>
          <p:cNvPicPr/>
          <p:nvPr/>
        </p:nvPicPr>
        <p:blipFill>
          <a:blip r:embed="rId1"/>
          <a:stretch/>
        </p:blipFill>
        <p:spPr>
          <a:xfrm>
            <a:off x="1143000" y="55440"/>
            <a:ext cx="6643800" cy="6537600"/>
          </a:xfrm>
          <a:prstGeom prst="rect">
            <a:avLst/>
          </a:prstGeom>
          <a:ln w="0">
            <a:noFill/>
          </a:ln>
        </p:spPr>
      </p:pic>
      <p:pic>
        <p:nvPicPr>
          <p:cNvPr id="393" name="червяк.mp3" descr=""/>
          <p:cNvPicPr/>
          <p:nvPr/>
        </p:nvPicPr>
        <p:blipFill>
          <a:blip r:embed="rId2"/>
          <a:stretch/>
        </p:blipFill>
        <p:spPr>
          <a:xfrm>
            <a:off x="6500880" y="5214960"/>
            <a:ext cx="86688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0233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1" descr="0019-025-V-tjomnom-frake-molchalivyj-Sanitar-neutomimyj-Sel-i-vytjanulsja-v-rost.jpg"/>
          <p:cNvPicPr/>
          <p:nvPr/>
        </p:nvPicPr>
        <p:blipFill>
          <a:blip r:embed="rId1"/>
          <a:stretch/>
        </p:blipFill>
        <p:spPr>
          <a:xfrm>
            <a:off x="1785960" y="214200"/>
            <a:ext cx="5857920" cy="639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1" descr="4311.jpg"/>
          <p:cNvPicPr/>
          <p:nvPr/>
        </p:nvPicPr>
        <p:blipFill>
          <a:blip r:embed="rId1"/>
          <a:stretch/>
        </p:blipFill>
        <p:spPr>
          <a:xfrm>
            <a:off x="785880" y="571680"/>
            <a:ext cx="7724880" cy="569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1" descr="453474.jpg"/>
          <p:cNvPicPr/>
          <p:nvPr/>
        </p:nvPicPr>
        <p:blipFill>
          <a:blip r:embed="rId1"/>
          <a:stretch/>
        </p:blipFill>
        <p:spPr>
          <a:xfrm>
            <a:off x="1071720" y="785880"/>
            <a:ext cx="7243560" cy="54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1" descr="6486771.jpg"/>
          <p:cNvPicPr/>
          <p:nvPr/>
        </p:nvPicPr>
        <p:blipFill>
          <a:blip r:embed="rId1"/>
          <a:srcRect l="1787" t="1753" r="1787" b="6137"/>
          <a:stretch/>
        </p:blipFill>
        <p:spPr>
          <a:xfrm>
            <a:off x="714240" y="785880"/>
            <a:ext cx="781704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" descr="ac6d7b01d991.jpg"/>
          <p:cNvPicPr/>
          <p:nvPr/>
        </p:nvPicPr>
        <p:blipFill>
          <a:blip r:embed="rId1"/>
          <a:srcRect l="0" t="4651" r="659" b="3486"/>
          <a:stretch/>
        </p:blipFill>
        <p:spPr>
          <a:xfrm>
            <a:off x="714240" y="790560"/>
            <a:ext cx="7858440" cy="544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article-1173286-02A860CE000005DC-236_468x308.jpg"/>
          <p:cNvPicPr/>
          <p:nvPr/>
        </p:nvPicPr>
        <p:blipFill>
          <a:blip r:embed="rId1"/>
          <a:stretch/>
        </p:blipFill>
        <p:spPr>
          <a:xfrm>
            <a:off x="785880" y="534960"/>
            <a:ext cx="7680240" cy="5751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1" descr="0a0a132ffae46aa49281f269e1539279.jpg"/>
          <p:cNvPicPr/>
          <p:nvPr/>
        </p:nvPicPr>
        <p:blipFill>
          <a:blip r:embed="rId1"/>
          <a:stretch/>
        </p:blipFill>
        <p:spPr>
          <a:xfrm>
            <a:off x="428760" y="496800"/>
            <a:ext cx="8381880" cy="5932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" descr="85868827_large_PERELYOTNUYE_PTICUY.gif"/>
          <p:cNvPicPr/>
          <p:nvPr/>
        </p:nvPicPr>
        <p:blipFill>
          <a:blip r:embed="rId1"/>
          <a:stretch/>
        </p:blipFill>
        <p:spPr>
          <a:xfrm>
            <a:off x="290520" y="428760"/>
            <a:ext cx="8562960" cy="59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0007-010-Pravilnye-otvety-uroka-istorii.jpg"/>
          <p:cNvPicPr/>
          <p:nvPr/>
        </p:nvPicPr>
        <p:blipFill>
          <a:blip r:embed="rId1"/>
          <a:stretch/>
        </p:blipFill>
        <p:spPr>
          <a:xfrm>
            <a:off x="714240" y="500040"/>
            <a:ext cx="7851960" cy="57024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"/>
          <p:cNvSpPr/>
          <p:nvPr/>
        </p:nvSpPr>
        <p:spPr>
          <a:xfrm>
            <a:off x="785880" y="545040"/>
            <a:ext cx="8358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чка на большой сос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м стрекочет: клё-клё-клё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вердый клюв похож на крес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Семена из шишек есть.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" descr="800507-1525e3bda72d6e62.jpg"/>
          <p:cNvPicPr/>
          <p:nvPr/>
        </p:nvPicPr>
        <p:blipFill>
          <a:blip r:embed="rId1"/>
          <a:stretch/>
        </p:blipFill>
        <p:spPr>
          <a:xfrm>
            <a:off x="1785960" y="642960"/>
            <a:ext cx="568800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5" name="7658_5-rebyataizveryata-80 - копия_cut(1)_cut(1)_cut_cut - копия.mp4" descr=""/>
          <p:cNvPicPr/>
          <p:nvPr/>
        </p:nvPicPr>
        <p:blipFill>
          <a:blip r:embed="rId1"/>
          <a:stretch/>
        </p:blipFill>
        <p:spPr>
          <a:xfrm>
            <a:off x="2514600" y="2355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karkusha.jpg"/>
          <p:cNvPicPr/>
          <p:nvPr/>
        </p:nvPicPr>
        <p:blipFill>
          <a:blip r:embed="rId1"/>
          <a:stretch/>
        </p:blipFill>
        <p:spPr>
          <a:xfrm>
            <a:off x="2071800" y="214200"/>
            <a:ext cx="5143320" cy="6350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2357280" y="857160"/>
            <a:ext cx="457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рый, маленький, смеш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качет рядышком 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Я ему насыплю кроше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гоню подальше кош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й хороший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роб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714240" y="714600"/>
            <a:ext cx="842976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5" descr="53853952_vorobey1.jpg"/>
          <p:cNvPicPr/>
          <p:nvPr/>
        </p:nvPicPr>
        <p:blipFill>
          <a:blip r:embed="rId1"/>
          <a:stretch/>
        </p:blipFill>
        <p:spPr>
          <a:xfrm>
            <a:off x="500040" y="428760"/>
            <a:ext cx="8167680" cy="6126120"/>
          </a:xfrm>
          <a:prstGeom prst="rect">
            <a:avLst/>
          </a:prstGeom>
          <a:ln w="0">
            <a:noFill/>
          </a:ln>
        </p:spPr>
      </p:pic>
      <p:pic>
        <p:nvPicPr>
          <p:cNvPr id="380" name="Golosa-ptic-Vorobey(muzofon.com).mp3" descr=""/>
          <p:cNvPicPr/>
          <p:nvPr/>
        </p:nvPicPr>
        <p:blipFill>
          <a:blip r:embed="rId2"/>
          <a:stretch/>
        </p:blipFill>
        <p:spPr>
          <a:xfrm>
            <a:off x="8001000" y="5643720"/>
            <a:ext cx="928800" cy="92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32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1333945626_038.jpg"/>
          <p:cNvPicPr/>
          <p:nvPr/>
        </p:nvPicPr>
        <p:blipFill>
          <a:blip r:embed="rId1"/>
          <a:stretch/>
        </p:blipFill>
        <p:spPr>
          <a:xfrm>
            <a:off x="357120" y="571680"/>
            <a:ext cx="847908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2" descr="1.jpg"/>
          <p:cNvPicPr/>
          <p:nvPr/>
        </p:nvPicPr>
        <p:blipFill>
          <a:blip r:embed="rId1"/>
          <a:stretch/>
        </p:blipFill>
        <p:spPr>
          <a:xfrm>
            <a:off x="428760" y="500040"/>
            <a:ext cx="8426160" cy="59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" descr="640 - копия.jpg"/>
          <p:cNvPicPr/>
          <p:nvPr/>
        </p:nvPicPr>
        <p:blipFill>
          <a:blip r:embed="rId1"/>
          <a:stretch/>
        </p:blipFill>
        <p:spPr>
          <a:xfrm>
            <a:off x="428760" y="857160"/>
            <a:ext cx="3730320" cy="49467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2" descr="640 - копия (2).jpg"/>
          <p:cNvPicPr/>
          <p:nvPr/>
        </p:nvPicPr>
        <p:blipFill>
          <a:blip r:embed="rId2"/>
          <a:stretch/>
        </p:blipFill>
        <p:spPr>
          <a:xfrm>
            <a:off x="4143240" y="857160"/>
            <a:ext cx="3700440" cy="25005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640 - копия (3).jpg"/>
          <p:cNvPicPr/>
          <p:nvPr/>
        </p:nvPicPr>
        <p:blipFill>
          <a:blip r:embed="rId3"/>
          <a:stretch/>
        </p:blipFill>
        <p:spPr>
          <a:xfrm>
            <a:off x="3857760" y="3286080"/>
            <a:ext cx="40003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2" descr="640.jpg"/>
          <p:cNvPicPr/>
          <p:nvPr/>
        </p:nvPicPr>
        <p:blipFill>
          <a:blip r:embed="rId1"/>
          <a:stretch/>
        </p:blipFill>
        <p:spPr>
          <a:xfrm>
            <a:off x="785880" y="903240"/>
            <a:ext cx="7961400" cy="5311800"/>
          </a:xfrm>
          <a:prstGeom prst="rect">
            <a:avLst/>
          </a:prstGeom>
          <a:ln w="0">
            <a:noFill/>
          </a:ln>
        </p:spPr>
      </p:pic>
      <p:pic>
        <p:nvPicPr>
          <p:cNvPr id="387" name="Golosa-ptic-Bol_shaya-sinica(muzofon.com).mp3" descr=""/>
          <p:cNvPicPr/>
          <p:nvPr/>
        </p:nvPicPr>
        <p:blipFill>
          <a:blip r:embed="rId2"/>
          <a:stretch/>
        </p:blipFill>
        <p:spPr>
          <a:xfrm>
            <a:off x="8001000" y="591984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5143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1" descr="TZlKO.jpg"/>
          <p:cNvPicPr/>
          <p:nvPr/>
        </p:nvPicPr>
        <p:blipFill>
          <a:blip r:embed="rId1"/>
          <a:srcRect l="0" t="0" r="24173" b="0"/>
          <a:stretch/>
        </p:blipFill>
        <p:spPr>
          <a:xfrm>
            <a:off x="928800" y="214200"/>
            <a:ext cx="7318440" cy="643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3T18:33:45Z</dcterms:created>
  <dc:creator>DNA7 X86</dc:creator>
  <dc:description/>
  <dc:language>en-US</dc:language>
  <cp:lastModifiedBy>DNA7 X86</cp:lastModifiedBy>
  <dcterms:modified xsi:type="dcterms:W3CDTF">2015-01-06T08:41:08Z</dcterms:modified>
  <cp:revision>80</cp:revision>
  <dc:subject/>
  <dc:title>Слайд 1</dc:title>
</cp:coreProperties>
</file>