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3.jpeg" ContentType="image/jpeg"/>
  <Override PartName="/ppt/media/image9.jpeg" ContentType="image/jpeg"/>
  <Override PartName="/ppt/media/image11.jpeg" ContentType="image/jpeg"/>
  <Override PartName="/ppt/media/image2.png" ContentType="image/png"/>
  <Override PartName="/ppt/media/image25.jpeg" ContentType="image/jpeg"/>
  <Override PartName="/ppt/media/image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chimes.wav" ContentType="audio/x-wav"/>
  <Override PartName="/ppt/media/image16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5374-66C1-431D-8625-4DEE0ED9FC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ку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C4AD-98A8-497A-8C8C-EF8AEE0471F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8981-E5D7-410E-A790-34ACD48D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647-E494-4CFC-85E7-C3A95FBC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7519-58A2-4522-832D-127FE3D9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AE2-1AF6-49C4-AB4C-AF8E11AA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C213-5B51-4D31-9DA9-82D98486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8640-DF5A-47C5-9A42-11BA309D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860E-AEF0-4C8B-BA1B-42BB3FEB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B98A-9A7E-4F29-AA5F-8F15720C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5279-C4C3-45D6-B72B-5F5321C7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8C3F-8414-41E9-82A5-DB48B0F2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F498-2EF5-4945-9D97-054B1C62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859E-CCE3-49B0-9424-46416507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795F-AAEE-4C11-BE87-386571B8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0C80-9208-4825-9C52-3F8F859D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9FA3-E01A-41E2-A20E-2D55DD8C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9A3D-1C88-40B9-B9EC-AEB980BF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E743-613C-483C-AAD1-AE3225E0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C89F9-BE81-492F-996C-F1AB73F1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0CFCC-EE39-4A3E-BE67-D8F1CBBA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67BA0-3842-46A7-BCA3-6C47535C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CD455-50BE-49DB-AF11-23A8C92E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66A94-BA08-4F41-9DEC-FFE6A966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FDF5-42CC-4DAE-B8C3-B5D9ED3F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F3464-99CC-4074-82E4-146DD48B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FDAFE-094C-46C6-9C91-CFF789DC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0DA0E-E233-4F45-8988-805DF89C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C5566-FD17-42CA-9E7B-4E0E1F7C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51C97-2C1D-4773-BE47-A7604623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AFB12-761A-499D-9944-CE5CCD02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AE907-EEB8-48CC-B827-2C187039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5DE08-8064-438B-A83E-A665466F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83AD3-3E5B-4EBD-99F4-F9E1F3A8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C1D2A-D59B-41AE-B1DA-77B58390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1A27-739F-42CD-B0F2-94DB84F3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34881-CC1D-4BEC-9F88-F4CF777D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092A6-783B-4620-8375-271F6004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81797-FCFE-4C35-B65B-99299098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BEE3A-4B60-4831-AAA9-9137C0A1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5031B-1C35-4A9A-8A0A-7196B647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D0604-9CA8-462B-A247-EA5E1392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2C41E-6619-436E-86E7-FE28331E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00944-607D-44D2-8EB1-A523A38C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A902C-B8CD-4302-AA8F-05A58A10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BBC0A-80A8-4D5B-B4D3-39D07060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253C-F62B-4FEB-8FFA-F935B1C2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6D07E-09F6-4EC4-94E1-43FA7E4F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41FCD-40DE-45F4-8975-C11AB4C3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1ED2E-AB2C-4101-84B1-1BD67EB5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14185-A884-497F-A910-6BF5F9E8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40BAF-9D21-4AB7-B7A2-EB9D15EC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BF20D-D742-4882-950F-B8540D91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5E0C9-70D6-4B8B-A7DC-91DFB0B4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4A38B-59A8-41C0-8305-726CF24C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1A814-2447-450A-AC25-0551F9D3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AFE0C-160F-42C7-8B28-A0799EB9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99BF-6C93-43BE-B940-C75FE0C3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8B173-90FF-459A-8A04-89C9DEE8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57C5B-FF2D-4B75-83D6-4F257C85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65AC7-98CB-42EA-9ECE-C940D988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642D0-907A-458B-9970-6F76FD76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BB10B-857D-41F6-A7B0-DC7C1244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5B506-EC39-4F50-92A2-8968D1FA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EBCA7-9627-45CC-A14E-DB8C3AE1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91498-0ADC-4C6C-80FB-A39BD9BC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A56DF-58CA-4EC2-BC4F-A649804D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119C1-48E4-4E62-A921-F038940D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AC6F-8B12-48BD-99A6-CEAE8F99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C2EA7-0BF2-4459-A5DD-2D9B7060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1781E-725A-4876-BEA0-D638DE6F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F1B69-2A93-4BD6-90C3-F95C7120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15EC8-BA95-48E0-9C47-7B2CECFA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EAC04-A824-4B36-A69A-39149BB9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6EEEA-0D1C-46C0-A514-7BAB10EE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32C3D-8F89-4B59-B2E1-7E230826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5F678-6651-469D-9A0A-29557E9C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F6449-ED6E-4F50-BF0A-6D5E225A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5434F-C527-45AA-BF59-123EDF97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8E08-F08A-4304-92AC-A7209970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64C31-0824-4BA2-97EF-8A5688FA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275EC-0C3A-4897-9F49-9A69B912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9C34F-C88A-4510-9F88-FBBA98A3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517F4-AD5C-4811-B54F-01C4AD09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367E5-8D0E-4015-97F1-61F73253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98A5-82E8-48BC-8C00-3D391124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54DD-8664-4648-BF42-3D514A92C17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D053-0693-4F26-8051-DB6F43A4E347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40A1-7175-498D-9423-2B0AB6DBB31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8AFF-31A8-4B0C-8DE9-237A769B9FD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31B5-FFC2-46F1-B40B-DBABAADC778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7E7C-5A00-4C95-A9B0-3A7E7910D84E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8031-F584-4684-B036-CB020C18EFD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Рисунок 1" descr="83707.jpg"/>
          <p:cNvPicPr/>
          <p:nvPr/>
        </p:nvPicPr>
        <p:blipFill>
          <a:blip r:embed="rId1"/>
          <a:stretch/>
        </p:blipFill>
        <p:spPr>
          <a:xfrm>
            <a:off x="2143080" y="285840"/>
            <a:ext cx="4572000" cy="6262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Рисунок 1" descr="94994213_81508603_large_2835299_00004292.jpg"/>
          <p:cNvPicPr/>
          <p:nvPr/>
        </p:nvPicPr>
        <p:blipFill>
          <a:blip r:embed="rId1"/>
          <a:stretch/>
        </p:blipFill>
        <p:spPr>
          <a:xfrm>
            <a:off x="428760" y="642960"/>
            <a:ext cx="8272440" cy="5672160"/>
          </a:xfrm>
          <a:prstGeom prst="rect">
            <a:avLst/>
          </a:prstGeom>
          <a:ln w="0">
            <a:noFill/>
          </a:ln>
        </p:spPr>
      </p:pic>
      <p:pic>
        <p:nvPicPr>
          <p:cNvPr id="390" name="Golosa-ptic-Snegir_(muzofon.com).mp3" descr=""/>
          <p:cNvPicPr/>
          <p:nvPr/>
        </p:nvPicPr>
        <p:blipFill>
          <a:blip r:embed="rId2"/>
          <a:stretch/>
        </p:blipFill>
        <p:spPr>
          <a:xfrm>
            <a:off x="8001000" y="5438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5919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Рисунок 1" descr="83295094_082e82a92202ebe79e6b473c634fd745.jpg"/>
          <p:cNvPicPr/>
          <p:nvPr/>
        </p:nvPicPr>
        <p:blipFill>
          <a:blip r:embed="rId1"/>
          <a:stretch/>
        </p:blipFill>
        <p:spPr>
          <a:xfrm>
            <a:off x="928800" y="357120"/>
            <a:ext cx="7432560" cy="625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Рисунок 1" descr="0_74409_29115e8a_L.jpg.gif"/>
          <p:cNvPicPr/>
          <p:nvPr/>
        </p:nvPicPr>
        <p:blipFill>
          <a:blip r:embed="rId1"/>
          <a:stretch/>
        </p:blipFill>
        <p:spPr>
          <a:xfrm>
            <a:off x="1143000" y="55440"/>
            <a:ext cx="6643800" cy="6537600"/>
          </a:xfrm>
          <a:prstGeom prst="rect">
            <a:avLst/>
          </a:prstGeom>
          <a:ln w="0">
            <a:noFill/>
          </a:ln>
        </p:spPr>
      </p:pic>
      <p:pic>
        <p:nvPicPr>
          <p:cNvPr id="393" name="червяк.mp3" descr=""/>
          <p:cNvPicPr/>
          <p:nvPr/>
        </p:nvPicPr>
        <p:blipFill>
          <a:blip r:embed="rId2"/>
          <a:stretch/>
        </p:blipFill>
        <p:spPr>
          <a:xfrm>
            <a:off x="6500880" y="5214960"/>
            <a:ext cx="866880" cy="866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90233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Рисунок 1" descr="0019-025-V-tjomnom-frake-molchalivyj-Sanitar-neutomimyj-Sel-i-vytjanulsja-v-rost.jpg"/>
          <p:cNvPicPr/>
          <p:nvPr/>
        </p:nvPicPr>
        <p:blipFill>
          <a:blip r:embed="rId1"/>
          <a:stretch/>
        </p:blipFill>
        <p:spPr>
          <a:xfrm>
            <a:off x="1785960" y="214200"/>
            <a:ext cx="5857920" cy="639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Рисунок 1" descr="4311.jpg"/>
          <p:cNvPicPr/>
          <p:nvPr/>
        </p:nvPicPr>
        <p:blipFill>
          <a:blip r:embed="rId1"/>
          <a:stretch/>
        </p:blipFill>
        <p:spPr>
          <a:xfrm>
            <a:off x="785880" y="571680"/>
            <a:ext cx="7724880" cy="5690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Рисунок 1" descr="453474.jpg"/>
          <p:cNvPicPr/>
          <p:nvPr/>
        </p:nvPicPr>
        <p:blipFill>
          <a:blip r:embed="rId1"/>
          <a:stretch/>
        </p:blipFill>
        <p:spPr>
          <a:xfrm>
            <a:off x="1071720" y="785880"/>
            <a:ext cx="7243560" cy="5425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Рисунок 1" descr="6486771.jpg"/>
          <p:cNvPicPr/>
          <p:nvPr/>
        </p:nvPicPr>
        <p:blipFill>
          <a:blip r:embed="rId1"/>
          <a:srcRect l="1787" t="1753" r="1787" b="6137"/>
          <a:stretch/>
        </p:blipFill>
        <p:spPr>
          <a:xfrm>
            <a:off x="714240" y="785880"/>
            <a:ext cx="7817040" cy="54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Рисунок 1" descr="ac6d7b01d991.jpg"/>
          <p:cNvPicPr/>
          <p:nvPr/>
        </p:nvPicPr>
        <p:blipFill>
          <a:blip r:embed="rId1"/>
          <a:srcRect l="0" t="4651" r="659" b="3486"/>
          <a:stretch/>
        </p:blipFill>
        <p:spPr>
          <a:xfrm>
            <a:off x="714240" y="790560"/>
            <a:ext cx="7858440" cy="5442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1" descr="article-1173286-02A860CE000005DC-236_468x308.jpg"/>
          <p:cNvPicPr/>
          <p:nvPr/>
        </p:nvPicPr>
        <p:blipFill>
          <a:blip r:embed="rId1"/>
          <a:stretch/>
        </p:blipFill>
        <p:spPr>
          <a:xfrm>
            <a:off x="785880" y="534960"/>
            <a:ext cx="7680240" cy="5751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Рисунок 1" descr="0a0a132ffae46aa49281f269e1539279.jpg"/>
          <p:cNvPicPr/>
          <p:nvPr/>
        </p:nvPicPr>
        <p:blipFill>
          <a:blip r:embed="rId1"/>
          <a:stretch/>
        </p:blipFill>
        <p:spPr>
          <a:xfrm>
            <a:off x="428760" y="496800"/>
            <a:ext cx="8381880" cy="5932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1" descr="85868827_large_PERELYOTNUYE_PTICUY.gif"/>
          <p:cNvPicPr/>
          <p:nvPr/>
        </p:nvPicPr>
        <p:blipFill>
          <a:blip r:embed="rId1"/>
          <a:stretch/>
        </p:blipFill>
        <p:spPr>
          <a:xfrm>
            <a:off x="290520" y="428760"/>
            <a:ext cx="8562960" cy="592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Рисунок 1" descr="0007-010-Pravilnye-otvety-uroka-istorii.jpg"/>
          <p:cNvPicPr/>
          <p:nvPr/>
        </p:nvPicPr>
        <p:blipFill>
          <a:blip r:embed="rId1"/>
          <a:stretch/>
        </p:blipFill>
        <p:spPr>
          <a:xfrm>
            <a:off x="714240" y="500040"/>
            <a:ext cx="7851960" cy="57024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1"/>
          <p:cNvSpPr/>
          <p:nvPr/>
        </p:nvSpPr>
        <p:spPr>
          <a:xfrm>
            <a:off x="785880" y="545040"/>
            <a:ext cx="83581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тичка на большой сосн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м стрекочет: клё-клё-клё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вердый клюв похож на крест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Семена из шишек есть.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1" descr="800507-1525e3bda72d6e62.jpg"/>
          <p:cNvPicPr/>
          <p:nvPr/>
        </p:nvPicPr>
        <p:blipFill>
          <a:blip r:embed="rId1"/>
          <a:stretch/>
        </p:blipFill>
        <p:spPr>
          <a:xfrm>
            <a:off x="1785960" y="642960"/>
            <a:ext cx="5688000" cy="5737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5" name="7658_5-rebyataizveryata-80 - копия_cut(1)_cut(1)_cut_cut - копия.mp4" descr=""/>
          <p:cNvPicPr/>
          <p:nvPr/>
        </p:nvPicPr>
        <p:blipFill>
          <a:blip r:embed="rId1"/>
          <a:stretch/>
        </p:blipFill>
        <p:spPr>
          <a:xfrm>
            <a:off x="2514600" y="23558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4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Рисунок 1" descr="karkusha.jpg"/>
          <p:cNvPicPr/>
          <p:nvPr/>
        </p:nvPicPr>
        <p:blipFill>
          <a:blip r:embed="rId1"/>
          <a:stretch/>
        </p:blipFill>
        <p:spPr>
          <a:xfrm>
            <a:off x="2071800" y="214200"/>
            <a:ext cx="5143320" cy="6350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1"/>
          <p:cNvSpPr/>
          <p:nvPr/>
        </p:nvSpPr>
        <p:spPr>
          <a:xfrm>
            <a:off x="2357280" y="857160"/>
            <a:ext cx="457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Серый, маленький, смешн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Скачет рядышком со м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Я ему насыплю кроше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Отгоню подальше кош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Ты чирикай веселе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Мой хороший…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(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вороб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"/>
          <p:cNvSpPr/>
          <p:nvPr/>
        </p:nvSpPr>
        <p:spPr>
          <a:xfrm>
            <a:off x="714240" y="714600"/>
            <a:ext cx="8429760" cy="5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Рисунок 5" descr="53853952_vorobey1.jpg"/>
          <p:cNvPicPr/>
          <p:nvPr/>
        </p:nvPicPr>
        <p:blipFill>
          <a:blip r:embed="rId1"/>
          <a:stretch/>
        </p:blipFill>
        <p:spPr>
          <a:xfrm>
            <a:off x="500040" y="428760"/>
            <a:ext cx="8167680" cy="6126120"/>
          </a:xfrm>
          <a:prstGeom prst="rect">
            <a:avLst/>
          </a:prstGeom>
          <a:ln w="0">
            <a:noFill/>
          </a:ln>
        </p:spPr>
      </p:pic>
      <p:pic>
        <p:nvPicPr>
          <p:cNvPr id="380" name="Golosa-ptic-Vorobey(muzofon.com).mp3" descr=""/>
          <p:cNvPicPr/>
          <p:nvPr/>
        </p:nvPicPr>
        <p:blipFill>
          <a:blip r:embed="rId2"/>
          <a:stretch/>
        </p:blipFill>
        <p:spPr>
          <a:xfrm>
            <a:off x="8001000" y="5643720"/>
            <a:ext cx="928800" cy="92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032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1" descr="1333945626_038.jpg"/>
          <p:cNvPicPr/>
          <p:nvPr/>
        </p:nvPicPr>
        <p:blipFill>
          <a:blip r:embed="rId1"/>
          <a:stretch/>
        </p:blipFill>
        <p:spPr>
          <a:xfrm>
            <a:off x="357120" y="571680"/>
            <a:ext cx="8479080" cy="557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Рисунок 2" descr="1.jpg"/>
          <p:cNvPicPr/>
          <p:nvPr/>
        </p:nvPicPr>
        <p:blipFill>
          <a:blip r:embed="rId1"/>
          <a:stretch/>
        </p:blipFill>
        <p:spPr>
          <a:xfrm>
            <a:off x="428760" y="500040"/>
            <a:ext cx="8426160" cy="592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1" descr="640 - копия.jpg"/>
          <p:cNvPicPr/>
          <p:nvPr/>
        </p:nvPicPr>
        <p:blipFill>
          <a:blip r:embed="rId1"/>
          <a:stretch/>
        </p:blipFill>
        <p:spPr>
          <a:xfrm>
            <a:off x="428760" y="857160"/>
            <a:ext cx="3730320" cy="494676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2" descr="640 - копия (2).jpg"/>
          <p:cNvPicPr/>
          <p:nvPr/>
        </p:nvPicPr>
        <p:blipFill>
          <a:blip r:embed="rId2"/>
          <a:stretch/>
        </p:blipFill>
        <p:spPr>
          <a:xfrm>
            <a:off x="4143240" y="857160"/>
            <a:ext cx="3700440" cy="250056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3" descr="640 - копия (3).jpg"/>
          <p:cNvPicPr/>
          <p:nvPr/>
        </p:nvPicPr>
        <p:blipFill>
          <a:blip r:embed="rId3"/>
          <a:stretch/>
        </p:blipFill>
        <p:spPr>
          <a:xfrm>
            <a:off x="3857760" y="3286080"/>
            <a:ext cx="400032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Рисунок 2" descr="640.jpg"/>
          <p:cNvPicPr/>
          <p:nvPr/>
        </p:nvPicPr>
        <p:blipFill>
          <a:blip r:embed="rId1"/>
          <a:stretch/>
        </p:blipFill>
        <p:spPr>
          <a:xfrm>
            <a:off x="785880" y="903240"/>
            <a:ext cx="7961400" cy="5311800"/>
          </a:xfrm>
          <a:prstGeom prst="rect">
            <a:avLst/>
          </a:prstGeom>
          <a:ln w="0">
            <a:noFill/>
          </a:ln>
        </p:spPr>
      </p:pic>
      <p:pic>
        <p:nvPicPr>
          <p:cNvPr id="387" name="Golosa-ptic-Bol_shaya-sinica(muzofon.com).mp3" descr=""/>
          <p:cNvPicPr/>
          <p:nvPr/>
        </p:nvPicPr>
        <p:blipFill>
          <a:blip r:embed="rId2"/>
          <a:stretch/>
        </p:blipFill>
        <p:spPr>
          <a:xfrm>
            <a:off x="8001000" y="5919840"/>
            <a:ext cx="938160" cy="938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5143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Рисунок 1" descr="TZlKO.jpg"/>
          <p:cNvPicPr/>
          <p:nvPr/>
        </p:nvPicPr>
        <p:blipFill>
          <a:blip r:embed="rId1"/>
          <a:srcRect l="0" t="0" r="24173" b="0"/>
          <a:stretch/>
        </p:blipFill>
        <p:spPr>
          <a:xfrm>
            <a:off x="928800" y="214200"/>
            <a:ext cx="7318440" cy="6434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3T18:33:45Z</dcterms:created>
  <dc:creator>DNA7 X86</dc:creator>
  <dc:description/>
  <dc:language>en-US</dc:language>
  <cp:lastModifiedBy>DNA7 X86</cp:lastModifiedBy>
  <dcterms:modified xsi:type="dcterms:W3CDTF">2015-01-06T08:41:08Z</dcterms:modified>
  <cp:revision>80</cp:revision>
  <dc:subject/>
  <dc:title>Слайд 1</dc:title>
</cp:coreProperties>
</file>