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784-650F-410F-A411-08D17EBD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220-7BA8-48A1-AC4E-903517F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05A-EFDF-42A0-82DC-3E5AF93E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B4F-FD09-4D6E-A348-680FE393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FEB-D91A-459D-B988-9F4A7CCE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814-B06D-41C8-9B0D-6D65E639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4AB-CF53-4056-AD89-CF34E98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A8B-40D1-405E-A006-8026ADF2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E30-14C6-4A47-AF1B-6193354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551-F504-4B2C-B995-B3CE817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9FD-9175-4CF5-AF81-0D125999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391-ECE9-416D-82A4-93DD212A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D66-572A-44FB-8626-1E8A042E1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1499760"/>
            <a:ext cx="67294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«ВЕСНЯНОЧ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ОО «МУЗЫ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В СРЕДНЕ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249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ртьяно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С № !82 «Золотой клю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о.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2060640"/>
            <a:ext cx="6728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Группа 6"/>
          <p:cNvGrpSpPr/>
          <p:nvPr/>
        </p:nvGrpSpPr>
        <p:grpSpPr>
          <a:xfrm>
            <a:off x="1187280" y="260280"/>
            <a:ext cx="7956720" cy="668520"/>
            <a:chOff x="1187280" y="260280"/>
            <a:chExt cx="7956720" cy="668520"/>
          </a:xfrm>
        </p:grpSpPr>
        <p:sp>
          <p:nvSpPr>
            <p:cNvPr id="44" name="Прямоугольник с одним скругленным углом 7"/>
            <p:cNvSpPr/>
            <p:nvPr/>
          </p:nvSpPr>
          <p:spPr>
            <a:xfrm flipH="1">
              <a:off x="1685520" y="260280"/>
              <a:ext cx="7458480" cy="66852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Овал 11"/>
            <p:cNvSpPr/>
            <p:nvPr/>
          </p:nvSpPr>
          <p:spPr>
            <a:xfrm>
              <a:off x="1187280" y="260280"/>
              <a:ext cx="1322280" cy="66852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Заголовок 1"/>
          <p:cNvSpPr/>
          <p:nvPr/>
        </p:nvSpPr>
        <p:spPr>
          <a:xfrm>
            <a:off x="2428920" y="1285920"/>
            <a:ext cx="60008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428920" y="5357880"/>
            <a:ext cx="6000840" cy="1071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Музыкальные зарисов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Способствовать развитию музыкальных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пособностей  воспитанников  через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грированную образовательную область  с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спользованием методов и приемов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емлемых для среднего возра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228600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инантная деятельность через музыкальное воспитание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54120" y="836280"/>
            <a:ext cx="603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Музыка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 накопление опыта взаимодействия с музыкальными произведениями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Познавате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средствами разных видов искусств, приобщение  детей к восприятию образа весны, вызывать соответствующий откл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Художественно – эстет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 формирование  умения чувствовать характерные особенности художественного обр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мулирование творчества детей к двигательным импровиза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оммуникативное развитие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гащение словаря детей музыкальными терминами образного вос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Социально-коммуникативное и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- воспитание  любви  к природе через моделирование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здоровительная область  «Физ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использование  элементов  здоровьесберегающих технологий, как:  психогимнастика  и двигательная активность;  способствовать развитие мелкой  и крупной моторики р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857680" y="2205000"/>
            <a:ext cx="5027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Формировать художественно – эстетический вкус средствами разных видов искусств, приобщать детей к восприятию образа весны, вызывать соответствующий отк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Развивать у ребёнка позиции активного участника, исполнителя, творческого созид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Воспитывать дружеские взаимоотношения, взаимовыручку, культуру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54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14760" y="404280"/>
            <a:ext cx="500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3"/>
          <p:cNvSpPr/>
          <p:nvPr/>
        </p:nvSpPr>
        <p:spPr>
          <a:xfrm>
            <a:off x="12859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 flipH="1">
            <a:off x="67867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6"/>
          <p:cNvGrpSpPr/>
          <p:nvPr/>
        </p:nvGrpSpPr>
        <p:grpSpPr>
          <a:xfrm>
            <a:off x="971640" y="189000"/>
            <a:ext cx="7956000" cy="1081080"/>
            <a:chOff x="971640" y="189000"/>
            <a:chExt cx="7956000" cy="1081080"/>
          </a:xfrm>
        </p:grpSpPr>
        <p:sp>
          <p:nvSpPr>
            <p:cNvPr id="60" name="Прямоугольник с одним скругленным углом 26"/>
            <p:cNvSpPr/>
            <p:nvPr/>
          </p:nvSpPr>
          <p:spPr>
            <a:xfrm flipH="1">
              <a:off x="1469160" y="189000"/>
              <a:ext cx="745812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Овал 27"/>
            <p:cNvSpPr/>
            <p:nvPr/>
          </p:nvSpPr>
          <p:spPr>
            <a:xfrm>
              <a:off x="971640" y="18900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29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есенная импровизация</a:t>
            </a:r>
            <a:br>
              <a:rPr sz="2800"/>
            </a:b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953735"/>
                </a:solidFill>
                <a:uFillTx/>
                <a:latin typeface="Arial"/>
              </a:rPr>
              <a:t>«К нам опять пришла вес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4000680" y="1571760"/>
            <a:ext cx="36648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785960" y="2500200"/>
            <a:ext cx="2071800" cy="1322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504d"/>
              </a:gs>
              <a:gs pos="100000">
                <a:srgbClr val="86383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46"/>
          <p:cNvGrpSpPr/>
          <p:nvPr/>
        </p:nvGrpSpPr>
        <p:grpSpPr>
          <a:xfrm>
            <a:off x="2928960" y="4964040"/>
            <a:ext cx="2004840" cy="1322640"/>
            <a:chOff x="2928960" y="4964040"/>
            <a:chExt cx="2004840" cy="1322640"/>
          </a:xfrm>
        </p:grpSpPr>
        <p:grpSp>
          <p:nvGrpSpPr>
            <p:cNvPr id="66" name="AutoShape 7"/>
            <p:cNvGrpSpPr/>
            <p:nvPr/>
          </p:nvGrpSpPr>
          <p:grpSpPr>
            <a:xfrm>
              <a:off x="2928960" y="4964040"/>
              <a:ext cx="2004840" cy="1322640"/>
              <a:chOff x="2928960" y="4964040"/>
              <a:chExt cx="2004840" cy="1322640"/>
            </a:xfrm>
          </p:grpSpPr>
          <p:sp>
            <p:nvSpPr>
              <p:cNvPr id="67" name="AutoShape 7"/>
              <p:cNvSpPr/>
              <p:nvPr/>
            </p:nvSpPr>
            <p:spPr>
              <a:xfrm>
                <a:off x="2928960" y="4964040"/>
                <a:ext cx="2004840" cy="13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21"/>
              <p:cNvSpPr/>
              <p:nvPr/>
            </p:nvSpPr>
            <p:spPr>
              <a:xfrm>
                <a:off x="3032640" y="5042160"/>
                <a:ext cx="180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Freeform 12"/>
            <p:cNvSpPr/>
            <p:nvPr/>
          </p:nvSpPr>
          <p:spPr>
            <a:xfrm>
              <a:off x="3056760" y="5065560"/>
              <a:ext cx="640440" cy="60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16"/>
          <p:cNvSpPr/>
          <p:nvPr/>
        </p:nvSpPr>
        <p:spPr>
          <a:xfrm>
            <a:off x="1788480" y="2643120"/>
            <a:ext cx="2099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ЗИМ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ТРАДИЦИО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7431480" y="2523960"/>
            <a:ext cx="31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6072120" y="2428920"/>
            <a:ext cx="2005200" cy="1322280"/>
            <a:chOff x="6072120" y="2428920"/>
            <a:chExt cx="2005200" cy="1322280"/>
          </a:xfrm>
        </p:grpSpPr>
        <p:grpSp>
          <p:nvGrpSpPr>
            <p:cNvPr id="73" name="AutoShape 7"/>
            <p:cNvGrpSpPr/>
            <p:nvPr/>
          </p:nvGrpSpPr>
          <p:grpSpPr>
            <a:xfrm>
              <a:off x="6072120" y="2428920"/>
              <a:ext cx="2005200" cy="1322280"/>
              <a:chOff x="6072120" y="2428920"/>
              <a:chExt cx="2005200" cy="1322280"/>
            </a:xfrm>
          </p:grpSpPr>
          <p:sp>
            <p:nvSpPr>
              <p:cNvPr id="74" name="AutoShape 7"/>
              <p:cNvSpPr/>
              <p:nvPr/>
            </p:nvSpPr>
            <p:spPr>
              <a:xfrm>
                <a:off x="6072120" y="2428920"/>
                <a:ext cx="2005200" cy="13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7"/>
              <p:cNvSpPr/>
              <p:nvPr/>
            </p:nvSpPr>
            <p:spPr>
              <a:xfrm>
                <a:off x="6173640" y="2507760"/>
                <a:ext cx="180792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Freeform 12"/>
            <p:cNvSpPr/>
            <p:nvPr/>
          </p:nvSpPr>
          <p:spPr>
            <a:xfrm>
              <a:off x="6197760" y="2530800"/>
              <a:ext cx="640800" cy="60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Rectangle 9"/>
          <p:cNvSpPr/>
          <p:nvPr/>
        </p:nvSpPr>
        <p:spPr>
          <a:xfrm>
            <a:off x="6148800" y="2643120"/>
            <a:ext cx="1899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СЕН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ДИЦИО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5572080" y="1571760"/>
            <a:ext cx="36684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6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450800" y="1357200"/>
            <a:ext cx="6242400" cy="441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1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71480" y="713880"/>
            <a:ext cx="5715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«ВСЕ МЫ МУЗЫКАНТЫ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Documents and Settings\net\Рабочий стол\итог зан\DSCN1555.JPG"/>
          <p:cNvPicPr/>
          <p:nvPr/>
        </p:nvPicPr>
        <p:blipFill>
          <a:blip r:embed="rId2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5929200" y="2860560"/>
            <a:ext cx="2928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6" descr="C:\Documents and Settings\net\Рабочий стол\итог зан\DSCN1550.JPG"/>
          <p:cNvPicPr/>
          <p:nvPr/>
        </p:nvPicPr>
        <p:blipFill>
          <a:blip r:embed="rId2"/>
          <a:stretch/>
        </p:blipFill>
        <p:spPr>
          <a:xfrm>
            <a:off x="1450800" y="620640"/>
            <a:ext cx="70088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9" name="Прямоугольник с одним скругленным углом 26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Овал 27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2500200" y="3214800"/>
            <a:ext cx="5993640" cy="1215360"/>
            <a:chOff x="2500200" y="3214800"/>
            <a:chExt cx="5993640" cy="1215360"/>
          </a:xfrm>
        </p:grpSpPr>
        <p:grpSp>
          <p:nvGrpSpPr>
            <p:cNvPr id="92" name="AutoShape 6"/>
            <p:cNvGrpSpPr/>
            <p:nvPr/>
          </p:nvGrpSpPr>
          <p:grpSpPr>
            <a:xfrm>
              <a:off x="2500200" y="3214800"/>
              <a:ext cx="5993640" cy="1215360"/>
              <a:chOff x="2500200" y="3214800"/>
              <a:chExt cx="5993640" cy="121536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2500200" y="3214800"/>
                <a:ext cx="5993640" cy="12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2735640" y="3411360"/>
                <a:ext cx="5532480" cy="7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AutoShape 7"/>
            <p:cNvGrpSpPr/>
            <p:nvPr/>
          </p:nvGrpSpPr>
          <p:grpSpPr>
            <a:xfrm>
              <a:off x="8088840" y="3381120"/>
              <a:ext cx="377280" cy="871200"/>
              <a:chOff x="8088840" y="3381120"/>
              <a:chExt cx="377280" cy="871200"/>
            </a:xfrm>
          </p:grpSpPr>
          <p:sp>
            <p:nvSpPr>
              <p:cNvPr id="96" name="AutoShape 7"/>
              <p:cNvSpPr/>
              <p:nvPr/>
            </p:nvSpPr>
            <p:spPr>
              <a:xfrm>
                <a:off x="8088840" y="3381120"/>
                <a:ext cx="37728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8"/>
              <p:cNvSpPr/>
              <p:nvPr/>
            </p:nvSpPr>
            <p:spPr>
              <a:xfrm>
                <a:off x="835596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AutoShape 8"/>
            <p:cNvGrpSpPr/>
            <p:nvPr/>
          </p:nvGrpSpPr>
          <p:grpSpPr>
            <a:xfrm>
              <a:off x="2567520" y="3381120"/>
              <a:ext cx="369360" cy="871200"/>
              <a:chOff x="2567520" y="3381120"/>
              <a:chExt cx="369360" cy="871200"/>
            </a:xfrm>
          </p:grpSpPr>
          <p:sp>
            <p:nvSpPr>
              <p:cNvPr id="99" name="AutoShape 8"/>
              <p:cNvSpPr/>
              <p:nvPr/>
            </p:nvSpPr>
            <p:spPr>
              <a:xfrm>
                <a:off x="2567520" y="3381120"/>
                <a:ext cx="36936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31"/>
              <p:cNvSpPr/>
              <p:nvPr/>
            </p:nvSpPr>
            <p:spPr>
              <a:xfrm>
                <a:off x="264132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Заголовок 1"/>
          <p:cNvSpPr/>
          <p:nvPr/>
        </p:nvSpPr>
        <p:spPr>
          <a:xfrm>
            <a:off x="2340000" y="3213000"/>
            <a:ext cx="6254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786040" y="5143680"/>
            <a:ext cx="6000120" cy="999360"/>
            <a:chOff x="2786040" y="5143680"/>
            <a:chExt cx="6000120" cy="999360"/>
          </a:xfrm>
        </p:grpSpPr>
        <p:sp>
          <p:nvSpPr>
            <p:cNvPr id="103" name="AutoShape 6"/>
            <p:cNvSpPr/>
            <p:nvPr/>
          </p:nvSpPr>
          <p:spPr>
            <a:xfrm>
              <a:off x="2786040" y="5143680"/>
              <a:ext cx="6000120" cy="99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3f3d"/>
                </a:gs>
                <a:gs pos="50000">
                  <a:srgbClr val="c0504d"/>
                </a:gs>
                <a:gs pos="100000">
                  <a:srgbClr val="983f3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МЫ ТАНЦУЕМ И ПОЕМ, ВОТ КАК ВЕСЕЛО ЖИВЕ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AutoShape 7"/>
            <p:cNvGrpSpPr/>
            <p:nvPr/>
          </p:nvGrpSpPr>
          <p:grpSpPr>
            <a:xfrm>
              <a:off x="8476920" y="5286240"/>
              <a:ext cx="281880" cy="707040"/>
              <a:chOff x="8476920" y="5286240"/>
              <a:chExt cx="281880" cy="7070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8476920" y="5286240"/>
                <a:ext cx="28188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869472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AutoShape 8"/>
            <p:cNvGrpSpPr/>
            <p:nvPr/>
          </p:nvGrpSpPr>
          <p:grpSpPr>
            <a:xfrm>
              <a:off x="2840400" y="5286240"/>
              <a:ext cx="281160" cy="707040"/>
              <a:chOff x="2840400" y="5286240"/>
              <a:chExt cx="281160" cy="70704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2840400" y="5286240"/>
                <a:ext cx="2811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Text Box 15"/>
              <p:cNvSpPr/>
              <p:nvPr/>
            </p:nvSpPr>
            <p:spPr>
              <a:xfrm>
                <a:off x="286668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35" descr="C:\Documents and Settings\net\Рабочий стол\итог зан\DSCN1563.JPG"/>
          <p:cNvPicPr/>
          <p:nvPr/>
        </p:nvPicPr>
        <p:blipFill>
          <a:blip r:embed="rId2"/>
          <a:stretch/>
        </p:blipFill>
        <p:spPr>
          <a:xfrm>
            <a:off x="2195640" y="404640"/>
            <a:ext cx="6013440" cy="46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ИРЕ КРУГ, ШИРЕ КРУ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Ы МОЙ ДРУГ-И Я ТВОЙ 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Admin</cp:lastModifiedBy>
  <dcterms:modified xsi:type="dcterms:W3CDTF">2018-01-09T07:46:34Z</dcterms:modified>
  <cp:revision>161</cp:revision>
  <dc:subject/>
  <dc:title>Шаблон презентации</dc:title>
</cp:coreProperties>
</file>