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B09-5B7D-4909-9709-49C3E007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49B-7F0A-4556-85C9-E9173CE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1F3-36C6-47D8-98FC-538339A8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FD4-E468-4E87-9A44-771C14DB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316-8121-4FCD-83BB-0C4B838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CFA-57E1-4D70-A33D-FF288E51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572-AE73-4F2C-AC85-625435D0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937-A403-46D9-B232-F06247D1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6BE-FEE4-4683-98CD-BB234192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406-940D-44EF-9E69-757C90C0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267-F5C9-4693-9628-14357BA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A91-681B-428F-B3ED-F68C1C1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11A5-1BA5-422B-B70C-AA79A523E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6880" y="1499760"/>
            <a:ext cx="67294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Arial"/>
              </a:rPr>
              <a:t>«ВЕСНЯНОЧКА»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ОО «МУЗЫКА»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В СРЕДНЕЙ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4786200"/>
            <a:ext cx="42498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артьянова Н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С № !82 «Золотой ключ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.о.Тольят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3640" y="2060640"/>
            <a:ext cx="67280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Группа 6"/>
          <p:cNvGrpSpPr/>
          <p:nvPr/>
        </p:nvGrpSpPr>
        <p:grpSpPr>
          <a:xfrm>
            <a:off x="1187280" y="260280"/>
            <a:ext cx="7956720" cy="668520"/>
            <a:chOff x="1187280" y="260280"/>
            <a:chExt cx="7956720" cy="668520"/>
          </a:xfrm>
        </p:grpSpPr>
        <p:sp>
          <p:nvSpPr>
            <p:cNvPr id="44" name="Прямоугольник с одним скругленным углом 7"/>
            <p:cNvSpPr/>
            <p:nvPr/>
          </p:nvSpPr>
          <p:spPr>
            <a:xfrm flipH="1">
              <a:off x="1685520" y="260280"/>
              <a:ext cx="7458480" cy="66852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Овал 11"/>
            <p:cNvSpPr/>
            <p:nvPr/>
          </p:nvSpPr>
          <p:spPr>
            <a:xfrm>
              <a:off x="1187280" y="260280"/>
              <a:ext cx="1322280" cy="66852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Заголовок 1"/>
          <p:cNvSpPr/>
          <p:nvPr/>
        </p:nvSpPr>
        <p:spPr>
          <a:xfrm>
            <a:off x="2428920" y="1285920"/>
            <a:ext cx="60008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428920" y="5357880"/>
            <a:ext cx="6000840" cy="1071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«Музыкальные зарисовк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Способствовать развитию музыкальных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пособностей  воспитанников  через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грированную образовательную область  с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спользованием методов и приемов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емлемых для среднего возраст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228600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минантная деятельность через музыкальное воспитание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нтеграция образовательных областей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54120" y="836280"/>
            <a:ext cx="6035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«Музыкальн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  накопление опыта взаимодействия с музыкальными произведениями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«Познавательн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средствами разных видов искусств, приобщение  детей к восприятию образа весны, вызывать соответствующий откл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«Художественно – эстетическ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 формирование  умения чувствовать характерные особенности художественного обра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мулирование творчества детей к двигательным импровизаци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оммуникативное развитие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гащение словаря детей музыкальными терминами образного вос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тельная область  «Социально-коммуникативное и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- воспитание  любви  к природе через моделирование музыкального образ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здоровительная область  «Физическое развити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 использование  элементов  здоровьесберегающих технологий, как:  психогимнастика  и двигательная активность;  способствовать развитие мелкой  и крупной моторики р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2857680" y="2205000"/>
            <a:ext cx="5027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Формировать художественно – эстетический вкус средствами разных видов искусств, приобщать детей к восприятию образа весны, вызывать соответствующий отк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Развивать у ребёнка позиции активного участника, исполнителя, творческого созид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Воспитывать дружеские взаимоотношения, взаимовыручку, культуру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54" name="Прямоугольник с одним скругленным углом 3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Овал 5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14760" y="404280"/>
            <a:ext cx="5000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3"/>
          <p:cNvSpPr/>
          <p:nvPr/>
        </p:nvSpPr>
        <p:spPr>
          <a:xfrm>
            <a:off x="1285920" y="1071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 flipH="1">
            <a:off x="6786720" y="107172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6"/>
          <p:cNvGrpSpPr/>
          <p:nvPr/>
        </p:nvGrpSpPr>
        <p:grpSpPr>
          <a:xfrm>
            <a:off x="971640" y="189000"/>
            <a:ext cx="7956000" cy="1081080"/>
            <a:chOff x="971640" y="189000"/>
            <a:chExt cx="7956000" cy="1081080"/>
          </a:xfrm>
        </p:grpSpPr>
        <p:sp>
          <p:nvSpPr>
            <p:cNvPr id="60" name="Прямоугольник с одним скругленным углом 26"/>
            <p:cNvSpPr/>
            <p:nvPr/>
          </p:nvSpPr>
          <p:spPr>
            <a:xfrm flipH="1">
              <a:off x="1469160" y="189000"/>
              <a:ext cx="745812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Овал 27"/>
            <p:cNvSpPr/>
            <p:nvPr/>
          </p:nvSpPr>
          <p:spPr>
            <a:xfrm>
              <a:off x="971640" y="18900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29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Песенная импровизация</a:t>
            </a:r>
            <a:br>
              <a:rPr sz="2800"/>
            </a:br>
            <a:r>
              <a:rPr b="1" lang="ru-RU" sz="3200" spc="-1" strike="noStrike" u="sng">
                <a:solidFill>
                  <a:srgbClr val="953735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953735"/>
                </a:solidFill>
                <a:uFillTx/>
                <a:latin typeface="Arial"/>
              </a:rPr>
              <a:t>«К нам опять пришла вес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4000680" y="1571760"/>
            <a:ext cx="366480" cy="33480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785960" y="2500200"/>
            <a:ext cx="2071800" cy="1322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0504d"/>
              </a:gs>
              <a:gs pos="100000">
                <a:srgbClr val="86383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46"/>
          <p:cNvGrpSpPr/>
          <p:nvPr/>
        </p:nvGrpSpPr>
        <p:grpSpPr>
          <a:xfrm>
            <a:off x="2928960" y="4964040"/>
            <a:ext cx="2004840" cy="1322640"/>
            <a:chOff x="2928960" y="4964040"/>
            <a:chExt cx="2004840" cy="1322640"/>
          </a:xfrm>
        </p:grpSpPr>
        <p:grpSp>
          <p:nvGrpSpPr>
            <p:cNvPr id="66" name="AutoShape 7"/>
            <p:cNvGrpSpPr/>
            <p:nvPr/>
          </p:nvGrpSpPr>
          <p:grpSpPr>
            <a:xfrm>
              <a:off x="2928960" y="4964040"/>
              <a:ext cx="2004840" cy="1322640"/>
              <a:chOff x="2928960" y="4964040"/>
              <a:chExt cx="2004840" cy="1322640"/>
            </a:xfrm>
          </p:grpSpPr>
          <p:sp>
            <p:nvSpPr>
              <p:cNvPr id="67" name="AutoShape 7"/>
              <p:cNvSpPr/>
              <p:nvPr/>
            </p:nvSpPr>
            <p:spPr>
              <a:xfrm>
                <a:off x="2928960" y="4964040"/>
                <a:ext cx="2004840" cy="13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21"/>
              <p:cNvSpPr/>
              <p:nvPr/>
            </p:nvSpPr>
            <p:spPr>
              <a:xfrm>
                <a:off x="3032640" y="5042160"/>
                <a:ext cx="180756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Freeform 12"/>
            <p:cNvSpPr/>
            <p:nvPr/>
          </p:nvSpPr>
          <p:spPr>
            <a:xfrm>
              <a:off x="3056760" y="5065560"/>
              <a:ext cx="640440" cy="609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Rectangle 16"/>
          <p:cNvSpPr/>
          <p:nvPr/>
        </p:nvSpPr>
        <p:spPr>
          <a:xfrm>
            <a:off x="1788480" y="2643120"/>
            <a:ext cx="2099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ЗИМ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ТРАДИЦИО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ПРАЗД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7431480" y="2523960"/>
            <a:ext cx="311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47"/>
          <p:cNvGrpSpPr/>
          <p:nvPr/>
        </p:nvGrpSpPr>
        <p:grpSpPr>
          <a:xfrm>
            <a:off x="6072120" y="2428920"/>
            <a:ext cx="2005200" cy="1322280"/>
            <a:chOff x="6072120" y="2428920"/>
            <a:chExt cx="2005200" cy="1322280"/>
          </a:xfrm>
        </p:grpSpPr>
        <p:grpSp>
          <p:nvGrpSpPr>
            <p:cNvPr id="73" name="AutoShape 7"/>
            <p:cNvGrpSpPr/>
            <p:nvPr/>
          </p:nvGrpSpPr>
          <p:grpSpPr>
            <a:xfrm>
              <a:off x="6072120" y="2428920"/>
              <a:ext cx="2005200" cy="1322280"/>
              <a:chOff x="6072120" y="2428920"/>
              <a:chExt cx="2005200" cy="1322280"/>
            </a:xfrm>
          </p:grpSpPr>
          <p:sp>
            <p:nvSpPr>
              <p:cNvPr id="74" name="AutoShape 7"/>
              <p:cNvSpPr/>
              <p:nvPr/>
            </p:nvSpPr>
            <p:spPr>
              <a:xfrm>
                <a:off x="6072120" y="2428920"/>
                <a:ext cx="2005200" cy="13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 Box 17"/>
              <p:cNvSpPr/>
              <p:nvPr/>
            </p:nvSpPr>
            <p:spPr>
              <a:xfrm>
                <a:off x="6173640" y="2507760"/>
                <a:ext cx="1807920" cy="11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Freeform 12"/>
            <p:cNvSpPr/>
            <p:nvPr/>
          </p:nvSpPr>
          <p:spPr>
            <a:xfrm>
              <a:off x="6197760" y="2530800"/>
              <a:ext cx="640800" cy="60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Rectangle 9"/>
          <p:cNvSpPr/>
          <p:nvPr/>
        </p:nvSpPr>
        <p:spPr>
          <a:xfrm>
            <a:off x="6148800" y="2643120"/>
            <a:ext cx="1899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СЕН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АДИЦИО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5572080" y="1571760"/>
            <a:ext cx="366840" cy="33480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6" descr="C:\Documents and Settings\net\Рабочий стол\итог зан\DSCN1539.JPG"/>
          <p:cNvPicPr/>
          <p:nvPr/>
        </p:nvPicPr>
        <p:blipFill>
          <a:blip r:embed="rId2"/>
          <a:stretch/>
        </p:blipFill>
        <p:spPr>
          <a:xfrm>
            <a:off x="1450800" y="1357200"/>
            <a:ext cx="6242400" cy="441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81" name="Прямоугольник с одним скругленным углом 3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Овал 5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71480" y="713880"/>
            <a:ext cx="5715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«ВСЕ МЫ МУЗЫКАНТЫ…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C:\Documents and Settings\net\Рабочий стол\итог зан\DSCN1555.JPG"/>
          <p:cNvPicPr/>
          <p:nvPr/>
        </p:nvPicPr>
        <p:blipFill>
          <a:blip r:embed="rId2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1"/>
          <p:cNvSpPr/>
          <p:nvPr/>
        </p:nvSpPr>
        <p:spPr>
          <a:xfrm>
            <a:off x="5929200" y="2860560"/>
            <a:ext cx="2928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S Mincho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6" descr="C:\Documents and Settings\net\Рабочий стол\итог зан\DSCN1550.JPG"/>
          <p:cNvPicPr/>
          <p:nvPr/>
        </p:nvPicPr>
        <p:blipFill>
          <a:blip r:embed="rId2"/>
          <a:stretch/>
        </p:blipFill>
        <p:spPr>
          <a:xfrm>
            <a:off x="1450800" y="620640"/>
            <a:ext cx="700884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6"/>
          <p:cNvGrpSpPr/>
          <p:nvPr/>
        </p:nvGrpSpPr>
        <p:grpSpPr>
          <a:xfrm>
            <a:off x="1187280" y="260280"/>
            <a:ext cx="7956720" cy="1081080"/>
            <a:chOff x="1187280" y="260280"/>
            <a:chExt cx="7956720" cy="1081080"/>
          </a:xfrm>
        </p:grpSpPr>
        <p:sp>
          <p:nvSpPr>
            <p:cNvPr id="89" name="Прямоугольник с одним скругленным углом 26"/>
            <p:cNvSpPr/>
            <p:nvPr/>
          </p:nvSpPr>
          <p:spPr>
            <a:xfrm flipH="1">
              <a:off x="1685520" y="260280"/>
              <a:ext cx="7458480" cy="1081080"/>
            </a:xfrm>
            <a:prstGeom prst="pi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Овал 27"/>
            <p:cNvSpPr/>
            <p:nvPr/>
          </p:nvSpPr>
          <p:spPr>
            <a:xfrm>
              <a:off x="1187280" y="260280"/>
              <a:ext cx="1322280" cy="108108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2500200" y="3214800"/>
            <a:ext cx="5993640" cy="1215360"/>
            <a:chOff x="2500200" y="3214800"/>
            <a:chExt cx="5993640" cy="1215360"/>
          </a:xfrm>
        </p:grpSpPr>
        <p:grpSp>
          <p:nvGrpSpPr>
            <p:cNvPr id="92" name="AutoShape 6"/>
            <p:cNvGrpSpPr/>
            <p:nvPr/>
          </p:nvGrpSpPr>
          <p:grpSpPr>
            <a:xfrm>
              <a:off x="2500200" y="3214800"/>
              <a:ext cx="5993640" cy="1215360"/>
              <a:chOff x="2500200" y="3214800"/>
              <a:chExt cx="5993640" cy="1215360"/>
            </a:xfrm>
          </p:grpSpPr>
          <p:sp>
            <p:nvSpPr>
              <p:cNvPr id="93" name="AutoShape 6"/>
              <p:cNvSpPr/>
              <p:nvPr/>
            </p:nvSpPr>
            <p:spPr>
              <a:xfrm>
                <a:off x="2500200" y="3214800"/>
                <a:ext cx="5993640" cy="12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25"/>
              <p:cNvSpPr/>
              <p:nvPr/>
            </p:nvSpPr>
            <p:spPr>
              <a:xfrm>
                <a:off x="2735640" y="3411360"/>
                <a:ext cx="5532480" cy="7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AutoShape 7"/>
            <p:cNvGrpSpPr/>
            <p:nvPr/>
          </p:nvGrpSpPr>
          <p:grpSpPr>
            <a:xfrm>
              <a:off x="8088840" y="3381120"/>
              <a:ext cx="377280" cy="871200"/>
              <a:chOff x="8088840" y="3381120"/>
              <a:chExt cx="377280" cy="871200"/>
            </a:xfrm>
          </p:grpSpPr>
          <p:sp>
            <p:nvSpPr>
              <p:cNvPr id="96" name="AutoShape 7"/>
              <p:cNvSpPr/>
              <p:nvPr/>
            </p:nvSpPr>
            <p:spPr>
              <a:xfrm>
                <a:off x="8088840" y="3381120"/>
                <a:ext cx="37728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8"/>
              <p:cNvSpPr/>
              <p:nvPr/>
            </p:nvSpPr>
            <p:spPr>
              <a:xfrm>
                <a:off x="8355960" y="3664080"/>
                <a:ext cx="40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AutoShape 8"/>
            <p:cNvGrpSpPr/>
            <p:nvPr/>
          </p:nvGrpSpPr>
          <p:grpSpPr>
            <a:xfrm>
              <a:off x="2567520" y="3381120"/>
              <a:ext cx="369360" cy="871200"/>
              <a:chOff x="2567520" y="3381120"/>
              <a:chExt cx="369360" cy="871200"/>
            </a:xfrm>
          </p:grpSpPr>
          <p:sp>
            <p:nvSpPr>
              <p:cNvPr id="99" name="AutoShape 8"/>
              <p:cNvSpPr/>
              <p:nvPr/>
            </p:nvSpPr>
            <p:spPr>
              <a:xfrm>
                <a:off x="2567520" y="3381120"/>
                <a:ext cx="36936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 Box 31"/>
              <p:cNvSpPr/>
              <p:nvPr/>
            </p:nvSpPr>
            <p:spPr>
              <a:xfrm>
                <a:off x="2641320" y="3664080"/>
                <a:ext cx="4068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1" name="Заголовок 1"/>
          <p:cNvSpPr/>
          <p:nvPr/>
        </p:nvSpPr>
        <p:spPr>
          <a:xfrm>
            <a:off x="2340000" y="3213000"/>
            <a:ext cx="6254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786040" y="5143680"/>
            <a:ext cx="6000120" cy="999360"/>
            <a:chOff x="2786040" y="5143680"/>
            <a:chExt cx="6000120" cy="999360"/>
          </a:xfrm>
        </p:grpSpPr>
        <p:sp>
          <p:nvSpPr>
            <p:cNvPr id="103" name="AutoShape 6"/>
            <p:cNvSpPr/>
            <p:nvPr/>
          </p:nvSpPr>
          <p:spPr>
            <a:xfrm>
              <a:off x="2786040" y="5143680"/>
              <a:ext cx="6000120" cy="99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3f3d"/>
                </a:gs>
                <a:gs pos="50000">
                  <a:srgbClr val="c0504d"/>
                </a:gs>
                <a:gs pos="100000">
                  <a:srgbClr val="983f3d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МЫ ТАНЦУЕМ И ПОЕМ, ВОТ КАК ВЕСЕЛО ЖИВЕМ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AutoShape 7"/>
            <p:cNvGrpSpPr/>
            <p:nvPr/>
          </p:nvGrpSpPr>
          <p:grpSpPr>
            <a:xfrm>
              <a:off x="8476920" y="5286240"/>
              <a:ext cx="281880" cy="707040"/>
              <a:chOff x="8476920" y="5286240"/>
              <a:chExt cx="281880" cy="707040"/>
            </a:xfrm>
          </p:grpSpPr>
          <p:sp>
            <p:nvSpPr>
              <p:cNvPr id="105" name="AutoShape 7"/>
              <p:cNvSpPr/>
              <p:nvPr/>
            </p:nvSpPr>
            <p:spPr>
              <a:xfrm>
                <a:off x="8476920" y="5286240"/>
                <a:ext cx="28188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8694720" y="5518440"/>
                <a:ext cx="41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AutoShape 8"/>
            <p:cNvGrpSpPr/>
            <p:nvPr/>
          </p:nvGrpSpPr>
          <p:grpSpPr>
            <a:xfrm>
              <a:off x="2840400" y="5286240"/>
              <a:ext cx="281160" cy="707040"/>
              <a:chOff x="2840400" y="5286240"/>
              <a:chExt cx="281160" cy="707040"/>
            </a:xfrm>
          </p:grpSpPr>
          <p:sp>
            <p:nvSpPr>
              <p:cNvPr id="108" name="AutoShape 8"/>
              <p:cNvSpPr/>
              <p:nvPr/>
            </p:nvSpPr>
            <p:spPr>
              <a:xfrm>
                <a:off x="2840400" y="5286240"/>
                <a:ext cx="2811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Text Box 15"/>
              <p:cNvSpPr/>
              <p:nvPr/>
            </p:nvSpPr>
            <p:spPr>
              <a:xfrm>
                <a:off x="2866680" y="5518440"/>
                <a:ext cx="41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Picture 35" descr="C:\Documents and Settings\net\Рабочий стол\итог зан\DSCN1563.JPG"/>
          <p:cNvPicPr/>
          <p:nvPr/>
        </p:nvPicPr>
        <p:blipFill>
          <a:blip r:embed="rId2"/>
          <a:stretch/>
        </p:blipFill>
        <p:spPr>
          <a:xfrm>
            <a:off x="2195640" y="404640"/>
            <a:ext cx="6013440" cy="46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ШИРЕ КРУГ, ШИРЕ КРУГ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Ы МОЙ ДРУГ-И Я ТВОЙ ДРУГ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Documents and Settings\net\Рабочий стол\итог зан\DSCN1539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Admin</cp:lastModifiedBy>
  <dcterms:modified xsi:type="dcterms:W3CDTF">2018-01-09T07:46:34Z</dcterms:modified>
  <cp:revision>161</cp:revision>
  <dc:subject/>
  <dc:title>Шаблон презентации</dc:title>
</cp:coreProperties>
</file>