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7CA0-21B6-4F38-ADB4-7599243D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A58-1EE6-4982-BD1F-CF7F13C9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71C-29C1-409D-A4C0-A49DB90D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6323-5BBC-4C09-B0EF-FE3E2F6F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CA6B-F14B-4499-B016-474F060D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E6A6-75AF-4F08-8DF4-199020C5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714D-C9B6-4DBE-9B88-EF722C2A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CE1-0CD5-4FF1-BB0E-3F81AF0C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109-03E2-473D-BBB5-6170DB6A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844-AD42-4DCD-A544-88C13CE7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54A-2265-4244-A688-1AA76433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924-C8D6-4399-819B-19C86245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7319-FBA9-4242-A28C-6C9BE3A34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56880" y="1499760"/>
            <a:ext cx="672948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Arial"/>
              </a:rPr>
              <a:t>«ВЕСНЯНОЧКА»</a:t>
            </a:r>
            <a:br>
              <a:rPr sz="4400"/>
            </a:b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ОО «МУЗЫКА»</a:t>
            </a:r>
            <a:br>
              <a:rPr sz="4400"/>
            </a:b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В СРЕДНЕЙ ГРУП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1640" y="4786200"/>
            <a:ext cx="424980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Музыкальный руководител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ысшей категор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Мартьянова Нина Александ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ДС № !82 «Золотой ключи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г.о.Тольят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3640" y="2060640"/>
            <a:ext cx="67280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Группа 6"/>
          <p:cNvGrpSpPr/>
          <p:nvPr/>
        </p:nvGrpSpPr>
        <p:grpSpPr>
          <a:xfrm>
            <a:off x="1187280" y="260280"/>
            <a:ext cx="7956720" cy="668520"/>
            <a:chOff x="1187280" y="260280"/>
            <a:chExt cx="7956720" cy="668520"/>
          </a:xfrm>
        </p:grpSpPr>
        <p:sp>
          <p:nvSpPr>
            <p:cNvPr id="44" name="Прямоугольник с одним скругленным углом 7"/>
            <p:cNvSpPr/>
            <p:nvPr/>
          </p:nvSpPr>
          <p:spPr>
            <a:xfrm flipH="1">
              <a:off x="1685520" y="260280"/>
              <a:ext cx="7458480" cy="668520"/>
            </a:xfrm>
            <a:prstGeom prst="pi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Овал 11"/>
            <p:cNvSpPr/>
            <p:nvPr/>
          </p:nvSpPr>
          <p:spPr>
            <a:xfrm>
              <a:off x="1187280" y="260280"/>
              <a:ext cx="1322280" cy="66852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Заголовок 1"/>
          <p:cNvSpPr/>
          <p:nvPr/>
        </p:nvSpPr>
        <p:spPr>
          <a:xfrm>
            <a:off x="2428920" y="1285920"/>
            <a:ext cx="60008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2428920" y="5357880"/>
            <a:ext cx="6000840" cy="10713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«Музыкальные зарисовки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Способствовать развитию музыкальных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пособностей  воспитанников  через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тегрированную образовательную область  с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спользованием методов и приемов,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емлемых для среднего возраст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2286000" y="285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минантная деятельность через музыкальное воспитание дошколь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Интеграция образовательных областей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54120" y="836280"/>
            <a:ext cx="60357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тельная область «Музыкальное развитие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  накопление опыта взаимодействия с музыкальными произведениями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тельная область «Познавательное развитие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средствами разных видов искусств, приобщение  детей к восприятию образа весны, вызывать соответствующий откли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тельная область  «Художественно – эстетическое развитие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 формирование  умения чувствовать характерные особенности художественного образ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имулирование творчества детей к двигательным импровизация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тельная область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Коммуникативное развитие –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огащение словаря детей музыкальными терминами образного восприя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тельная область  «Социально-коммуникативное иразвитие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- воспитание  любви  к природе через моделирование музыкального образ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здоровительная область  «Физическое развитие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 использование  элементов  здоровьесберегающих технологий, как:  психогимнастика  и двигательная активность;  способствовать развитие мелкой  и крупной моторики ру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1"/>
          <p:cNvSpPr/>
          <p:nvPr/>
        </p:nvSpPr>
        <p:spPr>
          <a:xfrm>
            <a:off x="2857680" y="2205000"/>
            <a:ext cx="5027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Формировать художественно – эстетический вкус средствами разных видов искусств, приобщать детей к восприятию образа весны, вызывать соответствующий откл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Развивать у ребёнка позиции активного участника, исполнителя, творческого созида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Воспитывать дружеские взаимоотношения, взаимовыручку, культуру пове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Группа 6"/>
          <p:cNvGrpSpPr/>
          <p:nvPr/>
        </p:nvGrpSpPr>
        <p:grpSpPr>
          <a:xfrm>
            <a:off x="1187280" y="260280"/>
            <a:ext cx="7956720" cy="1081080"/>
            <a:chOff x="1187280" y="260280"/>
            <a:chExt cx="7956720" cy="1081080"/>
          </a:xfrm>
        </p:grpSpPr>
        <p:sp>
          <p:nvSpPr>
            <p:cNvPr id="54" name="Прямоугольник с одним скругленным углом 3"/>
            <p:cNvSpPr/>
            <p:nvPr/>
          </p:nvSpPr>
          <p:spPr>
            <a:xfrm flipH="1">
              <a:off x="1685520" y="260280"/>
              <a:ext cx="7458480" cy="1081080"/>
            </a:xfrm>
            <a:prstGeom prst="pi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Овал 5"/>
            <p:cNvSpPr/>
            <p:nvPr/>
          </p:nvSpPr>
          <p:spPr>
            <a:xfrm>
              <a:off x="1187280" y="260280"/>
              <a:ext cx="1322280" cy="108108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14760" y="404280"/>
            <a:ext cx="5000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3"/>
          <p:cNvSpPr/>
          <p:nvPr/>
        </p:nvSpPr>
        <p:spPr>
          <a:xfrm>
            <a:off x="1285920" y="107172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3"/>
          <p:cNvSpPr/>
          <p:nvPr/>
        </p:nvSpPr>
        <p:spPr>
          <a:xfrm flipH="1">
            <a:off x="6786720" y="107172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Группа 6"/>
          <p:cNvGrpSpPr/>
          <p:nvPr/>
        </p:nvGrpSpPr>
        <p:grpSpPr>
          <a:xfrm>
            <a:off x="971640" y="189000"/>
            <a:ext cx="7956000" cy="1081080"/>
            <a:chOff x="971640" y="189000"/>
            <a:chExt cx="7956000" cy="1081080"/>
          </a:xfrm>
        </p:grpSpPr>
        <p:sp>
          <p:nvSpPr>
            <p:cNvPr id="60" name="Прямоугольник с одним скругленным углом 26"/>
            <p:cNvSpPr/>
            <p:nvPr/>
          </p:nvSpPr>
          <p:spPr>
            <a:xfrm flipH="1">
              <a:off x="1469160" y="189000"/>
              <a:ext cx="7458120" cy="1081080"/>
            </a:xfrm>
            <a:prstGeom prst="pi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Овал 27"/>
            <p:cNvSpPr/>
            <p:nvPr/>
          </p:nvSpPr>
          <p:spPr>
            <a:xfrm>
              <a:off x="971640" y="189000"/>
              <a:ext cx="1322280" cy="108108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529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Песенная импровизация</a:t>
            </a:r>
            <a:br>
              <a:rPr sz="2800"/>
            </a:br>
            <a:r>
              <a:rPr b="1" lang="ru-RU" sz="3200" spc="-1" strike="noStrike" u="sng">
                <a:solidFill>
                  <a:srgbClr val="953735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953735"/>
                </a:solidFill>
                <a:uFillTx/>
                <a:latin typeface="Arial"/>
              </a:rPr>
              <a:t>«К нам опять пришла весн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4000680" y="1571760"/>
            <a:ext cx="366480" cy="33480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1785960" y="2500200"/>
            <a:ext cx="2071800" cy="13226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c0504d"/>
              </a:gs>
              <a:gs pos="100000">
                <a:srgbClr val="863836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Группа 46"/>
          <p:cNvGrpSpPr/>
          <p:nvPr/>
        </p:nvGrpSpPr>
        <p:grpSpPr>
          <a:xfrm>
            <a:off x="2928960" y="4964040"/>
            <a:ext cx="2004840" cy="1322640"/>
            <a:chOff x="2928960" y="4964040"/>
            <a:chExt cx="2004840" cy="1322640"/>
          </a:xfrm>
        </p:grpSpPr>
        <p:grpSp>
          <p:nvGrpSpPr>
            <p:cNvPr id="66" name="AutoShape 7"/>
            <p:cNvGrpSpPr/>
            <p:nvPr/>
          </p:nvGrpSpPr>
          <p:grpSpPr>
            <a:xfrm>
              <a:off x="2928960" y="4964040"/>
              <a:ext cx="2004840" cy="1322640"/>
              <a:chOff x="2928960" y="4964040"/>
              <a:chExt cx="2004840" cy="1322640"/>
            </a:xfrm>
          </p:grpSpPr>
          <p:sp>
            <p:nvSpPr>
              <p:cNvPr id="67" name="AutoShape 7"/>
              <p:cNvSpPr/>
              <p:nvPr/>
            </p:nvSpPr>
            <p:spPr>
              <a:xfrm>
                <a:off x="2928960" y="4964040"/>
                <a:ext cx="2004840" cy="13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Text Box 21"/>
              <p:cNvSpPr/>
              <p:nvPr/>
            </p:nvSpPr>
            <p:spPr>
              <a:xfrm>
                <a:off x="3032640" y="5042160"/>
                <a:ext cx="180756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" name="Freeform 12"/>
            <p:cNvSpPr/>
            <p:nvPr/>
          </p:nvSpPr>
          <p:spPr>
            <a:xfrm>
              <a:off x="3056760" y="5065560"/>
              <a:ext cx="640440" cy="609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aa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Rectangle 16"/>
          <p:cNvSpPr/>
          <p:nvPr/>
        </p:nvSpPr>
        <p:spPr>
          <a:xfrm>
            <a:off x="1788480" y="2643120"/>
            <a:ext cx="2099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ЗИМ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ТРАДИЦИОН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ПРАЗД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7431480" y="2523960"/>
            <a:ext cx="311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Группа 47"/>
          <p:cNvGrpSpPr/>
          <p:nvPr/>
        </p:nvGrpSpPr>
        <p:grpSpPr>
          <a:xfrm>
            <a:off x="6072120" y="2428920"/>
            <a:ext cx="2005200" cy="1322280"/>
            <a:chOff x="6072120" y="2428920"/>
            <a:chExt cx="2005200" cy="1322280"/>
          </a:xfrm>
        </p:grpSpPr>
        <p:grpSp>
          <p:nvGrpSpPr>
            <p:cNvPr id="73" name="AutoShape 7"/>
            <p:cNvGrpSpPr/>
            <p:nvPr/>
          </p:nvGrpSpPr>
          <p:grpSpPr>
            <a:xfrm>
              <a:off x="6072120" y="2428920"/>
              <a:ext cx="2005200" cy="1322280"/>
              <a:chOff x="6072120" y="2428920"/>
              <a:chExt cx="2005200" cy="1322280"/>
            </a:xfrm>
          </p:grpSpPr>
          <p:sp>
            <p:nvSpPr>
              <p:cNvPr id="74" name="AutoShape 7"/>
              <p:cNvSpPr/>
              <p:nvPr/>
            </p:nvSpPr>
            <p:spPr>
              <a:xfrm>
                <a:off x="6072120" y="2428920"/>
                <a:ext cx="2005200" cy="13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Text Box 17"/>
              <p:cNvSpPr/>
              <p:nvPr/>
            </p:nvSpPr>
            <p:spPr>
              <a:xfrm>
                <a:off x="6173640" y="2507760"/>
                <a:ext cx="1807920" cy="113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" name="Freeform 12"/>
            <p:cNvSpPr/>
            <p:nvPr/>
          </p:nvSpPr>
          <p:spPr>
            <a:xfrm>
              <a:off x="6197760" y="2530800"/>
              <a:ext cx="640800" cy="60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aa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Rectangle 9"/>
          <p:cNvSpPr/>
          <p:nvPr/>
        </p:nvSpPr>
        <p:spPr>
          <a:xfrm>
            <a:off x="6148800" y="2643120"/>
            <a:ext cx="1899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ЕСЕН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РАДИЦИО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АЗД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4"/>
          <p:cNvSpPr/>
          <p:nvPr/>
        </p:nvSpPr>
        <p:spPr>
          <a:xfrm>
            <a:off x="5572080" y="1571760"/>
            <a:ext cx="366840" cy="33480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6" descr="C:\Documents and Settings\net\Рабочий стол\итог зан\DSCN1539.JPG"/>
          <p:cNvPicPr/>
          <p:nvPr/>
        </p:nvPicPr>
        <p:blipFill>
          <a:blip r:embed="rId2"/>
          <a:stretch/>
        </p:blipFill>
        <p:spPr>
          <a:xfrm>
            <a:off x="1450800" y="1357200"/>
            <a:ext cx="6242400" cy="441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Группа 6"/>
          <p:cNvGrpSpPr/>
          <p:nvPr/>
        </p:nvGrpSpPr>
        <p:grpSpPr>
          <a:xfrm>
            <a:off x="1187280" y="260280"/>
            <a:ext cx="7956720" cy="1081080"/>
            <a:chOff x="1187280" y="260280"/>
            <a:chExt cx="7956720" cy="1081080"/>
          </a:xfrm>
        </p:grpSpPr>
        <p:sp>
          <p:nvSpPr>
            <p:cNvPr id="81" name="Прямоугольник с одним скругленным углом 3"/>
            <p:cNvSpPr/>
            <p:nvPr/>
          </p:nvSpPr>
          <p:spPr>
            <a:xfrm flipH="1">
              <a:off x="1685520" y="260280"/>
              <a:ext cx="7458480" cy="1081080"/>
            </a:xfrm>
            <a:prstGeom prst="pi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Овал 5"/>
            <p:cNvSpPr/>
            <p:nvPr/>
          </p:nvSpPr>
          <p:spPr>
            <a:xfrm>
              <a:off x="1187280" y="260280"/>
              <a:ext cx="1322280" cy="108108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71480" y="713880"/>
            <a:ext cx="5715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«ВСЕ МЫ МУЗЫКАНТЫ…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C:\Documents and Settings\net\Рабочий стол\итог зан\DSCN1555.JPG"/>
          <p:cNvPicPr/>
          <p:nvPr/>
        </p:nvPicPr>
        <p:blipFill>
          <a:blip r:embed="rId2"/>
          <a:stretch/>
        </p:blipFill>
        <p:spPr>
          <a:xfrm>
            <a:off x="1450800" y="1087560"/>
            <a:ext cx="6242400" cy="468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Заголовок 1"/>
          <p:cNvSpPr/>
          <p:nvPr/>
        </p:nvSpPr>
        <p:spPr>
          <a:xfrm>
            <a:off x="5929200" y="2860560"/>
            <a:ext cx="29289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MS Mincho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6" descr="C:\Documents and Settings\net\Рабочий стол\итог зан\DSCN1550.JPG"/>
          <p:cNvPicPr/>
          <p:nvPr/>
        </p:nvPicPr>
        <p:blipFill>
          <a:blip r:embed="rId2"/>
          <a:stretch/>
        </p:blipFill>
        <p:spPr>
          <a:xfrm>
            <a:off x="1450800" y="620640"/>
            <a:ext cx="7008840" cy="554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6"/>
          <p:cNvGrpSpPr/>
          <p:nvPr/>
        </p:nvGrpSpPr>
        <p:grpSpPr>
          <a:xfrm>
            <a:off x="1187280" y="260280"/>
            <a:ext cx="7956720" cy="1081080"/>
            <a:chOff x="1187280" y="260280"/>
            <a:chExt cx="7956720" cy="1081080"/>
          </a:xfrm>
        </p:grpSpPr>
        <p:sp>
          <p:nvSpPr>
            <p:cNvPr id="89" name="Прямоугольник с одним скругленным углом 26"/>
            <p:cNvSpPr/>
            <p:nvPr/>
          </p:nvSpPr>
          <p:spPr>
            <a:xfrm flipH="1">
              <a:off x="1685520" y="260280"/>
              <a:ext cx="7458480" cy="1081080"/>
            </a:xfrm>
            <a:prstGeom prst="pi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Овал 27"/>
            <p:cNvSpPr/>
            <p:nvPr/>
          </p:nvSpPr>
          <p:spPr>
            <a:xfrm>
              <a:off x="1187280" y="260280"/>
              <a:ext cx="1322280" cy="108108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5"/>
          <p:cNvGrpSpPr/>
          <p:nvPr/>
        </p:nvGrpSpPr>
        <p:grpSpPr>
          <a:xfrm>
            <a:off x="2500200" y="3214800"/>
            <a:ext cx="5993640" cy="1215360"/>
            <a:chOff x="2500200" y="3214800"/>
            <a:chExt cx="5993640" cy="1215360"/>
          </a:xfrm>
        </p:grpSpPr>
        <p:grpSp>
          <p:nvGrpSpPr>
            <p:cNvPr id="92" name="AutoShape 6"/>
            <p:cNvGrpSpPr/>
            <p:nvPr/>
          </p:nvGrpSpPr>
          <p:grpSpPr>
            <a:xfrm>
              <a:off x="2500200" y="3214800"/>
              <a:ext cx="5993640" cy="1215360"/>
              <a:chOff x="2500200" y="3214800"/>
              <a:chExt cx="5993640" cy="1215360"/>
            </a:xfrm>
          </p:grpSpPr>
          <p:sp>
            <p:nvSpPr>
              <p:cNvPr id="93" name="AutoShape 6"/>
              <p:cNvSpPr/>
              <p:nvPr/>
            </p:nvSpPr>
            <p:spPr>
              <a:xfrm>
                <a:off x="2500200" y="3214800"/>
                <a:ext cx="5993640" cy="121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Text Box 25"/>
              <p:cNvSpPr/>
              <p:nvPr/>
            </p:nvSpPr>
            <p:spPr>
              <a:xfrm>
                <a:off x="2735640" y="3411360"/>
                <a:ext cx="5532480" cy="7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" name="AutoShape 7"/>
            <p:cNvGrpSpPr/>
            <p:nvPr/>
          </p:nvGrpSpPr>
          <p:grpSpPr>
            <a:xfrm>
              <a:off x="8088840" y="3381120"/>
              <a:ext cx="377280" cy="871200"/>
              <a:chOff x="8088840" y="3381120"/>
              <a:chExt cx="377280" cy="871200"/>
            </a:xfrm>
          </p:grpSpPr>
          <p:sp>
            <p:nvSpPr>
              <p:cNvPr id="96" name="AutoShape 7"/>
              <p:cNvSpPr/>
              <p:nvPr/>
            </p:nvSpPr>
            <p:spPr>
              <a:xfrm>
                <a:off x="8088840" y="3381120"/>
                <a:ext cx="377280" cy="87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Text Box 28"/>
              <p:cNvSpPr/>
              <p:nvPr/>
            </p:nvSpPr>
            <p:spPr>
              <a:xfrm>
                <a:off x="8355960" y="3664080"/>
                <a:ext cx="4068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8" name="AutoShape 8"/>
            <p:cNvGrpSpPr/>
            <p:nvPr/>
          </p:nvGrpSpPr>
          <p:grpSpPr>
            <a:xfrm>
              <a:off x="2567520" y="3381120"/>
              <a:ext cx="369360" cy="871200"/>
              <a:chOff x="2567520" y="3381120"/>
              <a:chExt cx="369360" cy="871200"/>
            </a:xfrm>
          </p:grpSpPr>
          <p:sp>
            <p:nvSpPr>
              <p:cNvPr id="99" name="AutoShape 8"/>
              <p:cNvSpPr/>
              <p:nvPr/>
            </p:nvSpPr>
            <p:spPr>
              <a:xfrm>
                <a:off x="2567520" y="3381120"/>
                <a:ext cx="369360" cy="87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Text Box 31"/>
              <p:cNvSpPr/>
              <p:nvPr/>
            </p:nvSpPr>
            <p:spPr>
              <a:xfrm>
                <a:off x="2641320" y="3664080"/>
                <a:ext cx="4068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1" name="Заголовок 1"/>
          <p:cNvSpPr/>
          <p:nvPr/>
        </p:nvSpPr>
        <p:spPr>
          <a:xfrm>
            <a:off x="2340000" y="3213000"/>
            <a:ext cx="6254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5"/>
          <p:cNvGrpSpPr/>
          <p:nvPr/>
        </p:nvGrpSpPr>
        <p:grpSpPr>
          <a:xfrm>
            <a:off x="2786040" y="5143680"/>
            <a:ext cx="6000120" cy="999360"/>
            <a:chOff x="2786040" y="5143680"/>
            <a:chExt cx="6000120" cy="999360"/>
          </a:xfrm>
        </p:grpSpPr>
        <p:sp>
          <p:nvSpPr>
            <p:cNvPr id="103" name="AutoShape 6"/>
            <p:cNvSpPr/>
            <p:nvPr/>
          </p:nvSpPr>
          <p:spPr>
            <a:xfrm>
              <a:off x="2786040" y="5143680"/>
              <a:ext cx="6000120" cy="99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3f3d"/>
                </a:gs>
                <a:gs pos="50000">
                  <a:srgbClr val="c0504d"/>
                </a:gs>
                <a:gs pos="100000">
                  <a:srgbClr val="983f3d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МЫ ТАНЦУЕМ И ПОЕМ, ВОТ КАК ВЕСЕЛО ЖИВЕМ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" name="AutoShape 7"/>
            <p:cNvGrpSpPr/>
            <p:nvPr/>
          </p:nvGrpSpPr>
          <p:grpSpPr>
            <a:xfrm>
              <a:off x="8476920" y="5286240"/>
              <a:ext cx="281880" cy="707040"/>
              <a:chOff x="8476920" y="5286240"/>
              <a:chExt cx="281880" cy="707040"/>
            </a:xfrm>
          </p:grpSpPr>
          <p:sp>
            <p:nvSpPr>
              <p:cNvPr id="105" name="AutoShape 7"/>
              <p:cNvSpPr/>
              <p:nvPr/>
            </p:nvSpPr>
            <p:spPr>
              <a:xfrm>
                <a:off x="8476920" y="5286240"/>
                <a:ext cx="281880" cy="70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Text Box 12"/>
              <p:cNvSpPr/>
              <p:nvPr/>
            </p:nvSpPr>
            <p:spPr>
              <a:xfrm>
                <a:off x="8694720" y="5518440"/>
                <a:ext cx="417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" name="AutoShape 8"/>
            <p:cNvGrpSpPr/>
            <p:nvPr/>
          </p:nvGrpSpPr>
          <p:grpSpPr>
            <a:xfrm>
              <a:off x="2840400" y="5286240"/>
              <a:ext cx="281160" cy="707040"/>
              <a:chOff x="2840400" y="5286240"/>
              <a:chExt cx="281160" cy="707040"/>
            </a:xfrm>
          </p:grpSpPr>
          <p:sp>
            <p:nvSpPr>
              <p:cNvPr id="108" name="AutoShape 8"/>
              <p:cNvSpPr/>
              <p:nvPr/>
            </p:nvSpPr>
            <p:spPr>
              <a:xfrm>
                <a:off x="2840400" y="5286240"/>
                <a:ext cx="281160" cy="70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Text Box 15"/>
              <p:cNvSpPr/>
              <p:nvPr/>
            </p:nvSpPr>
            <p:spPr>
              <a:xfrm>
                <a:off x="2866680" y="5518440"/>
                <a:ext cx="417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0" name="Picture 35" descr="C:\Documents and Settings\net\Рабочий стол\итог зан\DSCN1563.JPG"/>
          <p:cNvPicPr/>
          <p:nvPr/>
        </p:nvPicPr>
        <p:blipFill>
          <a:blip r:embed="rId2"/>
          <a:stretch/>
        </p:blipFill>
        <p:spPr>
          <a:xfrm>
            <a:off x="2195640" y="404640"/>
            <a:ext cx="6013440" cy="463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ШИРЕ КРУГ, ШИРЕ КРУГ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ТЫ МОЙ ДРУГ-И Я ТВОЙ ДРУГ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C:\Documents and Settings\net\Рабочий стол\итог зан\DSCN1539.JPG"/>
          <p:cNvPicPr/>
          <p:nvPr/>
        </p:nvPicPr>
        <p:blipFill>
          <a:blip r:embed="rId2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Admin</cp:lastModifiedBy>
  <dcterms:modified xsi:type="dcterms:W3CDTF">2018-01-09T07:46:34Z</dcterms:modified>
  <cp:revision>161</cp:revision>
  <dc:subject/>
  <dc:title>Шаблон презентации</dc:title>
</cp:coreProperties>
</file>