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971-BEE3-472A-9EB3-2F3D444B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A5E-5476-4AE7-88C7-FC6921A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116A9-8465-4907-B393-DC8BDAB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37A76-B4B8-4739-9F41-0DC0C5A7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932F-8A3B-4137-A875-1D1A653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376C5-6EED-4EDD-B2D0-44C338F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24315-7ED4-42FE-B6A3-C64A4C2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486CE-BE79-491A-8508-462ACCDB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77758-EA9E-4522-BC67-267C3CC3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4C03A-8C3F-4AA7-8C1D-C36B2F6A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04AA7-2097-4B3D-9E9B-1D8EB916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3F3-CEEB-44C9-A50B-29611411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4FC-C0EB-4E4A-A5F8-0C503B4F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4F5D-8245-478E-8618-EA0B8F84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3085-92D7-4CD3-AAD0-0E81FC2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1DB-BFC1-44F9-B315-222A4F1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A27-7D96-46AF-B591-5D44AB9D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AEEA-FADE-4A60-BAC7-B64852DD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177F-9DCF-4751-9300-1086E42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E865-FD9C-460A-B6F6-6ED1B0E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15A-DEA9-48BF-A7ED-46DAD77B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4CE-AF4A-41A4-B910-2E77AA7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2FA-0253-4A8A-B2A0-7483BB2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78F5-3E59-4774-BDA8-80FDBFD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F49-12A9-4990-B201-EB011EC6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F82-BAE8-43BC-8F68-50762376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8428-6088-4EAE-A6EE-D32D9F4F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9646-0E00-4605-A0F3-9E774B4D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2151-9505-4D5D-BA32-B41E5490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F038-36AD-4C5C-B75C-82CC7AC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F9A-6333-4809-82E7-EB78E3A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956-5D56-4388-9B2B-25A03021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9FE4-E208-45CC-91F5-9E19E47A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CAEE-CF65-42C9-9E28-2E35F82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7576-9454-4E09-B0C3-593C9B9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F7FE-0DB4-49EB-B96C-6F9688C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FCA5-E684-4B53-BA75-A353C7B0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5103-74C3-4F84-AA5D-795CDD05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3319-663A-4DD8-8D45-5DD46A48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7EBF-43D0-41EA-A11C-E7DEDB70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D2CF-A811-4C93-91C9-0E5C2C9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8592-EFB6-43AC-9404-901AFA8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6FC-168F-4B5F-9D81-F5B505CE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A92A-B3BF-4C7D-9904-5FE8319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39C0-0E60-4321-AD4A-B53007A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1CB8-0B47-4B5D-8E43-E0B17FC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05D2-798A-4F16-BBD1-8728A8F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4971-FCA9-4149-B660-67CBCA2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E005-9378-4BE0-A969-87AE44F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F668-05E7-46B3-9003-65EE161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2A0D-10FC-478E-AAB6-BD17A764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2492-06F1-494D-8964-53124051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D3734-2F79-4CDD-A543-B3E39106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10E-05C1-495A-BB9B-20B7E07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1C67-D09C-47BE-BADA-7C9D451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A216-3D93-4270-B662-A1933DEB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32C8-1A54-455A-8F38-E771612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43E7-CA8A-47DE-9F41-F9CC4D7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7E533-8F28-4846-9914-0A76BE8A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5389-2FD4-4A55-A894-581A350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3587-DE5B-493E-9CB2-AF9BDB1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E686-E283-41CF-9C91-3305FB5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4FA0-6585-476E-B676-3B737C7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E1A3C-DC1E-41A1-96BA-5C92DF0B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554-32A8-413C-86AD-ED0A63EE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EB9F-343E-4043-8B3F-633F7983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CA00-A777-4672-837C-C5918C10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C2FC-E608-41AE-83D7-578BC3F1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D938E-0F69-4E6C-9D34-877138A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02B0-F231-4865-9217-2EE378F0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791F-CC35-4A00-A4AD-D0356C34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4A35-6FC9-48B1-AB95-825C8EF4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998F-146A-4FEF-901A-0311443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1DB5-FEF6-4DDC-9A35-14B0F0B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1116-CC60-48A2-8DB1-778F6D8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D87-080B-4DF0-8E20-98F7C440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627C-130A-480E-99D5-7391F345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C047-8F1C-4C07-96DC-8CA00265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BF6B2-81A0-45EE-AF6B-8B78BE1E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6497-E586-4DBD-89DC-C5497991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04DE-D27A-435F-BC0E-2EFEA4C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9069-0AEE-4B93-AA0A-D60A480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C10D-16C9-4F96-88D8-2400744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7167F-7047-485C-87B4-A31FE18B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294E2-D69B-4523-9C60-5135AF41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DF5D-3986-4BD7-86B8-C7A168D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90E-EDCC-4161-81E5-5D7767B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EDE6-0C60-4DD7-B78A-0853ADB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DC58-A953-48FC-A2EC-164AF45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ED31-7CD6-45F6-9686-48988981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B504-749C-4D34-8CBC-C75D0513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C9A7-CF26-436D-900F-309BE993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0E030-6AFC-4E8F-89D6-58121F58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3BF90-42E5-465D-92A9-048FDDCF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308E-62A9-45E5-85D2-F63C6F2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3AF7-1DB9-4492-89C7-A1122D6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082A-454D-4F6B-B726-60CD8D3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D5E-EC13-4B07-A960-698040C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ADA7-DBD2-4404-AD45-0902B8E1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A7CA-0BCF-48DC-BF3A-6C4B840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AE3B-5C4D-48F4-9055-E2C4080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458F-D883-4F14-998C-95A7801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A0C47-860B-4EA4-AA7D-C4449C39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8567-B56F-41D9-AA6E-8FBD1496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6FD36-0F97-4232-9DC2-137F739F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38515-4F35-4EA2-B82D-FC2C5B88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23369-1DF6-43E8-AF8B-9ADA265D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266D0-A251-492A-83A6-9A5D9CA1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19F-8E8F-4804-83B9-F5D8BC0C85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EB2-63F9-407E-9541-989C40FCE2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E6B-D65C-4369-B1B5-7670D0A487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ED54-9BAD-4ADB-A098-659C550A42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CBF-E5AD-442B-B981-53142C5A4D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66FF-FC27-4D73-B990-CE52FD6724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FD9-96F8-4347-BD06-8F1572821F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C54-748D-4267-9499-EC697FA6BF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5516-F83A-4BBA-876F-921E91C48B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2" descr="C:\Users\Андрей\Desktop\images (1).jpg"/>
          <p:cNvPicPr/>
          <p:nvPr/>
        </p:nvPicPr>
        <p:blipFill>
          <a:blip r:embed="rId1"/>
          <a:stretch/>
        </p:blipFill>
        <p:spPr>
          <a:xfrm>
            <a:off x="195120" y="0"/>
            <a:ext cx="88776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187280" y="692280"/>
            <a:ext cx="6977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новные этапы крестьянской войны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050920" y="1844640"/>
            <a:ext cx="46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–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-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–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322280" cy="370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7" name="Picture 12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825640" cy="2712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8" name="Picture 15" descr="http://www.ido.rudn.ru/nfpk/hist/pic/8/v8_1.jpg"/>
          <p:cNvPicPr/>
          <p:nvPr/>
        </p:nvPicPr>
        <p:blipFill>
          <a:blip r:embed="rId3"/>
          <a:srcRect l="52401" t="2802" r="1134" b="36096"/>
          <a:stretch/>
        </p:blipFill>
        <p:spPr>
          <a:xfrm rot="21378600">
            <a:off x="3132000" y="4437000"/>
            <a:ext cx="1943280" cy="215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-1108080"/>
            <a:ext cx="89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ОСНОВНЫЕ ЭТАПЫ КРЕСТЬЯНСКОЙ ВОЙН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514440"/>
          <a:ext cx="9144000" cy="6386400"/>
        </p:xfrm>
        <a:graphic>
          <a:graphicData uri="http://schemas.openxmlformats.org/drawingml/2006/table">
            <a:tbl>
              <a:tblPr/>
              <a:tblGrid>
                <a:gridCol w="1987560"/>
                <a:gridCol w="2624040"/>
                <a:gridCol w="2246400"/>
                <a:gridCol w="2286000"/>
              </a:tblGrid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 (Да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ижущие си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0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 сент. 1773 г.-22 марта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и, башкиры, рабочие, крестьяне (около 30 тыс.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Пугачева перед яицкими казаками. Объявил себя Петро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Осада Оренбу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ача при осаде Оренбурга. Поражение Пугачёва под Царицыным (Татищева крепост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5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прель-июль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, русские, марийцы, чуваши, удмурты, башкиры (до 20 тыс.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ие окраин Казани. Провозглашение Пугачевым похода на Москв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II в ужасе и собирается бежать за границ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21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юль - сент.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, крестьяне, марийцы, чуваши, удмурты, башки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июля 1774 г. -манифест к крестьянам (Пугачёв отменяет крепостное право) Поражение Пугачёва под Царицы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Пугачёва богатыми казаками властям. (12 сентября 1774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4"/>
          <p:cNvSpPr txBox="1"/>
          <p:nvPr/>
        </p:nvSpPr>
        <p:spPr>
          <a:xfrm>
            <a:off x="755640" y="26028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начение и итоги крестьянской войны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24000" y="1989000"/>
            <a:ext cx="860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самое крупное народное выступление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осстание не улучшило положение крестьян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первые кроме идеи свободы были выдвинуты идеи борьбы с крепостничеством, с дворянством – от которого исходило главное з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(по мнению восставши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ервое совместное выступление не только крестьян, но и работных людей, представителей национальных меньшин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оражение восставших усилило репрессивный характер внутренней политике властей по отношению к податным сослов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Жестокие расправы и казни участников вы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5"/>
          <p:cNvSpPr txBox="1"/>
          <p:nvPr/>
        </p:nvSpPr>
        <p:spPr>
          <a:xfrm>
            <a:off x="826920" y="1052640"/>
            <a:ext cx="77774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           </a:t>
            </a: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??? урока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чему это событие называют не крестьянское восстание, 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крестьянская война?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5" name="Picture 6" descr="n5"/>
          <p:cNvPicPr/>
          <p:nvPr/>
        </p:nvPicPr>
        <p:blipFill>
          <a:blip r:embed="rId1"/>
          <a:stretch/>
        </p:blipFill>
        <p:spPr>
          <a:xfrm>
            <a:off x="2843280" y="4708440"/>
            <a:ext cx="24494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390600" y="944640"/>
            <a:ext cx="8010360" cy="51512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Franklin Gothic Medium"/>
              </a:rPr>
              <a:t>ПРАВИЛА СОСТАВЛЕНИЯ СИНКВЕЙНА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В ПЕРВОЙ СТРОКЕ ОДНИМ СЛОВОМ ОБОЗНАЧАЕТСЯ ТЕМА (ИМЕНЕМ СУЩЕСТВИТЕЛЬНЫМ)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ВТОРАЯ СТРОКА – ОПИСАНИЕ ТЕМЫ ДВУМЯ СЛОВАМИ (ПРИЛАГАТЕЛЬНЫЕ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ТРЕТЬЯ СТРОКА – ОПИСАНИЕ ДЕЙСТВИЯ В РАМКАХ ЭТОЙ ТЕМЫ ТРЕМЯ СЛОВАМИ (ГЛАГОЛЫ, ПРИЧАСТИЯ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ЧЕТВЕРТАЯ СТРОКА – ФРАЗА ИЗ ЧЕТЫРЕХ СЛОВ, ВЫРАЖАЮЩАЯ ОТНОШЕНИЕ К ТЕМЕ (РАЗНЫЕ ЧАСТИ РЕЧИ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ПЯТАЯ СТРОКА – ОДНО СЛОВО, СИНОНИМ ТЕМЫ.</a:t>
            </a:r>
            <a:br>
              <a:rPr sz="3200"/>
            </a:b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70572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539640" y="4046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ая, письменна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ствует, рассказывает, впечатля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в вид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714240" y="1500120"/>
            <a:ext cx="814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познакомились    с ...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узнали...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смогли поразмышлять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4"/>
          <p:cNvSpPr txBox="1"/>
          <p:nvPr/>
        </p:nvSpPr>
        <p:spPr>
          <a:xfrm>
            <a:off x="755640" y="1700280"/>
            <a:ext cx="7777080" cy="23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асибо всем за урок!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4" name="Picture 5" descr="guest-1"/>
          <p:cNvPicPr/>
          <p:nvPr/>
        </p:nvPicPr>
        <p:blipFill>
          <a:blip r:embed="rId1"/>
          <a:stretch/>
        </p:blipFill>
        <p:spPr>
          <a:xfrm>
            <a:off x="3132000" y="4365720"/>
            <a:ext cx="187164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WordArt 5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236160" cy="1866960"/>
          </a:xfrm>
          <a:prstGeom prst="rect">
            <a:avLst/>
          </a:prstGeom>
          <a:ln w="0">
            <a:noFill/>
          </a:ln>
        </p:spPr>
      </p:pic>
      <p:pic>
        <p:nvPicPr>
          <p:cNvPr id="402" name="WordArt 6" descr=""/>
          <p:cNvPicPr/>
          <p:nvPr/>
        </p:nvPicPr>
        <p:blipFill>
          <a:blip r:embed="rId2"/>
          <a:stretch/>
        </p:blipFill>
        <p:spPr>
          <a:xfrm>
            <a:off x="2610000" y="6132600"/>
            <a:ext cx="4424040" cy="7984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аааааааа.jpg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426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684360" y="112536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Sylfaen"/>
              </a:rPr>
              <a:t>Почему это событие называют крестьянской войной, а не крестьянским восстанием или бунт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79280" y="184464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8101080" y="206064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684360" y="692280"/>
            <a:ext cx="81057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мятка по изучению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56000" y="1700280"/>
            <a:ext cx="6337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Прич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Участники (состав, предводите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Основные этапы,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Итоги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08"/>
          <p:cNvPicPr/>
          <p:nvPr/>
        </p:nvPicPr>
        <p:blipFill>
          <a:blip r:embed="rId1"/>
          <a:stretch/>
        </p:blipFill>
        <p:spPr>
          <a:xfrm>
            <a:off x="179280" y="491508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4"/>
          <p:cNvSpPr txBox="1"/>
          <p:nvPr/>
        </p:nvSpPr>
        <p:spPr>
          <a:xfrm>
            <a:off x="755640" y="0"/>
            <a:ext cx="748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чины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24000" y="1916280"/>
            <a:ext cx="8496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Усиление власти и произвола помещиков над крестья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Тяжелое положение работных людей и приписных крестьян на мануфакту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Ухудшение положения нерусских народов Поволжья, Приуралья (башкиры, татары, калмы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Ликвидация властями казацкого самоуправления на Дону и Я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79280" y="10526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Sylfaen"/>
              </a:rPr>
              <a:t>Задание: определить причины крестьянской войны. Работа с учебником, пр. 25 пунк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611280" y="54936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астники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539640" y="2060640"/>
            <a:ext cx="831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Крепостные крестья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Работные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Татары, башкиры и др. нерусские народ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Каза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85440" y="5732640"/>
            <a:ext cx="792468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dd2b1"/>
                </a:solidFill>
                <a:uFillTx/>
                <a:latin typeface="Franklin Gothic Book"/>
              </a:rPr>
              <a:t>Е. И. Пугачёв</a:t>
            </a:r>
            <a:endParaRPr b="0" lang="en-US" sz="40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440" y="-1324440"/>
            <a:ext cx="792468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pic>
        <p:nvPicPr>
          <p:cNvPr id="418" name="Рисунок 3" descr="http://fs1.ucheba-legko.ru/images/9e4dd09bd3d800729736b33a7d1b6b18.jpg"/>
          <p:cNvPicPr/>
          <p:nvPr/>
        </p:nvPicPr>
        <p:blipFill>
          <a:blip r:embed="rId1"/>
          <a:stretch/>
        </p:blipFill>
        <p:spPr>
          <a:xfrm>
            <a:off x="1403280" y="0"/>
            <a:ext cx="604836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5"/>
          <p:cNvSpPr txBox="1"/>
          <p:nvPr/>
        </p:nvSpPr>
        <p:spPr>
          <a:xfrm>
            <a:off x="0" y="1143000"/>
            <a:ext cx="914400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чему Пугачев выдавал себя именно за императора Петра III ?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643040" y="214200"/>
            <a:ext cx="56577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то такой Петр Федорович ?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1" name="Picture 8" descr="image017"/>
          <p:cNvPicPr/>
          <p:nvPr/>
        </p:nvPicPr>
        <p:blipFill>
          <a:blip r:embed="rId1"/>
          <a:stretch/>
        </p:blipFill>
        <p:spPr>
          <a:xfrm>
            <a:off x="0" y="2459160"/>
            <a:ext cx="2771640" cy="439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22" name="Picture 10" descr="Ек2"/>
          <p:cNvPicPr/>
          <p:nvPr/>
        </p:nvPicPr>
        <p:blipFill>
          <a:blip r:embed="rId2"/>
          <a:stretch/>
        </p:blipFill>
        <p:spPr>
          <a:xfrm>
            <a:off x="5762520" y="2421000"/>
            <a:ext cx="3381480" cy="443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3" name="Picture 8" descr="pp_087"/>
          <p:cNvPicPr/>
          <p:nvPr/>
        </p:nvPicPr>
        <p:blipFill>
          <a:blip r:embed="rId3"/>
          <a:stretch/>
        </p:blipFill>
        <p:spPr>
          <a:xfrm>
            <a:off x="2843280" y="3213000"/>
            <a:ext cx="316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21:15Z</dcterms:created>
  <dc:creator>Станислав</dc:creator>
  <dc:description/>
  <dc:language>en-US</dc:language>
  <cp:lastModifiedBy>История</cp:lastModifiedBy>
  <dcterms:modified xsi:type="dcterms:W3CDTF">2018-03-29T13:26:12Z</dcterms:modified>
  <cp:revision>162</cp:revision>
  <dc:subject/>
  <dc:title>Слайд 1</dc:title>
</cp:coreProperties>
</file>