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2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2E8-C1B8-40E0-9EDB-BDAE49E3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FAB-6D96-4E73-BBD8-577485A6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F99C0-CD7A-4226-9280-9758468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184CA-01D7-4C70-BE42-120D6F81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D5B2B-C9DE-4E79-A9DC-47CD136C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5EE16-5154-46AE-A397-A4B7408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52EF8-BEA6-4E75-8465-57FAFDE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E331D-C15C-4163-85D3-3475D0F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6D65C-E36E-4835-ACF4-7E844670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56D92-D241-4659-8BF4-E2B1BEBA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E35BF-611D-447B-9CFF-4FBC9505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F34-E2E2-41E1-9ED0-BEBC5C63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D27-1F22-4874-B80E-C7F1BEC0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67E3-853C-4A1C-B7DE-4D88AC4E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32B8-D30E-4310-B4F2-55A1148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2E5-C904-4E9A-9BCC-DBA02723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5D6D-ABCC-48EF-9701-232AA4B2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E7EC-CE5E-43E5-AEB2-0300262F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30C4-F637-4A7B-8534-92F70235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8D4-3BE8-43FA-BE15-6AAF932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D8B-6F15-4DE3-910A-05434057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69C0-3CFE-475D-A520-F3A7A08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A54-A280-4DA5-93C3-1342ACE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2B11-F086-45AB-BDCF-5E9A1CD2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5E17-5C24-4CC3-9384-81230386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70C0-DCCE-4E78-89E9-141092F5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1397-3161-4527-909E-A584552C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78D9-5CA8-4570-8EB5-F0D8CFCD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4E78-CA28-417D-ADDE-ECCB5BD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C052-C23F-474C-A6FA-7D170BA0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A66D-4E4F-4E25-8BD3-D2D9A66E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47E-E5C4-44E8-ACEA-3E3CDAB2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2B51-44E4-4DCF-B7E8-5856E76C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EAA9-2F20-4752-827B-CD3835AE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AB86-83C2-44D5-9E90-B8C18AA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E7AC-603D-4B7D-8356-DB0E04F2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9013-7FDE-408F-8953-E2403718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0CEC-0154-45CF-9A4B-094C117F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1679-7381-4610-BD1E-ACA141B9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5F0D-CEAC-4CF8-90C0-F7FC6E55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FF84-DFFF-4816-B438-F2D957E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F0159-C65A-4E7F-9F17-A5D99647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16D-D5B4-4443-A323-E50FC527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CD67-B871-4FD9-834D-ADF206CC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EEB4-E224-416C-9F46-5C643862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E75F-A02C-4348-AA74-F21B8219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786E-DA34-4D03-A785-B526FE5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8A6C-E3F7-449C-BD7A-EEC2A30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D061-8552-49E6-9E33-219A46D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4ABC-F960-43BA-8EAD-A7FAAC6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08CE-ADB2-4C10-9D1F-A8CF539E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DCBB-72A3-4760-8119-C9209A0D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A470-A53D-4F6C-8DA5-2A3D07F4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935-88C5-4A87-A9D7-3F4F0AC7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C84F-FF3B-44B8-9AE6-EDA63F73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984A6-CB2F-4955-8345-2F9BB61A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692B-11D1-4911-A8F1-EB09E86D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0A9CA-9B63-47E3-9201-9591EDD4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329D1-5B2A-4E70-8E2B-8AB965AC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778AC-B78D-4AC6-BF2A-32F7899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2C85-6DA9-49B4-A25E-7C2AB85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5A69-D262-4D6A-969D-0EB358C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ABCC-3D51-4F23-924A-0BE89B1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2749A-879D-453B-A6D3-520BB9A0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D8E-61DD-45F2-B3F5-A6CCFF0E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4ABD-68B4-4EC9-8557-B1921DF9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32EDB-3102-43B5-8540-A5554DC2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19C0-DA52-47FC-8F1D-225DD21A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32074-3B88-42AC-AABC-740C7923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FDA9-33E3-4583-A6F3-66C9A95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5CFF5-110A-484E-919F-C00D67A5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A6BC-45EB-4299-BEF6-E28A0A6A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EB09-CEFB-4233-AA47-10629CD6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024A-9EAB-4D5A-BD94-ACE0003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2A9C-0C17-406C-A8BD-9EA5705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B94-81C6-4BB1-A026-EBE15BFF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7E23-9BDB-4527-8222-20A568EA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14D9B-F10A-45B0-B20A-B48182ED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8DFC-E92B-4F52-A1DD-26A321F8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E1A33-A130-49BA-8801-27CDE32F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06B9B-269A-4871-9677-2ADB8CFC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20517-7B15-4940-ADA8-5261EFAE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0613-B7A3-46F5-B9B6-042CC5C7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C047-E26B-4589-9650-F05E8F3D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48CAE-6187-465F-A909-2201779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F936-3E9D-47EA-8345-F7241CE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392-048E-4854-A468-D3E4D5C3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DFC8-5024-4188-8C64-A6E14F3B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7D0C5-591B-407D-A1AF-A46AC25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4BFFC-5551-4F2F-8E1D-CBAE9F5C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51E9E-A186-43B6-ADE4-6B3FEB7F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494FF-E4CC-4707-9756-7D872A21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0A232-0577-4CF0-BABA-ADAC1A87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92882-018F-4DA6-907D-DE51D34C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F49A-FE61-405B-97E0-E147DA07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53B23-B99B-4803-BC6A-90430739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2AE3A-AB0F-4A11-9E5A-86F64813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7DB-1D18-4B6A-8DF8-5FB13B9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3669C-FBDE-43DC-AB17-4A647475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79C55-5EF2-4E85-9B70-E6C3870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4EA3-AC78-45AC-9705-84B327A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97745-EBD0-4EE2-8DAF-FC50360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E66F4-7435-46B2-862D-32922EA7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FD76-3FB9-4404-BBC2-9B4FAA5A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9FD92-9007-4155-9C4E-D1F7AD42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81DDE-FE36-46DF-87EE-C49F4534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1BD39-5D10-4AD5-AAFA-F5A39D6F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BB7A2-9078-4F5A-B682-BE8C71B2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18CD-AABA-407A-9A56-8AC878285A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258-A226-4BCC-893F-BDA3B143DF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3B4C-EA93-43FE-8C94-ED65E51080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22E-95D0-4D8C-8BA2-6AFD2A4C58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9A0-360F-46B8-8F08-4262115B05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DA5-403E-4CDB-87E7-F4AF6112DB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53D-6066-4354-A596-3AC914E9D5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994D-7D0D-47D6-AE77-5775BCC50E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DA57-2900-495B-B7B4-F185069F33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2" descr="C:\Users\Андрей\Desktop\images (1).jpg"/>
          <p:cNvPicPr/>
          <p:nvPr/>
        </p:nvPicPr>
        <p:blipFill>
          <a:blip r:embed="rId1"/>
          <a:stretch/>
        </p:blipFill>
        <p:spPr>
          <a:xfrm>
            <a:off x="195120" y="0"/>
            <a:ext cx="88776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187280" y="692280"/>
            <a:ext cx="6977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новные этапы крестьянской войны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2050920" y="1844640"/>
            <a:ext cx="460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 –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 -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 –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1322280" cy="3705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27" name="Picture 12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825640" cy="2712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28" name="Picture 15" descr="http://www.ido.rudn.ru/nfpk/hist/pic/8/v8_1.jpg"/>
          <p:cNvPicPr/>
          <p:nvPr/>
        </p:nvPicPr>
        <p:blipFill>
          <a:blip r:embed="rId3"/>
          <a:srcRect l="52401" t="2802" r="1134" b="36096"/>
          <a:stretch/>
        </p:blipFill>
        <p:spPr>
          <a:xfrm rot="21378600">
            <a:off x="3132000" y="4437000"/>
            <a:ext cx="1943280" cy="2158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-1108080"/>
            <a:ext cx="89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Medium"/>
              </a:rPr>
              <a:t>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Medium"/>
              </a:rPr>
              <a:t>ОСНОВНЫЕ ЭТАПЫ КРЕСТЬЯНСКОЙ ВОЙНЫ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0" y="514440"/>
          <a:ext cx="9144000" cy="6386400"/>
        </p:xfrm>
        <a:graphic>
          <a:graphicData uri="http://schemas.openxmlformats.org/drawingml/2006/table">
            <a:tbl>
              <a:tblPr/>
              <a:tblGrid>
                <a:gridCol w="1987560"/>
                <a:gridCol w="2624040"/>
                <a:gridCol w="2246400"/>
                <a:gridCol w="2286000"/>
              </a:tblGrid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 (Да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вижущие си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0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 сент. 1773 г.-22 марта 1774 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ки, башкиры, рабочие, крестьяне (около 30 тыс. 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Пугачева перед яицкими казаками. Объявил себя Петро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Осада Оренбу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ача при осаде Оренбурга. Поражение Пугачёва под Царицыным (Татищева крепост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5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прель-июль 1774 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, русские, марийцы, чуваши, удмурты, башкиры (до 20 тыс. 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ие окраин Казани. Провозглашение Пугачевым похода на Москв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а II в ужасе и собирается бежать за границ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21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юль - сент. 1774 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, крестьяне, марийцы, чуваши, удмурты, башки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июля 1774 г. -манифест к крестьянам (Пугачёв отменяет крепостное право) Поражение Пугачёва под Царицыны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ча Пугачёва богатыми казаками властям. (12 сентября 1774 г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4"/>
          <p:cNvSpPr txBox="1"/>
          <p:nvPr/>
        </p:nvSpPr>
        <p:spPr>
          <a:xfrm>
            <a:off x="755640" y="260280"/>
            <a:ext cx="79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начение и итоги крестьянской войны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24000" y="1989000"/>
            <a:ext cx="860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самое крупное народное выступление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восстание не улучшило положение крестьян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впервые кроме идеи свободы были выдвинуты идеи борьбы с крепостничеством, с дворянством – от которого исходило главное з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(по мнению восставши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первое совместное выступление не только крестьян, но и работных людей, представителей национальных меньшин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поражение восставших усилило репрессивный характер внутренней политике властей по отношению к податным сослов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Жестокие расправы и казни участников вы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5"/>
          <p:cNvSpPr txBox="1"/>
          <p:nvPr/>
        </p:nvSpPr>
        <p:spPr>
          <a:xfrm>
            <a:off x="826920" y="1052640"/>
            <a:ext cx="777744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           </a:t>
            </a: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??? урока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чему это событие называют не крестьянское восстание, 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крестьянская война?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5" name="Picture 6" descr="n5"/>
          <p:cNvPicPr/>
          <p:nvPr/>
        </p:nvPicPr>
        <p:blipFill>
          <a:blip r:embed="rId1"/>
          <a:stretch/>
        </p:blipFill>
        <p:spPr>
          <a:xfrm>
            <a:off x="2843280" y="4708440"/>
            <a:ext cx="244944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390600" y="944640"/>
            <a:ext cx="8010360" cy="51512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7854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Franklin Gothic Medium"/>
              </a:rPr>
              <a:t>ПРАВИЛА СОСТАВЛЕНИЯ СИНКВЕЙНА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В ПЕРВОЙ СТРОКЕ ОДНИМ СЛОВОМ ОБОЗНАЧАЕТСЯ ТЕМА (ИМЕНЕМ СУЩЕСТВИТЕЛЬНЫМ)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ВТОРАЯ СТРОКА – ОПИСАНИЕ ТЕМЫ ДВУМЯ СЛОВАМИ (ПРИЛАГАТЕЛЬНЫЕ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ТРЕТЬЯ СТРОКА – ОПИСАНИЕ ДЕЙСТВИЯ В РАМКАХ ЭТОЙ ТЕМЫ ТРЕМЯ СЛОВАМИ (ГЛАГОЛЫ, ПРИЧАСТИЯ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ЧЕТВЕРТАЯ СТРОКА – ФРАЗА ИЗ ЧЕТЫРЕХ СЛОВ, ВЫРАЖАЮЩАЯ ОТНОШЕНИЕ К ТЕМЕ (РАЗНЫЕ ЧАСТИ РЕЧИ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Franklin Gothic Medium"/>
              </a:rPr>
              <a:t>ПЯТАЯ СТРОКА – ОДНО СЛОВО, СИНОНИМ ТЕМЫ.</a:t>
            </a:r>
            <a:br>
              <a:rPr sz="3200"/>
            </a:b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70572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2"/>
          <p:cNvSpPr/>
          <p:nvPr/>
        </p:nvSpPr>
        <p:spPr>
          <a:xfrm>
            <a:off x="539640" y="4046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ая, письменна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ствует, рассказывает, впечатля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в вид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2"/>
          <p:cNvSpPr/>
          <p:nvPr/>
        </p:nvSpPr>
        <p:spPr>
          <a:xfrm>
            <a:off x="714240" y="1500120"/>
            <a:ext cx="814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- Мы познакомились    с ...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- Мы узнали...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- Мы смогли поразмышлять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4"/>
          <p:cNvSpPr txBox="1"/>
          <p:nvPr/>
        </p:nvSpPr>
        <p:spPr>
          <a:xfrm>
            <a:off x="755640" y="1700280"/>
            <a:ext cx="7777080" cy="23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асибо всем за урок!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4" name="Picture 5" descr="guest-1"/>
          <p:cNvPicPr/>
          <p:nvPr/>
        </p:nvPicPr>
        <p:blipFill>
          <a:blip r:embed="rId1"/>
          <a:stretch/>
        </p:blipFill>
        <p:spPr>
          <a:xfrm>
            <a:off x="3132000" y="4365720"/>
            <a:ext cx="187164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WordArt 5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236160" cy="1866960"/>
          </a:xfrm>
          <a:prstGeom prst="rect">
            <a:avLst/>
          </a:prstGeom>
          <a:ln w="0">
            <a:noFill/>
          </a:ln>
        </p:spPr>
      </p:pic>
      <p:pic>
        <p:nvPicPr>
          <p:cNvPr id="402" name="WordArt 6" descr=""/>
          <p:cNvPicPr/>
          <p:nvPr/>
        </p:nvPicPr>
        <p:blipFill>
          <a:blip r:embed="rId2"/>
          <a:stretch/>
        </p:blipFill>
        <p:spPr>
          <a:xfrm>
            <a:off x="2610000" y="6132600"/>
            <a:ext cx="4424040" cy="7984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5" descr="аааааааа.jpg"/>
          <p:cNvPicPr/>
          <p:nvPr/>
        </p:nvPicPr>
        <p:blipFill>
          <a:blip r:embed="rId3"/>
          <a:stretch/>
        </p:blipFill>
        <p:spPr>
          <a:xfrm>
            <a:off x="0" y="1844640"/>
            <a:ext cx="9144000" cy="4268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8"/>
          <p:cNvSpPr/>
          <p:nvPr/>
        </p:nvSpPr>
        <p:spPr>
          <a:xfrm>
            <a:off x="684360" y="1125360"/>
            <a:ext cx="77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Sylfaen"/>
              </a:rPr>
              <a:t>Почему это событие называют крестьянской войной, а не крестьянским восстанием или бунт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79280" y="1844640"/>
            <a:ext cx="12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8101080" y="2060640"/>
            <a:ext cx="12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br>
              <a:rPr sz="8000"/>
            </a:b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684360" y="692280"/>
            <a:ext cx="81057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амятка по изучению крестьянской войны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556000" y="1700280"/>
            <a:ext cx="6337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Прич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Участники (состав, предводите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Основные этапы,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Итоги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08"/>
          <p:cNvPicPr/>
          <p:nvPr/>
        </p:nvPicPr>
        <p:blipFill>
          <a:blip r:embed="rId1"/>
          <a:stretch/>
        </p:blipFill>
        <p:spPr>
          <a:xfrm>
            <a:off x="179280" y="491508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4"/>
          <p:cNvSpPr txBox="1"/>
          <p:nvPr/>
        </p:nvSpPr>
        <p:spPr>
          <a:xfrm>
            <a:off x="755640" y="0"/>
            <a:ext cx="7488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чины крестьянской войны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24000" y="1916280"/>
            <a:ext cx="8496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Усиление власти и произвола помещиков над крестья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Тяжелое положение работных людей и приписных крестьян на мануфакту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Ухудшение положения нерусских народов Поволжья, Приуралья (башкиры, татары, калмы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Ликвидация властями казацкого самоуправления на Дону и Я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79280" y="105264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Sylfaen"/>
              </a:rPr>
              <a:t>Задание: определить причины крестьянской войны. Работа с учебником, пр. 25 пункт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611280" y="54936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астники крестьянской войны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539640" y="2060640"/>
            <a:ext cx="831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Крепостные крестья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Работные лю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Татары, башкиры и др. нерусские народы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0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</a:rPr>
              <a:t>Каза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85440" y="5732640"/>
            <a:ext cx="792468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dd2b1"/>
                </a:solidFill>
                <a:uFillTx/>
                <a:latin typeface="Franklin Gothic Book"/>
              </a:rPr>
              <a:t>Е. И. Пугачёв</a:t>
            </a:r>
            <a:endParaRPr b="0" lang="en-US" sz="40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85440" y="-1324440"/>
            <a:ext cx="792468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pic>
        <p:nvPicPr>
          <p:cNvPr id="418" name="Рисунок 3" descr="http://fs1.ucheba-legko.ru/images/9e4dd09bd3d800729736b33a7d1b6b18.jpg"/>
          <p:cNvPicPr/>
          <p:nvPr/>
        </p:nvPicPr>
        <p:blipFill>
          <a:blip r:embed="rId1"/>
          <a:stretch/>
        </p:blipFill>
        <p:spPr>
          <a:xfrm>
            <a:off x="1403280" y="0"/>
            <a:ext cx="604836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5"/>
          <p:cNvSpPr txBox="1"/>
          <p:nvPr/>
        </p:nvSpPr>
        <p:spPr>
          <a:xfrm>
            <a:off x="0" y="1143000"/>
            <a:ext cx="914400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чему Пугачев выдавал себя именно за императора Петра III ?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643040" y="214200"/>
            <a:ext cx="56577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то такой Петр Федорович ?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1" name="Picture 8" descr="image017"/>
          <p:cNvPicPr/>
          <p:nvPr/>
        </p:nvPicPr>
        <p:blipFill>
          <a:blip r:embed="rId1"/>
          <a:stretch/>
        </p:blipFill>
        <p:spPr>
          <a:xfrm>
            <a:off x="0" y="2459160"/>
            <a:ext cx="2771640" cy="4398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422" name="Picture 10" descr="Ек2"/>
          <p:cNvPicPr/>
          <p:nvPr/>
        </p:nvPicPr>
        <p:blipFill>
          <a:blip r:embed="rId2"/>
          <a:stretch/>
        </p:blipFill>
        <p:spPr>
          <a:xfrm>
            <a:off x="5762520" y="2421000"/>
            <a:ext cx="3381480" cy="4437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23" name="Picture 8" descr="pp_087"/>
          <p:cNvPicPr/>
          <p:nvPr/>
        </p:nvPicPr>
        <p:blipFill>
          <a:blip r:embed="rId3"/>
          <a:stretch/>
        </p:blipFill>
        <p:spPr>
          <a:xfrm>
            <a:off x="2843280" y="3213000"/>
            <a:ext cx="3168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21:15Z</dcterms:created>
  <dc:creator>Станислав</dc:creator>
  <dc:description/>
  <dc:language>en-US</dc:language>
  <cp:lastModifiedBy>История</cp:lastModifiedBy>
  <dcterms:modified xsi:type="dcterms:W3CDTF">2018-03-29T13:26:12Z</dcterms:modified>
  <cp:revision>162</cp:revision>
  <dc:subject/>
  <dc:title>Слайд 1</dc:title>
</cp:coreProperties>
</file>