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AC7F-48B0-4CEB-B70C-34017ED14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8D51-EF79-4937-B8AA-626B21B81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6670-CD9E-4A85-96F2-93E482698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B422-7792-4EEA-AB40-C0C188142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2E8FE-A008-40A8-8D0B-99843FE1F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98921-E70E-4C43-819E-5BACF50CC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CDA04-F663-4387-AE63-982B7171F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C5A17-5E62-4272-B57E-1C6F3CE41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155B6-D2ED-4905-8433-ADCFA8D17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08577-5AA5-46DC-8BAC-009B9404A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18F52-8534-440E-8CD6-7AB5FCA5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149A-D375-4CF2-B0E8-40FAFA309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CF074-A1DC-470E-9AED-4055F3F1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3F03B-EF65-43E0-B27E-8E057830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9EC8A-8469-44EB-9E41-3313529B5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DCFDE-7520-4D70-BA8C-9FE75ED3E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F8162-89B1-4DCA-BA7D-ED8784FF6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B75C-FC77-49B5-9E65-92105A563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8D66-0904-4C17-B9AF-A7EE06088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3662-08AA-4C1F-A0DD-426233836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6A57-1622-44F5-87F6-BF252A02A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0136-BF03-4D0D-A85C-6E720D74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BE58-FAB2-4CDC-988E-435B7952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3A7C-5044-4F60-BD27-AEC6841F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6C5DC-36AB-48C5-81A8-B64FD09EFF1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DE88A-33A2-4044-AAF6-49DED4BC301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hyperlink" Target="http://go.mail.ru/search_images?q=&#1075;&#1088;&#1072;&#1085;&#1072;&#1090;+&#1092;&#1088;&#1091;&#1082;&#1090;+&#1092;&#1086;&#1090;&#1086;&amp;rch=l&amp;jsa=1&amp;fr=rc" TargetMode="External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Спортивный праздник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Республика - игра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”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6084720" y="4869000"/>
            <a:ext cx="2735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тор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физической культуры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твийчук Татьяна Николаевн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.Санкт-Петербург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БОУ СОШ №12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1042920" y="5805360"/>
            <a:ext cx="21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2826720" y="619920"/>
            <a:ext cx="33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езентация мероприяти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2 БАШКИРСКАЯ игра-</a:t>
            </a: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ЮРТ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авила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аждая команда, образует круг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о углам площадки, в центр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руга стул. По сигналу ребят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езвятся(прыгают, пляшут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грают), по следующему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игналу все образуют большой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руг в центре зала по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ледующему сигналу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озвращаются к своему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тулу, берут ткань и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тягивают её в виде шатра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(крыши), получается юрта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ыигрывает команда, которая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ервая построит башкирский дом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7" name="Picture 5" descr="DSC05985"/>
          <p:cNvPicPr/>
          <p:nvPr/>
        </p:nvPicPr>
        <p:blipFill>
          <a:blip r:embed="rId1"/>
          <a:stretch/>
        </p:blipFill>
        <p:spPr>
          <a:xfrm>
            <a:off x="4356000" y="1557360"/>
            <a:ext cx="4465800" cy="41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9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9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9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9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9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9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9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9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9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9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900" fill="hold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900" fill="hold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900" fill="hold"/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900" fill="hold"/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900" fill="hold"/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3 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УЗБЕКСКАЯ народная игра 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ПАСТУХИ  И КОЗЫ</a:t>
            </a:r>
            <a:br>
              <a:rPr sz="2800"/>
            </a:b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равила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Из каждой команды выходит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дин пастух(мальчик)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и по 4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озочки(девочки). По свистку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астухи прыгая на одной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ноге(согнутую ногу держат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укой), стараются запятнать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озочек, которые бегают по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астбищу. Козочки после того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ак их запятнали, уходят за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ределы пастбища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ыигрывает та команда, чей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астух поймал больше коз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64832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1" name="Picture 9" descr="DSC05994"/>
          <p:cNvPicPr/>
          <p:nvPr/>
        </p:nvPicPr>
        <p:blipFill>
          <a:blip r:embed="rId2"/>
          <a:stretch/>
        </p:blipFill>
        <p:spPr>
          <a:xfrm>
            <a:off x="4140360" y="1628640"/>
            <a:ext cx="470664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000"/>
                            </p:stCondLst>
                            <p:childTnLst>
                              <p:par>
                                <p:cTn id="4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2000"/>
                            </p:stCondLst>
                            <p:childTnLst>
                              <p:par>
                                <p:cTn id="4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3000"/>
                            </p:stCondLst>
                            <p:childTnLst>
                              <p:par>
                                <p:cTn id="4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5000"/>
                            </p:stCondLst>
                            <p:childTnLst>
                              <p:par>
                                <p:cTn id="5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6000"/>
                            </p:stCondLst>
                            <p:childTnLst>
                              <p:par>
                                <p:cTn id="5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7000"/>
                            </p:stCondLst>
                            <p:childTnLst>
                              <p:par>
                                <p:cTn id="5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8000"/>
                            </p:stCondLst>
                            <p:childTnLst>
                              <p:par>
                                <p:cTn id="5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9000"/>
                            </p:stCondLst>
                            <p:childTnLst>
                              <p:par>
                                <p:cTn id="5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1000"/>
                            </p:stCondLst>
                            <p:childTnLst>
                              <p:par>
                                <p:cTn id="5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2000"/>
                            </p:stCondLst>
                            <p:childTnLst>
                              <p:par>
                                <p:cTn id="5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1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13000"/>
                            </p:stCondLst>
                            <p:childTnLst>
                              <p:par>
                                <p:cTn id="5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1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4. Одним из видов АЗЕРБАЙДЖАНСКИХ состязаний, является- перетягивание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авила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о 4 мальчика из каждой команды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стают друг против друг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оперники берутся правой рукой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 правую ногу ставят на линию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торая находится между ним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о сигналу, каждый ученик своего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оперника пытается тянуть в свою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торону. Побеждает тот, кто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ервый переступит линию, котора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ходится сзади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4" name="Picture 6" descr="DSC06003"/>
          <p:cNvPicPr/>
          <p:nvPr/>
        </p:nvPicPr>
        <p:blipFill>
          <a:blip r:embed="rId1"/>
          <a:stretch/>
        </p:blipFill>
        <p:spPr>
          <a:xfrm>
            <a:off x="4500720" y="1989000"/>
            <a:ext cx="439236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500"/>
                            </p:stCondLst>
                            <p:childTnLst>
                              <p:par>
                                <p:cTn id="5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000"/>
                            </p:stCondLst>
                            <p:childTnLst>
                              <p:par>
                                <p:cTn id="5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2500"/>
                            </p:stCondLst>
                            <p:childTnLst>
                              <p:par>
                                <p:cTn id="5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3000"/>
                            </p:stCondLst>
                            <p:childTnLst>
                              <p:par>
                                <p:cTn id="6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3500"/>
                            </p:stCondLst>
                            <p:childTnLst>
                              <p:par>
                                <p:cTn id="6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4000"/>
                            </p:stCondLst>
                            <p:childTnLst>
                              <p:par>
                                <p:cTn id="6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4500"/>
                            </p:stCondLst>
                            <p:childTnLst>
                              <p:par>
                                <p:cTn id="6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000"/>
                            </p:stCondLst>
                            <p:childTnLst>
                              <p:par>
                                <p:cTn id="6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500"/>
                            </p:stCondLst>
                            <p:childTnLst>
                              <p:par>
                                <p:cTn id="6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6000"/>
                            </p:stCondLst>
                            <p:childTnLst>
                              <p:par>
                                <p:cTn id="6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9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5. Бой с подушками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авила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Мальчики по сигнал судь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ытаются подушкой сбит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воего соперника, сбитый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уходит с победителем. 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онце состязания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одсчитываютс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обеждённые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64832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8" name="Picture 10" descr="DSC06024"/>
          <p:cNvPicPr/>
          <p:nvPr/>
        </p:nvPicPr>
        <p:blipFill>
          <a:blip r:embed="rId2"/>
          <a:stretch/>
        </p:blipFill>
        <p:spPr>
          <a:xfrm>
            <a:off x="4427640" y="2133720"/>
            <a:ext cx="446544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500"/>
                            </p:stCondLst>
                            <p:childTnLst>
                              <p:par>
                                <p:cTn id="6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1000"/>
                            </p:stCondLst>
                            <p:childTnLst>
                              <p:par>
                                <p:cTn id="6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1500"/>
                            </p:stCondLst>
                            <p:childTnLst>
                              <p:par>
                                <p:cTn id="6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000"/>
                            </p:stCondLst>
                            <p:childTnLst>
                              <p:par>
                                <p:cTn id="6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2500"/>
                            </p:stCondLst>
                            <p:childTnLst>
                              <p:par>
                                <p:cTn id="6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3000"/>
                            </p:stCondLst>
                            <p:childTnLst>
                              <p:par>
                                <p:cTn id="6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3500"/>
                            </p:stCondLst>
                            <p:childTnLst>
                              <p:par>
                                <p:cTn id="6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4000"/>
                            </p:stCondLst>
                            <p:childTnLst>
                              <p:par>
                                <p:cTn id="6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4500"/>
                            </p:stCondLst>
                            <p:childTnLst>
                              <p:par>
                                <p:cTn id="7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6. Прыжки через большую скакалку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авила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манды девочек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тают друг против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руга. По очереди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ыгают через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какалку, подсчитыва-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ется общее кол-во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ыжков у команды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1" name="Picture 5" descr="DSC06019"/>
          <p:cNvPicPr/>
          <p:nvPr/>
        </p:nvPicPr>
        <p:blipFill>
          <a:blip r:embed="rId1"/>
          <a:stretch/>
        </p:blipFill>
        <p:spPr>
          <a:xfrm>
            <a:off x="4529160" y="2276640"/>
            <a:ext cx="429084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9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3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2500"/>
                            </p:stCondLst>
                            <p:childTnLst>
                              <p:par>
                                <p:cTn id="7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7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3000"/>
                            </p:stCondLst>
                            <p:childTnLst>
                              <p:par>
                                <p:cTn id="7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1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3500"/>
                            </p:stCondLst>
                            <p:childTnLst>
                              <p:par>
                                <p:cTn id="7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5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4000"/>
                            </p:stCondLst>
                            <p:childTnLst>
                              <p:par>
                                <p:cTn id="7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9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4500"/>
                            </p:stCondLst>
                            <p:childTnLst>
                              <p:par>
                                <p:cTn id="7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3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5000"/>
                            </p:stCondLst>
                            <p:childTnLst>
                              <p:par>
                                <p:cTn id="7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7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5500"/>
                            </p:stCondLst>
                            <p:childTnLst>
                              <p:par>
                                <p:cTn id="7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1" dur="5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6000"/>
                            </p:stCondLst>
                            <p:childTnLst>
                              <p:par>
                                <p:cTn id="74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4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4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7. Эстафета сделать флаг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равил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апитаны вытягивают карточк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 изображением флага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оманды строятся в колонны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за линией старта. По сигналу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ервый бежит к стенке, где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исит пустой лист, берет со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тула одну из деталей и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наклеивает, возвращается и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ередает эстафету, сам встает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 конец колонны. Это же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ыполняют следующие члены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оманды. Побеждает команда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оторая быстрее сделает флаг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4" name="Picture 7" descr="DSC06030"/>
          <p:cNvPicPr/>
          <p:nvPr/>
        </p:nvPicPr>
        <p:blipFill>
          <a:blip r:embed="rId1"/>
          <a:stretch/>
        </p:blipFill>
        <p:spPr>
          <a:xfrm>
            <a:off x="4643280" y="1600200"/>
            <a:ext cx="3816360" cy="23335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DSC06032"/>
          <p:cNvPicPr/>
          <p:nvPr/>
        </p:nvPicPr>
        <p:blipFill>
          <a:blip r:embed="rId2"/>
          <a:stretch/>
        </p:blipFill>
        <p:spPr>
          <a:xfrm>
            <a:off x="4643280" y="3933720"/>
            <a:ext cx="381636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9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1000"/>
                            </p:stCondLst>
                            <p:childTnLst>
                              <p:par>
                                <p:cTn id="7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1500"/>
                            </p:stCondLst>
                            <p:childTnLst>
                              <p:par>
                                <p:cTn id="7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7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2500"/>
                            </p:stCondLst>
                            <p:childTnLst>
                              <p:par>
                                <p:cTn id="77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3000"/>
                            </p:stCondLst>
                            <p:childTnLst>
                              <p:par>
                                <p:cTn id="78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3500"/>
                            </p:stCondLst>
                            <p:childTnLst>
                              <p:par>
                                <p:cTn id="78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4000"/>
                            </p:stCondLst>
                            <p:childTnLst>
                              <p:par>
                                <p:cTn id="7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4500"/>
                            </p:stCondLst>
                            <p:childTnLst>
                              <p:par>
                                <p:cTn id="79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5000"/>
                            </p:stCondLst>
                            <p:childTnLst>
                              <p:par>
                                <p:cTn id="80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5500"/>
                            </p:stCondLst>
                            <p:childTnLst>
                              <p:par>
                                <p:cTn id="8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6000"/>
                            </p:stCondLst>
                            <p:childTnLst>
                              <p:par>
                                <p:cTn id="8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6500"/>
                            </p:stCondLst>
                            <p:childTnLst>
                              <p:par>
                                <p:cTn id="8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2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2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7000"/>
                            </p:stCondLst>
                            <p:childTnLst>
                              <p:par>
                                <p:cTn id="8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7500"/>
                            </p:stCondLst>
                            <p:childTnLst>
                              <p:par>
                                <p:cTn id="8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8000"/>
                            </p:stCondLst>
                            <p:childTnLst>
                              <p:par>
                                <p:cTn id="8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9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9000"/>
                            </p:stCondLst>
                            <p:childTnLst>
                              <p:par>
                                <p:cTn id="8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17" name="Picture 4" descr="DSC060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5"/>
          <p:cNvSpPr/>
          <p:nvPr/>
        </p:nvSpPr>
        <p:spPr>
          <a:xfrm>
            <a:off x="6300720" y="5589720"/>
            <a:ext cx="22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826920" y="0"/>
            <a:ext cx="55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Verdana"/>
              </a:rPr>
              <a:t>Национальные танц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9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21" name="Picture 4" descr="DSC06046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23" name="Picture 4" descr="DSC060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Награждение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25" name="Picture 4" descr="DSC06061"/>
          <p:cNvPicPr/>
          <p:nvPr/>
        </p:nvPicPr>
        <p:blipFill>
          <a:blip r:embed="rId1"/>
          <a:stretch/>
        </p:blipFill>
        <p:spPr>
          <a:xfrm>
            <a:off x="971640" y="1600200"/>
            <a:ext cx="741672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9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Основные содержательные блоки мероприятия и их значение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1. организационный ( обозначение целей и задач мероприятия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2. подготовительный ( настрой команд на игру 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3. основной ( подвижные игры и показательные выступления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4. заключительный ( подведение итогов и награждение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Планируемый результат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1. Иметь представление о подвижных играх разных народов мир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2. Развивать физические способност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3. Научить взаимодействовать друг с друго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4. Позитивно относиться к людям разных национальностей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" dur="2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" dur="2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5" dur="2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" dur="2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Состав участников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В данном мероприятии принимают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участие дети 1-4 классов разны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национальностей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Часть из них плохо владеет русским языком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В процессе игры, в неформальной обстановке, дети легч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адаптируются в образовательном процессе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500"/>
                            </p:stCondLst>
                            <p:childTnLst>
                              <p:par>
                                <p:cTn id="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99"/>
                </a:solidFill>
                <a:latin typeface="Arial"/>
              </a:rPr>
              <a:t>1. Организационный блок ( обозначение целей и задач мероприятия)</a:t>
            </a:r>
            <a:br>
              <a:rPr sz="2800"/>
            </a:b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Verdana"/>
              </a:rPr>
              <a:t>Цель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Ознакомление учащихся начальных классов с подвижными играми разных народов мира, как один из способов формирования толерантного сознани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Verdana"/>
              </a:rPr>
              <a:t>Задачи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Дать представление о подвижных играх разных народов мир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Развивать физические способност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Формировать позитивную психологию общения и коллективного взаимодействи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Формировать толерантное отношение к представителям разных национальностей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500"/>
                            </p:stCondLst>
                            <p:childTnLst>
                              <p:par>
                                <p:cTn id="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9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9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9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0"/>
                            </p:stCondLst>
                            <p:childTnLst>
                              <p:par>
                                <p:cTn id="1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9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6000"/>
                            </p:stCondLst>
                            <p:childTnLst>
                              <p:par>
                                <p:cTn id="1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9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99"/>
                </a:solidFill>
                <a:latin typeface="Arial"/>
              </a:rPr>
              <a:t>2. подготовительный ( настрой команд на игру )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готовка команд к мероприятию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брать название команды(связанные с темой спортивного мероприятия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еспублика- игра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”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ставление команд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мблема команд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италки, зазывалк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Oval 7"/>
          <p:cNvSpPr/>
          <p:nvPr/>
        </p:nvSpPr>
        <p:spPr>
          <a:xfrm>
            <a:off x="7272360" y="2708280"/>
            <a:ext cx="1871640" cy="165564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Oval 8"/>
          <p:cNvSpPr/>
          <p:nvPr/>
        </p:nvSpPr>
        <p:spPr>
          <a:xfrm>
            <a:off x="3635280" y="5202360"/>
            <a:ext cx="1871640" cy="165564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8" name="Picture 11" descr="1298796408"/>
          <p:cNvPicPr/>
          <p:nvPr/>
        </p:nvPicPr>
        <p:blipFill>
          <a:blip r:embed="rId1"/>
          <a:stretch/>
        </p:blipFill>
        <p:spPr>
          <a:xfrm>
            <a:off x="6810480" y="2492280"/>
            <a:ext cx="2333520" cy="2143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2" descr="ANd9GcS5coiMEy7spNyRn7BO9yxQhcUJOx4fIs4nRD3gpCctS5Bqy0VYbA"/>
          <p:cNvPicPr/>
          <p:nvPr/>
        </p:nvPicPr>
        <p:blipFill>
          <a:blip r:embed="rId2"/>
          <a:stretch/>
        </p:blipFill>
        <p:spPr>
          <a:xfrm>
            <a:off x="3492360" y="4508640"/>
            <a:ext cx="2428920" cy="2349360"/>
          </a:xfrm>
          <a:prstGeom prst="rect">
            <a:avLst/>
          </a:prstGeom>
          <a:ln w="0">
            <a:noFill/>
          </a:ln>
        </p:spPr>
      </p:pic>
      <p:pic>
        <p:nvPicPr>
          <p:cNvPr id="180" name="popup_img" descr="pomegranat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0920" y="2852640"/>
            <a:ext cx="1979640" cy="190512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15"/>
          <p:cNvSpPr/>
          <p:nvPr/>
        </p:nvSpPr>
        <p:spPr>
          <a:xfrm>
            <a:off x="0" y="0"/>
            <a:ext cx="32767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1" lang="ru-RU" sz="1600" spc="-1" strike="noStrike" u="sng">
                <a:solidFill>
                  <a:srgbClr val="cc0000"/>
                </a:solidFill>
                <a:uFillTx/>
                <a:latin typeface="Verdana"/>
              </a:rPr>
              <a:t>КОМАНДА-ГРАНАТ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Verdana"/>
              </a:rPr>
              <a:t>Гранат является как символом Азербайджана, так и символом Армении, символизирует плодородие и богатство. Это объясняется тем, что гранатовые деревья увешаны плодами круглый год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Text Box 16"/>
          <p:cNvSpPr/>
          <p:nvPr/>
        </p:nvSpPr>
        <p:spPr>
          <a:xfrm>
            <a:off x="5867280" y="494172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Text Box 17"/>
          <p:cNvSpPr/>
          <p:nvPr/>
        </p:nvSpPr>
        <p:spPr>
          <a:xfrm>
            <a:off x="5940360" y="4797360"/>
            <a:ext cx="320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ff66"/>
                </a:solidFill>
                <a:uFillTx/>
                <a:latin typeface="Verdana"/>
              </a:rPr>
              <a:t>КОМАНДА-КАРАВАЙ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ff66"/>
                </a:solidFill>
                <a:latin typeface="Verdana"/>
              </a:rPr>
              <a:t>Слово каравай — славянское. Каравай считался символом счастья, достатка и изобилия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Text Box 18"/>
          <p:cNvSpPr/>
          <p:nvPr/>
        </p:nvSpPr>
        <p:spPr>
          <a:xfrm>
            <a:off x="0" y="4724280"/>
            <a:ext cx="34196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3399"/>
                </a:solidFill>
                <a:uFillTx/>
                <a:latin typeface="Verdana"/>
              </a:rPr>
              <a:t>КОМАНДА-Эльбру́с</a:t>
            </a:r>
            <a:r>
              <a:rPr b="1" lang="ru-RU" sz="1600" spc="-1" strike="noStrike">
                <a:solidFill>
                  <a:srgbClr val="333399"/>
                </a:solidFill>
                <a:latin typeface="Verdana"/>
              </a:rPr>
              <a:t>.</a:t>
            </a:r>
            <a:r>
              <a:rPr b="0" lang="ru-RU" sz="1600" spc="-1" strike="noStrike">
                <a:solidFill>
                  <a:srgbClr val="333399"/>
                </a:solidFill>
                <a:latin typeface="Verdana"/>
              </a:rPr>
              <a:t>  Гора на Кавказе, является высочайшей вершиной России и Европы. Снег лежит на склонах Эльбруса круглый год. Зачастую летом на них проводятся разнообразные соревнования по фристайлу и фестивали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5" name="Picture 20" descr="79112226_4278666_248361svetik"/>
          <p:cNvPicPr/>
          <p:nvPr/>
        </p:nvPicPr>
        <p:blipFill>
          <a:blip r:embed="rId5"/>
          <a:stretch/>
        </p:blipFill>
        <p:spPr>
          <a:xfrm>
            <a:off x="3492360" y="0"/>
            <a:ext cx="2519640" cy="23256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21"/>
          <p:cNvSpPr/>
          <p:nvPr/>
        </p:nvSpPr>
        <p:spPr>
          <a:xfrm>
            <a:off x="6012000" y="0"/>
            <a:ext cx="313200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0099"/>
                </a:solidFill>
                <a:uFillTx/>
                <a:latin typeface="Verdana"/>
              </a:rPr>
              <a:t>КОМАНДА-Фиалк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99"/>
                </a:solidFill>
                <a:latin typeface="Verdana"/>
              </a:rPr>
              <a:t>Как только природа ожила,</a:t>
            </a:r>
            <a:br>
              <a:rPr sz="1800"/>
            </a:br>
            <a:r>
              <a:rPr b="0" lang="ru-RU" sz="1800" spc="-1" strike="noStrike">
                <a:solidFill>
                  <a:srgbClr val="cc0099"/>
                </a:solidFill>
                <a:latin typeface="Verdana"/>
              </a:rPr>
              <a:t>Уже из - под снега весна</a:t>
            </a:r>
            <a:br>
              <a:rPr sz="1800"/>
            </a:br>
            <a:r>
              <a:rPr b="0" lang="ru-RU" sz="1800" spc="-1" strike="noStrike">
                <a:solidFill>
                  <a:srgbClr val="cc0099"/>
                </a:solidFill>
                <a:latin typeface="Verdana"/>
              </a:rPr>
              <a:t>Лиловых фиалок дарила</a:t>
            </a:r>
            <a:br>
              <a:rPr sz="1800"/>
            </a:br>
            <a:r>
              <a:rPr b="0" lang="ru-RU" sz="1800" spc="-1" strike="noStrike">
                <a:solidFill>
                  <a:srgbClr val="cc0099"/>
                </a:solidFill>
                <a:latin typeface="Verdana"/>
              </a:rPr>
              <a:t>Как символ любви и добра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Text Box 22"/>
          <p:cNvSpPr/>
          <p:nvPr/>
        </p:nvSpPr>
        <p:spPr>
          <a:xfrm>
            <a:off x="2556000" y="278136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чет, счет пересчет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 скале овца не в счет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то овечек сосчитает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от себе ее возьмет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60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6000"/>
                            </p:stCondLst>
                            <p:childTnLst>
                              <p:par>
                                <p:cTn id="23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8000"/>
                            </p:stCondLst>
                            <p:childTnLst>
                              <p:par>
                                <p:cTn id="2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Музыкальное сопровождение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Игра народов СИБИРИ и ДАЛЬНЕГО ВОСТОКА      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РУЧЕЙКИ и ОЗЕРА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2 БАШКИРСКАЯ игра-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ЮРТА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3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УЗБЕКСКАЯ народная игра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АСТУХИ  И КОЗЫ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4. Одним из видов АЗЕРБАЙДЖАНСКИХ состязаний, является- перетягивание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5. Бой с подушкам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6. Прыжки через большую скакалку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7. Эстафета сделать флаг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SzPct val="20592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1.Клара Румянова,,От улыбки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”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2.Башкирская.,, Плясовая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”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3.Узбекская эстрада. ,, Лезгинка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”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.Красивая азербайджанская музыка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5,6.,, Элвин и бурундуки.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”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7.,, В каждом маленьком ребенке.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”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500"/>
                            </p:stCondLst>
                            <p:childTnLst>
                              <p:par>
                                <p:cTn id="2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500"/>
                            </p:stCondLst>
                            <p:childTnLst>
                              <p:par>
                                <p:cTn id="2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500"/>
                            </p:stCondLst>
                            <p:childTnLst>
                              <p:par>
                                <p:cTn id="2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4500"/>
                            </p:stCondLst>
                            <p:childTnLst>
                              <p:par>
                                <p:cTn id="2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500"/>
                            </p:stCondLst>
                            <p:childTnLst>
                              <p:par>
                                <p:cTn id="2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6500"/>
                            </p:stCondLst>
                            <p:childTnLst>
                              <p:par>
                                <p:cTn id="2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7500"/>
                            </p:stCondLst>
                            <p:childTnLst>
                              <p:par>
                                <p:cTn id="3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Игра народов СИБИРИ и ДАЛЬНЕГО ВОСТОКА      </a:t>
            </a: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РУЧЕЙКИ и ОЗЕРА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равила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аждая команда в составе 8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человек встают колоннами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держась друг за друга- это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учейки. По сигналу, ручейки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ередвигаются по залу в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азных направлениях, по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ледующему сигналу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аждая колонна должна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зяться за руки, образовав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руги- это озёра. Выигрывае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та команда которая быстрее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остроит круг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3" name="Picture 15" descr="DSC05968"/>
          <p:cNvPicPr/>
          <p:nvPr/>
        </p:nvPicPr>
        <p:blipFill>
          <a:blip r:embed="rId1"/>
          <a:stretch/>
        </p:blipFill>
        <p:spPr>
          <a:xfrm>
            <a:off x="4932360" y="1413000"/>
            <a:ext cx="3384720" cy="24908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6" descr="DSC05969"/>
          <p:cNvPicPr/>
          <p:nvPr/>
        </p:nvPicPr>
        <p:blipFill>
          <a:blip r:embed="rId2"/>
          <a:stretch/>
        </p:blipFill>
        <p:spPr>
          <a:xfrm>
            <a:off x="4932360" y="4005360"/>
            <a:ext cx="338472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9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2" dur="2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5" dur="2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8" dur="2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1" dur="20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4" dur="20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7" dur="20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0" dur="20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3" dur="200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6" dur="2000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9" dur="2000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2" dur="2000"/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5" dur="2000"/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8" dur="2000"/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1T09:22:08Z</dcterms:created>
  <dc:creator>Татьяна</dc:creator>
  <dc:description/>
  <dc:language>en-US</dc:language>
  <cp:lastModifiedBy>1</cp:lastModifiedBy>
  <dcterms:modified xsi:type="dcterms:W3CDTF">2018-03-29T12:57:15Z</dcterms:modified>
  <cp:revision>17</cp:revision>
  <dc:subject/>
  <dc:title>Спортивный праздник</dc:title>
</cp:coreProperties>
</file>