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625D-2062-4E80-B618-448633C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B128-4B11-42C7-94E6-F3E938F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B1D0-3AD8-4EAB-8F91-B1161A6A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B16F-4251-41AA-9BB2-5152BD4C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981-9A62-4F6D-B638-CFAD6664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ADC6-5216-41EE-A6A0-01E17731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5FE-0098-43FF-9632-E0DB6421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DE7B-D906-4700-8C30-FD966DE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7273-2412-41DD-A190-15F5C12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90B-4650-498E-89CA-97D97DAE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EA51-6C64-44ED-B2AC-61D0217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5414-2A50-482E-ABF6-E35209C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0902-8834-4C7E-936E-8E58171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9E3-7CF8-45A5-8BBC-31747F6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91A0-1882-4483-8700-CBBA8DF0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8A15-5D59-432D-8F42-EE96C9ED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2CA-4261-4A81-9DEB-6A9D3FAC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E320-AFD0-479A-8D81-EDB91A9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95A5-F67B-4DD3-8269-330CDA1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634D-2041-4EA2-BF61-389F691D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1FE4-3980-451C-B07D-C0D6F8B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1DBB-297C-43B5-A6A3-766F96C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0E1D-968B-4D8A-A812-D37D623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0FB1-6234-4E1D-825A-2F18580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8CE-08DF-47C7-9204-1528EE0BF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43A-0EF9-4186-9DEB-473BFD7A02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9fad2"/>
                </a:solidFill>
                <a:latin typeface="Garamond"/>
              </a:rPr>
              <a:t>Свойства стали</a:t>
            </a:r>
            <a:endParaRPr b="1" lang="en-US" sz="88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81560" y="287928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цаев Дан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№2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9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тали являются основным конструкционны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териалом промышл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9fad2"/>
                </a:solidFill>
                <a:latin typeface="Arial"/>
              </a:rPr>
              <a:t>Комплекс конструкционных свой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28800"/>
            <a:ext cx="3809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про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720" y="2313000"/>
            <a:ext cx="345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пласти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2743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вязк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429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ые конструкционные свойства стали достигаются  путем изменения содержания углерода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1471320" cy="1301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2900880" y="48006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гиров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094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до 0.3%, в конструкционных 0.7-3.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истых 12-1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оникелевых 9-3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2004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сварке хром образует карбиды хрома, ухудшающие коррозионную стойкость стали и резко повышающие твердость в зонах термического влияния; содействует образованию тугоплавких окислов,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затрудняющих процесс сварк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4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53352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к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0.2-0.3%, в конструкционных сталях 1-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легированных сталях 8-35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сплавах содержание никеля достигает 8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58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ель увеличивает пластические и прочностные свойства стали, измельчает зерна,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 ухудшая свариваем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33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4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67868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faa4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7600" y="144792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держание в стали ограничивается 0.15-0.8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58680" y="68580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либд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8404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8404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243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увеличивает несущую способность стали при ударных нагрузках и высоких температурах, измельчает зерно; способствует образованию трещин в наплавленном металле и в зонах термического влияния; при сварке активно окисляется и выго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95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75500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пециальных сталях содержится 0.2-0.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штамповых сталях 1-1.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659040" y="685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над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143000" cy="104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219320" cy="11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152280" y="2743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способствует закаливаемости стали, чем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трудняет сварк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цессе сварки активно окисляется и выгор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228960"/>
            <a:ext cx="9144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шиностроительные стали и сплавы специализированного назна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характеризуются их механическими свойствами при низ­ких и высоких температурах; физическими, химическими и технологическими свойствами. Они могут быть использованы для эксплуатации в особых условиях (при температурах ниже 0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, при нагреве, динамических нагрузках и т.  п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26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876920" y="42372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35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физическими свойств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учают в результате специального легирования и термической обработки. Их применяют в основном в приборостроении, электронной, радиотехнической промышленности и т. 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-36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химическими свойств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тойкие к коррозии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держат не менее 12,5—13 % С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и с высоким содержанием   хрома   и   никеля — стойкие   в   агрессивных   сред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2514600"/>
            <a:ext cx="4876920" cy="3646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41148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7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плоустойчивые ст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низколегированные стали с обязательным содержанием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ХРОМ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ОЛИБД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лительно работающие при температуре до 60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8329680" y="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3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дешевы, технологичны; из них делают отливки, прокат, поковки; их используют для изготовления сварных конструкций: турбин, паропроводов,            котлов и т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6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2523960"/>
            <a:ext cx="5791320" cy="435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которые металлы в твердом состоянии в различных температурных интервалах приобретают различную кристаллическую решетку, что всегда приводит к изменению их физико-химических свой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667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0" y="5334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Tahoma"/>
              </a:rPr>
              <a:t>СТАЛЬ –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лав железа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) с углеродом (С), содержащий его до 2, 14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0004-006-Splavy-zheleza-fe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это ценный конструкционный материал, из него изготавливают различные детали, зубчатые колеса, корпуса станков, трубы и т.д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0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е основы 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(железа - </a:t>
            </a:r>
            <a:r>
              <a:rPr b="1" lang="en-US" sz="3200" spc="-1" strike="noStrike">
                <a:solidFill>
                  <a:srgbClr val="f9fad2"/>
                </a:solidFill>
                <a:latin typeface="Arial"/>
              </a:rPr>
              <a:t>Fe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 и углерода - С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ях в малых количествах присутствуют примес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60" y="4343400"/>
            <a:ext cx="17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32040" y="3657600"/>
            <a:ext cx="21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лезо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62520" y="3657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 основной компон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964320" y="3962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908360" y="42670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углерод (С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9625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- содержание менее 2,1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64320" y="4572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143000" y="4876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име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96432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905120" y="55627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егирующие добав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К механическим 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свойствам сталей относятся: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рочность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тверд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пруг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ластичн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дарная вязк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олзуч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стал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mb4_003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a94c"/>
                </a:solidFill>
                <a:latin typeface="Verdana"/>
              </a:rPr>
              <a:t>Прочность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 —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это способность металла или сплава противостоять деформации и разрушению под действием приложенных  нагруз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981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Нагрузки могут быть внеш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вес, давление и др.)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и внутрен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изменение размеров тела от нагревания и охлаждения, изменение  структуры металла и т. д.)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390060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Нагрузки бывают стат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остоянными по величине и направлению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, или динам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еременными по величине, направлению и продолжительности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Действуют нагрузки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62120" y="838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152280" y="10666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819520" y="1066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09480" y="905040"/>
            <a:ext cx="2438640" cy="303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8862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растяж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1828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жат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212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04920" y="2209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2819160" y="22096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190512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3124080" y="3962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кручивание (кручен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762120" y="3048120"/>
            <a:ext cx="20574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752480" y="2514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20"/>
          <p:cNvSpPr/>
          <p:nvPr/>
        </p:nvSpPr>
        <p:spPr>
          <a:xfrm rot="10800000">
            <a:off x="609480" y="1828800"/>
            <a:ext cx="2362320" cy="1752480"/>
          </a:xfrm>
          <a:custGeom>
            <a:avLst/>
            <a:gdLst>
              <a:gd name="textAreaLeft" fmla="*/ 5040 w 2362320"/>
              <a:gd name="textAreaRight" fmla="*/ 2357280 w 2362320"/>
              <a:gd name="textAreaTop" fmla="*/ 0 h 1752480"/>
              <a:gd name="textAreaBottom" fmla="*/ 815760 h 1752480"/>
            </a:gdLst>
            <a:ahLst/>
            <a:rect l="textAreaLeft" t="textAreaTop" r="textAreaRight" b="textAreaBottom"/>
            <a:pathLst>
              <a:path w="21600" h="21600">
                <a:moveTo>
                  <a:pt x="3375" y="8076"/>
                </a:moveTo>
                <a:cubicBezTo>
                  <a:pt x="4518" y="4962"/>
                  <a:pt x="7482" y="2891"/>
                  <a:pt x="10800" y="2892"/>
                </a:cubicBezTo>
                <a:cubicBezTo>
                  <a:pt x="14117" y="2892"/>
                  <a:pt x="17081" y="4962"/>
                  <a:pt x="18224" y="8076"/>
                </a:cubicBezTo>
                <a:lnTo>
                  <a:pt x="20939" y="7080"/>
                </a:lnTo>
                <a:cubicBezTo>
                  <a:pt x="19378" y="2827"/>
                  <a:pt x="15330" y="-1"/>
                  <a:pt x="10799" y="0"/>
                </a:cubicBezTo>
                <a:cubicBezTo>
                  <a:pt x="6269" y="0"/>
                  <a:pt x="2221" y="2827"/>
                  <a:pt x="660" y="708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733920" y="2819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изги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09480" y="5410080"/>
            <a:ext cx="25146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38080" y="40384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26"/>
          <p:cNvSpPr/>
          <p:nvPr/>
        </p:nvSpPr>
        <p:spPr>
          <a:xfrm rot="8121600">
            <a:off x="1980360" y="3657240"/>
            <a:ext cx="1219320" cy="106668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27"/>
          <p:cNvSpPr/>
          <p:nvPr/>
        </p:nvSpPr>
        <p:spPr>
          <a:xfrm flipH="1" rot="13478400">
            <a:off x="532440" y="3656880"/>
            <a:ext cx="1218960" cy="106668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2590920" cy="709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9"/>
          <p:cNvSpPr/>
          <p:nvPr/>
        </p:nvSpPr>
        <p:spPr>
          <a:xfrm>
            <a:off x="37339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ре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1905120" y="5867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32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819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45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295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795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99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666880" y="37080"/>
            <a:ext cx="40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ера и фосфор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7880" y="167544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снижают пластичность и вязкость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31120" y="34279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ухудшают свариваемос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3526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2333520" cy="139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2286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ЛИКВАЦ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— неоднородность химического состава сплава, возникающая при его 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кристаллизации,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обусловленная обогащением жидкой части кристаллизующегося расплава элементами, растворимость которых в жидкой фазе больше, чем в твер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3581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К таким элементам,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называемым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ликвирующими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, в стали относятся, например, </a:t>
            </a:r>
            <a:r>
              <a:rPr b="1" lang="ru-RU" sz="3200" spc="-1" strike="noStrike">
                <a:solidFill>
                  <a:srgbClr val="dca94c"/>
                </a:solidFill>
                <a:latin typeface="Verdana"/>
              </a:rPr>
              <a:t>углерод, сера, фосфор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486400" y="5029200"/>
            <a:ext cx="160020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16002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admin</cp:lastModifiedBy>
  <dcterms:modified xsi:type="dcterms:W3CDTF">2018-03-29T07:35:1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