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B9826-4222-49CD-AD4C-36AC1E0A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C19A8-056B-4D73-8C6F-1135B632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5F651-3CD5-4EC6-91DB-A5D3A05E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0F023-211E-401E-9F53-9FB796B2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B584-8478-4498-A826-B5E744BA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2E20-5818-4D98-B471-07627D83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0F37-2370-4B5F-B3F1-EDEACA1F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25C9-28AC-43C0-AD57-7E01B310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2B07-9963-4914-80F8-6C31E283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8732-6E60-4753-ACD6-B5E72CBF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D803-31E7-4869-A5C0-1928ED17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3F4D6-2080-4B1D-9E54-33BE749F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B4EC-F851-472E-83EB-4212F06C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7026-232D-4E7B-94BC-195D2C2F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F74E-ABAB-42F0-96FE-F30B1B0F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EE0E-4EC1-4A52-AF85-072E0CE6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56C5-34FD-4425-BF57-A3C5B91E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CE5C7-BEE4-41E4-8A62-8008F02E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842F5-24C7-4D62-BD04-46C4E94E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29238-7959-45CC-B285-EE0C4699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B9529-03C6-4AC9-93AA-6BCDFD08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52E20-4A67-4982-97EB-0463A886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59A50-38FB-484F-9DF8-3E53901F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DD4C5-3D80-469E-8B9F-19343126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BB2C-1057-497B-88D3-A9D0229261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36BB-A37C-4893-831B-AE787BACE3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9fad2"/>
                </a:solidFill>
                <a:latin typeface="Garamond"/>
              </a:rPr>
              <a:t>Свойства стали</a:t>
            </a:r>
            <a:endParaRPr b="1" lang="en-US" sz="88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066680" y="42710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ицаев Данил гр№23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f9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тали являются основным конструкционны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материалом промышлен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914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9fad2"/>
                </a:solidFill>
                <a:latin typeface="Arial"/>
              </a:rPr>
              <a:t>Комплекс конструкционных свойств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0" y="1828800"/>
            <a:ext cx="38098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*прочность </a:t>
            </a: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9720" y="2313000"/>
            <a:ext cx="3457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* пластичность </a:t>
            </a: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0" y="274320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*вязкость </a:t>
            </a:r>
            <a:r>
              <a:rPr b="1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ψ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34290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ходимые конструкционные свойства стали достигаются  путем изменения содержания углерода 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6248520" y="1905120"/>
            <a:ext cx="1471320" cy="13017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0"/>
          <p:cNvSpPr/>
          <p:nvPr/>
        </p:nvSpPr>
        <p:spPr>
          <a:xfrm>
            <a:off x="2900880" y="4800600"/>
            <a:ext cx="30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легировани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11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828800" cy="1430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/>
          <p:cNvPicPr/>
          <p:nvPr/>
        </p:nvPicPr>
        <p:blipFill>
          <a:blip r:embed="rId3"/>
          <a:stretch/>
        </p:blipFill>
        <p:spPr>
          <a:xfrm>
            <a:off x="6629400" y="4419720"/>
            <a:ext cx="160020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3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3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3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1064520" y="0"/>
            <a:ext cx="71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fad2"/>
                </a:solidFill>
                <a:latin typeface="Arial"/>
              </a:rPr>
              <a:t>Легирующие элементы и примес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609480"/>
            <a:ext cx="9144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р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низкоуглеродистых сталях содержится до 0.3%, в конструкционных 0.7-3.5%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хромистых 12-18%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хромоникелевых 9-35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3200400"/>
            <a:ext cx="9144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и сварке хром образует карбиды хрома, ухудшающие коррозионную стойкость стали и резко повышающие твердость в зонах термического влияния; содействует образованию тугоплавких окислов,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затрудняющих процесс сварки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3657600" y="5257800"/>
            <a:ext cx="1600200" cy="1378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2"/>
          <a:stretch/>
        </p:blipFill>
        <p:spPr>
          <a:xfrm>
            <a:off x="7543800" y="1752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3"/>
          <a:stretch/>
        </p:blipFill>
        <p:spPr>
          <a:xfrm>
            <a:off x="380880" y="18288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3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4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8150"/>
                            </p:stCondLst>
                            <p:childTnLst>
                              <p:par>
                                <p:cTn id="4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9450"/>
                            </p:stCondLst>
                            <p:childTnLst>
                              <p:par>
                                <p:cTn id="4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950"/>
                            </p:stCondLst>
                            <p:childTnLst>
                              <p:par>
                                <p:cTn id="4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4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1064520" y="0"/>
            <a:ext cx="71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fad2"/>
                </a:solidFill>
                <a:latin typeface="Arial"/>
              </a:rPr>
              <a:t>Легирующие элементы и примес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533520"/>
            <a:ext cx="9144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икель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низкоуглеродистых сталях содержится 0.2-0.3%, в конструкционных сталях 1-5%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легированных сталях 8-35%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некоторых сплавах содержание никеля достигает 85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3581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кель увеличивает пластические и прочностные свойства стали, измельчает зерна,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 ухудшая свариваемост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0" y="2743200"/>
            <a:ext cx="1295280" cy="127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2"/>
          <a:stretch/>
        </p:blipFill>
        <p:spPr>
          <a:xfrm>
            <a:off x="7848720" y="2743200"/>
            <a:ext cx="1295280" cy="1276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"/>
          <p:cNvPicPr/>
          <p:nvPr/>
        </p:nvPicPr>
        <p:blipFill>
          <a:blip r:embed="rId3"/>
          <a:stretch/>
        </p:blipFill>
        <p:spPr>
          <a:xfrm>
            <a:off x="3352680" y="4952880"/>
            <a:ext cx="213372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4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4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1150"/>
                            </p:stCondLst>
                            <p:childTnLst>
                              <p:par>
                                <p:cTn id="4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4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1678680" y="0"/>
            <a:ext cx="5821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faa4"/>
                </a:solidFill>
                <a:latin typeface="Arial"/>
              </a:rPr>
              <a:t>Легирующие элементы и примес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37600" y="1447920"/>
            <a:ext cx="84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держание в стали ограничивается 0.15-0.8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3658680" y="68580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олибд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84040" cy="1219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184040" cy="12193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0" y="243828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 увеличивает несущую способность стали при ударных нагрузках и высоких температурах, измельчает зерно; способствует образованию трещин в наплавленном металле и в зонах термического влияния; при сварке активно окисляется и выгорает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"/>
          <p:cNvPicPr/>
          <p:nvPr/>
        </p:nvPicPr>
        <p:blipFill>
          <a:blip r:embed="rId3"/>
          <a:stretch/>
        </p:blipFill>
        <p:spPr>
          <a:xfrm>
            <a:off x="3657600" y="5257800"/>
            <a:ext cx="16002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4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5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5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5950"/>
                            </p:stCondLst>
                            <p:childTnLst>
                              <p:par>
                                <p:cTn id="5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1755000" y="0"/>
            <a:ext cx="5821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9fad2"/>
                </a:solidFill>
                <a:latin typeface="Arial"/>
              </a:rPr>
              <a:t>Легирующие элементы и примес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1676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специальных сталях содержится 0.2-0.8%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штамповых сталях 1-1.5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659040" y="68580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анад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1143000" cy="1049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1219320" cy="11192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8"/>
          <p:cNvSpPr/>
          <p:nvPr/>
        </p:nvSpPr>
        <p:spPr>
          <a:xfrm>
            <a:off x="152280" y="27432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 способствует закаливаемости стали, чем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трудняет сварку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процессе сварки активно окисляется и выгорае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3"/>
          <a:stretch/>
        </p:blipFill>
        <p:spPr>
          <a:xfrm>
            <a:off x="3657600" y="4572000"/>
            <a:ext cx="20574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5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5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0" y="228960"/>
            <a:ext cx="914400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Машиностроительные стали и сплавы специализированного назначе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характеризуются их механическими свойствами при низ­ких и высоких температурах; физическими, химическими и технологическими свойствами. Они могут быть использованы для эксплуатации в особых условиях (при температурах ниже 0</a:t>
            </a:r>
            <a:r>
              <a:rPr b="1" lang="ru-RU" sz="2800" spc="-1" strike="noStrike" baseline="30000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, при нагреве, динамических нагрузках и т.  п.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0" y="4267080"/>
            <a:ext cx="4267080" cy="2210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4876920" y="4237200"/>
            <a:ext cx="38098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350"/>
                            </p:stCondLst>
                            <p:childTnLst>
                              <p:par>
                                <p:cTn id="5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6350"/>
                            </p:stCondLst>
                            <p:childTnLst>
                              <p:par>
                                <p:cTn id="5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0" y="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ли и сплавы с особыми физическими свойствам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олучают в результате специального легирования и термической обработки. Их применяют в основном в приборостроении, электронной, радиотехнической промышленности и т. 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0" y="2895480"/>
            <a:ext cx="4495680" cy="3454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2"/>
          <a:stretch/>
        </p:blipFill>
        <p:spPr>
          <a:xfrm>
            <a:off x="6172200" y="2743200"/>
            <a:ext cx="2300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0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900"/>
                            </p:stCondLst>
                            <p:childTnLst>
                              <p:par>
                                <p:cTn id="5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0" y="-360"/>
            <a:ext cx="91440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ли и сплавы с особыми химическими свойствами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(стойкие к коррозии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одержат не менее 12,5—13 % Сг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ли с высоким содержанием   хрома   и   никеля — стойкие   в   агрессивных   среда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0" y="2514600"/>
            <a:ext cx="4876920" cy="3646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5029200" y="2438280"/>
            <a:ext cx="411480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0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7850"/>
                            </p:stCondLst>
                            <p:childTnLst>
                              <p:par>
                                <p:cTn id="6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8850"/>
                            </p:stCondLst>
                            <p:childTnLst>
                              <p:par>
                                <p:cTn id="6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7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плоустойчивые стал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0" y="533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низколегированные стали с обязательным содержанием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ХРОМ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ОЛИБДЕ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длительно работающие при температуре до 600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8" name="Picture 20" descr=""/>
          <p:cNvPicPr/>
          <p:nvPr/>
        </p:nvPicPr>
        <p:blipFill>
          <a:blip r:embed="rId1"/>
          <a:stretch/>
        </p:blipFill>
        <p:spPr>
          <a:xfrm>
            <a:off x="8329680" y="0"/>
            <a:ext cx="814320" cy="838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2" descr=""/>
          <p:cNvPicPr/>
          <p:nvPr/>
        </p:nvPicPr>
        <p:blipFill>
          <a:blip r:embed="rId3"/>
          <a:stretch/>
        </p:blipFill>
        <p:spPr>
          <a:xfrm>
            <a:off x="1981080" y="1676520"/>
            <a:ext cx="5334120" cy="35067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3"/>
          <p:cNvSpPr/>
          <p:nvPr/>
        </p:nvSpPr>
        <p:spPr>
          <a:xfrm>
            <a:off x="0" y="53053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и дешевы, технологичны; из них делают отливки, прокат, поковки; их используют для изготовления сварных конструкций: турбин, паропроводов,            котлов и т.п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6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6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6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6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2523960"/>
            <a:ext cx="5791320" cy="43596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которые металлы в твердом состоянии в различных температурных интервалах приобретают различную кристаллическую решетку, что всегда приводит к изменению их физико-химических свойст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6324480" y="2819520"/>
            <a:ext cx="266724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0" y="5334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fad2"/>
                </a:solidFill>
                <a:latin typeface="Tahoma"/>
              </a:rPr>
              <a:t>СТАЛЬ –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плав железа (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) с углеродом (С), содержащий его до 2, 14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0004-006-Splavy-zheleza-fe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0"/>
            <a:ext cx="914400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fad2"/>
                </a:solidFill>
                <a:latin typeface="Arial"/>
              </a:rPr>
              <a:t>Стал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это ценный конструкционный материал, из него изготавливают различные детали, зубчатые колеса, корпуса станков, трубы и т.д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1980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оме основы </a:t>
            </a:r>
            <a:r>
              <a:rPr b="1" lang="ru-RU" sz="3200" spc="-1" strike="noStrike">
                <a:solidFill>
                  <a:srgbClr val="f9fad2"/>
                </a:solidFill>
                <a:latin typeface="Arial"/>
              </a:rPr>
              <a:t>(железа - </a:t>
            </a:r>
            <a:r>
              <a:rPr b="1" lang="en-US" sz="3200" spc="-1" strike="noStrike">
                <a:solidFill>
                  <a:srgbClr val="f9fad2"/>
                </a:solidFill>
                <a:latin typeface="Arial"/>
              </a:rPr>
              <a:t>Fe</a:t>
            </a:r>
            <a:r>
              <a:rPr b="1" lang="ru-RU" sz="3200" spc="-1" strike="noStrike">
                <a:solidFill>
                  <a:srgbClr val="f9fad2"/>
                </a:solidFill>
                <a:latin typeface="Arial"/>
              </a:rPr>
              <a:t> и углерода - С)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сталях в малых количествах присутствуют примес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60" y="4343400"/>
            <a:ext cx="17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fad2"/>
                </a:solidFill>
                <a:latin typeface="Arial"/>
              </a:rPr>
              <a:t>Сталь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dddddd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32040" y="3657600"/>
            <a:ext cx="219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железо (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Fe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962520" y="3657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- основной компонен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3964320" y="3962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1908360" y="4267080"/>
            <a:ext cx="22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углерод (С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3962520" y="42670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- содержание менее 2,14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3964320" y="4572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1143000" y="4876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примес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3964320" y="5105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1905120" y="55627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легирующие добавк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115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15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0" y="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fad2"/>
                </a:solidFill>
                <a:latin typeface="Verdana"/>
              </a:rPr>
              <a:t>К механическим </a:t>
            </a:r>
            <a:r>
              <a:rPr b="1" lang="ru-RU" sz="3200" spc="-1" strike="noStrike">
                <a:solidFill>
                  <a:srgbClr val="f9fad2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9fad2"/>
                </a:solidFill>
                <a:latin typeface="Verdana"/>
              </a:rPr>
              <a:t>свойствам сталей относятся:</a:t>
            </a: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прочность,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твердость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упругость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пластичность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ударная вязкость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ползучесть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усталос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8" descr="mb4_003"/>
          <p:cNvPicPr/>
          <p:nvPr/>
        </p:nvPicPr>
        <p:blipFill>
          <a:blip r:embed="rId1"/>
          <a:stretch/>
        </p:blipFill>
        <p:spPr>
          <a:xfrm>
            <a:off x="0" y="3809880"/>
            <a:ext cx="91440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ca94c"/>
                </a:solidFill>
                <a:latin typeface="Verdana"/>
              </a:rPr>
              <a:t>Прочность</a:t>
            </a:r>
            <a:r>
              <a:rPr b="1" i="1" lang="ru-RU" sz="2800" spc="-1" strike="noStrike">
                <a:solidFill>
                  <a:srgbClr val="f9fad2"/>
                </a:solidFill>
                <a:latin typeface="Verdana"/>
              </a:rPr>
              <a:t> — </a:t>
            </a: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это способность металла или сплава противостоять деформации и разрушению под действием приложенных  нагрузо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0" y="198108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Нагрузки могут быть внешними </a:t>
            </a:r>
            <a:r>
              <a:rPr b="1" lang="ru-RU" sz="2400" spc="-1" strike="noStrike">
                <a:solidFill>
                  <a:srgbClr val="dca94c"/>
                </a:solidFill>
                <a:latin typeface="Verdana"/>
              </a:rPr>
              <a:t>(вес, давление и др.)</a:t>
            </a: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 и внутренними </a:t>
            </a:r>
            <a:r>
              <a:rPr b="1" lang="ru-RU" sz="2400" spc="-1" strike="noStrike">
                <a:solidFill>
                  <a:srgbClr val="dca94c"/>
                </a:solidFill>
                <a:latin typeface="Verdana"/>
              </a:rPr>
              <a:t>(изменение размеров тела от нагревания и охлаждения, изменение  структуры металла и т. д.)</a:t>
            </a:r>
            <a:r>
              <a:rPr b="1" lang="ru-RU" sz="2400" spc="-1" strike="noStrike">
                <a:solidFill>
                  <a:srgbClr val="dca94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0" y="3900600"/>
            <a:ext cx="9144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Нагрузки бывают статическими, </a:t>
            </a:r>
            <a:r>
              <a:rPr b="1" lang="ru-RU" sz="2400" spc="-1" strike="noStrike">
                <a:solidFill>
                  <a:srgbClr val="f9fad2"/>
                </a:solidFill>
                <a:latin typeface="Verdana"/>
              </a:rPr>
              <a:t>т. е. постоянными по величине и направлению действия</a:t>
            </a: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, или динамическими, </a:t>
            </a:r>
            <a:r>
              <a:rPr b="1" lang="ru-RU" sz="2400" spc="-1" strike="noStrike">
                <a:solidFill>
                  <a:srgbClr val="f9fad2"/>
                </a:solidFill>
                <a:latin typeface="Verdana"/>
              </a:rPr>
              <a:t>т. е. переменными по величине, направлению и продолжительности действия</a:t>
            </a: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1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2750"/>
                            </p:stCondLst>
                            <p:childTnLst>
                              <p:par>
                                <p:cTn id="1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Действуют нагрузки 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62120" y="838080"/>
            <a:ext cx="20574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51596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Line 6"/>
          <p:cNvSpPr/>
          <p:nvPr/>
        </p:nvSpPr>
        <p:spPr>
          <a:xfrm flipH="1">
            <a:off x="152280" y="1066680"/>
            <a:ext cx="6098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2819520" y="1066680"/>
            <a:ext cx="5331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9" descr=""/>
          <p:cNvPicPr/>
          <p:nvPr/>
        </p:nvPicPr>
        <p:blipFill>
          <a:blip r:embed="rId1"/>
          <a:stretch/>
        </p:blipFill>
        <p:spPr>
          <a:xfrm>
            <a:off x="609480" y="905040"/>
            <a:ext cx="2438640" cy="3031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3886200" y="7621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растяжение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733920" y="18288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сжатие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762120" y="1981080"/>
            <a:ext cx="20574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51596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304920" y="2209680"/>
            <a:ext cx="5331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2819160" y="2209680"/>
            <a:ext cx="6094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15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1905120" cy="6080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6"/>
          <p:cNvSpPr/>
          <p:nvPr/>
        </p:nvSpPr>
        <p:spPr>
          <a:xfrm>
            <a:off x="3124080" y="39625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скручивание (кручени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762120" y="3048120"/>
            <a:ext cx="20574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51596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752480" y="251460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AutoShape 20"/>
          <p:cNvSpPr/>
          <p:nvPr/>
        </p:nvSpPr>
        <p:spPr>
          <a:xfrm rot="10800000">
            <a:off x="609480" y="1828800"/>
            <a:ext cx="2362320" cy="1752480"/>
          </a:xfrm>
          <a:custGeom>
            <a:avLst/>
            <a:gdLst>
              <a:gd name="textAreaLeft" fmla="*/ 5040 w 2362320"/>
              <a:gd name="textAreaRight" fmla="*/ 2357280 w 2362320"/>
              <a:gd name="textAreaTop" fmla="*/ 0 h 1752480"/>
              <a:gd name="textAreaBottom" fmla="*/ 815760 h 1752480"/>
            </a:gdLst>
            <a:ahLst/>
            <a:rect l="textAreaLeft" t="textAreaTop" r="textAreaRight" b="textAreaBottom"/>
            <a:pathLst>
              <a:path w="21600" h="21600">
                <a:moveTo>
                  <a:pt x="3375" y="8076"/>
                </a:moveTo>
                <a:cubicBezTo>
                  <a:pt x="4518" y="4962"/>
                  <a:pt x="7482" y="2891"/>
                  <a:pt x="10800" y="2892"/>
                </a:cubicBezTo>
                <a:cubicBezTo>
                  <a:pt x="14117" y="2892"/>
                  <a:pt x="17081" y="4962"/>
                  <a:pt x="18224" y="8076"/>
                </a:cubicBezTo>
                <a:lnTo>
                  <a:pt x="20939" y="7080"/>
                </a:lnTo>
                <a:cubicBezTo>
                  <a:pt x="19378" y="2827"/>
                  <a:pt x="15330" y="-1"/>
                  <a:pt x="10799" y="0"/>
                </a:cubicBezTo>
                <a:cubicBezTo>
                  <a:pt x="6269" y="0"/>
                  <a:pt x="2221" y="2827"/>
                  <a:pt x="660" y="7080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51596d"/>
              </a:gs>
              <a:gs pos="100000">
                <a:srgbClr val="000000"/>
              </a:gs>
            </a:gsLst>
            <a:lin ang="162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3733920" y="28195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изгиб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22"/>
          <p:cNvSpPr/>
          <p:nvPr/>
        </p:nvSpPr>
        <p:spPr>
          <a:xfrm>
            <a:off x="609480" y="5410080"/>
            <a:ext cx="25146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51596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838080" y="4038480"/>
            <a:ext cx="20574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51596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AutoShape 26"/>
          <p:cNvSpPr/>
          <p:nvPr/>
        </p:nvSpPr>
        <p:spPr>
          <a:xfrm rot="8121600">
            <a:off x="1980360" y="3657240"/>
            <a:ext cx="1219320" cy="106668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156240 h 1066680"/>
              <a:gd name="textAreaBottom" fmla="*/ 910440 h 1066680"/>
            </a:gdLst>
            <a:ahLst/>
            <a:rect l="textAreaLeft" t="textAreaTop" r="textAreaRight" b="textAreaBottom"/>
            <a:pathLst>
              <a:path w="21600" h="21600">
                <a:moveTo>
                  <a:pt x="17577" y="3921"/>
                </a:moveTo>
                <a:cubicBezTo>
                  <a:pt x="15771" y="2140"/>
                  <a:pt x="13336" y="1143"/>
                  <a:pt x="10800" y="1143"/>
                </a:cubicBezTo>
                <a:cubicBezTo>
                  <a:pt x="5466" y="1143"/>
                  <a:pt x="1143" y="5466"/>
                  <a:pt x="1143" y="10800"/>
                </a:cubicBezTo>
                <a:cubicBezTo>
                  <a:pt x="1142" y="15631"/>
                  <a:pt x="4712" y="19718"/>
                  <a:pt x="9500" y="20369"/>
                </a:cubicBezTo>
                <a:lnTo>
                  <a:pt x="9346" y="21501"/>
                </a:lnTo>
                <a:cubicBezTo>
                  <a:pt x="3992" y="20774"/>
                  <a:pt x="0" y="16202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3636" y="-1"/>
                  <a:pt x="16359" y="1116"/>
                  <a:pt x="18380" y="3106"/>
                </a:cubicBezTo>
                <a:lnTo>
                  <a:pt x="20275" y="1183"/>
                </a:lnTo>
                <a:lnTo>
                  <a:pt x="20310" y="5810"/>
                </a:lnTo>
                <a:lnTo>
                  <a:pt x="15682" y="5844"/>
                </a:lnTo>
                <a:lnTo>
                  <a:pt x="17577" y="3921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AutoShape 27"/>
          <p:cNvSpPr/>
          <p:nvPr/>
        </p:nvSpPr>
        <p:spPr>
          <a:xfrm flipH="1" rot="13478400">
            <a:off x="532440" y="3656880"/>
            <a:ext cx="1218960" cy="1066680"/>
          </a:xfrm>
          <a:custGeom>
            <a:avLst/>
            <a:gdLst>
              <a:gd name="textAreaLeft" fmla="*/ 178200 w 1218960"/>
              <a:gd name="textAreaRight" fmla="*/ 1040760 w 1218960"/>
              <a:gd name="textAreaTop" fmla="*/ 156240 h 1066680"/>
              <a:gd name="textAreaBottom" fmla="*/ 910440 h 1066680"/>
            </a:gdLst>
            <a:ahLst/>
            <a:rect l="textAreaLeft" t="textAreaTop" r="textAreaRight" b="textAreaBottom"/>
            <a:pathLst>
              <a:path w="21600" h="21600">
                <a:moveTo>
                  <a:pt x="17577" y="3921"/>
                </a:moveTo>
                <a:cubicBezTo>
                  <a:pt x="15771" y="2140"/>
                  <a:pt x="13336" y="1143"/>
                  <a:pt x="10800" y="1143"/>
                </a:cubicBezTo>
                <a:cubicBezTo>
                  <a:pt x="5466" y="1143"/>
                  <a:pt x="1143" y="5466"/>
                  <a:pt x="1143" y="10800"/>
                </a:cubicBezTo>
                <a:cubicBezTo>
                  <a:pt x="1142" y="15631"/>
                  <a:pt x="4712" y="19718"/>
                  <a:pt x="9500" y="20369"/>
                </a:cubicBezTo>
                <a:lnTo>
                  <a:pt x="9346" y="21501"/>
                </a:lnTo>
                <a:cubicBezTo>
                  <a:pt x="3992" y="20774"/>
                  <a:pt x="0" y="16202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3636" y="-1"/>
                  <a:pt x="16359" y="1116"/>
                  <a:pt x="18380" y="3106"/>
                </a:cubicBezTo>
                <a:lnTo>
                  <a:pt x="20275" y="1183"/>
                </a:lnTo>
                <a:lnTo>
                  <a:pt x="20310" y="5810"/>
                </a:lnTo>
                <a:lnTo>
                  <a:pt x="15682" y="5844"/>
                </a:lnTo>
                <a:lnTo>
                  <a:pt x="17577" y="3921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28" descr=""/>
          <p:cNvPicPr/>
          <p:nvPr/>
        </p:nvPicPr>
        <p:blipFill>
          <a:blip r:embed="rId3"/>
          <a:stretch/>
        </p:blipFill>
        <p:spPr>
          <a:xfrm>
            <a:off x="609480" y="3809880"/>
            <a:ext cx="2590920" cy="7095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9"/>
          <p:cNvSpPr/>
          <p:nvPr/>
        </p:nvSpPr>
        <p:spPr>
          <a:xfrm>
            <a:off x="3733920" y="54864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сре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2133720" y="4876920"/>
            <a:ext cx="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31"/>
          <p:cNvSpPr/>
          <p:nvPr/>
        </p:nvSpPr>
        <p:spPr>
          <a:xfrm flipV="1">
            <a:off x="1905120" y="586728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32" descr=""/>
          <p:cNvPicPr/>
          <p:nvPr/>
        </p:nvPicPr>
        <p:blipFill>
          <a:blip r:embed="rId4"/>
          <a:stretch/>
        </p:blipFill>
        <p:spPr>
          <a:xfrm>
            <a:off x="457200" y="5257800"/>
            <a:ext cx="28195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1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3200"/>
                            </p:stCondLst>
                            <p:childTnLst>
                              <p:par>
                                <p:cTn id="1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2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770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845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45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245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2950"/>
                            </p:stCondLst>
                            <p:childTnLst>
                              <p:par>
                                <p:cTn id="2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595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795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9950"/>
                            </p:stCondLst>
                            <p:childTnLst>
                              <p:par>
                                <p:cTn id="2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666880" y="37080"/>
            <a:ext cx="403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ера и фосфор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27880" y="167544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*снижают пластичность и вязкость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231120" y="3427920"/>
            <a:ext cx="43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*ухудшают свариваемость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3352680" cy="3232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2333520" cy="1390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"/>
          <p:cNvPicPr/>
          <p:nvPr/>
        </p:nvPicPr>
        <p:blipFill>
          <a:blip r:embed="rId3"/>
          <a:stretch/>
        </p:blipFill>
        <p:spPr>
          <a:xfrm>
            <a:off x="3048120" y="4191120"/>
            <a:ext cx="24382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2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6950"/>
                            </p:stCondLst>
                            <p:childTnLst>
                              <p:par>
                                <p:cTn id="2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0" y="22860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ЛИКВАЦИЯ</a:t>
            </a: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 — неоднородность химического состава сплава, возникающая при его </a:t>
            </a:r>
            <a:r>
              <a:rPr b="1" i="1" lang="ru-RU" sz="2800" spc="-1" strike="noStrike">
                <a:solidFill>
                  <a:srgbClr val="f9fad2"/>
                </a:solidFill>
                <a:latin typeface="Verdana"/>
              </a:rPr>
              <a:t>кристаллизации, </a:t>
            </a: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обусловленная обогащением жидкой части кристаллизующегося расплава элементами, растворимость которых в жидкой фазе больше, чем в тверд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0" y="3581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К таким элементам, </a:t>
            </a: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называемым</a:t>
            </a: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ликвирующими</a:t>
            </a: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, в стали относятся, например, </a:t>
            </a:r>
            <a:r>
              <a:rPr b="1" lang="ru-RU" sz="3200" spc="-1" strike="noStrike">
                <a:solidFill>
                  <a:srgbClr val="dca94c"/>
                </a:solidFill>
                <a:latin typeface="Verdana"/>
              </a:rPr>
              <a:t>углерод, сера, фосфор</a:t>
            </a: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5486400" y="5029200"/>
            <a:ext cx="1600200" cy="157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2"/>
          <a:stretch/>
        </p:blipFill>
        <p:spPr>
          <a:xfrm>
            <a:off x="2286000" y="5029200"/>
            <a:ext cx="160020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10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7100"/>
                            </p:stCondLst>
                            <p:childTnLst>
                              <p:par>
                                <p:cTn id="3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admin</cp:lastModifiedBy>
  <dcterms:modified xsi:type="dcterms:W3CDTF">2018-03-29T08:28:22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