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1A0-27BA-493D-B6B5-1ABFDBE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186-92F1-4B61-8FA7-6254C8FF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642-DBA2-4A12-BDBC-81ADED07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A89-A919-4823-87EC-2D039464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60F-A6C9-481F-9C3B-70117AE8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3FD-45E8-4F86-8813-FA499D7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8C7-493B-45E0-AC2C-D9317D3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A14-74F5-4AAF-AA85-D95BD634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BB9-D0B1-4468-8847-B600DC4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5CCA-1187-489F-A158-6E812DE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525-81A6-4916-86C9-670F09F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ED7-4CB6-4109-AB8E-223472A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75F1-C4FC-4CDD-8F09-BFC2C6A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3DC7-0B6F-46C0-92FF-62EBAA0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58C-0C44-4BCC-AE5D-AD078C14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93FC-9DBF-4B84-861F-777DC587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A20-EE97-4036-B277-54D7C61A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AAE-D3B1-45C0-ACAA-88DACBDA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866-CA45-4530-9EE7-AAD6DAD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605-4018-4425-8C9B-4F7D6C83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811-71FE-4D50-A795-A457A69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9A2-6DE3-4689-A679-220804A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C87-5697-41B2-904E-06A65F0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057-00C3-4D46-831E-36058E2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4A0-4F9D-4FD7-980C-F50A464D1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F631-AA9F-483B-8F27-E1E18E2878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79640" cy="168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2462400"/>
          </a:xfrm>
          <a:prstGeom prst="rect">
            <a:avLst/>
          </a:prstGeom>
          <a:solidFill>
            <a:srgbClr val="fac090">
              <a:alpha val="75000"/>
            </a:srgbClr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дивидуализация развивающ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соответствии  с  ФГОС Д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08000" y="3967200"/>
            <a:ext cx="903600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979640" y="61596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воспитатель Краева Е.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03280" y="260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ДОУ «Детский сад № 47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риентиры для построения РППС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программных задач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возрастных особенн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интересов детей, в т.ч. гендерный подх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особенностей индивидуального развития каждого ребенка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3 кита формирования РППС: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ие условий для  освоения содержания 5 образовательных обла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спечение эмоционального благополуч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держка детской иници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о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о  группы следует  организовать в  вид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граниченных  зон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«центры», «уголки», «площадки»), оснащенных большим  количеством развивающих  материалов ( книги, игрушки, материалы  для  творчества и пр. )Оснащение и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лжно  меняться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и  с  тематическим  планированием образ.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 для  сюжетно- ролевых  иг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 ряжения ( театрализованные  игр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нижный  уголо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она  для  настольно-печатных  иг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ыставк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рисунка, детского  творчества и др.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прир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ртив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олок  для  игр с пес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для СДД (конструкт.,  изобр.,  музык.  и 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тр с крупными мягкими конструкциями (блоки, домики, тоннели и п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овой  уголок ( с  игрушками, строит. материал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зрастные  особенности  РППС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Младшие 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 основе  замысла  детской  игры  лежит  предмет, поэтому  взрослый  каждый  раз  должен  обновлять  игровую  ср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тройки, игрушки,  материалы и д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Старшие 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ысел  основывается  на  теме  игры,  поэтому  разнообразная  полифункциональная  среда  пробуждает  активное  воображение 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личительные признаки РППС в каждой возрастной групп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Третий год жизн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— это достаточно большое пространство для удовлетворения потребности в активном движе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 мл. гр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— это насыщенный центр сюжетно-ролевых игр с орудийными и ролевыми атрибу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редня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учет потребности детей в игре со сверстниками и особенность уединять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тарша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игры, развивающие восприятие, память, внимание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рганизация сред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ладша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пределяется сначала самим воспитателем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 учетом интересов детей младшего возрас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редня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рганизуется воспитателем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месте с деть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тарший дошкольный возрас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ети сами создают и изменяют е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 точки зрения своих детских интере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овременной  РПП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4281480" cy="52862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еспечивает  доступ к объектам  природного  характ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людение  на  участке  Д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ыты и экспери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элементарный  тр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143000"/>
            <a:ext cx="4281480" cy="5286240"/>
          </a:xfrm>
          <a:prstGeom prst="rect">
            <a:avLst/>
          </a:prstGeom>
          <a:solidFill>
            <a:srgbClr val="fcd5b5">
              <a:alpha val="9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ультурное 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зделия народного искус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епроду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ортреты  великих  люд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редметы  старинного  быта и 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обеспечения  эмоционального  благополу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920" y="9997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т,   комфорт, «домашняя  обстановка»,  ребенок  может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ь  себя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ым,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имым дел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ободно  выразить  эмо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Дусима 430610_tif"/>
          <p:cNvPicPr/>
          <p:nvPr/>
        </p:nvPicPr>
        <p:blipFill>
          <a:blip r:embed="rId1"/>
          <a:stretch/>
        </p:blipFill>
        <p:spPr>
          <a:xfrm>
            <a:off x="755640" y="4005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28-4"/>
          <p:cNvPicPr/>
          <p:nvPr/>
        </p:nvPicPr>
        <p:blipFill>
          <a:blip r:embed="rId2"/>
          <a:stretch/>
        </p:blipFill>
        <p:spPr>
          <a:xfrm>
            <a:off x="6084720" y="3995640"/>
            <a:ext cx="22291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  развития  самосто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12855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ативная  среда, состоит  из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мастерских, исследовательских, художественных студий, библиотечек, игровых,  лабораторий  и пр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а  должн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я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 соответствии  с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есами и  проектами  детей  не  реже,  чем  1 раз в несколько  нед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развития  свободной  игровой  деятельност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9997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ая  среда стимулирует  детскую  активность  и  постоянно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новляется в  соответствии  с  текущими  интересами  и  инициативой 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ое  оборудование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образно, легко  трансформируе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   и  родит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т  возможность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вовать  в  создании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 обновлении  игровой 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7469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развития   познавательной    деятельност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712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ируя  детей  к  исследованию и  творчеству, следует  предлагать 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ьшое  количество увлекательных  материалов  и  обору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природа, ближайшее окру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143520" cy="235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43360" cy="2000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ЧЕРА, СЕГОДНЯ, ЗАВТР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2643120" y="2357280"/>
            <a:ext cx="2828880" cy="18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3929040" y="4357800"/>
            <a:ext cx="3143160" cy="2342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142920" y="364320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ДОО –«из 19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едагоги–«из 20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Дети –«из 21-22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5372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481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дель времен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 самовыражения  средствами  искусства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99972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личие  необходимых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териал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можность  заниматься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зными  видами  деятельност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ивописью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исунко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грой  на  музыкальных  инструментах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нием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руирование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ерским  мастерством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нце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личными  видами  ремесел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елками по  дереву,  из  глины  и  п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IMG_1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14200"/>
            <a:ext cx="7800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емы  сюжетно-ролевых игр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нализ материалов программы, рекомендаций  А.А.Чемен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ладший дошкольный возрас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ознакомление  с  трудом  воспитателя, повара, помощника  воспитателя, музыкального  руководителя, врача, продавца, шофера, стро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емья»,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«Парикмахерская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«Кухня»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Магазин», « Больница», «Корабль», «Маши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редний дошкольный возрас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+ «Детский  сад», «Путешестви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тарший дошкольный возраст: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накомление  с  трудом  воспитателя, учителя, врача, строителя; работника сельского хозяйства, транспорта, связи, художника, писателя, композитора, артиста, мастера  народно- прикладного искусства, воина, космонавта,  архитектора, библиотека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  «Школа»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Библиотека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«Почта», «Космос», « Моряки»,     «Военные»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Спасатели»,  «Ателье», «Кафе», «Салон красот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лассификация ( типы) игрового материала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рушки-персонаж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куклы, фигурки людей и животных; ролевые  атрибуты - шапочка врача, каска пожарного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рушки-предметы  оперир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митируют реальные  предметы-чайник, утюг, молоток, руль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грушки-маркеры ( знаки) игрового   простран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указывают  на  место действия, обстановку в которой  оно  происходит- игрушечная плита, дом теремок, остов ракеты, рама, изображающая нос корабля  или переднюю стенку автобуса и т.п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по  материалам  книг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ы и оборудования для детского  са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Пособие  для  воспитателей и заведующих/ под ред. Т.Н. Дороновой, Н.А. Коротковой, 2003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аркеры игрового простран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8568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меты, указывающие на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место событ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в которых разворачивается сюжет игры (автобус, театр, больниц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Виды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апольные, настоль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реимуществ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гко перемещаются с места на место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оятся случайных сотрясений(в условиях большой группы детей это особенно важно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ужат длительное время и в любой момент могут  быть доступны дошкольникам для игр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Изготовлен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 тонкой фанеры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тного картона, оклеенного цветной бумаг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других подходящих матери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84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вая, вторая  младшая   груп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 стол (крупный)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 стул (крупный)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ая  кровать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диванчи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хонная  плита /шкафчик( соразмерная ребенку)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афчик для кукольного белья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 остов домик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остов автобуса ( вагончика )с рулем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прилавок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нзоколонка  крупная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омик-теремок или ширма - остов домик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5840" y="78588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редняя  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стол ( крупны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стул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ая  кровать или диванчик ( крупны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хонная  плита/шкафчик ( на  колесах, крупная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меечка на  колесах со съемным рулем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ль на подставке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урвал на подставке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ниверсальная складная  рама/ширма-пятистворчат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30-50см. высотой)-1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ающая по желанию детей контур корабля или самолета,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хстворчатая ширма/театр ( 70см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дом  для кукол среднего размера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нзозаправочная  станция-гараж ( для мелких автомобиле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 «скотный двор»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андшафтный макет( коврик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офор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атические  строительные  наборы: город, замок, креп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71424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таршая, подготовительная  к школе груп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йка с рулем/штурвалом ( съемным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йка -флагшток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мные  или  силуэтные деревья на подставках мелкие ( для ландшафтных макетов)-10-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«школа» для мелких персонажей-1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 для  мелких персонажей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ниверсальная складная  рама/ширм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хстворчатая ширма/театр 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  для кукол среднего размер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дом (макет) для  кукол  среднего  размера/для  мелких персонаж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нзозаправочная  станция-гараж (сборно-разборная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дорожных знаков  и светофор  для мелкого  транспорт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 «замок/крепость»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андшафтный макет( коврик)-1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як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атические  строительные  наборы: город, ферма, зоопарк, крепо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ддержка детской инициа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072200" y="2286000"/>
            <a:ext cx="20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гол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Я хочу рассказать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критерием оценки деятельности дошкольной организации является созда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предметно-пространстве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развивающая сре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236000" y="5425920"/>
            <a:ext cx="1908000" cy="14320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7"/>
          <p:cNvSpPr/>
          <p:nvPr/>
        </p:nvSpPr>
        <p:spPr>
          <a:xfrm>
            <a:off x="0" y="0"/>
            <a:ext cx="9144000" cy="114300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государстве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тельный стандар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школьного образования (ФГОС Д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Лекотека Масленница 2008 436"/>
          <p:cNvPicPr/>
          <p:nvPr/>
        </p:nvPicPr>
        <p:blipFill>
          <a:blip r:embed="rId2"/>
          <a:stretch/>
        </p:blipFill>
        <p:spPr>
          <a:xfrm>
            <a:off x="214200" y="2786040"/>
            <a:ext cx="2971800" cy="396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357720" y="2714760"/>
            <a:ext cx="550044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реда должна обеспечи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можность общения и совместной деятельности детей и взросл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вигательной активно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можности для уеди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лифункциональные  материа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ные  модули ( крупных размеров, разных форм)-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Ящик с мелкими  предметами-заместителями-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ый строительный  набор-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уски  ткани, разного  цвета, 1х1м-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мкость с  лоскутами , мелкими  и  средними, разного цвета и фактуры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заимодействие с семь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4200" y="92880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е родительских угол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ие особен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олок краткой информации (высказывания великих людей, яркие строки стихов, меткие народные пословицы и поговорки по вопросам воспитания и обуче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ушайте вместе с детьми (специальная запись песен или стихов для прослушивания дом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олок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успех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(рубрика содержит сообщения о новых исследованиях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и медицины, психологи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а детей (помещается информация по соблюдению прав детст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У и семь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яв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тодическая 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рмативная  база современного  дошкольного  образования: Закон  об  образовании, ФГОС ДО, порядок  организации  образовательной  деятельности. - .: Просвещение, 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.П. Быстров.  Перечень  целевых  комплектов  игровых средств  для  оснащения  дошкольных  образовательных  организаций.М.: ФИРО, 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териалы  и  оборудование  для  детского  сада» / ред.Т.Н.Дороновой, Н.А. Коротковой, М.: ЗАО « Элти-Кудиц», 200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А. Чеменева .Рекомендации  по  построению  предметно- развивающей  среды ДОУ. НИРО, 201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териалы  с  курсов  НИРО, 09-10. 2014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ние на ле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план подготовки к новому учебному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план индивидуальной работы с детьми (см.мониторин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готовить маркер игрового простра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умать учет в среде группы детских интересов и иници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ыщенност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нсформир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функцион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020000" y="5265720"/>
            <a:ext cx="2124000" cy="1592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7"/>
          <p:cNvSpPr/>
          <p:nvPr/>
        </p:nvSpPr>
        <p:spPr>
          <a:xfrm>
            <a:off x="0" y="0"/>
            <a:ext cx="9144000" cy="1341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бования к развивающе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ГОС 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46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сыщ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среды возрастным возможностям детей и содержанию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ств об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 том числе техническ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образие материалов для всех видов активнос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спериментир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доступными детям материалами (в том числе с песком и водой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_MG_8732"/>
          <p:cNvPicPr/>
          <p:nvPr/>
        </p:nvPicPr>
        <p:blipFill>
          <a:blip r:embed="rId1"/>
          <a:stretch/>
        </p:blipFill>
        <p:spPr>
          <a:xfrm>
            <a:off x="4591080" y="206064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008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ансформируем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зможность изменений предметно-пространственной среды в зависимости от образовательной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уп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вободный доступ всех (и с ОВЗ) воспитанников к играм, игрушкам, материа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0" y="4221000"/>
            <a:ext cx="4392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оответствие всех элементов среды требованиям надёжности и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0" y="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Новый рисунок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ифункциона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разнообразного использования различных составляющих среды, пригодных для использования в разных видах дет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70-7110"/>
          <p:cNvPicPr/>
          <p:nvPr/>
        </p:nvPicPr>
        <p:blipFill>
          <a:blip r:embed="rId1"/>
          <a:stretch/>
        </p:blipFill>
        <p:spPr>
          <a:xfrm>
            <a:off x="4427640" y="1557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ти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ы предполага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различных пространств (для игры, конструирования, уединения и п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х материалов, игр, игрушек и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ическую сменяемость и появление нов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Дусима 430610_tif"/>
          <p:cNvPicPr/>
          <p:nvPr/>
        </p:nvPicPr>
        <p:blipFill>
          <a:blip r:embed="rId1"/>
          <a:stretch/>
        </p:blipFill>
        <p:spPr>
          <a:xfrm>
            <a:off x="2771640" y="407664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28-4"/>
          <p:cNvPicPr/>
          <p:nvPr/>
        </p:nvPicPr>
        <p:blipFill>
          <a:blip r:embed="rId2"/>
          <a:stretch/>
        </p:blipFill>
        <p:spPr>
          <a:xfrm>
            <a:off x="6659640" y="3933720"/>
            <a:ext cx="2228760" cy="2457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5-8"/>
          <p:cNvPicPr/>
          <p:nvPr/>
        </p:nvPicPr>
        <p:blipFill>
          <a:blip r:embed="rId3"/>
          <a:stretch/>
        </p:blipFill>
        <p:spPr>
          <a:xfrm>
            <a:off x="179280" y="4292640"/>
            <a:ext cx="2484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 основных направления перестройки работы ДОО по ФГОС Д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ориентация на индивидуальность каждого ребенка (ребенок – не пустая корзин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ППС, стимулирующей индивид. развитие каждого ребенка (обеспечить личное пространство для каждого реб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мотр  подходов взаимодействия с семьей (индивид. подход к каждой семье, сведение к минимуму фронтальных и групповых форм работ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ЧЕСТВО – общение на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2:13:22Z</dcterms:created>
  <dc:creator>Ольга</dc:creator>
  <dc:description/>
  <dc:language>en-US</dc:language>
  <cp:lastModifiedBy>Елена</cp:lastModifiedBy>
  <dcterms:modified xsi:type="dcterms:W3CDTF">2018-03-30T18:55:07Z</dcterms:modified>
  <cp:revision>392</cp:revision>
  <dc:subject/>
  <dc:title>Система работы старшего воспитателя</dc:title>
</cp:coreProperties>
</file>