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7AB-7B23-48DC-A771-643AF08C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993-6977-412F-9CA4-62B7C056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24A-7A49-436B-8D11-609560FC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CB3-E557-4656-A42D-ADC778D0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BC64-33D5-4AFA-A2FD-69A76F6E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BAE6-F4BD-46D5-B5B0-F22DEFCA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5161-A7DE-4025-98B5-2FC084BA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CD15-9301-4717-B5C9-1ED516B8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5990-3D1E-4C40-8E82-557C4928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1A6F-CD25-4B34-9EE6-78D54F04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666E-DACA-416F-AD1A-ABA8B0C3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F6F-9BA8-4512-BBE0-A4AC6B10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BAB9-7A8F-4F67-BA61-10119106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C479-D171-43A2-AE09-9C06805D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9C8C-449F-46FE-95A2-130F86E2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4DA6-3825-4624-A4EF-D08B494F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0144-5E0B-42E1-898F-33007A86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BD6B8-068C-451A-9776-617E8BC9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FA9AB-14DB-449D-8E00-436AAEAD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086B2-BD18-4E6E-8E12-5DB27293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BC830-70DF-45B4-BB9B-1A507C89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3A882-0A29-41DD-9A88-131A2AAD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176-A882-4E89-A2AC-19E355C1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F4A53-E9F1-4C1F-9CE1-9B7EB721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0CCF-AD74-4D9C-9422-040A4015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C82E6-CAD9-4A2A-9E67-1F5249EA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3EEF3-DCDA-4DB9-B27F-B52467D8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81E39-A7B5-4E6D-A114-C2BA3ED8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D84A-55A5-4423-A2DF-3D3A5345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6E917-7296-4326-9614-601A655A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D08DA-F9C7-4A3F-84A5-8A219986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1EAE8-52B9-45AC-B701-0AD38936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953A6-6C38-4307-971F-204B7714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1FD-DA0F-4B7A-B5E6-9CA7E6FD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F8398-F780-48E8-BF67-98C6B291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27CCA-4AEF-47BD-B47F-5574ABED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DFA43-2096-44F2-9ED5-F9B176D0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E04A7-60EB-4CB8-939C-56094DC6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78A2A-A6DD-42AB-98AB-3513CC78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0C701-C21D-4610-A0C3-D27BD0C2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88508-0980-4978-BB80-CAAEA273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138A3-23CF-466C-B0C5-9D4D17D7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BB16E-FBB5-462E-A919-DD847048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C38BB-A255-41B6-8C8B-C82E3BC4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D2D-1AB7-4406-8607-7B33EE2A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BAA57-B835-4F2C-8FB3-5FC0D1AE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669E8-42D1-42E2-87C1-FD708838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AD7AA-F4EB-47C9-A454-C297AFE6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9D968-A9DC-4A2C-8982-84EA1956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BC288-9C5B-4BBE-8307-9693631C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7A29D-CF95-4429-B994-AEE4E33A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B19DE-7CFD-4E17-AEC2-844A45DE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B0216-450C-4B99-815E-CF113547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0BA7C-62BC-4627-8C15-1AC5CE5C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0FE6D-05B3-4BAD-B043-85BDEB43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907-89D9-45A1-B2F6-01FB74E4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E696D-430A-4758-9A17-92C6A33E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9DE-E206-49AE-B189-47EB54CC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00A-ADF9-46AF-BE79-AC5F97F2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52E-333A-4E32-BEB1-2DD4F470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6196-B31F-4B92-967F-ECAF539FA1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B2BF-B12B-47D7-9706-05324CE611D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9436-56F8-4563-B213-C36BB1ED9E7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3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7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30C8-E24B-4182-8F41-0A51D4DD7FF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AE31-BFC3-4A86-AAD6-BDDE360144D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Учебные материалы к уроку русского языка в 6 классе по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« Гласные в приставках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ПРЕ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–</a:t>
            </a: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 и 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ПРИ-</a:t>
            </a: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                  </a:t>
            </a: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Составитель: Санникова А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учитель русского языка и     литера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                     </a:t>
            </a: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МОУ  Аннинская СОШ №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005"/>
          <p:cNvPicPr/>
          <p:nvPr/>
        </p:nvPicPr>
        <p:blipFill>
          <a:blip r:embed="rId1"/>
          <a:stretch/>
        </p:blipFill>
        <p:spPr>
          <a:xfrm>
            <a:off x="395280" y="3933720"/>
            <a:ext cx="206676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Спишите, выделите приставки в тех словах, где они есть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кать пр..станища, найти пр..бежище, пр..одолеть  все пр..грады и пр..пятствия, пр..небрегать советами, пр..градить дорогу, пр..сечь ненужные разговоры, дать пр..сягу, сделать пр..вивку, вступить в пр..рекания, пр..мирить спорящих, пр..мерить пальто, пр..сутствовать на собрании, пр..одолеть страх, пр..выкнуть к условиям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8080"/>
                </a:solidFill>
                <a:latin typeface="Verdana"/>
              </a:rPr>
              <a:t>       </a:t>
            </a:r>
            <a:r>
              <a:rPr b="1" i="1" lang="ru-RU" sz="3000" spc="-1" strike="noStrike">
                <a:solidFill>
                  <a:srgbClr val="008080"/>
                </a:solidFill>
                <a:latin typeface="Verdana"/>
              </a:rPr>
              <a:t>«Проверь себя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20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скать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И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танища, найти пр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ежище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одолеть  все пр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.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грады и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пятствия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ебрегать советами,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градить дорогу, 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сечь ненужные разговоры, дать пр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ягу,сделать пр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ивку, вступить в  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Е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кания,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мирить спорящих,  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мерить пальто,, 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одолеть страх,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выкнуть к условиям.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сутствовать  на  собран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i="1" lang="ru-RU" sz="4400" spc="-1" strike="noStrike">
                <a:solidFill>
                  <a:srgbClr val="990033"/>
                </a:solidFill>
                <a:latin typeface="Times New Roman"/>
              </a:rPr>
              <a:t>Спасибо за внимание</a:t>
            </a:r>
            <a:r>
              <a:rPr b="1" i="1" lang="ru-RU" sz="4000" spc="-1" strike="noStrike">
                <a:solidFill>
                  <a:srgbClr val="990033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3" name="Picture 4" descr="2H2"/>
          <p:cNvPicPr/>
          <p:nvPr/>
        </p:nvPicPr>
        <p:blipFill>
          <a:blip r:embed="rId1"/>
          <a:stretch/>
        </p:blipFill>
        <p:spPr>
          <a:xfrm>
            <a:off x="3862440" y="2708280"/>
            <a:ext cx="141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Comic Sans MS"/>
              </a:rPr>
              <a:t>ЗНАЧЕНИЯ</a:t>
            </a: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000066"/>
                </a:solidFill>
                <a:uFillTx/>
                <a:latin typeface="Comic Sans MS"/>
              </a:rPr>
              <a:t>СЛ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 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ПРИБЛИЖ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ПРИСОЕДИН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БЛИЗ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НЕПОЛНОЕ ДЕЙСТВ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 ОЧ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 ПЕРЕ 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1979640" y="2349360"/>
            <a:ext cx="79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0"/>
          <p:cNvSpPr/>
          <p:nvPr/>
        </p:nvSpPr>
        <p:spPr>
          <a:xfrm flipV="1">
            <a:off x="2771640" y="2349000"/>
            <a:ext cx="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5940360" y="2349360"/>
            <a:ext cx="79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2"/>
          <p:cNvSpPr/>
          <p:nvPr/>
        </p:nvSpPr>
        <p:spPr>
          <a:xfrm>
            <a:off x="6732720" y="2349360"/>
            <a:ext cx="0" cy="14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3"/>
          <p:cNvSpPr/>
          <p:nvPr/>
        </p:nvSpPr>
        <p:spPr>
          <a:xfrm>
            <a:off x="5435640" y="33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6443640" y="3357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Определи пристав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ех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б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скуч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бреж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кле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скак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интерес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смешн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вяз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мчать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морс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цеп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неприят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мчать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-800280"/>
            <a:ext cx="6870600" cy="20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200"/>
                </a:solidFill>
                <a:latin typeface="Comic Sans MS"/>
              </a:rPr>
              <a:t>Образуй прилагательные с пре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дн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л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ольшо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огат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редн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соки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адки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ил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удр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личн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нн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тивн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мешно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приятн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-1035000"/>
            <a:ext cx="68706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помн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3771720" cy="3297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ат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разов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рат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оле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вор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отов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особ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ре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одить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мотреть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з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тствов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4"/>
          <p:cNvSpPr/>
          <p:nvPr/>
        </p:nvSpPr>
        <p:spPr>
          <a:xfrm>
            <a:off x="2843280" y="907920"/>
            <a:ext cx="23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ре-  и  при-  - части кор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чи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ключ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леж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ят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пятств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cc"/>
                </a:solidFill>
                <a:uFillTx/>
                <a:latin typeface="Comic Sans MS"/>
              </a:rPr>
              <a:t> 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Comic Sans MS"/>
              </a:rPr>
              <a:t>Выпишите слова с приставкой </a:t>
            </a:r>
            <a:r>
              <a:rPr b="1" lang="ru-RU" sz="2800" spc="-1" strike="noStrike" u="sng">
                <a:solidFill>
                  <a:srgbClr val="ff0066"/>
                </a:solidFill>
                <a:uFillTx/>
                <a:latin typeface="Comic Sans MS"/>
              </a:rPr>
              <a:t>ПРИ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Comic Sans MS"/>
              </a:rPr>
              <a:t>- ,которые обозначают </a:t>
            </a: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Comic Sans MS"/>
              </a:rPr>
              <a:t>приближение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Comic Sans MS"/>
              </a:rPr>
              <a:t> или </a:t>
            </a: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Comic Sans MS"/>
              </a:rPr>
              <a:t>присоедине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Скоро ночь, Иван, начнется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И тебе стеречь придется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Втихомолку примеча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Да смотри же, не зева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До восхода, слышь, зарниц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Прилетят сюда Жар – птиц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     </a:t>
            </a: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Тут надел он свой кафтан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Опояской подвязался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    </a:t>
            </a: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Приумылся, причесался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Кнут свой сбоку прицепил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Словно утица поплыл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                   </a:t>
            </a: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(П.Ершов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6600"/>
                </a:solidFill>
                <a:uFillTx/>
                <a:latin typeface="Comic Sans MS"/>
              </a:rPr>
              <a:t>Подбирая подходящие по смыслу слова из указанных в скобках, запишите словосочет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Прибывать –пребывать (к Павелецкому вокзалу, в Москве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приступить – преступить(к рисованию, закон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приклонить – преклониться(голову, перед талантом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призреть – презреть(сироту, опасность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придать – предать(форму шара, товарищ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20:49:43Z</dcterms:created>
  <dc:creator>Люба</dc:creator>
  <dc:description/>
  <dc:language>en-US</dc:language>
  <cp:lastModifiedBy>Пользователь Windows</cp:lastModifiedBy>
  <dcterms:modified xsi:type="dcterms:W3CDTF">2017-01-10T14:47:12Z</dcterms:modified>
  <cp:revision>18</cp:revision>
  <dc:subject/>
  <dc:title>Слайд 1</dc:title>
</cp:coreProperties>
</file>