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D8F-EC2F-477C-B781-7ED1BE67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DE0-3DF6-4481-B2D7-EEB20259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9B6-D056-4A1C-8D19-44FDA448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301-A84C-427C-A607-A217E7D4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4528-4EF9-41BA-A9F8-C65EE46D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167A-8D3D-46C9-A8AE-56B00C9A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1B06-92CD-4492-BAF2-6524B24F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F7C2-0AC1-4628-86D2-85A07FFF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9696-90E7-4496-8C99-650CF4D6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ACB2-56E9-4F7C-A811-01894A4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C402-E1B8-4BDC-A712-A6078211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DA0-E289-4ACF-8A42-BCC5BE58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9925-0FF9-4498-9066-401A5AD1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9D93-112B-492A-B5B8-9B76BF06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7453-AD76-4C66-8449-E1F71490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8414-CD7B-44CB-A338-9E083AE0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CC8-41A6-4D85-8833-85662CC0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47DE-6747-4057-9369-C806EA24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06AB-48DA-42F1-9EE0-2AACAB0D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9376-571C-4FB4-9988-5DE5377D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3759-E978-48D0-A81E-295143CC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94CC-2A85-4539-B5C4-E175E12F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9FE-B574-4584-9A56-7E5C3A4F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70AA-35F6-4DAF-9C8D-78A7C7E6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1280-BEEC-4822-90CC-F4B2D46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8FF3-154C-411D-90A4-DA553E32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2BFD-98C7-4D33-AB4B-F34946F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BF26-B313-46A5-8FC3-9E587ED2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0BC5-06F6-4D9B-AC03-3AF854C5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8E442-56F6-40E6-A00A-0BFC397F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1F405-F0F3-477C-A0A9-7556B34B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9646-D7D0-4CF0-AB3F-8E4C3CF1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C32B-3052-4980-A118-1F7F43A1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A65-49CE-4ABF-8BE8-71752CD1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81FE-4B4D-4004-A489-DE7F22B3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24BC-A507-4C16-94A6-29233CDE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05A5-19E9-4427-98E2-F9A6BD4D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B14A-7045-49D5-B4B1-802889D7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84F67-44F1-4722-AC10-60F4C84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79C7-0C1C-4993-8637-BC9D1364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63FD-9457-470C-A6A1-7643930D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FFB2-F52D-4BF8-897E-E0B38FA2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23ED-3B4E-4E07-A122-E62F58DE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29F32-15DD-4905-9760-5D947F92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E57-5C5D-47E3-B214-98D1C1F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02F8-596B-4CE0-98FA-46AD6EA3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CC39-4515-4527-BDAB-F7FDD2F4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A100E-B146-4386-8A94-B922E570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EFA9B-5E8D-427D-8DC7-125F0859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0DE87-DCDD-445D-9E97-11649CD1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CE18-8DFA-42CB-B877-8C97720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A22C7-08C9-40CB-9ED0-E4B25EA1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CB3C8-FBF8-4F95-AB5E-344AEB77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203DA-F161-44F1-B3D9-FDAF785D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9E9F2-055C-4A8E-A334-46FE2F10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2B5-0EC3-468D-819A-DBAF86DB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D65A8-D067-47FF-A826-96A076E3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2A2-ACD4-4281-81CB-0530624A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FD0-B122-410D-A44D-1E64759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2A8-39A3-4B23-AD71-948184DF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83F2-CD91-4910-886A-0A13BFEC7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06FE-EC62-4778-856A-3C876C5070A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48B0-53FE-487A-83FC-F78FF76513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91A6-1C45-451D-AAD2-E0F7F584C60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BD34-665B-4BE2-8E16-44309D25D0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Учебные материалы к уроку русского языка в 6 классе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« Гласные в приставках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РЕ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–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и 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РИ-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Составитель: Санникова А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учитель русского языка и     лит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МОУ  Аннинская СОШ №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005"/>
          <p:cNvPicPr/>
          <p:nvPr/>
        </p:nvPicPr>
        <p:blipFill>
          <a:blip r:embed="rId1"/>
          <a:stretch/>
        </p:blipFill>
        <p:spPr>
          <a:xfrm>
            <a:off x="395280" y="3933720"/>
            <a:ext cx="20667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Спишите, выделите приставки в тех словах, где они ест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кать пр..станища, найти пр..бежище, пр..одолеть  все пр..грады и пр..пятствия, пр..небрегать советами, пр..градить дорогу, пр..сечь ненужные разговоры, дать пр..сягу, сделать пр..вивку, вступить в пр..рекания, пр..мирить спорящих, пр..мерить пальто, пр..сутствовать на собрании, пр..одолеть страх, пр..выкнуть к условиям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80"/>
                </a:solidFill>
                <a:latin typeface="Verdana"/>
              </a:rPr>
              <a:t>       </a:t>
            </a:r>
            <a:r>
              <a:rPr b="1" i="1" lang="ru-RU" sz="3000" spc="-1" strike="noStrike">
                <a:solidFill>
                  <a:srgbClr val="008080"/>
                </a:solidFill>
                <a:latin typeface="Verdana"/>
              </a:rPr>
              <a:t>«Проверь себя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скать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анища, найти 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ежище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одолеть  все 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.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грады и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пятствия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брегать советами,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градить дорогу, 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сечь ненужные разговоры, дать 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ягу,сделать пр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ивку, вступить в  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кания,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мирить спорящих,  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мерить пальто,, 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одолеть страх,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выкнуть к условиям. пр.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сутствовать  на  собран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i="1" lang="ru-RU" sz="4400" spc="-1" strike="noStrike">
                <a:solidFill>
                  <a:srgbClr val="990033"/>
                </a:solidFill>
                <a:latin typeface="Times New Roman"/>
              </a:rPr>
              <a:t>Спасибо за внимание</a:t>
            </a:r>
            <a:r>
              <a:rPr b="1" i="1" lang="ru-RU" sz="4000" spc="-1" strike="noStrike">
                <a:solidFill>
                  <a:srgbClr val="990033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3" name="Picture 4" descr="2H2"/>
          <p:cNvPicPr/>
          <p:nvPr/>
        </p:nvPicPr>
        <p:blipFill>
          <a:blip r:embed="rId1"/>
          <a:stretch/>
        </p:blipFill>
        <p:spPr>
          <a:xfrm>
            <a:off x="3862440" y="2708280"/>
            <a:ext cx="141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Comic Sans MS"/>
              </a:rPr>
              <a:t>ЗНАЧЕНИЯ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Comic Sans MS"/>
              </a:rPr>
              <a:t>С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РИБЛИЖ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РИСОЕДИН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БЛИЗ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НЕПОЛНОЕ ДЕЙСТВ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 ОЧ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 ПЕРЕ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1979640" y="234936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 flipV="1">
            <a:off x="2771640" y="2349000"/>
            <a:ext cx="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5940360" y="234936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6732720" y="234936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5435640" y="33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6443640" y="335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Определи пристав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ех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б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скуч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бреж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кле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скак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интерес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смешн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вяз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мча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мор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цеп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неприя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мча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20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Образуй прилагательные с пре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д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л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льшо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гат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ед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соки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адки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ил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удр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лич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тив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мешно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приятный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-1035000"/>
            <a:ext cx="6870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мн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3771720" cy="3297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т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азов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ат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оле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вор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тов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особ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е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ди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мотре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з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тствов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2843280" y="90792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е-  и  при-  - части кор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ч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ключ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леж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я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пятств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Выпишите слова с приставкой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Comic Sans MS"/>
              </a:rPr>
              <a:t>ПРИ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- ,которые обозначают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Comic Sans MS"/>
              </a:rPr>
              <a:t>приближение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 или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Comic Sans MS"/>
              </a:rPr>
              <a:t>присоедин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Скоро ночь, Иван, начне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И тебе стеречь придетс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Втихомолку примеча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Да смотри же, не зева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До восхода, слышь, зарниц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рилетят сюда Жар – птиц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     </a:t>
            </a: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Тут надел он свой кафтан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Опояской подвязался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Приумылся, причесался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Кнут свой сбоку прицепил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Словно утица поплы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                   </a:t>
            </a: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(П.Ершов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Comic Sans MS"/>
              </a:rPr>
              <a:t>Подбирая подходящие по смыслу слова из указанных в скобках, запишите словосочет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бывать –пребывать (к Павелецкому вокзалу, в Москве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ступить – преступить(к рисованию, закон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клонить – преклониться(голову, перед талантом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зреть – презреть(сироту, опасность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придать – предать(форму шара, товарищ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20:49:43Z</dcterms:created>
  <dc:creator>Люба</dc:creator>
  <dc:description/>
  <dc:language>en-US</dc:language>
  <cp:lastModifiedBy>Пользователь Windows</cp:lastModifiedBy>
  <dcterms:modified xsi:type="dcterms:W3CDTF">2017-01-10T14:47:12Z</dcterms:modified>
  <cp:revision>18</cp:revision>
  <dc:subject/>
  <dc:title>Слайд 1</dc:title>
</cp:coreProperties>
</file>