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314-4E8C-45AE-94A2-A20DE429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1F8-2F0B-4B09-8A35-581670A2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9E9-2FFD-44BE-A090-55E7C5E6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E4F-7374-4D95-B679-234B7894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ADA-352E-476F-82EE-11E922D4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B6FA-7F2E-4BE7-AB1A-AD149A6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5E46-4727-4B86-AA98-FCF787B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19B-D7DF-45F6-90F4-0A42A4C9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C83-C75E-49EC-8EDE-97F37CF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587-211F-47F4-94A4-0692CA3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2809-20E9-4D6B-B665-710C4F4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A9E-39AF-4430-BC51-ADFF4E40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2C2-A356-485A-A187-BE1A39F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BC30-2540-4A70-831C-1981A24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895-4757-407A-9B07-AFC3C6FD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249A-19E2-406C-B19F-71A7BB93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C4D-7B7E-42AC-A72F-876C06CB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BB9E-817B-4493-951A-2B7D5E9B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D1ED-983E-447A-953F-576E2C7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3ECF-48E4-4399-8CA4-59C95819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0B9C-10E0-4233-989E-DE518E00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D9AA-D6F4-4B4D-B7C9-A6A35CF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10A-CC8C-47AA-8E80-03CD8B9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AF70-B66E-4F32-9BDC-85AE12D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836E-6E08-4CB1-A95F-4ADA41BE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E855-B6D9-47CE-AC95-5BF00CF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BBC7-6E86-4419-9B58-322EE56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48EE-AF5F-4334-BD99-089898D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AD19-6548-4A95-AC03-48EDD3C4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D6F2-F77E-4041-BBD2-0E2A2D3A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536-1B63-49EA-8C06-E9408B7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073-59C8-4F78-A0CC-AB8F2C6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23F-0895-464C-802C-F8D00EE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BFC-D0B6-4E18-9E1A-8C1A161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E0D-A4B6-4A7C-8CB4-E1161AA8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D81-9713-4AF4-BB92-1669E499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D942-8F99-4930-82A1-1C1E0CE32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a7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b6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EF4-9A56-413B-8624-B8724014B99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5ABB-EEDF-4FA0-9368-6FEA10EA8D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zvetik-.ppt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395280" y="1268280"/>
            <a:ext cx="835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фференци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гов и пристав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987280" y="4581000"/>
            <a:ext cx="6481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: учитель-логоп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чатурова Викто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5600" y="420480"/>
            <a:ext cx="81612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,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5600" y="1557000"/>
            <a:ext cx="8354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дворе была го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В)зале стоит душистая ё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Весь день (на)горке было много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ветках игр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К)пушистой красавице (при)бежали д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Митя (на)санках (с)катился (с)гор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5600" y="420480"/>
            <a:ext cx="81612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дворе была горка. Весь день на горке было много детей. Митя на санках скатился с гор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зале стоит душистая ёлка. На ветках игрушки. К пушистой красавице прибежали д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5600" y="404640"/>
            <a:ext cx="81612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вставляя правильные по смыслу приставки и предлог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5600" y="1611000"/>
            <a:ext cx="835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)   …брёл я …сарай и …снул глубоко … копной с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) Все ребята …бежали …льду …конь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) Нина …бежала …дерева и …бежала …ал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) Оля …плела ленту …ко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5600" y="404640"/>
            <a:ext cx="81612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5600" y="1401480"/>
            <a:ext cx="835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Забрёл я в сарай и заснул глубоко за копной с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се ребята побежали по льду на конь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ина отбежала от дерева и побежала по ал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Оля заплела ленту в ко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8" descr="3fbd8d304b6d"/>
          <p:cNvPicPr/>
          <p:nvPr/>
        </p:nvPicPr>
        <p:blipFill>
          <a:blip r:embed="rId1"/>
          <a:stretch/>
        </p:blipFill>
        <p:spPr>
          <a:xfrm>
            <a:off x="2340000" y="3068640"/>
            <a:ext cx="4032360" cy="3519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1"/>
          <p:cNvSpPr txBox="1"/>
          <p:nvPr/>
        </p:nvSpPr>
        <p:spPr>
          <a:xfrm>
            <a:off x="1116000" y="620640"/>
            <a:ext cx="755964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ff00ff"/>
                </a:solidFill>
                <a:effectLst>
                  <a:outerShdw dist="134955" dir="19127120" blurRad="0" rotWithShape="0">
                    <a:srgbClr val="ffcc99"/>
                  </a:outerShdw>
                </a:effectLst>
                <a:latin typeface="Garamond"/>
              </a:rPr>
              <a:t>Молодцы !</a:t>
            </a:r>
            <a:endParaRPr b="0" lang="en-US" sz="1800" spc="1" strike="noStrike">
              <a:ln w="12600">
                <a:solidFill>
                  <a:srgbClr val="9900cc"/>
                </a:solidFill>
                <a:miter/>
              </a:ln>
              <a:solidFill>
                <a:srgbClr val="ff00ff"/>
              </a:solidFill>
              <a:effectLst>
                <a:outerShdw dist="134955" dir="19127120" blurRad="0" rotWithShape="0">
                  <a:srgbClr val="ffcc99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39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читайте слова и назовите, где приставки, а где предло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252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ЧЕРЕЗ)ЛЕС                 (ЗА)БРАТ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С)БРАТОМ                   (У)ШК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ПЕРЕД)ОКНОМ           (ИЗ)КОРОБ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В)МАШИНЕ                  (ПО)ЛИ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ЕДЛОГ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лово, которое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СТАВ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асть слова, которая стоит перед корнем и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4720" y="1628640"/>
            <a:ext cx="5688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М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 слова с приставкам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где с предлог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497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за)горой, (за)бежать, (с)верну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с)крыши, (на)конверте, (на)резать, (в)лет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в)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принцесса"/>
          <p:cNvPicPr/>
          <p:nvPr/>
        </p:nvPicPr>
        <p:blipFill>
          <a:blip r:embed="rId2"/>
          <a:stretch/>
        </p:blipFill>
        <p:spPr>
          <a:xfrm>
            <a:off x="5508720" y="1628640"/>
            <a:ext cx="3047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6360" y="1417320"/>
            <a:ext cx="4978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г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вер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кр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конве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е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е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карандаш"/>
          <p:cNvPicPr/>
          <p:nvPr/>
        </p:nvPicPr>
        <p:blipFill>
          <a:blip r:embed="rId2"/>
          <a:stretch/>
        </p:blipFill>
        <p:spPr>
          <a:xfrm>
            <a:off x="826920" y="1916280"/>
            <a:ext cx="22226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 правильно словосочет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6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с)катился  (с)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по)бежали (по)дорож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про)читал (про)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писал (на)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принцесса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92160" y="347760"/>
            <a:ext cx="5770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42920" y="1484280"/>
            <a:ext cx="576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атился  с 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бежали по  дорож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итал про 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сал на 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арандаш"/>
          <p:cNvPicPr/>
          <p:nvPr/>
        </p:nvPicPr>
        <p:blipFill>
          <a:blip r:embed="rId2"/>
          <a:stretch/>
        </p:blipFill>
        <p:spPr>
          <a:xfrm>
            <a:off x="785880" y="1515960"/>
            <a:ext cx="2050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танцующие дети"/>
          <p:cNvPicPr/>
          <p:nvPr/>
        </p:nvPicPr>
        <p:blipFill>
          <a:blip r:embed="rId3"/>
          <a:stretch/>
        </p:blipFill>
        <p:spPr>
          <a:xfrm>
            <a:off x="1979640" y="2165400"/>
            <a:ext cx="51134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40:13Z</dcterms:created>
  <dc:creator>User</dc:creator>
  <dc:description/>
  <dc:language>en-US</dc:language>
  <cp:lastModifiedBy>123</cp:lastModifiedBy>
  <dcterms:modified xsi:type="dcterms:W3CDTF">2018-02-25T20:01:26Z</dcterms:modified>
  <cp:revision>41</cp:revision>
  <dc:subject/>
  <dc:title>Слайд 1</dc:title>
</cp:coreProperties>
</file>