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A16F-EA00-4C15-87DE-3749BE8E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863A-A37D-4F24-A888-66508FC9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211-E96E-40B7-A04C-19789985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972F-95D5-4B65-9777-D67881E0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0D78-385B-4D85-9390-C6A08FCF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93CB-56F8-467D-BF12-72276E96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D5A0-5846-47CC-88DD-D87848A1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E2A3-1EBF-4EDD-AAC7-BCDD1046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2FE2-D5C6-4871-B2F2-9C3D6ED6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AA84-DA01-4583-834F-2F56667D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539F-F922-458E-AB19-D96FD3C0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933B-A4AE-421B-B50F-86DECCF4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D86F-369F-4366-84AA-7B2D3666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2B61-42FD-4DA2-9B74-13B34331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9CCE-3B27-4562-B18B-49A43BD8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41FE-0B6A-40BB-BB0A-6FAFD458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F4C7-DE14-4083-B094-D04463D2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4D5E6-A5FC-45D6-A76D-20D8A074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471AE-47E8-4A8D-A60B-2CC1B4B6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42816-3CDD-4E21-A6E6-D6A3A2F5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A9556-D955-4AF2-8A61-0CE22EBF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C9959-FA22-4C07-9ADF-ACC16F32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6555-51D7-4B78-AD3F-E02182E3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DC325-8A5D-4B2A-9F1F-F8171E0D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77304-FE4A-4F27-9E3A-8096701A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5B79B-8185-4439-B6B3-A28A6BE7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FD4ED-9599-4EBD-9A29-610F9B7E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64D25-F529-4D19-9527-FE11DB0C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0D50B-8F24-4FB7-8B40-2E858587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77CFC-1015-4473-A474-8A06EF21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0DD-9510-43DE-95A8-0EF434DB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D542-279C-4053-B838-41420849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A40F-8D94-42E0-B62F-E53F6F4E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155-91B7-42C9-A138-118DA1D4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29A-AAD5-498D-8B9E-55439097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CE8-1417-41C5-912F-5DBF0FFA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212E-2028-46EE-8812-A1C4FEA98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a7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a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a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a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a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a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a7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a7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a7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b6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185E-6190-456E-A633-A50FEE00021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a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a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a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1DBC-14BC-499E-89AB-D8CD122AAAC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zvetik-.ppt" TargetMode="Externa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4"/>
          <p:cNvSpPr txBox="1"/>
          <p:nvPr/>
        </p:nvSpPr>
        <p:spPr>
          <a:xfrm>
            <a:off x="395280" y="1268280"/>
            <a:ext cx="8353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фференциац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логов и пристав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2987280" y="4581000"/>
            <a:ext cx="6481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подготовила: учитель-логопе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чатурова Виктория Альберт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25600" y="420480"/>
            <a:ext cx="8161200" cy="9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ши, раскрывая ско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25600" y="1557000"/>
            <a:ext cx="8354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(На)дворе была гор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(В)зале стоит душистая ёл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Весь день (на)горке было много де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(На)ветках игру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(К)пушистой красавице (при)бежали д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Митя (на)санках (с)катился (с)гор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25600" y="420480"/>
            <a:ext cx="8161200" cy="9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63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 дворе была горка. Весь день на горке было много детей. Митя на санках скатился с гор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зале стоит душистая ёлка. На ветках игрушки. К пушистой красавице прибежали д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25600" y="404640"/>
            <a:ext cx="81612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шите, вставляя правильные по смыслу приставки и предлог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25600" y="1611000"/>
            <a:ext cx="835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1)   …брёл я …сарай и …снул глубоко … копной с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2) Все ребята …бежали …льду …конь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3) Нина …бежала …дерева и …бежала …алл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4) Оля …плела ленту …кос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25600" y="404640"/>
            <a:ext cx="81612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25600" y="1401480"/>
            <a:ext cx="835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Забрёл я в сарай и заснул глубоко за копной с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Все ребята побежали по льду на конь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Нина отбежала от дерева и побежала по алл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Оля заплела ленту в кос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8" descr="3fbd8d304b6d"/>
          <p:cNvPicPr/>
          <p:nvPr/>
        </p:nvPicPr>
        <p:blipFill>
          <a:blip r:embed="rId1"/>
          <a:stretch/>
        </p:blipFill>
        <p:spPr>
          <a:xfrm>
            <a:off x="2340000" y="3068640"/>
            <a:ext cx="4032360" cy="3519360"/>
          </a:xfrm>
          <a:prstGeom prst="rect">
            <a:avLst/>
          </a:prstGeom>
          <a:ln w="0">
            <a:noFill/>
          </a:ln>
        </p:spPr>
      </p:pic>
      <p:sp>
        <p:nvSpPr>
          <p:cNvPr id="238" name="WordArt 11"/>
          <p:cNvSpPr txBox="1"/>
          <p:nvPr/>
        </p:nvSpPr>
        <p:spPr>
          <a:xfrm>
            <a:off x="1116000" y="620640"/>
            <a:ext cx="7559640" cy="220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cc"/>
                  </a:solidFill>
                  <a:miter/>
                </a:ln>
                <a:solidFill>
                  <a:srgbClr val="ff00ff"/>
                </a:solidFill>
                <a:effectLst>
                  <a:outerShdw dist="134955" dir="19127120" blurRad="0" rotWithShape="0">
                    <a:srgbClr val="ffcc99"/>
                  </a:outerShdw>
                </a:effectLst>
                <a:latin typeface="Garamond"/>
              </a:rPr>
              <a:t>Молодцы !</a:t>
            </a:r>
            <a:endParaRPr b="0" lang="en-US" sz="1800" spc="1" strike="noStrike">
              <a:ln w="12600">
                <a:solidFill>
                  <a:srgbClr val="9900cc"/>
                </a:solidFill>
                <a:miter/>
              </a:ln>
              <a:solidFill>
                <a:srgbClr val="ff00ff"/>
              </a:solidFill>
              <a:effectLst>
                <a:outerShdw dist="134955" dir="19127120" blurRad="0" rotWithShape="0">
                  <a:srgbClr val="ffcc99"/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39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читайте слова и назовите, где приставки, а где предлог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252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(ЧЕРЕЗ)ЛЕС                 (ЗА)БРАТ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(С)БРАТОМ                   (У)ШКОЛ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(ПЕРЕД)ОКНОМ           (ИЗ)КОРОБ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(В)МАШИНЕ                  (ПО)ЛИВ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ПРЕДЛОГ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слово, которое служит для связи слов в предло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ПРИСТАВ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часть слова, которая стоит перед корнем и служит для образования новых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284720" y="1628640"/>
            <a:ext cx="5688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АР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РАММА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де слова с приставками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где с предлога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44280"/>
            <a:ext cx="4978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(за)горой, (за)бежать, (с)верну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(с)крыши, (на)конверте, (на)резать, (в)лете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(в)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принцесса"/>
          <p:cNvPicPr/>
          <p:nvPr/>
        </p:nvPicPr>
        <p:blipFill>
          <a:blip r:embed="rId2"/>
          <a:stretch/>
        </p:blipFill>
        <p:spPr>
          <a:xfrm>
            <a:off x="5508720" y="1628640"/>
            <a:ext cx="30477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76360" y="1417320"/>
            <a:ext cx="4978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 гор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беж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вер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 крыш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 конвер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рез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ле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карандаш"/>
          <p:cNvPicPr/>
          <p:nvPr/>
        </p:nvPicPr>
        <p:blipFill>
          <a:blip r:embed="rId2"/>
          <a:stretch/>
        </p:blipFill>
        <p:spPr>
          <a:xfrm>
            <a:off x="826920" y="1916280"/>
            <a:ext cx="222264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пиши правильно словосочет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568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(с)катился  (с)г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(по)бежали (по)дорож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(про)читал (про)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(на)писал (на)конве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принцесса"/>
          <p:cNvPicPr/>
          <p:nvPr/>
        </p:nvPicPr>
        <p:blipFill>
          <a:blip r:embed="rId2"/>
          <a:stretch/>
        </p:blipFill>
        <p:spPr>
          <a:xfrm>
            <a:off x="5724360" y="1557360"/>
            <a:ext cx="3048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92160" y="347760"/>
            <a:ext cx="5770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842920" y="1484280"/>
            <a:ext cx="5761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катился  с  г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бежали по  дорож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читал про  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писал на конве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карандаш"/>
          <p:cNvPicPr/>
          <p:nvPr/>
        </p:nvPicPr>
        <p:blipFill>
          <a:blip r:embed="rId2"/>
          <a:stretch/>
        </p:blipFill>
        <p:spPr>
          <a:xfrm>
            <a:off x="785880" y="1515960"/>
            <a:ext cx="20509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танцующие дети"/>
          <p:cNvPicPr/>
          <p:nvPr/>
        </p:nvPicPr>
        <p:blipFill>
          <a:blip r:embed="rId3"/>
          <a:stretch/>
        </p:blipFill>
        <p:spPr>
          <a:xfrm>
            <a:off x="1979640" y="2165400"/>
            <a:ext cx="511344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6:40:13Z</dcterms:created>
  <dc:creator>User</dc:creator>
  <dc:description/>
  <dc:language>en-US</dc:language>
  <cp:lastModifiedBy>123</cp:lastModifiedBy>
  <dcterms:modified xsi:type="dcterms:W3CDTF">2018-02-25T20:01:26Z</dcterms:modified>
  <cp:revision>41</cp:revision>
  <dc:subject/>
  <dc:title>Слайд 1</dc:title>
</cp:coreProperties>
</file>