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907588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799920" y="728640"/>
            <a:ext cx="525780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FBC0-150E-4509-9BEC-E6DFC78242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B760-F031-48F8-B53D-72B9188C7F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21C3-72D2-44FC-948B-47786C0D8D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BEE4-94D0-4474-BA36-376E5B303B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E5F3-E5C1-45A0-A9F3-BCE3923471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1D50-EC2B-448D-9454-535688CD50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B07F-B7F2-4153-B587-3BE0C0939F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CC0E-5E32-4762-8027-CA68E79E8D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7717-6F27-42A9-9AE1-B05D371AF3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67A-ED83-49DA-8BD4-698F9254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0C6-4E62-431B-B50F-A7E321DD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DAF5A-65D1-4F38-BCDB-A9A3005F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C979E-ADE3-41FD-8907-772D9D93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E237B-32A2-47EC-B0AF-0F5B8615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40FF2-19E9-4DA0-989C-B9247562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1CBF1-64BE-4182-A2D5-AD6F62FD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0DABA-63A9-4399-9F9F-C74C8EB2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CCE06-1627-4677-BC4D-F21B996A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927D4-7652-4DE8-BF60-7EA51BE2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EB6A2-2D46-4272-8178-A608660E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8067A-8CB8-4F95-BB22-637FB79A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7EC-D915-4556-BF90-8D11DAF4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CCDD6-2110-4ED9-9382-58BFE089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5F950-BC3D-42EF-B74B-5791ED3E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5ACBF-9166-4589-95F3-E402BA49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A70E6-6754-415C-B42A-0B34B4C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40554-DAA8-4E66-859E-2EDA4CB1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AC47E-9FC8-4302-8FE1-9767AFD8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642C7-95E2-4D87-85EA-EC7627ED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8801A-B23E-4BEF-B8BA-B18405B3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E1514-A67D-4EC1-BA83-05824491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D6BB5-3F74-4784-95AB-366F300C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5BD-5911-4303-991A-9CA8AD36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950C4-E921-41AD-8B73-0B9A5C4A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7485C-A848-4AE2-916C-E4CE8065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14710-01D6-44D2-A931-6A89917D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D819D-00A4-479F-A494-8594C588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861EC-5A97-4395-B644-2FFB13B9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581C8-CEDF-47AF-B07B-18B0EC75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A51E6-46A8-4BE3-847B-50529B8A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870E9-EBDE-4E42-9137-CCE80723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DA944-0010-4515-A8A2-8B0395F6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FE230-1399-4A36-9DE5-F594C3E5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E813-5ABC-40CC-BE59-C536A4FA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FFC7B-AF44-4D88-9ABC-C26B839C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C7103-5842-48B8-B3A0-B9B96813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40138-BAC6-4AB4-B123-024F753C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1AC10-3777-4D1F-8721-7B073BCA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7B30D-8B2B-4C73-899D-5B829A11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84D6C-AE24-4AF8-A4B9-18E3D416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1B66A-E950-4365-8FF2-16AC95AF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93DD2-D729-4E26-9AB0-C3658425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F517B-2F88-4910-B556-64ECF75A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056C1-6E37-41C9-87D8-83718A96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CC07-9A1E-4D4C-BD9E-C1FE596F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72B9A-894F-4D64-8C56-14103F1A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92FC3-47AF-48E4-9076-E964AA19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D178C-A3F2-4B07-9A04-CC38A191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1C77D-23DD-4436-B279-E7DB1A3D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7AA0E-0443-4633-8BE9-B9A83E89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5C6C7-6297-498D-B0A0-889E1D78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50395-86A6-4788-B2EF-906B544E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B1192-FC20-4018-8F72-3DC20B89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DABF5-868E-4083-B15A-55EEF079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713E4-0BCB-4824-BEC0-C43A2DB1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2279-8E64-481A-B76A-0883DF9B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87426-0105-4457-A945-CAEDBAA0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337E5-BCBE-4CDA-9DB4-4BB63FCE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D13CA-E5D5-4497-AAE4-4C3298B6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26F87-2564-4637-AB7E-8EF1389A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7D3F5-A12F-4DD9-B297-0A7A2142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CB86B-0FC9-4997-AB71-F00B4814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C78A6-11F9-403E-9B45-94C2A8A8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D5939-B36D-4D9D-9D6E-2F15A714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37277-2B21-49EA-AE48-4E3A9F18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29B13-1D2E-473F-8B6A-4EB418E9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5AA0-FE4A-49D5-BE75-FCE6A61F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9652A-4FD4-46D3-93BD-D3C7D51B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5A55B-3FF6-4F7A-AF35-F24A9EE1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349BB-CF72-4187-8ADD-E33017F0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C9A6C-06D6-4CA1-BC1A-2212C86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EC632-D78F-48D8-84B5-7D8E3885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B99C1-B9BE-465A-B5EF-5E3192AE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DC5CD-538D-4828-913D-4D3C8646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E4D26-E794-4F1E-B932-EFFF647B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AA472-C62B-44C2-8DF9-50862214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B479-0384-4766-8748-9F883CB3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7D77-B990-472B-BD75-D34F9C66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8C0B-3893-4CD5-BB33-57B67572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6BB-8F3C-4555-8E75-710826B3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C604-2D78-47E5-AB0F-7E3151F2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836F-AADF-4861-A3DB-3531C4DE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6338-45AE-4C31-8F73-71AAB159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43D9-A7B3-43C5-A470-C1CC513E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02A7-4240-46E8-AE01-5A941966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672A3-0BCC-4C57-AE6F-0EDE9502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A8E6-6EAE-48AD-B101-45D2955D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FF29-92BB-4A9E-84BC-65C122F9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FB017-1A9C-457E-896A-D293512C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0EC2F-FE94-4CB4-8112-7FDAA972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C55-818B-448B-8ABF-90141999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D1CEA-FEF8-4A46-9921-1E774316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F3A14-AA1B-4513-A38B-6C06DFE0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EE85-51A2-4E93-91CE-BD524958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20B9E-C4AF-492E-954B-C76FA96B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21E9-3FE0-40D5-85D2-9EF37505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0AB5-59B7-4242-A64F-FEDC2B84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194F-7427-4E61-BA23-0206977C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B333-D230-46CE-9AB2-89B7669B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FF6E8-9647-416E-BCD1-28F989A1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0F8A0-CBE0-4B00-8226-DDB53784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CCF-301A-488B-B29B-AB8A1762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1BAF0-B598-49A4-8058-957CACB8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9C04-0F98-446C-85A7-DF383542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ADEDB-0821-4AD3-A411-0919D0B6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20EE9-ACE8-49DE-AF68-257F495A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C7A2E-56B5-410B-97C7-E8707A5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6C48-8EE6-4277-948F-80822CF4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CBA35-E1C9-482D-BA4B-FF09ECDE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3A45-AAAE-4E08-B2A3-881AA77C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260D6-8AC3-46FE-947E-EA184357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D7814-75B7-46E7-87D6-00395B0C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408-A260-4EA1-BC41-42D2CA0A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23014-CA65-44F7-B53D-731DCAEE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AE63F-4706-43B1-A1CA-6386418D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46F1E-3721-40D2-9DA6-A20F12A8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F633B-821B-4D5C-A997-59D70CAA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53A3A-C5E6-4F26-B99F-C206D743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37F7F-C27F-4EF0-882B-B2DD5CF0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43555-8414-4421-BBA3-EEC15876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2607B-68AD-415E-97EF-61ECBC98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0C249-1344-480C-82E0-E765A6B3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E687C-8283-4E61-9572-B7C005F7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829-F2F8-4764-AFF1-436B9B19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A4116-89F6-4654-AB3C-C8C8853D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A28CD-B217-4C1D-9F85-9C67305E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E4114-F2B1-4A88-9774-C9D3D76C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A8A70-CDC2-45CF-B035-7789D652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F0D45-46E2-46EA-838D-1B54B6B5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554C9-A909-4249-B62E-64780256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6D219-9A79-4BFF-8F11-B2147C7F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2EA00-D156-4F6E-83BF-4E071691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BF574-B2AE-49C9-A7EA-8E13D6EC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B79E5-1011-4747-9689-EC92E899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830-7EB0-483D-B1B7-5B062B14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4A957-ACF1-42AE-B4CF-23905F3B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5A519-366D-40CD-A07A-7AB33DC5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49634-CE80-4641-850A-1898A510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4E1FA-DB86-4B15-8B3E-FE7C2E94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6CBC1-1D75-4C22-9FAB-2830D6C5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ED7CB-D463-4613-94C7-FF3DD243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14F0F-EFB7-44E3-A336-573401C7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AB528-F3A9-433C-AD0F-8F57E1C6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FE50A-D009-451A-B73E-A2127747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BAECF-6BAB-4AAB-878E-25070917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E4E-CFF2-44AF-BD03-2E18044D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35280-721E-4B48-AA74-009F1974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55E61-0C1D-4B1D-98AF-877E79E4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ADA31-55AB-47A1-BF68-D20C6473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D5B12-B564-4D06-9BE4-25997E0B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7AE4C-167B-4839-A39B-FBE6EBE0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3ADAF-721B-48D2-9E36-E153A104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8535D-C7A7-4A95-A635-6FF33851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97171-36E4-4594-9036-5A16F463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3AE95-6FBD-4BA6-8B99-FF60F4BF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5023A-BEAF-42CF-A4C2-F44A7A24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28D-661C-4160-9289-55679448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7A83F-16BD-4F11-B530-8CB864E9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9F490-148D-4303-BFDA-1112D1AD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B7B4B-6982-431E-A326-C702E260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7BE48-36F4-4FA6-9200-891DF90C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AE033-6B0B-4BD9-98CA-6CE9F0BF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F4A10-3551-48DE-8499-6356554C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54248-1EB6-47FA-A8DC-993EB1D2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94648-22C7-4CD6-8D74-4E440BE0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6C8CD-6BF4-4721-AF86-1E74603C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1C0BC-DD68-4342-9B41-FB6477FC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F1B3-2405-44FE-8271-7CEBE9AFF9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9FD5-4C05-4B4B-BCCA-5D32D12749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CF5E-AF48-46D3-A35B-5EE61F48C9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E213-CE58-4F55-A9E2-75049862FD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96ED-1BA4-4D7D-A28F-84B7801C26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1D78-1789-4E21-BFAF-CC2BCD329B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670F-B2A8-49B5-BC82-155242FD8D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0391-24AE-403D-B178-96A4525BFE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CD68-7657-421E-A246-D6B3F2A15A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C014-2653-4236-A761-4A4A5CC6AA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C1EC-0D06-4D6E-8B45-BC9DAF8713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57BC-1030-4C71-95AE-A8221C3EBE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C095-9A2C-42D4-82A5-4AE806DE8D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DD15-FA0B-422D-99B3-124A59F4E3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:\Documents and Settings\1\&#1052;&#1086;&#1080; &#1076;&#1086;&#1082;&#1091;&#1084;&#1077;&#1085;&#1090;&#1099;\&#1042;&#1089;&#1105; &#1076;&#1083;&#1103; &#1087;&#1088;&#1077;&#1079;&#1077;&#1085;&#1090;&#1072;&#1094;&#1080;&#1081;\&#1053;&#1086;&#1074;&#1086;&#1075;&#1086;&#1076;&#1055;&#1086;&#1079;&#1076;&#1088;&#1072;&#1074;&#1083;\&#1042; &#1083;&#1077;&#1089;&#1091; &#1088;&#1086;&#1076;&#1080;&#1083;&#1072;&#1089;&#1100; &#1077;&#1083;&#1086;&#1095;&#1082;&#1072;.mp3.sfap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:\Documents and Settings\1\&#1052;&#1086;&#1080; &#1076;&#1086;&#1082;&#1091;&#1084;&#1077;&#1085;&#1090;&#1099;\&#1042;&#1089;&#1105; &#1076;&#1083;&#1103; &#1087;&#1088;&#1077;&#1079;&#1077;&#1085;&#1090;&#1072;&#1094;&#1080;&#1081;\&#1053;&#1086;&#1074;&#1086;&#1075;&#1086;&#1076;&#1055;&#1086;&#1079;&#1076;&#1088;&#1072;&#1074;&#1083;\&#1042; &#1083;&#1077;&#1089;&#1091; &#1088;&#1086;&#1076;&#1080;&#1083;&#1072;&#1089;&#1100; &#1077;&#1083;&#1086;&#1095;&#1082;&#1072;.mp3.sfap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C:\Documents and Settings\1\&#1052;&#1086;&#1080; &#1076;&#1086;&#1082;&#1091;&#1084;&#1077;&#1085;&#1090;&#1099;\&#1042;&#1089;&#1105; &#1076;&#1083;&#1103; &#1087;&#1088;&#1077;&#1079;&#1077;&#1085;&#1090;&#1072;&#1094;&#1080;&#1081;\&#1053;&#1086;&#1074;&#1086;&#1075;&#1086;&#1076;&#1055;&#1086;&#1079;&#1076;&#1088;&#1072;&#1074;&#1083;\&#1042; &#1083;&#1077;&#1089;&#1091; &#1088;&#1086;&#1076;&#1080;&#1083;&#1072;&#1089;&#1100; &#1077;&#1083;&#1086;&#1095;&#1082;&#1072;.mp3.sfap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:\Documents and Settings\1\&#1052;&#1086;&#1080; &#1076;&#1086;&#1082;&#1091;&#1084;&#1077;&#1085;&#1090;&#1099;\&#1042;&#1089;&#1105; &#1076;&#1083;&#1103; &#1087;&#1088;&#1077;&#1079;&#1077;&#1085;&#1090;&#1072;&#1094;&#1080;&#1081;\&#1053;&#1086;&#1074;&#1086;&#1075;&#1086;&#1076;&#1055;&#1086;&#1079;&#1076;&#1088;&#1072;&#1074;&#1083;\&#1042; &#1083;&#1077;&#1089;&#1091; &#1088;&#1086;&#1076;&#1080;&#1083;&#1072;&#1089;&#1100; &#1077;&#1083;&#1086;&#1095;&#1082;&#1072;.mp3.sfap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>
            <a:hlinkClick r:id="rId1"/>
          </p:cNvPr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5"/>
          <p:cNvSpPr/>
          <p:nvPr/>
        </p:nvSpPr>
        <p:spPr>
          <a:xfrm>
            <a:off x="428760" y="1725480"/>
            <a:ext cx="92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741240" y="260280"/>
            <a:ext cx="865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4" name="WordArt 8" descr=""/>
          <p:cNvPicPr/>
          <p:nvPr/>
        </p:nvPicPr>
        <p:blipFill>
          <a:blip r:embed="rId3"/>
          <a:stretch/>
        </p:blipFill>
        <p:spPr>
          <a:xfrm>
            <a:off x="1719360" y="1773360"/>
            <a:ext cx="6486480" cy="3395520"/>
          </a:xfrm>
          <a:prstGeom prst="rect">
            <a:avLst/>
          </a:prstGeom>
          <a:ln w="0">
            <a:noFill/>
          </a:ln>
        </p:spPr>
      </p:pic>
      <p:sp>
        <p:nvSpPr>
          <p:cNvPr id="585" name="Прямоугольник 1"/>
          <p:cNvSpPr/>
          <p:nvPr/>
        </p:nvSpPr>
        <p:spPr>
          <a:xfrm>
            <a:off x="2216160" y="595008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3333cc"/>
                </a:solidFill>
                <a:latin typeface="Arial"/>
              </a:rPr>
              <a:t>Выполнила</a:t>
            </a:r>
            <a:r>
              <a:rPr b="1" i="1" lang="ru-RU" sz="1000" spc="-1" strike="noStrike">
                <a:solidFill>
                  <a:srgbClr val="3333cc"/>
                </a:solidFill>
                <a:latin typeface="Georgia"/>
              </a:rPr>
              <a:t>: воспитатель Малахова Галина Александровна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">
            <a:hlinkClick r:id="rId1"/>
          </p:cNvPr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5"/>
          <p:cNvSpPr/>
          <p:nvPr/>
        </p:nvSpPr>
        <p:spPr>
          <a:xfrm>
            <a:off x="428760" y="1197000"/>
            <a:ext cx="92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741240" y="260280"/>
            <a:ext cx="865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WordArt 5"/>
          <p:cNvSpPr txBox="1"/>
          <p:nvPr/>
        </p:nvSpPr>
        <p:spPr>
          <a:xfrm>
            <a:off x="1833480" y="260280"/>
            <a:ext cx="631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TextBox 7"/>
          <p:cNvSpPr/>
          <p:nvPr/>
        </p:nvSpPr>
        <p:spPr>
          <a:xfrm>
            <a:off x="631800" y="333360"/>
            <a:ext cx="87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262699"/>
                </a:solidFill>
                <a:latin typeface="Georgia"/>
              </a:rPr>
              <a:t>Вовлечение семьи в воспитательно–образовательный процесс способствует улучшению эмоционального  самочувствия детей, обогащению воспитательного опыта родителей, повышению их родительско-педагогической компетентности при подготовке дошколят к школ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1" name="Picture 17" descr="SDC11476"/>
          <p:cNvPicPr/>
          <p:nvPr/>
        </p:nvPicPr>
        <p:blipFill>
          <a:blip r:embed="rId3"/>
          <a:stretch/>
        </p:blipFill>
        <p:spPr>
          <a:xfrm>
            <a:off x="3440160" y="3068640"/>
            <a:ext cx="367344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704880" y="333360"/>
            <a:ext cx="8351640" cy="5911920"/>
          </a:xfrm>
          <a:prstGeom prst="rect">
            <a:avLst/>
          </a:prstGeom>
          <a:ln w="0">
            <a:noFill/>
          </a:ln>
        </p:spPr>
      </p:pic>
      <p:sp>
        <p:nvSpPr>
          <p:cNvPr id="593" name="WordArt 3"/>
          <p:cNvSpPr txBox="1"/>
          <p:nvPr/>
        </p:nvSpPr>
        <p:spPr>
          <a:xfrm>
            <a:off x="495360" y="1371600"/>
            <a:ext cx="3632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66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                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66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94" name="Picture 4" descr="dudka"/>
          <p:cNvPicPr/>
          <p:nvPr/>
        </p:nvPicPr>
        <p:blipFill>
          <a:blip r:embed="rId2"/>
          <a:stretch/>
        </p:blipFill>
        <p:spPr>
          <a:xfrm>
            <a:off x="272880" y="1484280"/>
            <a:ext cx="1756080" cy="20574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10"/>
          <p:cNvSpPr/>
          <p:nvPr/>
        </p:nvSpPr>
        <p:spPr>
          <a:xfrm>
            <a:off x="1352520" y="33336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Мы выделяем два основных направления с семьёй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TextBox 11"/>
          <p:cNvSpPr/>
          <p:nvPr/>
        </p:nvSpPr>
        <p:spPr>
          <a:xfrm>
            <a:off x="2289240" y="1773360"/>
            <a:ext cx="691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1. </a:t>
            </a:r>
            <a:r>
              <a:rPr b="1" lang="ru-RU" sz="2000" spc="-1" strike="noStrike">
                <a:solidFill>
                  <a:srgbClr val="262699"/>
                </a:solidFill>
                <a:latin typeface="Georgia"/>
              </a:rPr>
              <a:t>Повышение уровня педагогической компетентности родителей через родительские собрания, родительские уголки, папки – передвижки, групповые консультации, индивидуальные беседы, через интерне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704880" y="378936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2.  </a:t>
            </a:r>
            <a:r>
              <a:rPr b="1" lang="ru-RU" sz="2000" spc="-1" strike="noStrike">
                <a:solidFill>
                  <a:srgbClr val="262699"/>
                </a:solidFill>
                <a:latin typeface="Georgia"/>
              </a:rPr>
              <a:t>Привлечение родителей к работе детского сада посредством организации досуговых мероприят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TextBox 13"/>
          <p:cNvSpPr/>
          <p:nvPr/>
        </p:nvSpPr>
        <p:spPr>
          <a:xfrm>
            <a:off x="776160" y="5229360"/>
            <a:ext cx="66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Учитывая, что у взрослых в современном обществе нет лишнего времени работу стараемся организовывать компактной, но эффективно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WordArt 3"/>
          <p:cNvSpPr txBox="1"/>
          <p:nvPr/>
        </p:nvSpPr>
        <p:spPr>
          <a:xfrm>
            <a:off x="495360" y="1371600"/>
            <a:ext cx="3632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66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                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66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1" name="TextBox 9"/>
          <p:cNvSpPr/>
          <p:nvPr/>
        </p:nvSpPr>
        <p:spPr>
          <a:xfrm>
            <a:off x="776160" y="260280"/>
            <a:ext cx="849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сновные принципы организации работы с семьёй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TextBox 10"/>
          <p:cNvSpPr/>
          <p:nvPr/>
        </p:nvSpPr>
        <p:spPr>
          <a:xfrm>
            <a:off x="415800" y="1341360"/>
            <a:ext cx="914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-   Открытость детского сада для семьи (каждому родителю обеспечиваетс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возможность знать и видеть как живёт и развивается его ребёнок);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-   Сотрудничество педагогов и родителей в воспитании дет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-   Отсутствие формализма в организации работы с семьё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-   Создание активной развивающей среды, обеспечивающей едины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подходы к развитию личности в семье и детском коллектив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-   Диагностика  общих  и   частных  проблем  в  воспитании  и  развити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</a:rPr>
              <a:t>ребён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>
            <a:hlinkClick r:id="rId1"/>
          </p:cNvPr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WordArt 4"/>
          <p:cNvSpPr txBox="1"/>
          <p:nvPr/>
        </p:nvSpPr>
        <p:spPr>
          <a:xfrm>
            <a:off x="662040" y="260280"/>
            <a:ext cx="8972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2505240" y="1773360"/>
            <a:ext cx="990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Прямоугольник 4"/>
          <p:cNvSpPr/>
          <p:nvPr/>
        </p:nvSpPr>
        <p:spPr>
          <a:xfrm>
            <a:off x="849240" y="26028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Информация для родителе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Прямоугольник 14"/>
          <p:cNvSpPr/>
          <p:nvPr/>
        </p:nvSpPr>
        <p:spPr>
          <a:xfrm flipH="1" flipV="1">
            <a:off x="4550760" y="612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Рисунок 1" descr=""/>
          <p:cNvPicPr/>
          <p:nvPr/>
        </p:nvPicPr>
        <p:blipFill>
          <a:blip r:embed="rId3"/>
          <a:stretch/>
        </p:blipFill>
        <p:spPr>
          <a:xfrm>
            <a:off x="2360520" y="2001960"/>
            <a:ext cx="6553440" cy="406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9360">
            <a:solidFill>
              <a:srgbClr val="ffcccc"/>
            </a:solidFill>
            <a:miter/>
          </a:ln>
        </p:spPr>
      </p:pic>
      <p:sp>
        <p:nvSpPr>
          <p:cNvPr id="610" name="Text Box 268"/>
          <p:cNvSpPr/>
          <p:nvPr/>
        </p:nvSpPr>
        <p:spPr>
          <a:xfrm>
            <a:off x="2066760" y="6165720"/>
            <a:ext cx="343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WordArt 271"/>
          <p:cNvSpPr txBox="1"/>
          <p:nvPr/>
        </p:nvSpPr>
        <p:spPr>
          <a:xfrm>
            <a:off x="1130400" y="0"/>
            <a:ext cx="55814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12" name="TextBox 251"/>
          <p:cNvSpPr/>
          <p:nvPr/>
        </p:nvSpPr>
        <p:spPr>
          <a:xfrm flipH="1">
            <a:off x="4821120" y="817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10" descr="SDC12635"/>
          <p:cNvPicPr/>
          <p:nvPr/>
        </p:nvPicPr>
        <p:blipFill>
          <a:blip r:embed="rId4"/>
          <a:stretch/>
        </p:blipFill>
        <p:spPr>
          <a:xfrm>
            <a:off x="1639800" y="1557360"/>
            <a:ext cx="5977080" cy="460224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0452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Фотовыстав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5"/>
          <a:stretch/>
        </p:blipFill>
        <p:spPr>
          <a:xfrm>
            <a:off x="1639440" y="1557000"/>
            <a:ext cx="5977080" cy="453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95360" y="260280"/>
            <a:ext cx="9074160" cy="6175440"/>
          </a:xfrm>
          <a:prstGeom prst="rect">
            <a:avLst/>
          </a:prstGeom>
          <a:ln w="0">
            <a:noFill/>
          </a:ln>
        </p:spPr>
      </p:pic>
      <p:sp>
        <p:nvSpPr>
          <p:cNvPr id="617" name="WordArt 3"/>
          <p:cNvSpPr txBox="1"/>
          <p:nvPr/>
        </p:nvSpPr>
        <p:spPr>
          <a:xfrm>
            <a:off x="495360" y="1371600"/>
            <a:ext cx="3632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66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                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66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8" name="Прямоугольник 8"/>
          <p:cNvSpPr/>
          <p:nvPr/>
        </p:nvSpPr>
        <p:spPr>
          <a:xfrm>
            <a:off x="560520" y="26028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Georgia"/>
              </a:rPr>
              <a:t>Участие родителей воспитанников   в выставках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ыставка поделок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из природного материала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«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КАЗКА РЯДЫШКОМ ЖИВЁТ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Text Box 23"/>
          <p:cNvSpPr/>
          <p:nvPr/>
        </p:nvSpPr>
        <p:spPr>
          <a:xfrm>
            <a:off x="3368520" y="3645000"/>
            <a:ext cx="3168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Text Box 24"/>
          <p:cNvSpPr/>
          <p:nvPr/>
        </p:nvSpPr>
        <p:spPr>
          <a:xfrm>
            <a:off x="3224160" y="3789360"/>
            <a:ext cx="345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КТЯБРЬ 2016г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Рисунок 1" descr=""/>
          <p:cNvPicPr/>
          <p:nvPr/>
        </p:nvPicPr>
        <p:blipFill>
          <a:blip r:embed="rId2"/>
          <a:stretch/>
        </p:blipFill>
        <p:spPr>
          <a:xfrm>
            <a:off x="560520" y="1601640"/>
            <a:ext cx="3151080" cy="203040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" descr=""/>
          <p:cNvPicPr/>
          <p:nvPr/>
        </p:nvPicPr>
        <p:blipFill>
          <a:blip r:embed="rId3"/>
          <a:stretch/>
        </p:blipFill>
        <p:spPr>
          <a:xfrm>
            <a:off x="3776760" y="1612800"/>
            <a:ext cx="2798640" cy="202428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3" descr=""/>
          <p:cNvPicPr/>
          <p:nvPr/>
        </p:nvPicPr>
        <p:blipFill>
          <a:blip r:embed="rId4"/>
          <a:stretch/>
        </p:blipFill>
        <p:spPr>
          <a:xfrm>
            <a:off x="6783480" y="1638360"/>
            <a:ext cx="2786040" cy="203688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4" descr=""/>
          <p:cNvPicPr/>
          <p:nvPr/>
        </p:nvPicPr>
        <p:blipFill>
          <a:blip r:embed="rId5"/>
          <a:stretch/>
        </p:blipFill>
        <p:spPr>
          <a:xfrm>
            <a:off x="1832040" y="4375080"/>
            <a:ext cx="2784240" cy="206064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5" descr=""/>
          <p:cNvPicPr/>
          <p:nvPr/>
        </p:nvPicPr>
        <p:blipFill>
          <a:blip r:embed="rId6"/>
          <a:stretch/>
        </p:blipFill>
        <p:spPr>
          <a:xfrm>
            <a:off x="5504040" y="4295880"/>
            <a:ext cx="256032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">
            <a:hlinkClick r:id="rId1"/>
          </p:cNvPr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62040" y="404640"/>
            <a:ext cx="8539200" cy="5400720"/>
          </a:xfrm>
          <a:prstGeom prst="rect">
            <a:avLst/>
          </a:prstGeom>
          <a:ln w="0">
            <a:noFill/>
          </a:ln>
        </p:spPr>
      </p:pic>
      <p:sp>
        <p:nvSpPr>
          <p:cNvPr id="627" name="WordArt 4"/>
          <p:cNvSpPr txBox="1"/>
          <p:nvPr/>
        </p:nvSpPr>
        <p:spPr>
          <a:xfrm>
            <a:off x="662040" y="260280"/>
            <a:ext cx="8972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2505240" y="1773360"/>
            <a:ext cx="990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Прямоугольник 4"/>
          <p:cNvSpPr/>
          <p:nvPr/>
        </p:nvSpPr>
        <p:spPr>
          <a:xfrm>
            <a:off x="849240" y="26028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онкурс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делок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«Букет для Снегурочки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Прямоугольник 14"/>
          <p:cNvSpPr/>
          <p:nvPr/>
        </p:nvSpPr>
        <p:spPr>
          <a:xfrm flipH="1" flipV="1">
            <a:off x="4550760" y="612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Рисунок 1" descr=""/>
          <p:cNvPicPr/>
          <p:nvPr/>
        </p:nvPicPr>
        <p:blipFill>
          <a:blip r:embed="rId3"/>
          <a:stretch/>
        </p:blipFill>
        <p:spPr>
          <a:xfrm>
            <a:off x="1857240" y="1557360"/>
            <a:ext cx="4789800" cy="3592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2:42:22Z</dcterms:created>
  <dc:creator>Оператор</dc:creator>
  <dc:description/>
  <dc:language>en-US</dc:language>
  <cp:lastModifiedBy>Иннокентий Малахов</cp:lastModifiedBy>
  <dcterms:modified xsi:type="dcterms:W3CDTF">2018-03-30T19:04:21Z</dcterms:modified>
  <cp:revision>317</cp:revision>
  <dc:subject/>
  <dc:title>Презентация PowerPoint</dc:title>
</cp:coreProperties>
</file>