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907588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799920" y="728640"/>
            <a:ext cx="525780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7974-8C8F-4DA5-9310-F24B3B3B3C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88BA-FFC8-4A33-90B2-F3D9F5E6F7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2A34-0781-4073-859B-90EFD56437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D5F7-1835-484C-B799-C8198B1476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24F9-8D47-434C-B0BF-BBD9FEB6FE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5479-A21A-4A5F-997D-937FCD1C06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573-D71C-47A6-A24C-09FA7453D5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710D-9564-4AAF-9ACF-8341A08723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B42E-41FE-4173-86ED-6111CB2A2E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096-9412-43B4-B54C-7569CB00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090-956A-452E-B594-50DD71FF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FC0A5-8E8F-4E1D-8496-A2DECDBC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1FEFB-D791-4610-B115-71A6FD95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BBC9B-D42C-464E-B07F-AFECC44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9EE91-BD91-4F96-BDB3-7D34381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8888A-27F6-42ED-94C0-72D59DF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3B811-DF8A-4BDA-9286-DB6E45C6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0B99D-2E4B-43F1-BF61-42C6E4E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43D9D-BFA2-43FD-8448-DA99D5E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6F4FD-792F-4776-BA5F-15A69501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E1B38-C8F0-4086-9261-AEB06038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354-AF5E-4877-973E-46546B8E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3AF92-B654-4EC4-A9EC-5CED6BAD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142D8-64B5-4ECC-9A39-C661AC6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A0098-C028-44D5-BABA-2CD34306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E56DF-A8B7-45D5-B72E-7542BA29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25A7D-CAC9-4D1F-AB34-D6BD9A90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BAB16-EDF2-496A-87F7-7E07017B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ABB13-8A59-48C5-87DC-F277168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FA855-B050-490E-BF92-D4A8D95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BB16D-B680-4E23-B836-1CA14A99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1B1E3-1ADB-4BDD-A86B-0713BD0D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3E9-FFCE-4D5A-ADEA-22559857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2EEB5-74DC-4140-9606-F53F57BD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CE17D-68E7-4E44-AA87-D4E210BE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0F605-D5CC-4D64-B2E0-C3580E85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266A3-9F61-41E8-BEE1-00204B0D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9B9C-C8D8-425D-81C8-FECBABB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38C24-07D1-4620-91DD-D477D835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CF218-8C3C-454F-AACD-77155BFD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64040-5B73-49C2-B33C-6358FC3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81B23-7EA8-482B-BEE1-069BB22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483EC-F193-4DE7-9B62-0BDF45FF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AD9A-8DC1-42E9-9431-661455F6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CB621-C97F-48DC-B261-5616D40A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0C147-CAD6-4767-AC01-DA59A395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05628-AE75-4812-9616-5A9E6F84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81C13-EC86-412F-B3FD-E3538E34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66B7C-89A0-4D96-A9CD-FD72197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FA111-FD66-4814-B5FD-F7FA1404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C4B4C-039A-42F0-A310-9CF292A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2F607-FD6F-48B2-BA1C-E61047F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FE773-3C39-429A-B73E-3C39141F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77306-B283-4FD7-B156-02315D2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DFE5-7657-4FEE-A04C-A15E7B60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2694A-B8F0-43CF-BC8B-8C0B668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E6E2E-4A9C-4D7E-B25D-691F8CE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A8880-C710-4AB3-A882-354014D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2A0AF-5FB1-4BC5-BB92-17DDF54A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26393-7A1F-402B-A573-AD7F64A9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ADB2F-F864-4CEE-A716-16A02157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F6AE3-20E5-471E-AC6E-402E810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25AFB-D058-4D35-A7C8-182FF786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51F8E-9199-430C-8FE3-6B9D663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AC5D4-38AE-4E6C-A125-EA674C16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8ECF-133A-4640-AE86-D6EA9D43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948B8-3E80-406D-A414-B57BF2C3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40D71-72DA-4E4F-8CB7-903D9A2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AFE92-98F3-4148-A1D0-E609BFBF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ED34A-017A-4591-A34B-5079FBD8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18226-2977-4FF9-8C1D-3C300B53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F8524-0DE9-4DCB-9CD6-3E247032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0874A-733F-454B-980F-053D119E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182F7-C4A3-46ED-B521-10DCE418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70691-3852-4BA7-B948-F4703C83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67AFD-D1AE-4195-9FD3-4EAFC61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4C8D-F3C5-4994-8BCC-994D756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501ED-833E-4807-A9B0-C735B2B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48A2F-9F7F-4D60-B08B-F493530A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66814-9E41-4738-8E23-641CC4D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5E354-12FF-4104-8069-59A61F7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54215-0AD3-40E2-B84D-3632F99A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6BA95-12AE-4565-B1EC-C638D74C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AC640-BCD0-46E5-B3CE-9738694B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01DF9-EEEF-4135-9CDA-8FC858C2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A242A-0C10-4C2C-9231-8AE438C4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596C-F8F1-48D1-BEC9-BA5AF755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8368-CF10-4CE8-B7A4-FA1E3FD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78D-67B1-4201-BA3D-D7F8ADE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504-19AE-4D28-AD5A-DC8951A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C953-124A-46DE-BA1E-0BE3EDB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0378-F920-4235-8D7C-86CA8045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CD5-7BDE-4706-A6EF-38571B6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1F38-0DE5-42A8-A288-E75598AE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30F9-BFED-40BD-98B6-533FC885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5810-D4DC-4C9D-AA26-568A2AD4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0234-92C4-43B9-BC17-15B5EC5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B673-2884-44FD-BF73-F6A83ACE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4CF2-2FA3-4611-A380-852A5154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15CB-2A25-4BE7-9EDC-88D01352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63D-2B59-45F1-AE0B-46CD768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8424-8146-4741-91F5-317B2616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8599-E068-499C-A9BF-DBA5050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5A15-A907-4CD0-A015-88B9779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6730-E141-4209-AACE-BB429BB3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E20D-8388-4E5F-BF23-B92D0F2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D843-B833-4DC5-A224-A1308C9C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F72F-6A4E-4D2F-B448-D852B591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C6F0-328A-46B3-892A-0643430A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BF4B-6AD2-4587-BAB2-90067580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5D6D-B025-4890-A0BB-F47488C2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7D6-5ACC-4A6F-9601-8C42093A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3CD0-B3CD-42DA-9129-CD4BFC61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363B-D1E8-4378-AEE5-5A8FC6F8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0851-B2EC-4AAD-95A4-B300D754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CD1A-00BA-4037-95A8-23F1132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97F5-46D1-4D36-B280-9A7D7E5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07D4-E6EF-45B1-A721-5857A42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17AF-B0BC-4E50-822F-744E075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69A1-186B-4D5A-A4A5-663A5A71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00C7-7B50-4B67-A4D4-4ABB3D97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EE4B-09D0-47E6-A3A5-120763FD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C1C-F483-4DA2-9B16-61247C09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3775-C24B-46C7-A3DA-72CB4CBF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6B8D-D398-4AF2-824D-E1B09027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59157-70F3-4314-81D2-2589FC7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4AD3-583B-482E-9CDF-BB8775D5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257C-6333-4C2B-9287-FB37BA95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008A-466F-4009-B802-0BB91A1D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55D7A-713B-41BD-BED0-D7DC3181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981CE-1408-4FD4-8D66-C962892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0CACA-1F60-49F9-8573-0AE5ED9D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82E0-D0AA-4829-85A8-505C0F77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A8F-5238-4CAC-B416-C80356F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3B4E-91F8-4923-8ECF-017A63B4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C7C0F-FE6A-42CE-957A-494E4AD4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A3F9-8B15-44F7-9AC2-EF66BF2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61011-7427-463F-871D-33D77C54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D5D0-3E1F-45CF-B9B3-38C1D21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0C20-D1AF-46EE-AC4B-B76C3553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FCB1B-9FF1-438D-8338-357A51FD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CAD4-35B7-42F7-8A45-D1789DB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9C3D1-8AAE-41F0-B444-66636B8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9AF9-0A28-4412-879B-90D51DA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D42-3381-4F2E-A961-CCF9977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1CB2-1A11-4570-A8A6-3652D6F5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CAE11-9557-4C66-807E-E82F060B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5A012-1F3B-470E-8321-54C41EA0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932B-B5CC-40E3-BA52-BD87805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D8623-7A50-4B20-935B-F82BA93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7C0E7-38DC-41F5-982F-CA6D07E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5ABA-C96D-4C64-9E23-3352B15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F4807-326C-4EFF-8392-A32E24B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0CF44-FD26-40D8-98C7-1554CD3B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6B1B5-04AE-434B-BFEF-CBB0D52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93E-7DC3-4C1E-B8CB-7C9535F7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87D7-50B8-49A1-986F-89FBB92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EBE5-46C7-4726-838E-3A8BE44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13B8-D380-42A5-8E1A-DF9EA3FF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3C17-D83B-4EBF-AFA3-7521EDC5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0CC9-6138-4C37-BFB0-14A3F171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429D-FF3A-4C6B-B392-2EFB33DC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3575-0AB4-42F2-936C-B047C174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7CADA-502B-4B4B-A3E5-C99F3A0A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498AA-D005-49EA-9EDC-BBC3828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7C1B4-E3E7-4D43-BF03-D626580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19B-2FCA-4594-806D-DEE7F26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F367-0956-4977-96FD-D0D9C95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F0E99-2A24-4DC4-9F81-E56089E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C471C-0D5E-4434-9607-2194C722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54ED-8A11-46F8-8153-BBF42E3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204A9-1E7C-40AC-8C77-6BB80DC1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7C737-985E-4F91-A24E-9778C65D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CEB67-525A-41F1-AD6F-DF8857ED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91FA9-3F3E-43E6-8712-697CF867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46D20-FDAA-4ECA-BBE8-D2B496BC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BCC75-8335-4065-BD64-7FA41FDE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A388-C120-46BD-A76E-DBC870B77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ADC1-6319-48FD-9BF1-8147308C48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97D7-A101-4A5C-8C9A-1950D4B98B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2D21-9869-49B4-B364-3E66032F6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74B7-BB44-4B9B-8061-435883E175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FAB4-71CB-4954-914B-D8E62942DB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EE0C-C118-4432-8763-95AFB82ED4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661-ED85-47E3-9AE0-6184B67403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F2D6-8CE1-4EA0-8F60-0565D7619C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078A-5F64-4BA3-88A6-B7939EB42E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D762-BF34-47EE-BE6F-BCDBF74FA3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6F8-9422-4BB0-8051-9040B7F7C7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1DA9-36B3-4CF8-81F8-3C3171F797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97EB-EB9C-41FB-B00F-3D3E535C8B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5"/>
          <p:cNvSpPr/>
          <p:nvPr/>
        </p:nvSpPr>
        <p:spPr>
          <a:xfrm>
            <a:off x="428760" y="1725480"/>
            <a:ext cx="92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741240" y="260280"/>
            <a:ext cx="865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4" name="WordArt 8" descr=""/>
          <p:cNvPicPr/>
          <p:nvPr/>
        </p:nvPicPr>
        <p:blipFill>
          <a:blip r:embed="rId3"/>
          <a:stretch/>
        </p:blipFill>
        <p:spPr>
          <a:xfrm>
            <a:off x="1719360" y="1773360"/>
            <a:ext cx="6486480" cy="3395520"/>
          </a:xfrm>
          <a:prstGeom prst="rect">
            <a:avLst/>
          </a:prstGeom>
          <a:ln w="0">
            <a:noFill/>
          </a:ln>
        </p:spPr>
      </p:pic>
      <p:sp>
        <p:nvSpPr>
          <p:cNvPr id="585" name="Прямоугольник 1"/>
          <p:cNvSpPr/>
          <p:nvPr/>
        </p:nvSpPr>
        <p:spPr>
          <a:xfrm>
            <a:off x="2216160" y="595008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3333cc"/>
                </a:solidFill>
                <a:latin typeface="Arial"/>
              </a:rPr>
              <a:t>Выполнила</a:t>
            </a:r>
            <a:r>
              <a:rPr b="1" i="1" lang="ru-RU" sz="1000" spc="-1" strike="noStrike">
                <a:solidFill>
                  <a:srgbClr val="3333cc"/>
                </a:solidFill>
                <a:latin typeface="Georgia"/>
              </a:rPr>
              <a:t>: воспитатель Малахова Галина Александровна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5"/>
          <p:cNvSpPr/>
          <p:nvPr/>
        </p:nvSpPr>
        <p:spPr>
          <a:xfrm>
            <a:off x="428760" y="1197000"/>
            <a:ext cx="92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741240" y="260280"/>
            <a:ext cx="865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1833480" y="260280"/>
            <a:ext cx="631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TextBox 7"/>
          <p:cNvSpPr/>
          <p:nvPr/>
        </p:nvSpPr>
        <p:spPr>
          <a:xfrm>
            <a:off x="631800" y="333360"/>
            <a:ext cx="87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Вовлечение семьи в воспитательно–образовательный процесс способствует улучшению эмоционального  самочувствия детей, обогащению воспитательного опыта родителей, повышению их родительско-педагогической компетентности при подготовке дошколят к школ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icture 17" descr="SDC11476"/>
          <p:cNvPicPr/>
          <p:nvPr/>
        </p:nvPicPr>
        <p:blipFill>
          <a:blip r:embed="rId3"/>
          <a:stretch/>
        </p:blipFill>
        <p:spPr>
          <a:xfrm>
            <a:off x="3440160" y="3068640"/>
            <a:ext cx="367344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704880" y="333360"/>
            <a:ext cx="8351640" cy="5911920"/>
          </a:xfrm>
          <a:prstGeom prst="rect">
            <a:avLst/>
          </a:prstGeom>
          <a:ln w="0">
            <a:noFill/>
          </a:ln>
        </p:spPr>
      </p:pic>
      <p:sp>
        <p:nvSpPr>
          <p:cNvPr id="593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4" name="Picture 4" descr="dudka"/>
          <p:cNvPicPr/>
          <p:nvPr/>
        </p:nvPicPr>
        <p:blipFill>
          <a:blip r:embed="rId2"/>
          <a:stretch/>
        </p:blipFill>
        <p:spPr>
          <a:xfrm>
            <a:off x="272880" y="1484280"/>
            <a:ext cx="1756080" cy="20574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10"/>
          <p:cNvSpPr/>
          <p:nvPr/>
        </p:nvSpPr>
        <p:spPr>
          <a:xfrm>
            <a:off x="1352520" y="33336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Мы выделяем два основных направления с семьёй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2289240" y="1773360"/>
            <a:ext cx="691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1.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Повышение уровня педагогической компетентности родителей через родительские собрания, родительские уголки, папки – передвижки, групповые консультации, индивидуальные беседы, через интерне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704880" y="378936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2. 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Привлечение родителей к работе детского сада посредством организации досуговых мероприят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776160" y="522936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Учитывая, что у взрослых в современном обществе нет лишнего времени работу стараемся организовывать компактной, но эффективно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776160" y="260280"/>
            <a:ext cx="849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сновные принципы организации работы с семьё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TextBox 10"/>
          <p:cNvSpPr/>
          <p:nvPr/>
        </p:nvSpPr>
        <p:spPr>
          <a:xfrm>
            <a:off x="415800" y="1341360"/>
            <a:ext cx="914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Открытость детского сада для семьи (каждому родителю обеспечиваетс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возможность знать и видеть как живёт и развивается его ребёнок);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Сотрудничество педагогов и родителей в воспитании дет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Отсутствие формализма в организации работы с семьё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Создание активной развивающей среды, обеспечивающей едины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подходы к развитию личности в семье и детском коллектив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Диагностика  общих  и   частных  проблем  в  воспитании  и  развит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ребён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WordArt 4"/>
          <p:cNvSpPr txBox="1"/>
          <p:nvPr/>
        </p:nvSpPr>
        <p:spPr>
          <a:xfrm>
            <a:off x="662040" y="260280"/>
            <a:ext cx="8972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505240" y="1773360"/>
            <a:ext cx="990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Прямоугольник 4"/>
          <p:cNvSpPr/>
          <p:nvPr/>
        </p:nvSpPr>
        <p:spPr>
          <a:xfrm>
            <a:off x="849240" y="26028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Информация для родител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Прямоугольник 14"/>
          <p:cNvSpPr/>
          <p:nvPr/>
        </p:nvSpPr>
        <p:spPr>
          <a:xfrm flipH="1" flipV="1">
            <a:off x="4550760" y="612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1" descr=""/>
          <p:cNvPicPr/>
          <p:nvPr/>
        </p:nvPicPr>
        <p:blipFill>
          <a:blip r:embed="rId3"/>
          <a:stretch/>
        </p:blipFill>
        <p:spPr>
          <a:xfrm>
            <a:off x="2360520" y="2001960"/>
            <a:ext cx="655344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9360">
            <a:solidFill>
              <a:srgbClr val="ffcccc"/>
            </a:solidFill>
            <a:miter/>
          </a:ln>
        </p:spPr>
      </p:pic>
      <p:sp>
        <p:nvSpPr>
          <p:cNvPr id="610" name="Text Box 268"/>
          <p:cNvSpPr/>
          <p:nvPr/>
        </p:nvSpPr>
        <p:spPr>
          <a:xfrm>
            <a:off x="2066760" y="6165720"/>
            <a:ext cx="343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WordArt 271"/>
          <p:cNvSpPr txBox="1"/>
          <p:nvPr/>
        </p:nvSpPr>
        <p:spPr>
          <a:xfrm>
            <a:off x="1130400" y="0"/>
            <a:ext cx="5581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12" name="TextBox 251"/>
          <p:cNvSpPr/>
          <p:nvPr/>
        </p:nvSpPr>
        <p:spPr>
          <a:xfrm flipH="1">
            <a:off x="4821120" y="817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10" descr="SDC12635"/>
          <p:cNvPicPr/>
          <p:nvPr/>
        </p:nvPicPr>
        <p:blipFill>
          <a:blip r:embed="rId4"/>
          <a:stretch/>
        </p:blipFill>
        <p:spPr>
          <a:xfrm>
            <a:off x="1639800" y="1557360"/>
            <a:ext cx="5977080" cy="46022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0452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Фотовыста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1639440" y="1557000"/>
            <a:ext cx="5977080" cy="453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95360" y="260280"/>
            <a:ext cx="9074160" cy="6175440"/>
          </a:xfrm>
          <a:prstGeom prst="rect">
            <a:avLst/>
          </a:prstGeom>
          <a:ln w="0">
            <a:noFill/>
          </a:ln>
        </p:spPr>
      </p:pic>
      <p:sp>
        <p:nvSpPr>
          <p:cNvPr id="617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8" name="Прямоугольник 8"/>
          <p:cNvSpPr/>
          <p:nvPr/>
        </p:nvSpPr>
        <p:spPr>
          <a:xfrm>
            <a:off x="560520" y="26028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Участие родителей воспитанников   в выставках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ыставка поделок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из природного материала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АЗКА РЯДЫШКОМ ЖИВЁТ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 Box 23"/>
          <p:cNvSpPr/>
          <p:nvPr/>
        </p:nvSpPr>
        <p:spPr>
          <a:xfrm>
            <a:off x="3368520" y="3645000"/>
            <a:ext cx="3168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3224160" y="3789360"/>
            <a:ext cx="345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КТЯБРЬ 2016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1" descr=""/>
          <p:cNvPicPr/>
          <p:nvPr/>
        </p:nvPicPr>
        <p:blipFill>
          <a:blip r:embed="rId2"/>
          <a:stretch/>
        </p:blipFill>
        <p:spPr>
          <a:xfrm>
            <a:off x="560520" y="1601640"/>
            <a:ext cx="3151080" cy="203040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" descr=""/>
          <p:cNvPicPr/>
          <p:nvPr/>
        </p:nvPicPr>
        <p:blipFill>
          <a:blip r:embed="rId3"/>
          <a:stretch/>
        </p:blipFill>
        <p:spPr>
          <a:xfrm>
            <a:off x="3776760" y="1612800"/>
            <a:ext cx="2798640" cy="202428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3" descr=""/>
          <p:cNvPicPr/>
          <p:nvPr/>
        </p:nvPicPr>
        <p:blipFill>
          <a:blip r:embed="rId4"/>
          <a:stretch/>
        </p:blipFill>
        <p:spPr>
          <a:xfrm>
            <a:off x="6783480" y="1638360"/>
            <a:ext cx="2786040" cy="203688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4" descr=""/>
          <p:cNvPicPr/>
          <p:nvPr/>
        </p:nvPicPr>
        <p:blipFill>
          <a:blip r:embed="rId5"/>
          <a:stretch/>
        </p:blipFill>
        <p:spPr>
          <a:xfrm>
            <a:off x="1832040" y="4375080"/>
            <a:ext cx="2784240" cy="20606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5" descr=""/>
          <p:cNvPicPr/>
          <p:nvPr/>
        </p:nvPicPr>
        <p:blipFill>
          <a:blip r:embed="rId6"/>
          <a:stretch/>
        </p:blipFill>
        <p:spPr>
          <a:xfrm>
            <a:off x="5504040" y="4295880"/>
            <a:ext cx="256032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62040" y="404640"/>
            <a:ext cx="8539200" cy="5400720"/>
          </a:xfrm>
          <a:prstGeom prst="rect">
            <a:avLst/>
          </a:prstGeom>
          <a:ln w="0">
            <a:noFill/>
          </a:ln>
        </p:spPr>
      </p:pic>
      <p:sp>
        <p:nvSpPr>
          <p:cNvPr id="627" name="WordArt 4"/>
          <p:cNvSpPr txBox="1"/>
          <p:nvPr/>
        </p:nvSpPr>
        <p:spPr>
          <a:xfrm>
            <a:off x="662040" y="260280"/>
            <a:ext cx="8972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505240" y="1773360"/>
            <a:ext cx="990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849240" y="26028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онкурс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делок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«Букет для Снегурочки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Прямоугольник 14"/>
          <p:cNvSpPr/>
          <p:nvPr/>
        </p:nvSpPr>
        <p:spPr>
          <a:xfrm flipH="1" flipV="1">
            <a:off x="4550760" y="612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1" descr=""/>
          <p:cNvPicPr/>
          <p:nvPr/>
        </p:nvPicPr>
        <p:blipFill>
          <a:blip r:embed="rId3"/>
          <a:stretch/>
        </p:blipFill>
        <p:spPr>
          <a:xfrm>
            <a:off x="1857240" y="1557360"/>
            <a:ext cx="4789800" cy="3592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2:42:22Z</dcterms:created>
  <dc:creator>Оператор</dc:creator>
  <dc:description/>
  <dc:language>en-US</dc:language>
  <cp:lastModifiedBy>Иннокентий Малахов</cp:lastModifiedBy>
  <dcterms:modified xsi:type="dcterms:W3CDTF">2018-03-30T19:04:21Z</dcterms:modified>
  <cp:revision>317</cp:revision>
  <dc:subject/>
  <dc:title>Презентация PowerPoint</dc:title>
</cp:coreProperties>
</file>