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BCC-C7BE-49F6-9DFD-C9D42A1200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17E-AC21-4DD6-B5EA-874D1A73B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B4DE-B75D-4211-BFE7-2634FB34F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AD8-E156-4FAA-8742-C91A03A0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814-BCE1-4132-9221-C125C4C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F3E-7918-4354-83EC-B2E47837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D5B-DFEE-4D45-80DF-7633C7F4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5ED0-0A63-4C3C-B66C-7EC8B1CD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7A5-FE68-4354-8319-8E7FEC9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7FE2-7C4F-4C09-A234-02E92049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8D06-C5C8-471E-870D-1D2E7BA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1BF8-2EBA-424D-9A15-CB374E89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8C27-353E-4A22-A1F6-F3F72585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A5C0-418D-42BA-9D08-77CAA4B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D3D-7FD9-4FDD-A91B-2750341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6455-C797-4BE1-8FAA-7B51695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4A3B-88D6-4184-9EBA-63DD5A0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C40D-2D8C-4FF0-9191-CF2F09DC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A5E-888B-4ADC-85A4-D1B42AF7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5D7A-2A88-4676-920B-00D2C96C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D49F-488A-40AF-8C2C-B2926319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BE5D-3333-412B-88AE-A883350E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E8C2-F45E-4D11-85A1-4B1D8EF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4E76-FF8E-439F-A1E1-BC7A7116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6485-802A-4B2E-991D-A7784DC1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8B7-8BFD-44CF-B0F8-6AF5A62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8D3E-BB48-4777-938F-191B850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B17F-2FC8-4D9C-A55C-0297071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D89E-EAB3-48DA-989E-A816C12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E454-7DD4-4D0B-A721-CA979C8D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64FC-7C9B-416C-BD2B-6E46164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35F7-D251-4F65-B314-4CD140C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045D-2637-48BC-BB5E-3970C7F1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14D5-3ABA-4564-8F68-1F236053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8D53-AC82-46AD-816B-D43C1981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C877-B0E3-4B04-B39F-1CEE471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BF0-DC59-4896-B9CE-862FB979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BBE8-C34A-4C47-AAAB-7B23B11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A9FC-12E7-46C6-BCA3-7BDF84B8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BC1D-33CE-473D-8AD7-44D5EEE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F51A-E16C-4A8C-8323-5CFD933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7D90-E876-48C4-ACE5-C3FF659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168F-4B58-44DD-B9CC-EF09AF0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4BFC-5A3E-4298-B9AA-F3F05D3A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A168-C3E9-4EBB-88BC-6C031893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3CA2-57E9-44E9-BD2D-E7E2A80C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BD3D-6F1C-43B3-A712-7A53CF9E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049-31A1-43D8-A739-85B4A6B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F6A3-2CE1-41FB-9D12-08CFE14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DC24-F283-47D5-A913-E0990A5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6D0C-FD32-4195-81AE-9D30B02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2FE6-B190-486E-BBAD-320033B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AEC6-7F0D-4FF6-97EE-538F7E24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26EF-ED47-45D4-83E5-1300939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B50C-C9C9-4CBB-8819-B129A60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528E-6CEB-437A-A0CA-F127A6C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A8D2-F02F-477E-B413-2EE4C06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B4E1-AB6A-44B1-A3D3-3EDCBBEE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0B7-DD56-4D44-9E1B-6A91A538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6699A-09AE-4DC6-AFE6-7D02125D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43B-1A8A-4F33-AC6E-3D11904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713-7163-4FCA-A65B-02690E87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A6A-6655-43E8-B46E-FE3E890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21A-46DC-4B20-B26B-FAFC2C4ACDC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0A50-2591-4D26-800B-2C4F4CDEFC2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2484-C429-484A-9BBC-2D552A4835A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0D5-6C64-47C2-95D2-75CC206E5CD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A910-43AA-43EB-881E-02CD23F12A6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4" descr=""/>
          <p:cNvPicPr/>
          <p:nvPr/>
        </p:nvPicPr>
        <p:blipFill>
          <a:blip r:embed="rId1"/>
          <a:stretch/>
        </p:blipFill>
        <p:spPr>
          <a:xfrm>
            <a:off x="2766960" y="706320"/>
            <a:ext cx="6516720" cy="265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j.aleksandrova\Documents\site\166732258.jpg"/>
          <p:cNvPicPr/>
          <p:nvPr/>
        </p:nvPicPr>
        <p:blipFill>
          <a:blip r:embed="rId2"/>
          <a:stretch/>
        </p:blipFill>
        <p:spPr>
          <a:xfrm>
            <a:off x="2843280" y="3646440"/>
            <a:ext cx="6154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ньше было легч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ли билеты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ньше знали что будет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сейчас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Горизонтальный свиток 5"/>
          <p:cNvSpPr/>
          <p:nvPr/>
        </p:nvSpPr>
        <p:spPr>
          <a:xfrm>
            <a:off x="376200" y="0"/>
            <a:ext cx="8539200" cy="1332000"/>
          </a:xfrm>
          <a:prstGeom prst="horizontalScroll">
            <a:avLst>
              <a:gd name="adj" fmla="val 12500"/>
            </a:avLst>
          </a:prstGeom>
          <a:solidFill>
            <a:srgbClr val="f9b639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Направления по подготовке учащихся к ОГЭ и ЕГ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2"/>
          <a:stretch/>
        </p:blipFill>
        <p:spPr>
          <a:xfrm>
            <a:off x="334800" y="1401840"/>
            <a:ext cx="8491680" cy="5211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5214960" y="342900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гностика и анализ качества знаний обучающихся при подготовке к 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7"/>
          <p:cNvSpPr/>
          <p:nvPr/>
        </p:nvSpPr>
        <p:spPr>
          <a:xfrm>
            <a:off x="5214960" y="40719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обучающихся при подготовке к 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5143680" y="207180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ет учить «технике сдачи экзамен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5143680" y="5072040"/>
            <a:ext cx="400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Если вы хотите научиться плавать, то смело входите в воду, а если хотите научиться решать задачи, то решайте и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овременное»  традиционное обуч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обходимо целенаправленно готовить учащихся к такому виду экзамена начиная с первых уро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заданий к теории (повтор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(объяснение-разбор-востановление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хнология сотрудниче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воим лучше, чем одному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КТ технолог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5:17:39Z</dcterms:created>
  <dc:creator>Бедаш Н.Н.</dc:creator>
  <dc:description/>
  <dc:language>en-US</dc:language>
  <cp:lastModifiedBy>адми</cp:lastModifiedBy>
  <dcterms:modified xsi:type="dcterms:W3CDTF">2018-03-30T05:17:48Z</dcterms:modified>
  <cp:revision>65</cp:revision>
  <dc:subject/>
  <dc:title>роль урока в системе подготовки к ЕГЭ</dc:title>
</cp:coreProperties>
</file>