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8304-09D7-4F65-9963-895396FE50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B1E5-5D3D-47E9-ACC6-067FAF18C7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6A74-D2E3-4928-B00A-19DC5A4502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4F6-1A9A-4279-A9DD-0E0CE1F9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213-3CED-4FAA-8C53-4FB7C045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9EC-7B60-44DF-A704-89275C7F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07A-C4EB-45DF-91AD-14949754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9B9A-3AE9-43C2-9D33-CB6148EA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0417-ED76-4C14-8C36-9AA8C29D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5985-E1D3-4337-BC7C-1DBFA20C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5F78-69BF-42FC-B92C-960918B8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0B92-2A31-4973-BF89-3E8DD61B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3C6A-8AD9-4DDA-9876-20DD79F3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C80E-08A2-4A1F-B63E-3DCF5E27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092-4F58-48B5-A5D9-8A4A569A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EEED-89A1-4AAA-89F7-05651D5A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6526-ABB9-466D-B4ED-29AA8413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C9BB-634A-4E20-9960-EA1C6E1F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B6E7-82C5-47F0-B284-4BB92D68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00E9-CD48-4B0A-BAC2-54164B04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A780-2635-44DA-9247-2B883538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8B61-33A6-4DF9-966C-CB4A218E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9AE3-3281-48D1-8058-97270983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8C1D-1726-4A30-BD99-9BDFBB7A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AB9E4-6BDB-454B-8684-8AC1D81E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214-9D7F-4289-8328-F7F35E62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A662-D918-4BDA-B9F8-EBF21525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681D8-E259-432B-BA02-CA57A2EE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23D8-3179-452F-A1B1-CB0928BC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41F56-8763-4CAD-B832-AA87A17F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7B3F-09E7-48E3-A068-03E78B30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397BF-FA43-4F98-918A-D5B58D1B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543EF-9791-4E3B-A110-479C0FF5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AA6A-FEA1-4EC2-8690-CD29CD89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819D1-5297-478E-B206-37DDE6A8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33F6-2A1D-465D-BDAF-88B8C987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336-F6B0-4BBD-A041-31828039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5667-2224-4EDC-A5A9-BED34D25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F311-7AA1-4BC4-A2A2-5E3F6B16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4CA40-D5A5-40E4-916F-66A05734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ED54-0A8F-42D7-A856-D734AA2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1C3AF-B759-44D0-A168-342BB526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6ECC-E67C-4311-8404-330E24DE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F7A1-DF10-4552-806E-C3400924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4AC5B-3605-4220-ADEC-3C8355B5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7114F-DF32-41CF-B0C5-E6C1CC9D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40C95-D887-4730-BC2C-9C49330D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0AA-00E5-40C7-B85D-C03E888E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E28E5-F9FB-4414-A856-AEBE5780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90250-92F4-45BB-897C-A5EC0426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8C057-A8A7-4311-B954-66332FBD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8D69C-773A-4B77-B6BE-69D66BE4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814FB-2359-4A63-AF09-6BC440BD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7D8B-1C2F-4C0F-AF86-49E9F74D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38CDF-7AA6-4B40-BC2C-81E69CB9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5C8A9-27A5-4BDC-8F0F-C6C02DA2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356DC-77C0-4B59-A026-C146986E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AFE71-4988-4BB6-854E-45A061E0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15E-CF80-4C8F-9A8D-961ED1CB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209CF-5359-4A87-A4F8-A1A67343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210-1994-4760-9432-0982EE3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B44-0264-4B36-8B65-5F7C6658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705-21DF-4F09-BE94-A32DA4AE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5E47-1645-4928-A9EB-BFC08DE4EDE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2114-EA87-47D9-9C9C-FB9B1AFFBA7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5A75-724B-42EE-8B0D-FD5A4C9C295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90AA-60C7-44E5-AE42-A48D4B369FB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9C58-0D70-4C8A-922B-3E63115E37D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4" descr=""/>
          <p:cNvPicPr/>
          <p:nvPr/>
        </p:nvPicPr>
        <p:blipFill>
          <a:blip r:embed="rId1"/>
          <a:stretch/>
        </p:blipFill>
        <p:spPr>
          <a:xfrm>
            <a:off x="2766960" y="706320"/>
            <a:ext cx="6516720" cy="265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C:\Users\j.aleksandrova\Documents\site\166732258.jpg"/>
          <p:cNvPicPr/>
          <p:nvPr/>
        </p:nvPicPr>
        <p:blipFill>
          <a:blip r:embed="rId2"/>
          <a:stretch/>
        </p:blipFill>
        <p:spPr>
          <a:xfrm>
            <a:off x="2843280" y="3646440"/>
            <a:ext cx="61545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ньше было легче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ыли билеты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ньше знали что будет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 сейчас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Горизонтальный свиток 5"/>
          <p:cNvSpPr/>
          <p:nvPr/>
        </p:nvSpPr>
        <p:spPr>
          <a:xfrm>
            <a:off x="376200" y="0"/>
            <a:ext cx="8539200" cy="1332000"/>
          </a:xfrm>
          <a:prstGeom prst="horizontalScroll">
            <a:avLst>
              <a:gd name="adj" fmla="val 12500"/>
            </a:avLst>
          </a:prstGeom>
          <a:solidFill>
            <a:srgbClr val="f9b639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Направления по подготовке учащихся к ОГЭ и ЕГ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2"/>
          <a:stretch/>
        </p:blipFill>
        <p:spPr>
          <a:xfrm>
            <a:off x="334800" y="1401840"/>
            <a:ext cx="8491680" cy="52117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4"/>
          <p:cNvSpPr/>
          <p:nvPr/>
        </p:nvSpPr>
        <p:spPr>
          <a:xfrm>
            <a:off x="5214960" y="3429000"/>
            <a:ext cx="42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агностика и анализ качества знаний обучающихся при подготовке к ЕГ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7"/>
          <p:cNvSpPr/>
          <p:nvPr/>
        </p:nvSpPr>
        <p:spPr>
          <a:xfrm>
            <a:off x="5214960" y="4071960"/>
            <a:ext cx="46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самостоятельной работы обучающихся при подготовке к ЕГ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9"/>
          <p:cNvSpPr/>
          <p:nvPr/>
        </p:nvSpPr>
        <p:spPr>
          <a:xfrm>
            <a:off x="5143680" y="2071800"/>
            <a:ext cx="400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ует учить «технике сдачи экзамен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0"/>
          <p:cNvSpPr/>
          <p:nvPr/>
        </p:nvSpPr>
        <p:spPr>
          <a:xfrm>
            <a:off x="5143680" y="5072040"/>
            <a:ext cx="400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Если вы хотите научиться плавать, то смело входите в воду, а если хотите научиться решать задачи, то решайте и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Современное»  традиционное обуч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еобходимо целенаправленно готовить учащихся к такому виду экзамена начиная с первых уро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 заданий к теории (повторени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(объяснение-разбор-востановление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хнология сотрудничест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воим лучше, чем одному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КТ технолог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5:17:39Z</dcterms:created>
  <dc:creator>Бедаш Н.Н.</dc:creator>
  <dc:description/>
  <dc:language>en-US</dc:language>
  <cp:lastModifiedBy>адми</cp:lastModifiedBy>
  <dcterms:modified xsi:type="dcterms:W3CDTF">2018-03-30T05:17:48Z</dcterms:modified>
  <cp:revision>65</cp:revision>
  <dc:subject/>
  <dc:title>роль урока в системе подготовки к ЕГЭ</dc:title>
</cp:coreProperties>
</file>