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22A-F99B-4557-AAB7-04F99D6C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301-D668-417B-90B0-3D9B12B5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B95-F736-4697-A1AE-C7C19765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B9F-AAD6-4EEF-8BF7-764BDF9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1E7-395C-4656-9C99-7389F1F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828-3FB3-4C11-B0AF-FF0D9C6C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B79-7B23-4949-8135-D70710B1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10F-7664-4B35-B33F-716F049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495-BEF9-4E73-8FBF-8E082A5E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814-C0FD-40F7-85B3-55ED0F8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6F4-5575-4998-8058-CE3A545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56A-3BE3-409D-B64A-8F0E347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5AD-218D-4EBF-96D0-213F6061F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Новая папка\1005650034.jpg"/>
          <p:cNvPicPr/>
          <p:nvPr/>
        </p:nvPicPr>
        <p:blipFill>
          <a:blip r:embed="rId1"/>
          <a:srcRect l="0" t="18358" r="0" b="3240"/>
          <a:stretch/>
        </p:blipFill>
        <p:spPr>
          <a:xfrm>
            <a:off x="2071800" y="2500200"/>
            <a:ext cx="3867120" cy="39229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357120" y="35712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Новостроевская средняя общеобразовательная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школьное образовани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зентация к конспекту непосред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 использованием информационных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младше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ма: «Время добрых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357960" y="5145120"/>
            <a:ext cx="2500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ла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вина С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азка: кошка, внуч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шь, ещё собака Жуч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ду с бабой помогали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неплоды собира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Новая папка\418-557_(426-565)_img_217.jpg"/>
          <p:cNvPicPr/>
          <p:nvPr/>
        </p:nvPicPr>
        <p:blipFill>
          <a:blip r:embed="rId1"/>
          <a:srcRect l="0" t="0" r="0" b="10630"/>
          <a:stretch/>
        </p:blipFill>
        <p:spPr>
          <a:xfrm>
            <a:off x="1643040" y="500040"/>
            <a:ext cx="614376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Алёнушки сестри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несли братишку птиц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 с подружками играл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ратца Ваню проморг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143160" y="21420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Новая папка\5405423-626466.jpg"/>
          <p:cNvPicPr/>
          <p:nvPr/>
        </p:nvPicPr>
        <p:blipFill>
          <a:blip r:embed="rId1"/>
          <a:stretch/>
        </p:blipFill>
        <p:spPr>
          <a:xfrm>
            <a:off x="642960" y="642960"/>
            <a:ext cx="79232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ослушался брати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шую сестриц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пил из лужиц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тную водиц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горя принес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 нечистая вод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Новая папка\108746938_62.jpg"/>
          <p:cNvPicPr/>
          <p:nvPr/>
        </p:nvPicPr>
        <p:blipFill>
          <a:blip r:embed="rId1"/>
          <a:stretch/>
        </p:blipFill>
        <p:spPr>
          <a:xfrm>
            <a:off x="785880" y="1000080"/>
            <a:ext cx="7780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всех жёнушки как жён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– лягуш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 в итоге будет рад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му Ванюш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00024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Новая папка\img16.jpg"/>
          <p:cNvPicPr/>
          <p:nvPr/>
        </p:nvPicPr>
        <p:blipFill>
          <a:blip r:embed="rId1"/>
          <a:stretch/>
        </p:blipFill>
        <p:spPr>
          <a:xfrm>
            <a:off x="857160" y="642960"/>
            <a:ext cx="76993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285560"/>
            <a:ext cx="6972480" cy="37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3000240" y="35712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дали маму с молоко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пустили волка в дом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ем же были э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енькие де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0"/>
            <a:ext cx="571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koza-s-kozlyatami.jpg"/>
          <p:cNvPicPr/>
          <p:nvPr/>
        </p:nvPicPr>
        <p:blipFill>
          <a:blip r:embed="rId1"/>
          <a:srcRect l="0" t="0" r="0" b="16237"/>
          <a:stretch/>
        </p:blipFill>
        <p:spPr>
          <a:xfrm>
            <a:off x="285840" y="785880"/>
            <a:ext cx="858996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ле леса, на опуш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е их живет в избуш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три стула и три круж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роватки, три поду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адайте без подсказ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герои этой сказ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Новая папка\1.jpg"/>
          <p:cNvPicPr/>
          <p:nvPr/>
        </p:nvPicPr>
        <p:blipFill>
          <a:blip r:embed="rId1"/>
          <a:srcRect l="0" t="0" r="44365" b="0"/>
          <a:stretch/>
        </p:blipFill>
        <p:spPr>
          <a:xfrm>
            <a:off x="2214720" y="357120"/>
            <a:ext cx="5143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чайте на вопрос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в корзине Машу нёс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садился на пенё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хотел съесть пирожок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азочку ты знаешь ведь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же это был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92896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Новая папка\57912ecae50ee.jpg"/>
          <p:cNvPicPr/>
          <p:nvPr/>
        </p:nvPicPr>
        <p:blipFill>
          <a:blip r:embed="rId1"/>
          <a:stretch/>
        </p:blipFill>
        <p:spPr>
          <a:xfrm>
            <a:off x="2214720" y="357120"/>
            <a:ext cx="52149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дит парень на печ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летает калачи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катился по дерев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женился на царев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copinette.c.o.pic.centerblog.net/be576de7.png"/>
          <p:cNvPicPr/>
          <p:nvPr/>
        </p:nvPicPr>
        <p:blipFill>
          <a:blip r:embed="rId1"/>
          <a:stretch/>
        </p:blipFill>
        <p:spPr>
          <a:xfrm>
            <a:off x="2857680" y="28584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Новая папка\1296232987_0_6c16c_9df44f51_xxl.jpg"/>
          <p:cNvPicPr/>
          <p:nvPr/>
        </p:nvPicPr>
        <p:blipFill>
          <a:blip r:embed="rId1"/>
          <a:stretch/>
        </p:blipFill>
        <p:spPr>
          <a:xfrm>
            <a:off x="785880" y="785880"/>
            <a:ext cx="7670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8:51:47Z</dcterms:created>
  <dc:creator>Устинова Яна</dc:creator>
  <dc:description/>
  <dc:language>en-US</dc:language>
  <cp:lastModifiedBy>Юдино дсад</cp:lastModifiedBy>
  <dcterms:modified xsi:type="dcterms:W3CDTF">2018-03-30T06:27:24Z</dcterms:modified>
  <cp:revision>16</cp:revision>
  <dc:subject/>
  <dc:title>Слайд 1</dc:title>
</cp:coreProperties>
</file>