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CE8-5D2C-46F5-AF2A-0D7B550E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1EA-C3A3-4147-8722-DE32CFCD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39A-280E-4366-8C1C-714EB698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4E3-9D83-465A-8F89-8B78E7ED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4E3-0257-4E9B-8682-2E40BD6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1AC-A88B-497B-8FB3-0F957D8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C3E-31FB-488F-902C-0595F02E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DE7-A5F2-4B96-81AA-1DCD3145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CD8-59F8-410B-AE67-51E0442D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5A4-5C52-400A-A0F8-0B45705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39C-2263-405F-8C4E-DF18238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160-7416-4858-87EC-24B1FDF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CA7F-9D33-4354-B5A5-CE7FBD79C5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Новая папка\1005650034.jpg"/>
          <p:cNvPicPr/>
          <p:nvPr/>
        </p:nvPicPr>
        <p:blipFill>
          <a:blip r:embed="rId1"/>
          <a:srcRect l="0" t="18358" r="0" b="3240"/>
          <a:stretch/>
        </p:blipFill>
        <p:spPr>
          <a:xfrm>
            <a:off x="2071800" y="2500200"/>
            <a:ext cx="3867120" cy="39229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357120" y="35712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Новостроевская средняя общеобразовательная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школьное образование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езентация к конспекту непосред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 использованием информационных 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младше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ма: «Время добрых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357960" y="5145120"/>
            <a:ext cx="2500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ла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овина С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сказка: кошка, внучк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шь, ещё собака Жуч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ду с бабой помогали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неплоды собира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92896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Новая папка\418-557_(426-565)_img_217.jpg"/>
          <p:cNvPicPr/>
          <p:nvPr/>
        </p:nvPicPr>
        <p:blipFill>
          <a:blip r:embed="rId1"/>
          <a:srcRect l="0" t="0" r="0" b="10630"/>
          <a:stretch/>
        </p:blipFill>
        <p:spPr>
          <a:xfrm>
            <a:off x="1643040" y="500040"/>
            <a:ext cx="614376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Алёнушки сестри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несли братишку птиц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 с подружками играл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ратца Ваню проморга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3143160" y="21420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Новая папка\5405423-626466.jpg"/>
          <p:cNvPicPr/>
          <p:nvPr/>
        </p:nvPicPr>
        <p:blipFill>
          <a:blip r:embed="rId1"/>
          <a:stretch/>
        </p:blipFill>
        <p:spPr>
          <a:xfrm>
            <a:off x="642960" y="642960"/>
            <a:ext cx="79232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ослушался брати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шую сестриц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пил из лужиц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тную водиц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горя принес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 нечистая вод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85768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Новая папка\108746938_62.jpg"/>
          <p:cNvPicPr/>
          <p:nvPr/>
        </p:nvPicPr>
        <p:blipFill>
          <a:blip r:embed="rId1"/>
          <a:stretch/>
        </p:blipFill>
        <p:spPr>
          <a:xfrm>
            <a:off x="785880" y="1000080"/>
            <a:ext cx="7780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всех жёнушки как жён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него – лягушк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 в итоге будет рад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му Ванюш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300024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Новая папка\img16.jpg"/>
          <p:cNvPicPr/>
          <p:nvPr/>
        </p:nvPicPr>
        <p:blipFill>
          <a:blip r:embed="rId1"/>
          <a:stretch/>
        </p:blipFill>
        <p:spPr>
          <a:xfrm>
            <a:off x="857160" y="642960"/>
            <a:ext cx="76993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285560"/>
            <a:ext cx="6972480" cy="37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300024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дали маму с молоком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пустили волка в дом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ем же были э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енькие де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928960" y="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koza-s-kozlyatami.jpg"/>
          <p:cNvPicPr/>
          <p:nvPr/>
        </p:nvPicPr>
        <p:blipFill>
          <a:blip r:embed="rId1"/>
          <a:srcRect l="0" t="0" r="0" b="16237"/>
          <a:stretch/>
        </p:blipFill>
        <p:spPr>
          <a:xfrm>
            <a:off x="285840" y="785880"/>
            <a:ext cx="858996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ле леса, на опуш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е их живет в избуш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три стула и три круж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роватки, три подуш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адайте без подсказ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герои этой сказ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857680" y="28584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Новая папка\1.jpg"/>
          <p:cNvPicPr/>
          <p:nvPr/>
        </p:nvPicPr>
        <p:blipFill>
          <a:blip r:embed="rId1"/>
          <a:srcRect l="0" t="0" r="44365" b="0"/>
          <a:stretch/>
        </p:blipFill>
        <p:spPr>
          <a:xfrm>
            <a:off x="2214720" y="357120"/>
            <a:ext cx="5143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чайте на вопрос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в корзине Машу нёс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садился на пенё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хотел съесть пирожок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азочку ты знаешь ведь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же это был?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928960" y="28584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Новая папка\57912ecae50ee.jpg"/>
          <p:cNvPicPr/>
          <p:nvPr/>
        </p:nvPicPr>
        <p:blipFill>
          <a:blip r:embed="rId1"/>
          <a:stretch/>
        </p:blipFill>
        <p:spPr>
          <a:xfrm>
            <a:off x="2214720" y="357120"/>
            <a:ext cx="52149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дит парень на печ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летает калачи,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катился по дерев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женился на царев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857680" y="28584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Новая папка\1296232987_0_6c16c_9df44f51_xxl.jpg"/>
          <p:cNvPicPr/>
          <p:nvPr/>
        </p:nvPicPr>
        <p:blipFill>
          <a:blip r:embed="rId1"/>
          <a:stretch/>
        </p:blipFill>
        <p:spPr>
          <a:xfrm>
            <a:off x="785880" y="785880"/>
            <a:ext cx="76708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9T18:51:47Z</dcterms:created>
  <dc:creator>Устинова Яна</dc:creator>
  <dc:description/>
  <dc:language>en-US</dc:language>
  <cp:lastModifiedBy>Юдино дсад</cp:lastModifiedBy>
  <dcterms:modified xsi:type="dcterms:W3CDTF">2018-03-30T06:27:24Z</dcterms:modified>
  <cp:revision>16</cp:revision>
  <dc:subject/>
  <dc:title>Слайд 1</dc:title>
</cp:coreProperties>
</file>