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с метод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3C78-947E-467D-BA5F-84F149B8E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27F9-7DCC-496C-B655-10E70DBAB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с методических разраб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561-8534-43F4-B909-30006A37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0E8-3D49-4833-8B23-B3DEBFCA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4E4-08AF-4F8A-804C-AAE9CEC8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E9D-1C3B-4B66-A965-D0A4A168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209-D8A0-46FD-9C29-4D196924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DA6-2966-4E2D-83B9-A8DF383C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0B2-519C-4D7C-90FA-7295EB7A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28C-84B0-4DDD-A04A-69E1BC9A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084-8181-41C2-A884-E6039B1B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313-8607-400E-99E8-1452A3B6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FF0-57C2-40E0-B00D-C3B16682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C75-102B-45A7-B6C3-DFE93979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D6BA-432A-4378-8271-044AB87AD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im2-tub.yandex.net/i?id=120539438-12" TargetMode="External"/><Relationship Id="rId3" Type="http://schemas.openxmlformats.org/officeDocument/2006/relationships/hyperlink" Target="http://mults.spb.ru/mults/?id=1-" TargetMode="External"/><Relationship Id="rId4" Type="http://schemas.openxmlformats.org/officeDocument/2006/relationships/hyperlink" Target="http://kino-hit.net/storage/1643/scrns/2.jpg" TargetMode="External"/><Relationship Id="rId5" Type="http://schemas.openxmlformats.org/officeDocument/2006/relationships/hyperlink" Target="http://forum.materinstvo.ru/uploads/1236385780/post-70101-1236449698_thumb.png" TargetMode="External"/><Relationship Id="rId6" Type="http://schemas.openxmlformats.org/officeDocument/2006/relationships/hyperlink" Target="http://www.bit2bit.org/torrents/images/50362.jpg" TargetMode="External"/><Relationship Id="rId7" Type="http://schemas.openxmlformats.org/officeDocument/2006/relationships/hyperlink" Target="http://besplatnovse.3dn.ru/1/38.popugaev.0-01-52.jpg" TargetMode="External"/><Relationship Id="rId8" Type="http://schemas.openxmlformats.org/officeDocument/2006/relationships/hyperlink" Target="http://sovetskiymultik.at.ua/_ph/16/2/517946444.jpg" TargetMode="External"/><Relationship Id="rId9" Type="http://schemas.openxmlformats.org/officeDocument/2006/relationships/hyperlink" Target="http://www.myltik.ru/db/rus/numbers/velikoe_zakritie.jpg" TargetMode="External"/><Relationship Id="rId10" Type="http://schemas.openxmlformats.org/officeDocument/2006/relationships/hyperlink" Target="http://1klip.my1.ru/38.popugaev.0-01-07.jpg" TargetMode="External"/><Relationship Id="rId11" Type="http://schemas.openxmlformats.org/officeDocument/2006/relationships/hyperlink" Target="http://net23.ru/uploads/posts/2010-07/net23.ru_1279985273_02e827ee8a8e.png" TargetMode="External"/><Relationship Id="rId12" Type="http://schemas.openxmlformats.org/officeDocument/2006/relationships/hyperlink" Target="http://mults.spb.ru/mults/?id=1-" TargetMode="External"/><Relationship Id="rId13" Type="http://schemas.openxmlformats.org/officeDocument/2006/relationships/hyperlink" Target="http://s09.radikal.ru/i182/1008/01/8fbafee0b054.jpg" TargetMode="External"/><Relationship Id="rId14" Type="http://schemas.openxmlformats.org/officeDocument/2006/relationships/hyperlink" Target="http://s.afisha.ru/Afisha7Files/UGPhotos/090318213859/090319134556/p_f.jpg" TargetMode="External"/><Relationship Id="rId15" Type="http://schemas.openxmlformats.org/officeDocument/2006/relationships/hyperlink" Target="http://www.afisha.ru/Afisha7Files/UGPhotos/081010223744/081216234202/p_f.jpg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Картинка 13 из 6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684360" y="3645000"/>
            <a:ext cx="626400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  измерения   длины.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нтиметр.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8fbafee0b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6"/>
          <p:cNvSpPr txBox="1"/>
          <p:nvPr/>
        </p:nvSpPr>
        <p:spPr>
          <a:xfrm>
            <a:off x="1258920" y="260280"/>
            <a:ext cx="6985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 длинн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116000" y="6093000"/>
            <a:ext cx="741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коротк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 rot="21322200">
            <a:off x="439200" y="1487520"/>
            <a:ext cx="3675240" cy="1225440"/>
          </a:xfrm>
          <a:prstGeom prst="wedgeEllipseCallout">
            <a:avLst>
              <a:gd name="adj1" fmla="val 93662"/>
              <a:gd name="adj2" fmla="val -1062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9"/>
          <p:cNvSpPr txBox="1"/>
          <p:nvPr/>
        </p:nvSpPr>
        <p:spPr>
          <a:xfrm>
            <a:off x="971640" y="1844640"/>
            <a:ext cx="266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ая у них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а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21322200">
            <a:off x="4067280" y="4005000"/>
            <a:ext cx="4249800" cy="1225440"/>
          </a:xfrm>
          <a:prstGeom prst="wedgeEllipseCallout">
            <a:avLst>
              <a:gd name="adj1" fmla="val 40990"/>
              <a:gd name="adj2" fmla="val -7986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2"/>
          <p:cNvSpPr txBox="1"/>
          <p:nvPr/>
        </p:nvSpPr>
        <p:spPr>
          <a:xfrm>
            <a:off x="4788000" y="4365720"/>
            <a:ext cx="28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до позв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угая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 rot="16422000">
            <a:off x="-1143720" y="4437720"/>
            <a:ext cx="3600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 rot="16826400">
            <a:off x="1908000" y="3899880"/>
            <a:ext cx="2808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1979640" y="5732640"/>
            <a:ext cx="5329080" cy="28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 rot="8263200">
            <a:off x="969480" y="3579840"/>
            <a:ext cx="131472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 rot="17566200">
            <a:off x="1026360" y="4534560"/>
            <a:ext cx="2017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Картинка 100 из 725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611280" y="765000"/>
            <a:ext cx="6048360" cy="649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39640" y="1773360"/>
            <a:ext cx="403236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539640" y="2781360"/>
            <a:ext cx="2016360" cy="64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5292720" y="407664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619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2627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635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643280" y="76500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65164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3964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47640" y="1773360"/>
            <a:ext cx="100836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255600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3"/>
          <p:cNvSpPr/>
          <p:nvPr/>
        </p:nvSpPr>
        <p:spPr>
          <a:xfrm>
            <a:off x="356400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539640" y="2781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1547640" y="2781360"/>
            <a:ext cx="100836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7453800" y="4762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6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7452360" y="155592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4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7526880" y="278136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2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 rot="21322200">
            <a:off x="-7920" y="4941720"/>
            <a:ext cx="7020000" cy="1727280"/>
          </a:xfrm>
          <a:prstGeom prst="wedgeEllipseCallout">
            <a:avLst>
              <a:gd name="adj1" fmla="val 25833"/>
              <a:gd name="adj2" fmla="val -12535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34"/>
          <p:cNvSpPr txBox="1"/>
          <p:nvPr/>
        </p:nvSpPr>
        <p:spPr>
          <a:xfrm rot="21220800">
            <a:off x="755280" y="4941720"/>
            <a:ext cx="561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рка-это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иничный отрезок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и единица измерения длины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Rectangle 35"/>
          <p:cNvSpPr/>
          <p:nvPr/>
        </p:nvSpPr>
        <p:spPr>
          <a:xfrm>
            <a:off x="611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91022f0d4e30ba5eb921bea94672dbd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6"/>
          <p:cNvSpPr txBox="1"/>
          <p:nvPr/>
        </p:nvSpPr>
        <p:spPr>
          <a:xfrm>
            <a:off x="971640" y="260280"/>
            <a:ext cx="69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вые единицы измерения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8" name="Picture 13" descr="clip_image017"/>
          <p:cNvPicPr/>
          <p:nvPr/>
        </p:nvPicPr>
        <p:blipFill>
          <a:blip r:embed="rId2"/>
          <a:stretch/>
        </p:blipFill>
        <p:spPr>
          <a:xfrm>
            <a:off x="4781520" y="2708280"/>
            <a:ext cx="43624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Картинка 100 из 725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1476360" y="1268280"/>
            <a:ext cx="3382920" cy="649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547640" y="2708280"/>
            <a:ext cx="2303640" cy="64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093080" y="2781360"/>
            <a:ext cx="1152360" cy="64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6806160" y="184464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1765800" y="184464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00"/>
                </a:solidFill>
                <a:latin typeface="Arial"/>
              </a:rPr>
              <a:t>4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2126160" y="40464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52360" y="5516640"/>
            <a:ext cx="18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1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1"/>
          <p:cNvSpPr/>
          <p:nvPr/>
        </p:nvSpPr>
        <p:spPr>
          <a:xfrm>
            <a:off x="900000" y="3716280"/>
            <a:ext cx="57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2"/>
          <p:cNvSpPr/>
          <p:nvPr/>
        </p:nvSpPr>
        <p:spPr>
          <a:xfrm>
            <a:off x="1912680" y="580536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диница измерения дл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8"/>
          <p:cNvGrpSpPr/>
          <p:nvPr/>
        </p:nvGrpSpPr>
        <p:grpSpPr>
          <a:xfrm>
            <a:off x="684360" y="4160520"/>
            <a:ext cx="6947640" cy="1184040"/>
            <a:chOff x="684360" y="4160520"/>
            <a:chExt cx="6947640" cy="1184040"/>
          </a:xfrm>
        </p:grpSpPr>
        <p:sp>
          <p:nvSpPr>
            <p:cNvPr id="192" name="Freeform 49"/>
            <p:cNvSpPr/>
            <p:nvPr/>
          </p:nvSpPr>
          <p:spPr>
            <a:xfrm>
              <a:off x="768960" y="4473720"/>
              <a:ext cx="6829920" cy="870840"/>
            </a:xfrm>
            <a:custGeom>
              <a:avLst/>
              <a:gdLst>
                <a:gd name="textAreaLeft" fmla="*/ 0 w 6829920"/>
                <a:gd name="textAreaRight" fmla="*/ 6830280 w 682992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50"/>
            <p:cNvSpPr/>
            <p:nvPr/>
          </p:nvSpPr>
          <p:spPr>
            <a:xfrm rot="17576400">
              <a:off x="1047600" y="4834080"/>
              <a:ext cx="2322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 rot="10800000">
              <a:off x="757800" y="4160160"/>
              <a:ext cx="6874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2"/>
            <p:cNvSpPr/>
            <p:nvPr/>
          </p:nvSpPr>
          <p:spPr>
            <a:xfrm>
              <a:off x="684360" y="4700520"/>
              <a:ext cx="687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fee17e28bcb8657e7b4e27ce3fd1c7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6"/>
          <p:cNvGrpSpPr/>
          <p:nvPr/>
        </p:nvGrpSpPr>
        <p:grpSpPr>
          <a:xfrm>
            <a:off x="250920" y="4939560"/>
            <a:ext cx="3960720" cy="909720"/>
            <a:chOff x="250920" y="4939560"/>
            <a:chExt cx="3960720" cy="909720"/>
          </a:xfrm>
        </p:grpSpPr>
        <p:sp>
          <p:nvSpPr>
            <p:cNvPr id="200" name="Freeform 7"/>
            <p:cNvSpPr/>
            <p:nvPr/>
          </p:nvSpPr>
          <p:spPr>
            <a:xfrm>
              <a:off x="299160" y="4978440"/>
              <a:ext cx="3893400" cy="870840"/>
            </a:xfrm>
            <a:custGeom>
              <a:avLst/>
              <a:gdLst>
                <a:gd name="textAreaLeft" fmla="*/ 0 w 3893400"/>
                <a:gd name="textAreaRight" fmla="*/ 3893760 w 389340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 rot="17576400">
              <a:off x="407880" y="5372280"/>
              <a:ext cx="2322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 rot="10800000">
              <a:off x="294120" y="4939560"/>
              <a:ext cx="391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250920" y="5205240"/>
              <a:ext cx="39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4932360" y="4939560"/>
            <a:ext cx="3960720" cy="909720"/>
            <a:chOff x="4932360" y="4939560"/>
            <a:chExt cx="3960720" cy="909720"/>
          </a:xfrm>
        </p:grpSpPr>
        <p:sp>
          <p:nvSpPr>
            <p:cNvPr id="205" name="Freeform 12"/>
            <p:cNvSpPr/>
            <p:nvPr/>
          </p:nvSpPr>
          <p:spPr>
            <a:xfrm>
              <a:off x="4980600" y="4978440"/>
              <a:ext cx="3893400" cy="870840"/>
            </a:xfrm>
            <a:custGeom>
              <a:avLst/>
              <a:gdLst>
                <a:gd name="textAreaLeft" fmla="*/ 0 w 3893400"/>
                <a:gd name="textAreaRight" fmla="*/ 3893760 w 389340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 rot="17576400">
              <a:off x="5089320" y="5372280"/>
              <a:ext cx="2322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 rot="10800000">
              <a:off x="4975560" y="4939560"/>
              <a:ext cx="391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5"/>
            <p:cNvSpPr/>
            <p:nvPr/>
          </p:nvSpPr>
          <p:spPr>
            <a:xfrm>
              <a:off x="4932360" y="5205240"/>
              <a:ext cx="39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WordArt 16"/>
          <p:cNvSpPr txBox="1"/>
          <p:nvPr/>
        </p:nvSpPr>
        <p:spPr>
          <a:xfrm>
            <a:off x="1258920" y="6021360"/>
            <a:ext cx="69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ему разная длина отрезка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539640" y="4869000"/>
            <a:ext cx="216072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5724360" y="4869000"/>
            <a:ext cx="223236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9"/>
          <p:cNvSpPr/>
          <p:nvPr/>
        </p:nvSpPr>
        <p:spPr>
          <a:xfrm rot="21322200">
            <a:off x="6407280" y="3212640"/>
            <a:ext cx="2736720" cy="709560"/>
          </a:xfrm>
          <a:prstGeom prst="wedgeEllipseCallout">
            <a:avLst>
              <a:gd name="adj1" fmla="val -59384"/>
              <a:gd name="adj2" fmla="val 14568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rot="21322200">
            <a:off x="2484360" y="4005000"/>
            <a:ext cx="2737080" cy="709560"/>
          </a:xfrm>
          <a:prstGeom prst="wedgeEllipseCallout">
            <a:avLst>
              <a:gd name="adj1" fmla="val -76268"/>
              <a:gd name="adj2" fmla="val -7877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21"/>
          <p:cNvSpPr txBox="1"/>
          <p:nvPr/>
        </p:nvSpPr>
        <p:spPr>
          <a:xfrm>
            <a:off x="2987640" y="414972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сантиметр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5" name="WordArt 22"/>
          <p:cNvSpPr txBox="1"/>
          <p:nvPr/>
        </p:nvSpPr>
        <p:spPr>
          <a:xfrm>
            <a:off x="6804000" y="342900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сантиметр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obezyan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1311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16"/>
          <p:cNvSpPr txBox="1"/>
          <p:nvPr/>
        </p:nvSpPr>
        <p:spPr>
          <a:xfrm>
            <a:off x="1332000" y="5084640"/>
            <a:ext cx="69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ва длина отрезка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1" name="Group 18"/>
          <p:cNvGrpSpPr/>
          <p:nvPr/>
        </p:nvGrpSpPr>
        <p:grpSpPr>
          <a:xfrm>
            <a:off x="1187280" y="776160"/>
            <a:ext cx="6948360" cy="1183680"/>
            <a:chOff x="1187280" y="776160"/>
            <a:chExt cx="6948360" cy="1183680"/>
          </a:xfrm>
        </p:grpSpPr>
        <p:sp>
          <p:nvSpPr>
            <p:cNvPr id="222" name="Freeform 19"/>
            <p:cNvSpPr/>
            <p:nvPr/>
          </p:nvSpPr>
          <p:spPr>
            <a:xfrm>
              <a:off x="1271880" y="1089360"/>
              <a:ext cx="6830280" cy="870480"/>
            </a:xfrm>
            <a:custGeom>
              <a:avLst/>
              <a:gdLst>
                <a:gd name="textAreaLeft" fmla="*/ 0 w 6830280"/>
                <a:gd name="textAreaRight" fmla="*/ 6830640 w 6830280"/>
                <a:gd name="textAreaTop" fmla="*/ 0 h 870480"/>
                <a:gd name="textAreaBottom" fmla="*/ 870840 h 87048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 rot="17576400">
              <a:off x="1550520" y="1449720"/>
              <a:ext cx="2322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 rot="10800000">
              <a:off x="1261080" y="775800"/>
              <a:ext cx="6874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2"/>
            <p:cNvSpPr/>
            <p:nvPr/>
          </p:nvSpPr>
          <p:spPr>
            <a:xfrm>
              <a:off x="1187280" y="1316160"/>
              <a:ext cx="68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24"/>
          <p:cNvSpPr/>
          <p:nvPr/>
        </p:nvSpPr>
        <p:spPr>
          <a:xfrm>
            <a:off x="1403280" y="836640"/>
            <a:ext cx="439272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5"/>
          <p:cNvSpPr/>
          <p:nvPr/>
        </p:nvSpPr>
        <p:spPr>
          <a:xfrm>
            <a:off x="1403280" y="836640"/>
            <a:ext cx="216072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1403280" y="836640"/>
            <a:ext cx="540072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1403280" y="836640"/>
            <a:ext cx="3313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Картинка 343 из 7416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орех"/>
          <p:cNvPicPr/>
          <p:nvPr/>
        </p:nvPicPr>
        <p:blipFill>
          <a:blip r:embed="rId2"/>
          <a:stretch/>
        </p:blipFill>
        <p:spPr>
          <a:xfrm>
            <a:off x="1979640" y="3284640"/>
            <a:ext cx="1468440" cy="1368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орех"/>
          <p:cNvPicPr/>
          <p:nvPr/>
        </p:nvPicPr>
        <p:blipFill>
          <a:blip r:embed="rId3"/>
          <a:stretch/>
        </p:blipFill>
        <p:spPr>
          <a:xfrm>
            <a:off x="7308720" y="3573360"/>
            <a:ext cx="1440000" cy="1341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орех"/>
          <p:cNvPicPr/>
          <p:nvPr/>
        </p:nvPicPr>
        <p:blipFill>
          <a:blip r:embed="rId4"/>
          <a:stretch/>
        </p:blipFill>
        <p:spPr>
          <a:xfrm>
            <a:off x="0" y="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орех"/>
          <p:cNvPicPr/>
          <p:nvPr/>
        </p:nvPicPr>
        <p:blipFill>
          <a:blip r:embed="rId5"/>
          <a:stretch/>
        </p:blipFill>
        <p:spPr>
          <a:xfrm>
            <a:off x="7704000" y="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орех"/>
          <p:cNvPicPr/>
          <p:nvPr/>
        </p:nvPicPr>
        <p:blipFill>
          <a:blip r:embed="rId6"/>
          <a:stretch/>
        </p:blipFill>
        <p:spPr>
          <a:xfrm>
            <a:off x="1979640" y="328464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орех"/>
          <p:cNvPicPr/>
          <p:nvPr/>
        </p:nvPicPr>
        <p:blipFill>
          <a:blip r:embed="rId7"/>
          <a:stretch/>
        </p:blipFill>
        <p:spPr>
          <a:xfrm>
            <a:off x="7308720" y="3500280"/>
            <a:ext cx="1440000" cy="1341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орех"/>
          <p:cNvPicPr/>
          <p:nvPr/>
        </p:nvPicPr>
        <p:blipFill>
          <a:blip r:embed="rId8"/>
          <a:stretch/>
        </p:blipFill>
        <p:spPr>
          <a:xfrm>
            <a:off x="1979640" y="3284640"/>
            <a:ext cx="1440000" cy="1341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орех"/>
          <p:cNvPicPr/>
          <p:nvPr/>
        </p:nvPicPr>
        <p:blipFill>
          <a:blip r:embed="rId9"/>
          <a:stretch/>
        </p:blipFill>
        <p:spPr>
          <a:xfrm>
            <a:off x="7308720" y="3500280"/>
            <a:ext cx="1440000" cy="1341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орех"/>
          <p:cNvPicPr/>
          <p:nvPr/>
        </p:nvPicPr>
        <p:blipFill>
          <a:blip r:embed="rId10"/>
          <a:stretch/>
        </p:blipFill>
        <p:spPr>
          <a:xfrm>
            <a:off x="-252360" y="5661000"/>
            <a:ext cx="1439640" cy="1341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орех"/>
          <p:cNvPicPr/>
          <p:nvPr/>
        </p:nvPicPr>
        <p:blipFill>
          <a:blip r:embed="rId11"/>
          <a:stretch/>
        </p:blipFill>
        <p:spPr>
          <a:xfrm>
            <a:off x="7885080" y="5661000"/>
            <a:ext cx="1440000" cy="134136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 rot="21322200">
            <a:off x="325440" y="4768560"/>
            <a:ext cx="4697280" cy="1225440"/>
          </a:xfrm>
          <a:prstGeom prst="wedgeEllipseCallout">
            <a:avLst>
              <a:gd name="adj1" fmla="val 40990"/>
              <a:gd name="adj2" fmla="val -79861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8"/>
          <p:cNvSpPr/>
          <p:nvPr/>
        </p:nvSpPr>
        <p:spPr>
          <a:xfrm>
            <a:off x="324000" y="486900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Ребята, берег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з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9"/>
          <p:cNvSpPr/>
          <p:nvPr/>
        </p:nvSpPr>
        <p:spPr>
          <a:xfrm>
            <a:off x="1619280" y="189000"/>
            <a:ext cx="59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имнастика для гл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10502E-006 L 0.00955 -0.68725 E">
                                      <p:cBhvr>
                                        <p:cTn id="46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84551E-007 L 0.00799 -0.78978 E">
                                      <p:cBhvr>
                                        <p:cTn id="467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0.00301 L 0.79931 0.51006 E">
                                      <p:cBhvr>
                                        <p:cTn id="47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5717E-006 L -0.60642 0.48266 E">
                                      <p:cBhvr>
                                        <p:cTn id="481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7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48439E-006 C -0.01996 0.01064 -0.04236 0.02128 -0.05226 0.0347 C -0.06215 0.04927 -0.06736 0.06662 -0.07222 0.08397 C -0.07726 0.10132 -0.07222 0.11589 -0.06736 0.13186 C -0.06215 0.14666 -0.05486 0.16262 -0.03715 0.17581 C -0.02257 0.18922 0.00261 0.19986 0.02969 0.20796 C 0.05486 0.21582 0.08455 0.22115 0.11441 0.22392 C 0.14427 0.22647 0.17396 0.22647 0.20156 0.22392 C 0.23142 0.22115 0.25868 0.21444 0.28108 0.2038 C 0.30347 0.19454 0.32344 0.18251 0.33333 0.16794 C 0.34583 0.15452 0.3507 0.13602 0.3507 0.12121 C 0.3533 0.10664 0.3507 0.08929 0.33802 0.07472 C 0.32604 0.0613 0.30347 0.05066 0.27379 0.04534 C 0.24358 0.04141 0.21372 0.04673 0.19392 0.05598 C 0.17656 0.06523 0.16406 0.08004 0.16146 0.09716 C 0.16146 0.11451 0.16406 0.13047 0.17656 0.14388 C 0.18906 0.1573 0.18646 0.15985 0.23611 0.17719 C 0.28108 0.19593 0.32604 0.19061 0.3533 0.19177 C 0.38038 0.19177 0.40295 0.18645 0.43004 0.18113 C 0.46024 0.17465 0.4849 0.16262 0.50261 0.15198 C 0.51997 0.14134 0.52726 0.12792 0.53715 0.10664 C 0.54462 0.08536 0.54462 0.07472 0.54462 0.05853 C 0.54462 0.04257 0.54462 0.0266 0.54462 0.01064 E">
                                      <p:cBhvr>
                                        <p:cTn id="49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7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6809E-006 C 0.02031 0.01063 0.0434 0.02127 0.05364 0.03469 C 0.06371 0.04926 0.0691 0.0666 0.07396 0.08395 C 0.07934 0.10129 0.07396 0.11586 0.0691 0.13182 C 0.06371 0.14662 0.05625 0.16258 0.03802 0.17576 C 0.02309 0.18917 -0.00261 0.19981 -0.03056 0.2079 C -0.05625 0.21577 -0.08663 0.22109 -0.11719 0.22386 C -0.14775 0.22641 -0.1783 0.22641 -0.2066 0.22386 C -0.23715 0.22109 -0.26511 0.21438 -0.28802 0.20374 C -0.31111 0.19449 -0.33143 0.18247 -0.34167 0.1679 C -0.35452 0.15448 -0.35938 0.13598 -0.35938 0.12118 C -0.36198 0.10661 -0.35938 0.08926 -0.34653 0.07469 C -0.3342 0.06128 -0.31111 0.05064 -0.28056 0.04532 C -0.24965 0.04139 -0.2191 0.04671 -0.19861 0.05596 C -0.1809 0.06521 -0.16823 0.08001 -0.16545 0.09713 C -0.16545 0.11447 -0.16823 0.13043 -0.1809 0.14384 C -0.19375 0.15726 -0.19115 0.1598 -0.24202 0.17715 C -0.28802 0.19588 -0.3342 0.19056 -0.36198 0.19172 C -0.38993 0.19172 -0.41285 0.1864 -0.4408 0.18108 C -0.4717 0.1746 -0.49705 0.16258 -0.51511 0.15194 C -0.53281 0.1413 -0.54045 0.12789 -0.55052 0.10661 C -0.55799 0.08533 -0.55799 0.07469 -0.55799 0.05851 C -0.55799 0.04255 -0.55799 0.02659 -0.55799 0.01063 E">
                                      <p:cBhvr>
                                        <p:cTn id="50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1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83 0.04209 L 0.17743 -0.37974 C 0.20972 -0.47502 0.25764 -0.52752 0.30781 -0.52752 C 0.36458 -0.52752 0.41024 -0.47502 0.44271 -0.37974 L 0.59601 0.04209 E">
                                      <p:cBhvr>
                                        <p:cTn id="52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2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3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25463 C 0.01215 -0.3439 -0.1118 -0.42114 -0.2776 -0.42646 C -0.43594 -0.43316 -0.5842 -0.37327 -0.59392 -0.28654 C -0.60625 -0.20675 -0.50243 -0.13205 -0.35399 -0.12674 C -0.21823 -0.1228 -0.08941 -0.17206 -0.07951 -0.24653 C -0.06979 -0.31452 -0.15642 -0.37859 -0.28212 -0.3839 C -0.39844 -0.38784 -0.50781 -0.34644 -0.5151 -0.284 C -0.52239 -0.22803 -0.4533 -0.17345 -0.3493 -0.17068 C -0.25521 -0.16674 -0.16632 -0.19866 -0.15851 -0.24931 C -0.15399 -0.29464 -0.20573 -0.33881 -0.28732 -0.34112 C -0.35903 -0.3439 -0.4309 -0.31984 -0.43594 -0.28122 C -0.44062 -0.24792 -0.40382 -0.216 -0.34392 -0.21323 C -0.29462 -0.21069 -0.24271 -0.22549 -0.2401 -0.25185 C -0.23542 -0.27336 -0.25521 -0.29602 -0.29219 -0.29857 C -0.32205 -0.29857 -0.35173 -0.29325 -0.3566 -0.27868 C -0.35903 -0.2692 -0.35399 -0.25995 -0.33941 -0.25601 C -0.33212 -0.25463 -0.32691 -0.25463 -0.31962 -0.25601 E">
                                      <p:cBhvr>
                                        <p:cTn id="53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3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4209 L 0.82691 -0.30411 E">
                                      <p:cBhvr>
                                        <p:cTn id="54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-0.01897 L -0.64427 -0.34413 E">
                                      <p:cBhvr>
                                        <p:cTn id="55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fa1bcbeb57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6"/>
          <p:cNvSpPr/>
          <p:nvPr/>
        </p:nvSpPr>
        <p:spPr>
          <a:xfrm rot="21315000">
            <a:off x="5553000" y="1728720"/>
            <a:ext cx="3283200" cy="1687680"/>
          </a:xfrm>
          <a:prstGeom prst="wedgeEllipseCallout">
            <a:avLst>
              <a:gd name="adj1" fmla="val -91981"/>
              <a:gd name="adj2" fmla="val 5943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5724360" y="2205000"/>
            <a:ext cx="29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цени свою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у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3348000" y="3789360"/>
            <a:ext cx="792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3348000" y="4724280"/>
            <a:ext cx="792360" cy="79236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3348000" y="5734080"/>
            <a:ext cx="7923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13"/>
          <p:cNvSpPr txBox="1"/>
          <p:nvPr/>
        </p:nvSpPr>
        <p:spPr>
          <a:xfrm>
            <a:off x="4356000" y="386064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о интересно.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WordArt 14"/>
          <p:cNvSpPr txBox="1"/>
          <p:nvPr/>
        </p:nvSpPr>
        <p:spPr>
          <a:xfrm>
            <a:off x="4356000" y="479736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и трудности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5" name="WordArt 15"/>
          <p:cNvSpPr txBox="1"/>
          <p:nvPr/>
        </p:nvSpPr>
        <p:spPr>
          <a:xfrm>
            <a:off x="4356000" y="573408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о не интересно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3932337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6"/>
          <p:cNvSpPr/>
          <p:nvPr/>
        </p:nvSpPr>
        <p:spPr>
          <a:xfrm rot="21407400">
            <a:off x="1612440" y="4797000"/>
            <a:ext cx="6415200" cy="1511280"/>
          </a:xfrm>
          <a:prstGeom prst="wedgeEllipseCallout">
            <a:avLst>
              <a:gd name="adj1" fmla="val -6648"/>
              <a:gd name="adj2" fmla="val -9726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7"/>
          <p:cNvSpPr txBox="1"/>
          <p:nvPr/>
        </p:nvSpPr>
        <p:spPr>
          <a:xfrm rot="21220800">
            <a:off x="2700360" y="5157360"/>
            <a:ext cx="410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им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урок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95076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0" y="1052640"/>
            <a:ext cx="9217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2-tub.yandex.net/i?id=120539438-1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ults.spb.ru/mults/?id=1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рагмент м/ф «38 попугае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kino-hit.net/storage/1643/scrns/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orum.materinstvo.ru/uploads/1236385780/post-70101-1236449698_thumb.pn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че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it2bit.org/torrents/images/5036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besplatnovse.3dn.ru/1/38.popugaev.0-01-5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tskiymultik.at.ua/_ph/16/2/517946444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yltik.ru/db/rus/numbers/velikoe_zakritie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1klip.my1.ru/38.popugaev.0-01-0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net23.ru/uploads/posts/2010-07/net23.ru_1279985273_02e827ee8a8e.pn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mults.spb.ru/mults/?id=1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рагмент м/ф «38 попугае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 http://s09.radikal.ru/i182/1008/01/8fbafee0b054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.afisha.ru/Afisha7Files/UGPhotos/090318213859/090319134556/p_f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слайд 12,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afisha.ru/Afisha7Files/UGPhotos/081010223744/081216234202/p_f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f4.vcp.digitalaccess.ru/contents/d/4/fee17e28bcb8657e7b4e27ce3fd1c7.jpg-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sovetskiy.3dn.ru/2/38.a.vdrug.poluchitsya.0-04-12.jpg -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mul.3dn.ru/pop/38.popugaev.0-02-00.jpg -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multiki.arjlover.net/ap/38.a.vdrug.poluchitsya.avi/38.a.vdrug.poluchitsya.avi.image4.jpg -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fast-torrent.ru/media/photologue/photos/38-popugaev_scene2.jpg -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innok-nikol.narod.ru/images/clip_image017.png-локоть, дюйм, ф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7"/>
          <p:cNvSpPr txBox="1"/>
          <p:nvPr/>
        </p:nvSpPr>
        <p:spPr>
          <a:xfrm>
            <a:off x="1403280" y="26028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нет ресурсы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Картинка 172 из 719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324000" y="0"/>
            <a:ext cx="6480000" cy="671364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post-70101-1236449698_thumb"/>
          <p:cNvPicPr/>
          <p:nvPr/>
        </p:nvPicPr>
        <p:blipFill>
          <a:blip r:embed="rId3"/>
          <a:stretch/>
        </p:blipFill>
        <p:spPr>
          <a:xfrm>
            <a:off x="6300720" y="4005360"/>
            <a:ext cx="2652840" cy="2685960"/>
          </a:xfrm>
          <a:prstGeom prst="rect">
            <a:avLst/>
          </a:prstGeom>
          <a:ln w="0">
            <a:noFill/>
          </a:ln>
        </p:spPr>
      </p:pic>
      <p:pic>
        <p:nvPicPr>
          <p:cNvPr id="57" name="ст игры 2.1.wmv" descr=""/>
          <p:cNvPicPr/>
          <p:nvPr/>
        </p:nvPicPr>
        <p:blipFill>
          <a:blip r:embed="rId4"/>
          <a:stretch/>
        </p:blipFill>
        <p:spPr>
          <a:xfrm>
            <a:off x="755640" y="1197000"/>
            <a:ext cx="5664240" cy="424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1627560" y="5516640"/>
            <a:ext cx="41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ликнуть кнопкой мыши на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172 из 719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395280" y="1052640"/>
            <a:ext cx="6553080" cy="56610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Мы – ум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Мы- друж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Мы- вниматель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Мы – старатель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В первом классе уч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Всё у нас получится.</a:t>
            </a: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post-70101-1236449698_thumb"/>
          <p:cNvPicPr/>
          <p:nvPr/>
        </p:nvPicPr>
        <p:blipFill>
          <a:blip r:embed="rId3"/>
          <a:stretch/>
        </p:blipFill>
        <p:spPr>
          <a:xfrm>
            <a:off x="6227640" y="1628640"/>
            <a:ext cx="26528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143aaf03f7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1979640" y="189000"/>
            <a:ext cx="4492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изменилось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Oval 7"/>
          <p:cNvSpPr/>
          <p:nvPr/>
        </p:nvSpPr>
        <p:spPr>
          <a:xfrm>
            <a:off x="4284720" y="4437000"/>
            <a:ext cx="2520720" cy="2303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284720" y="4437000"/>
            <a:ext cx="2519280" cy="2303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4211640" y="4076640"/>
            <a:ext cx="2665440" cy="2665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4643280" y="4941720"/>
            <a:ext cx="1872000" cy="1730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4716360" y="5013360"/>
            <a:ext cx="1730520" cy="15843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2916360" y="2997360"/>
            <a:ext cx="5113080" cy="1369800"/>
          </a:xfrm>
          <a:prstGeom prst="wedgeEllipseCallout">
            <a:avLst>
              <a:gd name="adj1" fmla="val -49976"/>
              <a:gd name="adj2" fmla="val -9822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4"/>
          <p:cNvSpPr txBox="1"/>
          <p:nvPr/>
        </p:nvSpPr>
        <p:spPr>
          <a:xfrm>
            <a:off x="3924360" y="3429000"/>
            <a:ext cx="3166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8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2050920" y="11592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е следующее число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Oval 7"/>
          <p:cNvSpPr/>
          <p:nvPr/>
        </p:nvSpPr>
        <p:spPr>
          <a:xfrm>
            <a:off x="539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2124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3780000" y="4076640"/>
            <a:ext cx="136656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7020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435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5725440" y="4076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7381440" y="4076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0800000">
            <a:off x="178920" y="2349000"/>
            <a:ext cx="3024360" cy="1150920"/>
          </a:xfrm>
          <a:prstGeom prst="wedgeEllipseCallout">
            <a:avLst>
              <a:gd name="adj1" fmla="val -87064"/>
              <a:gd name="adj2" fmla="val -618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3"/>
          <p:cNvSpPr txBox="1"/>
          <p:nvPr/>
        </p:nvSpPr>
        <p:spPr>
          <a:xfrm>
            <a:off x="468360" y="2637000"/>
            <a:ext cx="24494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ечательно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51794644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>
            <a:off x="611280" y="189000"/>
            <a:ext cx="54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что здесь получится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468360" y="1700280"/>
            <a:ext cx="100944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1476360" y="2205000"/>
            <a:ext cx="20160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909440" y="126828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 flipH="1">
            <a:off x="2842920" y="2637000"/>
            <a:ext cx="865080" cy="863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 flipH="1">
            <a:off x="1258560" y="4221000"/>
            <a:ext cx="865080" cy="863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1547640" y="5516640"/>
            <a:ext cx="2016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4572000" y="5516640"/>
            <a:ext cx="1800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3133440" y="278136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01440" y="371628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1909440" y="537372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4717800" y="537372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5"/>
          <p:cNvSpPr/>
          <p:nvPr/>
        </p:nvSpPr>
        <p:spPr>
          <a:xfrm rot="10800000">
            <a:off x="2916000" y="3933720"/>
            <a:ext cx="5832360" cy="1008000"/>
          </a:xfrm>
          <a:prstGeom prst="wedgeEllipseCallout">
            <a:avLst>
              <a:gd name="adj1" fmla="val -16777"/>
              <a:gd name="adj2" fmla="val 6462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6"/>
          <p:cNvSpPr txBox="1"/>
          <p:nvPr/>
        </p:nvSpPr>
        <p:spPr>
          <a:xfrm>
            <a:off x="3635280" y="414972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, ребята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6518520" y="4724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8"/>
          <p:cNvSpPr/>
          <p:nvPr/>
        </p:nvSpPr>
        <p:spPr>
          <a:xfrm>
            <a:off x="6443640" y="4941720"/>
            <a:ext cx="100980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3636360" y="155592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2"/>
          <p:cNvSpPr/>
          <p:nvPr/>
        </p:nvSpPr>
        <p:spPr>
          <a:xfrm>
            <a:off x="3492360" y="1700280"/>
            <a:ext cx="100980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2125080" y="3213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5"/>
          <p:cNvSpPr/>
          <p:nvPr/>
        </p:nvSpPr>
        <p:spPr>
          <a:xfrm>
            <a:off x="1979640" y="3357720"/>
            <a:ext cx="100980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>
            <a:off x="756720" y="486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9"/>
          <p:cNvSpPr/>
          <p:nvPr/>
        </p:nvSpPr>
        <p:spPr>
          <a:xfrm>
            <a:off x="3636360" y="486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0"/>
          <p:cNvSpPr/>
          <p:nvPr/>
        </p:nvSpPr>
        <p:spPr>
          <a:xfrm>
            <a:off x="539640" y="5084640"/>
            <a:ext cx="100980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2"/>
          <p:cNvSpPr/>
          <p:nvPr/>
        </p:nvSpPr>
        <p:spPr>
          <a:xfrm>
            <a:off x="3564000" y="5084640"/>
            <a:ext cx="100944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Картинка 4 из 6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1116000" y="189000"/>
            <a:ext cx="75614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теперь мы дружно встанем,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Прямоугольник 18"/>
          <p:cNvSpPr/>
          <p:nvPr/>
        </p:nvSpPr>
        <p:spPr>
          <a:xfrm>
            <a:off x="1619280" y="6922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изминутку провед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Зарядка для хвоста.mp3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93636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80536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fdb2cd94f6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 rot="10800000">
            <a:off x="4571640" y="2781000"/>
            <a:ext cx="3600360" cy="1511280"/>
          </a:xfrm>
          <a:prstGeom prst="wedgeEllipseCallout">
            <a:avLst>
              <a:gd name="adj1" fmla="val 72129"/>
              <a:gd name="adj2" fmla="val -283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4859280" y="321300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й длинный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 rot="10800000">
            <a:off x="1187280" y="1051920"/>
            <a:ext cx="3600720" cy="1081080"/>
          </a:xfrm>
          <a:prstGeom prst="wedgeEllipseCallout">
            <a:avLst>
              <a:gd name="adj1" fmla="val -56722"/>
              <a:gd name="adj2" fmla="val -9057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1547640" y="1268280"/>
            <a:ext cx="2953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это такое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AutoShape 10"/>
          <p:cNvSpPr/>
          <p:nvPr/>
        </p:nvSpPr>
        <p:spPr>
          <a:xfrm rot="10800000">
            <a:off x="755280" y="5300640"/>
            <a:ext cx="7489800" cy="1557360"/>
          </a:xfrm>
          <a:prstGeom prst="wedgeEllipseCallout">
            <a:avLst>
              <a:gd name="adj1" fmla="val 12333"/>
              <a:gd name="adj2" fmla="val 135828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1476360" y="5373720"/>
            <a:ext cx="5975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а-это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тяженность линии или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тояние между её концами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Картинка 172 из 719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9"/>
          <p:cNvSpPr/>
          <p:nvPr/>
        </p:nvSpPr>
        <p:spPr>
          <a:xfrm>
            <a:off x="2635560" y="6308640"/>
            <a:ext cx="41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ликнуть кнопкой мыши на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395280" y="404640"/>
            <a:ext cx="8353440" cy="5832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38 попугаев.wmv" descr=""/>
          <p:cNvPicPr/>
          <p:nvPr/>
        </p:nvPicPr>
        <p:blipFill>
          <a:blip r:embed="rId3"/>
          <a:stretch/>
        </p:blipFill>
        <p:spPr>
          <a:xfrm>
            <a:off x="900000" y="692280"/>
            <a:ext cx="73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0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16:34Z</dcterms:created>
  <dc:creator>User</dc:creator>
  <dc:description/>
  <dc:language>en-US</dc:language>
  <cp:lastModifiedBy>Windows7</cp:lastModifiedBy>
  <dcterms:modified xsi:type="dcterms:W3CDTF">2016-10-24T14:58:20Z</dcterms:modified>
  <cp:revision>75</cp:revision>
  <dc:subject/>
  <dc:title>Слайд 1</dc:title>
</cp:coreProperties>
</file>