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BFE6-CFED-4637-8F62-5430CBDAA9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1327-E2C1-41C5-A91C-3BCC66FDD6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94D6-217F-46DB-AFE5-46FBFB7E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DDF8-DA15-4DC0-AEFB-382EDBE4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248C2-EDAD-4D8A-A149-63564051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A35AB-A44C-4594-84B7-3AF6B32D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0FBB4-2367-4923-B25B-60F1080C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0E1D5-4982-4127-977D-7CA33C07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6E95C-9BC6-4314-A709-14C957A2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E0C27-ACFE-4A92-8CBE-F7586DCB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B959B-E803-48A6-97E9-90BD028B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6AE31-0F3D-4648-873A-981E6B31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8E395-59E2-4E09-89DA-44E608D2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C0BD-2BFC-4CAB-9524-AC2423B0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378E-5DFF-4223-8C13-BE5E855B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0C86-9D16-4EDA-995C-A747DC47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B98D-E1CA-44CA-ACE9-1927797A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B9A2-A031-4872-9ED6-0528B8C1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B375-CB1E-4D6D-90BE-304C73C0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76EE-824C-475F-9F36-0B6B9B59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30EE-644B-4841-ACF3-D2F8D2CB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D10C-8E03-47B2-B1E5-A95EEE03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30B6-7AB2-4A55-A7FC-AD712E7B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FDC2-B5F4-4595-B82B-CAF6BFB6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0F7F-C5CB-4254-93E8-C332EA65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DBD3-0451-4E1B-9C34-01D94013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03A3-D9FF-41C7-9858-91C3B6B9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4DF5-5B40-4FBD-9F6C-DC2E3792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9B765-037D-4385-B519-1B0F8972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5171B-63BD-4510-8139-01AB3623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C110A-84BE-40E1-A845-3D4AC735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EF73A-97DD-476C-9F60-9116677D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78288-0566-4103-8A46-4F8D8559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98EB-F87F-4D97-8E81-2A1C750B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C55A6-36CD-4B55-8A1A-76C8D6D2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386C4-A7D6-4EC8-AE3E-75A24BE5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673F2-B10E-474A-B95D-4EE0B33D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62C39-3BF2-40E9-AC75-FAEF91E7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09380-200D-4DA3-A6F6-8D689EE2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F7C56-551D-4AF6-BA8A-2065C274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913F0-E1E9-4128-AA6F-F58BBE47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D80DE-F1AB-461A-A726-A7E9ECC4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1FD05-F31F-46BA-9E49-4D152D9F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F0696-E52F-4B79-B5D4-0AE4BF82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D634-2DA0-4FFC-AF5C-69866381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4A46C-393B-42AF-8084-1E539507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56EC7-7072-4071-95F2-33C60E21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7C208-66E2-4414-94A6-7410E0FC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2F6AF-28B6-4E3E-8C31-15C3329D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BE9BC-434F-47DE-B200-01A32663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E4415-4CF4-4FB9-9548-F5A6C5E9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2E2C2-4106-498D-84F3-815811EE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52FD1-6706-4FBD-9F64-832AEC1D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B1264-AEE8-4B77-A986-5A4DF85F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EDE53-23F2-44F2-AA8D-C31DB082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3DD6-42CD-43AB-B1A0-74CA4B2B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8A5EC-3063-48B5-8CD9-1E3CBC1A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27BDF-E6A7-4E67-8C2E-5FC77B1A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83F5A-9E39-4F95-9C64-C2FC2BDD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0B91F-3017-4120-89E3-899EA261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0469E-D9DF-45ED-8DE7-2F94CD4A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4224B-FCCE-41C7-8551-7250955F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9BE4C-757D-4557-B7CC-21A32B39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55146-630A-4DBA-BF4C-C08792DA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58E8A-B9C7-46FC-B008-021AF5C0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F7C09-1BA6-421E-9AED-5FECB310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1323-AE30-49AC-B5D2-5F19693F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4137F-E4E6-42E3-8210-401E7950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84DC9-522A-4E23-AE11-C6918A5A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131E5-BEBE-4C96-876C-04D17297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013F1-CF7D-44A7-B145-C22A9583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8D6D0-C4A4-407F-A289-C16934B3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F8AAD-27A5-45B4-8A48-1AEEF926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EE27C-550D-4BFF-BCA9-1ED611B1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CC6E2-8E23-4948-8AE2-1A3A3648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5FCD9-73F0-4256-91EF-E3165C59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33979-9181-4D46-944E-634BF20E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58E5-409C-41D4-A43D-EC31842C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0937C-445C-4396-B98B-66B7B412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E8BF5-1AA5-4BAD-A27A-188CE725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A7C26-A7E5-497B-A75D-D61AA21B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88ADF-8E51-4284-B4A6-5F300B27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39B23-5BDA-4AD3-B39D-2EECC73D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83322-9027-4A2D-A7FC-A3EEE53A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80944-BD3F-49B2-A2F0-759F3715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9A060-FB26-4E47-8155-7B01F4DD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A1D3B-C0B1-40E8-B5E8-DA681529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4997F-21AE-4BE4-BE84-5FD6239F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1B05-F8DA-4C3E-82A3-81AC3D73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4E1A8-27A9-44A6-BD9D-8D31C773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4E872-DC40-44B2-80E3-0D8F908B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CC6C9-7613-4CF1-A4BB-3A2477B3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70429-6740-479A-9A3E-9B6AB7C9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9768D-055A-45AA-9EE0-1E952C7A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1ECA8-8FE7-4E77-B4BD-013DDFB1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F2A0C-E52E-4C27-90BF-ED1BBBB3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8E4CC-E359-4014-9CA8-E47A3EBA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21E20-78A9-449C-8D78-D582CF93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511B4-5F20-497A-B822-98FD9672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4B8C-7408-4AF8-B0E9-8FC3651C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2AEBB-B449-4EE2-9328-7AA7ADA1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91916-14A8-4886-A31D-86A16A8B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EB0E4-5474-4CD4-85EE-06DBB26C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10253-4644-4B1E-BBDA-4C6E516F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0EF2A-8501-4B36-B5B3-71887D39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14D2C-49E4-43E9-8689-03057FA9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3A4E5-AC8F-439B-AF00-041CB705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9B84B-8B47-4418-A5AD-C7E23E71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73B32-CB25-49A5-838B-4AAD02AE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F31B9-26AF-4542-99C3-EE659713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99B2-B17D-43ED-B63A-D0ADEF5C58F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F4F3-0F6F-43C7-BD4F-80A296BA9C7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CDD6-6BFE-4BB6-86E8-5C9347D02CE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FC41-1376-47BD-BE33-A276E07B3E7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69F9-1FDA-4BE1-B498-6CB1B7FA184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525E-153C-4C00-BB66-5021EDF26B8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D5BD-28CC-4672-8312-B5BDCF8B25C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AB24-CB14-4CE8-9AEB-9F72E4C426F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17D7-06EA-4D91-B415-0D356703211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C:\Users\Пользователь\Desktop\i.jpg"/>
          <p:cNvPicPr/>
          <p:nvPr/>
        </p:nvPicPr>
        <p:blipFill>
          <a:blip r:embed="rId1"/>
          <a:stretch/>
        </p:blipFill>
        <p:spPr>
          <a:xfrm>
            <a:off x="6480" y="0"/>
            <a:ext cx="4205160" cy="26290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C:\Users\Пользователь\Desktop\н.jpg"/>
          <p:cNvPicPr/>
          <p:nvPr/>
        </p:nvPicPr>
        <p:blipFill>
          <a:blip r:embed="rId2"/>
          <a:stretch/>
        </p:blipFill>
        <p:spPr>
          <a:xfrm>
            <a:off x="3419640" y="1773360"/>
            <a:ext cx="3647880" cy="2431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C:\Users\Пользователь\Desktop\р.jpg"/>
          <p:cNvPicPr/>
          <p:nvPr/>
        </p:nvPicPr>
        <p:blipFill>
          <a:blip r:embed="rId3"/>
          <a:stretch/>
        </p:blipFill>
        <p:spPr>
          <a:xfrm>
            <a:off x="6300720" y="3716280"/>
            <a:ext cx="3138480" cy="234972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8"/>
          <p:cNvSpPr/>
          <p:nvPr/>
        </p:nvSpPr>
        <p:spPr>
          <a:xfrm>
            <a:off x="6172200" y="5765760"/>
            <a:ext cx="33955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zebra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Прямоугольник 9"/>
          <p:cNvSpPr/>
          <p:nvPr/>
        </p:nvSpPr>
        <p:spPr>
          <a:xfrm>
            <a:off x="3413160" y="3890880"/>
            <a:ext cx="33973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camel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Прямоугольник 10"/>
          <p:cNvSpPr/>
          <p:nvPr/>
        </p:nvSpPr>
        <p:spPr>
          <a:xfrm>
            <a:off x="382680" y="2443320"/>
            <a:ext cx="33973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giraffe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Прямоугольник 2"/>
          <p:cNvSpPr/>
          <p:nvPr/>
        </p:nvSpPr>
        <p:spPr>
          <a:xfrm>
            <a:off x="6642360" y="189000"/>
            <a:ext cx="185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0000"/>
                </a:solidFill>
                <a:latin typeface="Franklin Gothic Book"/>
                <a:ea typeface="Calibri"/>
              </a:rPr>
              <a:t>tall</a:t>
            </a: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Прямоугольник 3"/>
          <p:cNvSpPr/>
          <p:nvPr/>
        </p:nvSpPr>
        <p:spPr>
          <a:xfrm>
            <a:off x="131040" y="5005440"/>
            <a:ext cx="288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0000"/>
                </a:solidFill>
                <a:latin typeface="Franklin Gothic Book"/>
                <a:ea typeface="Calibri"/>
              </a:rPr>
              <a:t>short</a:t>
            </a: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C:\Users\Пользователь\Desktop\elephant12.jpg"/>
          <p:cNvPicPr/>
          <p:nvPr/>
        </p:nvPicPr>
        <p:blipFill>
          <a:blip r:embed="rId1"/>
          <a:stretch/>
        </p:blipFill>
        <p:spPr>
          <a:xfrm>
            <a:off x="-133200" y="-33480"/>
            <a:ext cx="3625560" cy="2722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C:\Users\Пользователь\Desktop\Cat03.jpg"/>
          <p:cNvPicPr/>
          <p:nvPr/>
        </p:nvPicPr>
        <p:blipFill>
          <a:blip r:embed="rId2"/>
          <a:stretch/>
        </p:blipFill>
        <p:spPr>
          <a:xfrm>
            <a:off x="6642000" y="3933720"/>
            <a:ext cx="2448000" cy="24447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C:\Users\Пользователь\Desktop\chimp.jpg"/>
          <p:cNvPicPr/>
          <p:nvPr/>
        </p:nvPicPr>
        <p:blipFill>
          <a:blip r:embed="rId3"/>
          <a:stretch/>
        </p:blipFill>
        <p:spPr>
          <a:xfrm>
            <a:off x="3503520" y="2279520"/>
            <a:ext cx="3240360" cy="2430720"/>
          </a:xfrm>
          <a:prstGeom prst="rect">
            <a:avLst/>
          </a:prstGeom>
          <a:ln w="0">
            <a:noFill/>
          </a:ln>
        </p:spPr>
      </p:pic>
      <p:sp>
        <p:nvSpPr>
          <p:cNvPr id="417" name="Прямоугольник 4"/>
          <p:cNvSpPr/>
          <p:nvPr/>
        </p:nvSpPr>
        <p:spPr>
          <a:xfrm>
            <a:off x="-104760" y="2597040"/>
            <a:ext cx="356868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Elephant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Прямоугольник 6"/>
          <p:cNvSpPr/>
          <p:nvPr/>
        </p:nvSpPr>
        <p:spPr>
          <a:xfrm>
            <a:off x="3424320" y="4437000"/>
            <a:ext cx="33973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monkey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Прямоугольник 11"/>
          <p:cNvSpPr/>
          <p:nvPr/>
        </p:nvSpPr>
        <p:spPr>
          <a:xfrm>
            <a:off x="6300720" y="6021360"/>
            <a:ext cx="339588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cat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0" name="Picture 4" descr="C:\Users\Пользователь\Desktop\chimp.jpg"/>
          <p:cNvPicPr/>
          <p:nvPr/>
        </p:nvPicPr>
        <p:blipFill>
          <a:blip r:embed="rId4"/>
          <a:stretch/>
        </p:blipFill>
        <p:spPr>
          <a:xfrm>
            <a:off x="3490920" y="2279520"/>
            <a:ext cx="3240000" cy="2430720"/>
          </a:xfrm>
          <a:prstGeom prst="rect">
            <a:avLst/>
          </a:prstGeom>
          <a:ln w="0">
            <a:noFill/>
          </a:ln>
        </p:spPr>
      </p:pic>
      <p:sp>
        <p:nvSpPr>
          <p:cNvPr id="421" name="Прямоугольник 13"/>
          <p:cNvSpPr/>
          <p:nvPr/>
        </p:nvSpPr>
        <p:spPr>
          <a:xfrm>
            <a:off x="3413160" y="4437000"/>
            <a:ext cx="33973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monkey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Прямоугольник 14"/>
          <p:cNvSpPr/>
          <p:nvPr/>
        </p:nvSpPr>
        <p:spPr>
          <a:xfrm>
            <a:off x="5875200" y="0"/>
            <a:ext cx="2916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0000"/>
                </a:solidFill>
                <a:latin typeface="Franklin Gothic Book"/>
                <a:ea typeface="Calibri"/>
              </a:rPr>
              <a:t>small</a:t>
            </a: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Прямоугольник 15"/>
          <p:cNvSpPr/>
          <p:nvPr/>
        </p:nvSpPr>
        <p:spPr>
          <a:xfrm>
            <a:off x="536760" y="4729320"/>
            <a:ext cx="1936440" cy="16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00000"/>
                </a:solidFill>
                <a:latin typeface="Franklin Gothic Book"/>
                <a:ea typeface="Calibri"/>
              </a:rPr>
              <a:t>big</a:t>
            </a:r>
            <a:endParaRPr b="0" lang="en-US" sz="8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C:\Users\Пользователь\Desktop\de00b417c4fe.png"/>
          <p:cNvPicPr/>
          <p:nvPr/>
        </p:nvPicPr>
        <p:blipFill>
          <a:blip r:embed="rId1"/>
          <a:stretch/>
        </p:blipFill>
        <p:spPr>
          <a:xfrm>
            <a:off x="324000" y="-351000"/>
            <a:ext cx="3240000" cy="28083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C:\Users\Пользователь\Desktop\0_86ab1_87d4f6ce_orig.png"/>
          <p:cNvPicPr/>
          <p:nvPr/>
        </p:nvPicPr>
        <p:blipFill>
          <a:blip r:embed="rId2"/>
          <a:stretch/>
        </p:blipFill>
        <p:spPr>
          <a:xfrm>
            <a:off x="10909440" y="8896320"/>
            <a:ext cx="8491320" cy="76233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C:\Users\Пользователь\Desktop\0_86ab1_87d4f6ce_orig.png"/>
          <p:cNvPicPr/>
          <p:nvPr/>
        </p:nvPicPr>
        <p:blipFill>
          <a:blip r:embed="rId3"/>
          <a:stretch/>
        </p:blipFill>
        <p:spPr>
          <a:xfrm>
            <a:off x="2932200" y="1628640"/>
            <a:ext cx="3644640" cy="29527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C:\Users\Пользователь\Desktop\back-to-school-6029689.jpg"/>
          <p:cNvPicPr/>
          <p:nvPr/>
        </p:nvPicPr>
        <p:blipFill>
          <a:blip r:embed="rId4"/>
          <a:stretch/>
        </p:blipFill>
        <p:spPr>
          <a:xfrm>
            <a:off x="6688080" y="2992320"/>
            <a:ext cx="2411640" cy="3178440"/>
          </a:xfrm>
          <a:prstGeom prst="rect">
            <a:avLst/>
          </a:prstGeom>
          <a:ln w="0">
            <a:noFill/>
          </a:ln>
        </p:spPr>
      </p:pic>
      <p:sp>
        <p:nvSpPr>
          <p:cNvPr id="428" name="Прямоугольник 2"/>
          <p:cNvSpPr/>
          <p:nvPr/>
        </p:nvSpPr>
        <p:spPr>
          <a:xfrm>
            <a:off x="354960" y="5084640"/>
            <a:ext cx="162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0000"/>
                </a:solidFill>
                <a:latin typeface="Franklin Gothic Book"/>
                <a:ea typeface="Calibri"/>
              </a:rPr>
              <a:t>fat</a:t>
            </a: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Прямоугольник 3"/>
          <p:cNvSpPr/>
          <p:nvPr/>
        </p:nvSpPr>
        <p:spPr>
          <a:xfrm>
            <a:off x="5851440" y="282600"/>
            <a:ext cx="230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0000"/>
                </a:solidFill>
                <a:latin typeface="Franklin Gothic Book"/>
                <a:ea typeface="Calibri"/>
              </a:rPr>
              <a:t>slim</a:t>
            </a: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Прямоугольник 8"/>
          <p:cNvSpPr/>
          <p:nvPr/>
        </p:nvSpPr>
        <p:spPr>
          <a:xfrm>
            <a:off x="270000" y="2013120"/>
            <a:ext cx="33955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Nick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Прямоугольник 9"/>
          <p:cNvSpPr/>
          <p:nvPr/>
        </p:nvSpPr>
        <p:spPr>
          <a:xfrm>
            <a:off x="6195960" y="5950080"/>
            <a:ext cx="339588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Martin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Прямоугольник 10"/>
          <p:cNvSpPr/>
          <p:nvPr/>
        </p:nvSpPr>
        <p:spPr>
          <a:xfrm>
            <a:off x="3056040" y="4221000"/>
            <a:ext cx="33973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Alex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C:\Users\Пользователь\Desktop\л.jpg"/>
          <p:cNvPicPr/>
          <p:nvPr/>
        </p:nvPicPr>
        <p:blipFill>
          <a:blip r:embed="rId1"/>
          <a:stretch/>
        </p:blipFill>
        <p:spPr>
          <a:xfrm>
            <a:off x="-6480" y="0"/>
            <a:ext cx="3570480" cy="24573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C:\Users\Пользователь\Desktop\до.jpg"/>
          <p:cNvPicPr/>
          <p:nvPr/>
        </p:nvPicPr>
        <p:blipFill>
          <a:blip r:embed="rId2"/>
          <a:stretch/>
        </p:blipFill>
        <p:spPr>
          <a:xfrm>
            <a:off x="3540240" y="1730520"/>
            <a:ext cx="3467160" cy="26892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C:\Users\Пользователь\Desktop\pamyat_vodu.jpg"/>
          <p:cNvPicPr/>
          <p:nvPr/>
        </p:nvPicPr>
        <p:blipFill>
          <a:blip r:embed="rId3"/>
          <a:stretch/>
        </p:blipFill>
        <p:spPr>
          <a:xfrm>
            <a:off x="6095880" y="4133880"/>
            <a:ext cx="3576600" cy="2724120"/>
          </a:xfrm>
          <a:prstGeom prst="rect">
            <a:avLst/>
          </a:prstGeom>
          <a:ln w="0">
            <a:noFill/>
          </a:ln>
        </p:spPr>
      </p:pic>
      <p:sp>
        <p:nvSpPr>
          <p:cNvPr id="436" name="Прямоугольник 5"/>
          <p:cNvSpPr/>
          <p:nvPr/>
        </p:nvSpPr>
        <p:spPr>
          <a:xfrm>
            <a:off x="645480" y="4869000"/>
            <a:ext cx="226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00000"/>
                </a:solidFill>
                <a:latin typeface="Franklin Gothic Book"/>
                <a:ea typeface="Calibri"/>
              </a:rPr>
              <a:t>hot</a:t>
            </a:r>
            <a:endParaRPr b="0" lang="en-US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7" name="Прямоугольник 6"/>
          <p:cNvSpPr/>
          <p:nvPr/>
        </p:nvSpPr>
        <p:spPr>
          <a:xfrm>
            <a:off x="6741720" y="101520"/>
            <a:ext cx="228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0000"/>
                </a:solidFill>
                <a:latin typeface="Franklin Gothic Book"/>
                <a:ea typeface="Calibri"/>
              </a:rPr>
              <a:t>cold</a:t>
            </a: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" descr="C:\Users\Пользователь\Desktop\s.jpg"/>
          <p:cNvPicPr/>
          <p:nvPr/>
        </p:nvPicPr>
        <p:blipFill>
          <a:blip r:embed="rId1"/>
          <a:stretch/>
        </p:blipFill>
        <p:spPr>
          <a:xfrm>
            <a:off x="0" y="14400"/>
            <a:ext cx="3381480" cy="27320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3" descr="C:\Users\Пользователь\Desktop\2014-10-30_075659.jpg"/>
          <p:cNvPicPr/>
          <p:nvPr/>
        </p:nvPicPr>
        <p:blipFill>
          <a:blip r:embed="rId2"/>
          <a:stretch/>
        </p:blipFill>
        <p:spPr>
          <a:xfrm>
            <a:off x="3995640" y="1366920"/>
            <a:ext cx="2122560" cy="2889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C:\Users\Пользователь\Desktop\harry-potter-the-complete-8-film-collection-blu-ray-cover-86.jpg"/>
          <p:cNvPicPr/>
          <p:nvPr/>
        </p:nvPicPr>
        <p:blipFill>
          <a:blip r:embed="rId3"/>
          <a:stretch/>
        </p:blipFill>
        <p:spPr>
          <a:xfrm>
            <a:off x="6597720" y="2882880"/>
            <a:ext cx="2546280" cy="3243240"/>
          </a:xfrm>
          <a:prstGeom prst="rect">
            <a:avLst/>
          </a:prstGeom>
          <a:ln w="0">
            <a:noFill/>
          </a:ln>
        </p:spPr>
      </p:pic>
      <p:sp>
        <p:nvSpPr>
          <p:cNvPr id="441" name="Прямоугольник 8"/>
          <p:cNvSpPr/>
          <p:nvPr/>
        </p:nvSpPr>
        <p:spPr>
          <a:xfrm>
            <a:off x="-631080" y="5272200"/>
            <a:ext cx="69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00000"/>
                </a:solidFill>
                <a:latin typeface="Franklin Gothic Book"/>
                <a:ea typeface="Calibri"/>
              </a:rPr>
              <a:t>interesting</a:t>
            </a:r>
            <a:endParaRPr b="0" lang="en-US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Прямоугольник 9"/>
          <p:cNvSpPr/>
          <p:nvPr/>
        </p:nvSpPr>
        <p:spPr>
          <a:xfrm>
            <a:off x="5319720" y="-203040"/>
            <a:ext cx="420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00000"/>
                </a:solidFill>
                <a:latin typeface="Franklin Gothic Book"/>
                <a:ea typeface="Calibri"/>
              </a:rPr>
              <a:t>boring</a:t>
            </a:r>
            <a:endParaRPr b="0" lang="en-US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3" name="Прямоугольник 10"/>
          <p:cNvSpPr/>
          <p:nvPr/>
        </p:nvSpPr>
        <p:spPr>
          <a:xfrm>
            <a:off x="3187800" y="4179960"/>
            <a:ext cx="33955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magazine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8T11:35:58Z</dcterms:created>
  <dc:creator>Пользователь</dc:creator>
  <dc:description/>
  <dc:language>en-US</dc:language>
  <cp:lastModifiedBy>Пользователь</cp:lastModifiedBy>
  <dcterms:modified xsi:type="dcterms:W3CDTF">2018-03-30T09:01:21Z</dcterms:modified>
  <cp:revision>9</cp:revision>
  <dc:subject/>
  <dc:title>Презентация PowerPoint</dc:title>
</cp:coreProperties>
</file>