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EB1B-A49C-4E63-A7D7-6F8884893D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A155-1A7E-4CEC-A7D5-B9FA6B1C7A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FD4-8D27-46AA-B6F2-AD43265C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204-1EDD-43A4-8119-4205B1F6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423A9-711C-472E-939B-876DFC86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BA4E9-DBFD-4BFD-B1B7-258F9B6E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D4303-7D51-4A02-A6E6-094473A2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1CE95-06BE-40DC-B554-0142C42E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A7AB2-EF83-4A25-A06D-EA8C41A2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6C347-ADE2-49EC-9A9F-2B05026E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EFCA7-FBD4-4EEA-9629-837F3900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99857-6279-4316-84A6-4D72896F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99E61-7D44-4E24-BC4F-C25A191B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EE6-FFAD-4E52-8C36-98870220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A30-5FF2-4405-8F34-948B5FCF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B990-D911-4DD8-A24F-8A22807B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785B-64F6-4784-8AD7-661CA774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D15D-31E1-44BA-808D-1D6BACA0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DA9D-F214-4D6D-89FC-50158DD3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39BE-783C-4D0F-9328-D36C48F6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488C-3A82-4FA5-8B86-0B6FE83A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66E6-4F6C-4EA9-AC5F-5DE8E348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272-7F57-47E5-8F2D-76D582BA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9414-FAD8-4047-8E90-2EA51E8D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1F6A-F86F-4BE3-B21D-CEDF5497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90E6-468A-4DCF-A5AC-EDCA9224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023F-0EBD-46D3-9491-C008DE85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466C-93D6-4BD9-AACF-A106C5BC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26A12-AF23-4BFA-B08E-51424357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69336-2E9A-4B79-BB03-1A976E42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C2CD-6B09-4503-8B24-316A16A1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A816C-3121-4D43-961F-62D90308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312F-A88B-4BBB-8D02-02738F50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1B06-A113-4BAF-AB0D-CF73B8AD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E6752-1670-4D29-B825-B94ED49D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1F1FF-CCDD-43CB-B8E9-8E5A6F59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D141A-569F-4E4A-B595-AAE888CD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869E0-6766-4ABC-91AF-08DA518A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F8785-7398-4360-B748-7F3FEB5A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5CAB-BB19-4886-B394-4EB22614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77FF-0065-40B2-AC69-5CA46D89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51807-37F0-4D9E-839E-194B4CC6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B2124-69EB-4E4C-B75B-60E2C189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8B525-F4C6-4DC3-AFD5-C873B320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F13-60B9-436D-9B18-78A04B77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77473-3B32-4FD5-A6A1-E0E45803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D4BDA-D57F-463C-9B99-00CCF365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0D65D-0430-4709-A38E-E5339DC1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8532B-1012-4C38-83D6-26CC756F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AF7B2-F262-42A8-9F3E-F7ADEF1E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5FC89-6712-43C2-BD1F-21AF8ABA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D58E2-91D7-4D2F-88C8-7059C3E6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F0FC9-A11A-45F6-823B-569BD9AB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7F3DE-15AA-45D7-BB2A-9C790293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2211B-4D89-4354-88A0-B2CE00E6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998-83C6-4E8E-82D9-CA29F5EB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52470-8F43-4B4A-A94A-FAF72DE6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2B9CF-6BF9-446E-A521-123C8851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5C5E1-8BD2-4D6F-8C02-C4B38A0D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CDDC8-01EA-480E-B625-5CBADD0E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B7AD3-133B-4A08-AA6B-AD01A064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39D1E-5B95-43D3-BA3C-5918BFD6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52087-1BB7-43CF-BD1F-5909F47F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14FBD-C8B1-407F-8D72-C73F1F64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852AA-E926-4A2A-A836-3F75ACDB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11044-5923-4727-9837-0257D812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C12-FF8E-4633-AB32-61DE256F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C47D1-3A8D-4810-B765-6500B1DF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91E26-45A7-4485-8365-F4343B2A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A2AE5-3036-4AFC-831E-1B18A822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15C6A-079D-49C2-8F9E-27B1C2BE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7EF0D-203A-4102-A161-E2E977D7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BECD4-63DF-4D0F-8C00-6414AAB1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B877E-F3A9-4540-A695-2AE51BC3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839CE-1B49-4529-982D-41F1CC81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28A93-4024-4782-B3D0-6549E9F8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9B5CD-B3B8-4572-BED0-E97DCB1E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48E-B615-4E32-AB73-61D33A70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27861-C0B2-4BD2-A4F7-58D4AA75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A1499-1290-4EEF-93A0-2A37A5B5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B5CE4-56D0-428A-9F87-81F81E4B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423DD-8D45-449F-8293-768E1B0C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03DCC-66A5-473E-A3D2-3A7851C0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F1C06-3D8B-4C84-8943-EB440D04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2D28C-8A70-45B2-B4C8-73F223CB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F8C00-D7A1-48F5-8310-9C0D62FB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A9027-69A2-47CF-905C-BD88BD77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9297A-0C88-49CF-BF74-B9FE98BD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9AA-913C-428D-B041-F502DAD4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867F5-FCC9-493F-9B80-3DF55B24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CA323-65DF-49E9-9ADF-8BEF838C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9AFF7-3B3A-4199-82FB-5D19448D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EF7F8-6C44-45C5-A1E0-067A8E5B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80249-5A38-4493-90BF-16C7A71F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F2AF1-1337-4FF9-A740-2AE38F53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10222-CC25-4E56-B292-9D0B6ABD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49ACD-89AD-4CBD-BEB4-9429BB12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D6F93-5151-437B-ABC2-54C3792E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28967-0BAF-4B76-943E-C024AC93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585-8B57-4613-B229-3C9F8BF3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0353B-E0C1-46B6-A111-6BFF7CF6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D95DE-D989-42F0-A6C0-C1567310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99D6F-8494-4D8E-808F-6CC0DF66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45718-0C66-4612-9EE9-40D2BF9D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2750B-085B-4ACC-8AAA-E50F5E43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DAEEC-302A-4245-9E67-8B99BE6F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93FD7-A263-4B7D-B11A-64F7A935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272BD-DBE7-479C-AE2F-89FD6807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6F5D3-4575-413E-8153-AD8FCA3A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A10CE-7D1E-479D-89A5-3BF598AB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8E2A-5D17-4BA2-B839-D7375312160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D319-B2D3-4C89-8057-EC24AC0EC52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6B8C-BDA1-4A1D-BD88-03BF807CB89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897D-1A52-4F63-81FD-EC5A2B475EA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1A3A-D4AE-4E7C-8C40-926F844C733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ACBD-50CF-48F7-B2B2-83E60BF3E44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9DC2-B289-4DEA-8679-6FF6D2917F4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AD77-0AD3-45E7-96E5-D744BBAC1A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EE42-38F6-4370-AF72-275E890059D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C:\Users\Пользователь\Desktop\i.jpg"/>
          <p:cNvPicPr/>
          <p:nvPr/>
        </p:nvPicPr>
        <p:blipFill>
          <a:blip r:embed="rId1"/>
          <a:stretch/>
        </p:blipFill>
        <p:spPr>
          <a:xfrm>
            <a:off x="6480" y="0"/>
            <a:ext cx="4205160" cy="2629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Пользователь\Desktop\н.jpg"/>
          <p:cNvPicPr/>
          <p:nvPr/>
        </p:nvPicPr>
        <p:blipFill>
          <a:blip r:embed="rId2"/>
          <a:stretch/>
        </p:blipFill>
        <p:spPr>
          <a:xfrm>
            <a:off x="3419640" y="1773360"/>
            <a:ext cx="3647880" cy="2431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Users\Пользователь\Desktop\р.jpg"/>
          <p:cNvPicPr/>
          <p:nvPr/>
        </p:nvPicPr>
        <p:blipFill>
          <a:blip r:embed="rId3"/>
          <a:stretch/>
        </p:blipFill>
        <p:spPr>
          <a:xfrm>
            <a:off x="6300720" y="3716280"/>
            <a:ext cx="3138480" cy="234972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8"/>
          <p:cNvSpPr/>
          <p:nvPr/>
        </p:nvSpPr>
        <p:spPr>
          <a:xfrm>
            <a:off x="6172200" y="5765760"/>
            <a:ext cx="33955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zebra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Прямоугольник 9"/>
          <p:cNvSpPr/>
          <p:nvPr/>
        </p:nvSpPr>
        <p:spPr>
          <a:xfrm>
            <a:off x="3413160" y="3890880"/>
            <a:ext cx="33973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camel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Прямоугольник 10"/>
          <p:cNvSpPr/>
          <p:nvPr/>
        </p:nvSpPr>
        <p:spPr>
          <a:xfrm>
            <a:off x="382680" y="2443320"/>
            <a:ext cx="33973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giraffe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Прямоугольник 2"/>
          <p:cNvSpPr/>
          <p:nvPr/>
        </p:nvSpPr>
        <p:spPr>
          <a:xfrm>
            <a:off x="6642360" y="189000"/>
            <a:ext cx="185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tall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Прямоугольник 3"/>
          <p:cNvSpPr/>
          <p:nvPr/>
        </p:nvSpPr>
        <p:spPr>
          <a:xfrm>
            <a:off x="131040" y="5005440"/>
            <a:ext cx="288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short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C:\Users\Пользователь\Desktop\elephant12.jpg"/>
          <p:cNvPicPr/>
          <p:nvPr/>
        </p:nvPicPr>
        <p:blipFill>
          <a:blip r:embed="rId1"/>
          <a:stretch/>
        </p:blipFill>
        <p:spPr>
          <a:xfrm>
            <a:off x="-133200" y="-33480"/>
            <a:ext cx="3625560" cy="2722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C:\Users\Пользователь\Desktop\Cat03.jpg"/>
          <p:cNvPicPr/>
          <p:nvPr/>
        </p:nvPicPr>
        <p:blipFill>
          <a:blip r:embed="rId2"/>
          <a:stretch/>
        </p:blipFill>
        <p:spPr>
          <a:xfrm>
            <a:off x="6642000" y="3933720"/>
            <a:ext cx="2448000" cy="24447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Users\Пользователь\Desktop\chimp.jpg"/>
          <p:cNvPicPr/>
          <p:nvPr/>
        </p:nvPicPr>
        <p:blipFill>
          <a:blip r:embed="rId3"/>
          <a:stretch/>
        </p:blipFill>
        <p:spPr>
          <a:xfrm>
            <a:off x="3503520" y="2279520"/>
            <a:ext cx="3240360" cy="243072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4"/>
          <p:cNvSpPr/>
          <p:nvPr/>
        </p:nvSpPr>
        <p:spPr>
          <a:xfrm>
            <a:off x="-104760" y="2597040"/>
            <a:ext cx="35686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Elephant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Прямоугольник 6"/>
          <p:cNvSpPr/>
          <p:nvPr/>
        </p:nvSpPr>
        <p:spPr>
          <a:xfrm>
            <a:off x="3424320" y="4437000"/>
            <a:ext cx="33973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monkey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00720" y="6021360"/>
            <a:ext cx="33958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cat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0" name="Picture 4" descr="C:\Users\Пользователь\Desktop\chimp.jpg"/>
          <p:cNvPicPr/>
          <p:nvPr/>
        </p:nvPicPr>
        <p:blipFill>
          <a:blip r:embed="rId4"/>
          <a:stretch/>
        </p:blipFill>
        <p:spPr>
          <a:xfrm>
            <a:off x="3490920" y="2279520"/>
            <a:ext cx="3240000" cy="243072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13"/>
          <p:cNvSpPr/>
          <p:nvPr/>
        </p:nvSpPr>
        <p:spPr>
          <a:xfrm>
            <a:off x="3413160" y="4437000"/>
            <a:ext cx="33973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monkey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Прямоугольник 14"/>
          <p:cNvSpPr/>
          <p:nvPr/>
        </p:nvSpPr>
        <p:spPr>
          <a:xfrm>
            <a:off x="5875200" y="0"/>
            <a:ext cx="2916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small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Прямоугольник 15"/>
          <p:cNvSpPr/>
          <p:nvPr/>
        </p:nvSpPr>
        <p:spPr>
          <a:xfrm>
            <a:off x="536760" y="4729320"/>
            <a:ext cx="1936440" cy="16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big</a:t>
            </a:r>
            <a:endParaRPr b="0" lang="en-US" sz="8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C:\Users\Пользователь\Desktop\de00b417c4fe.png"/>
          <p:cNvPicPr/>
          <p:nvPr/>
        </p:nvPicPr>
        <p:blipFill>
          <a:blip r:embed="rId1"/>
          <a:stretch/>
        </p:blipFill>
        <p:spPr>
          <a:xfrm>
            <a:off x="324000" y="-351000"/>
            <a:ext cx="3240000" cy="2808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Users\Пользователь\Desktop\0_86ab1_87d4f6ce_orig.png"/>
          <p:cNvPicPr/>
          <p:nvPr/>
        </p:nvPicPr>
        <p:blipFill>
          <a:blip r:embed="rId2"/>
          <a:stretch/>
        </p:blipFill>
        <p:spPr>
          <a:xfrm>
            <a:off x="10909440" y="8896320"/>
            <a:ext cx="8491320" cy="7623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C:\Users\Пользователь\Desktop\0_86ab1_87d4f6ce_orig.png"/>
          <p:cNvPicPr/>
          <p:nvPr/>
        </p:nvPicPr>
        <p:blipFill>
          <a:blip r:embed="rId3"/>
          <a:stretch/>
        </p:blipFill>
        <p:spPr>
          <a:xfrm>
            <a:off x="2932200" y="1628640"/>
            <a:ext cx="3644640" cy="2952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Users\Пользователь\Desktop\back-to-school-6029689.jpg"/>
          <p:cNvPicPr/>
          <p:nvPr/>
        </p:nvPicPr>
        <p:blipFill>
          <a:blip r:embed="rId4"/>
          <a:stretch/>
        </p:blipFill>
        <p:spPr>
          <a:xfrm>
            <a:off x="6688080" y="2992320"/>
            <a:ext cx="2411640" cy="317844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2"/>
          <p:cNvSpPr/>
          <p:nvPr/>
        </p:nvSpPr>
        <p:spPr>
          <a:xfrm>
            <a:off x="354960" y="5084640"/>
            <a:ext cx="162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fat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5851440" y="282600"/>
            <a:ext cx="230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slim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Прямоугольник 8"/>
          <p:cNvSpPr/>
          <p:nvPr/>
        </p:nvSpPr>
        <p:spPr>
          <a:xfrm>
            <a:off x="270000" y="2013120"/>
            <a:ext cx="33955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Nick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Прямоугольник 9"/>
          <p:cNvSpPr/>
          <p:nvPr/>
        </p:nvSpPr>
        <p:spPr>
          <a:xfrm>
            <a:off x="6195960" y="5950080"/>
            <a:ext cx="33958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Martin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Прямоугольник 10"/>
          <p:cNvSpPr/>
          <p:nvPr/>
        </p:nvSpPr>
        <p:spPr>
          <a:xfrm>
            <a:off x="3056040" y="4221000"/>
            <a:ext cx="33973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Alex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C:\Users\Пользователь\Desktop\л.jpg"/>
          <p:cNvPicPr/>
          <p:nvPr/>
        </p:nvPicPr>
        <p:blipFill>
          <a:blip r:embed="rId1"/>
          <a:stretch/>
        </p:blipFill>
        <p:spPr>
          <a:xfrm>
            <a:off x="-6480" y="0"/>
            <a:ext cx="3570480" cy="2457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Users\Пользователь\Desktop\до.jpg"/>
          <p:cNvPicPr/>
          <p:nvPr/>
        </p:nvPicPr>
        <p:blipFill>
          <a:blip r:embed="rId2"/>
          <a:stretch/>
        </p:blipFill>
        <p:spPr>
          <a:xfrm>
            <a:off x="3540240" y="1730520"/>
            <a:ext cx="3467160" cy="2689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C:\Users\Пользователь\Desktop\pamyat_vodu.jpg"/>
          <p:cNvPicPr/>
          <p:nvPr/>
        </p:nvPicPr>
        <p:blipFill>
          <a:blip r:embed="rId3"/>
          <a:stretch/>
        </p:blipFill>
        <p:spPr>
          <a:xfrm>
            <a:off x="6095880" y="4133880"/>
            <a:ext cx="3576600" cy="272412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5"/>
          <p:cNvSpPr/>
          <p:nvPr/>
        </p:nvSpPr>
        <p:spPr>
          <a:xfrm>
            <a:off x="645480" y="4869000"/>
            <a:ext cx="226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hot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Прямоугольник 6"/>
          <p:cNvSpPr/>
          <p:nvPr/>
        </p:nvSpPr>
        <p:spPr>
          <a:xfrm>
            <a:off x="6741720" y="101520"/>
            <a:ext cx="228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cold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C:\Users\Пользователь\Desktop\s.jpg"/>
          <p:cNvPicPr/>
          <p:nvPr/>
        </p:nvPicPr>
        <p:blipFill>
          <a:blip r:embed="rId1"/>
          <a:stretch/>
        </p:blipFill>
        <p:spPr>
          <a:xfrm>
            <a:off x="0" y="14400"/>
            <a:ext cx="3381480" cy="27320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C:\Users\Пользователь\Desktop\2014-10-30_075659.jpg"/>
          <p:cNvPicPr/>
          <p:nvPr/>
        </p:nvPicPr>
        <p:blipFill>
          <a:blip r:embed="rId2"/>
          <a:stretch/>
        </p:blipFill>
        <p:spPr>
          <a:xfrm>
            <a:off x="3995640" y="1366920"/>
            <a:ext cx="2122560" cy="2889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C:\Users\Пользователь\Desktop\harry-potter-the-complete-8-film-collection-blu-ray-cover-86.jpg"/>
          <p:cNvPicPr/>
          <p:nvPr/>
        </p:nvPicPr>
        <p:blipFill>
          <a:blip r:embed="rId3"/>
          <a:stretch/>
        </p:blipFill>
        <p:spPr>
          <a:xfrm>
            <a:off x="6597720" y="2882880"/>
            <a:ext cx="2546280" cy="324324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8"/>
          <p:cNvSpPr/>
          <p:nvPr/>
        </p:nvSpPr>
        <p:spPr>
          <a:xfrm>
            <a:off x="-631080" y="5272200"/>
            <a:ext cx="69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interesting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Прямоугольник 9"/>
          <p:cNvSpPr/>
          <p:nvPr/>
        </p:nvSpPr>
        <p:spPr>
          <a:xfrm>
            <a:off x="5319720" y="-203040"/>
            <a:ext cx="420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Franklin Gothic Book"/>
                <a:ea typeface="Calibri"/>
              </a:rPr>
              <a:t>boring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Прямоугольник 10"/>
          <p:cNvSpPr/>
          <p:nvPr/>
        </p:nvSpPr>
        <p:spPr>
          <a:xfrm>
            <a:off x="3187800" y="4179960"/>
            <a:ext cx="33955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magazine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11:35:58Z</dcterms:created>
  <dc:creator>Пользователь</dc:creator>
  <dc:description/>
  <dc:language>en-US</dc:language>
  <cp:lastModifiedBy>Пользователь</cp:lastModifiedBy>
  <dcterms:modified xsi:type="dcterms:W3CDTF">2018-03-30T09:01:21Z</dcterms:modified>
  <cp:revision>9</cp:revision>
  <dc:subject/>
  <dc:title>Презентация PowerPoint</dc:title>
</cp:coreProperties>
</file>