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D46-C509-483B-A27D-805F859B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8E9-C99C-44C1-BB9B-6F549B90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FA176-203C-4700-B942-DD4480C7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76A00-12D9-4F9C-92BF-AD6D52B6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757EF-A70D-4FF1-8612-FDB98D7C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21F4C-E581-42A0-A0AF-B196BF3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8A27F-3938-427C-B848-14EAD1C7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47162-6080-4A43-AA31-574288ED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9AAA5-139C-4CEC-B759-7A763646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35673-2A74-4DE8-B0BD-9851A8C4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C3F5E-E5F0-439C-AB9B-4B645ADC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403-1D90-4B49-98CD-EBF40AE0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B03-9CB8-4E02-BDB6-0005F8F5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BE4E-0F66-4109-BFE4-729CC4BA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6F9E-C6A3-4E31-9658-0C4CFDEE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7FAD-DD3D-4CAA-AF4F-0586DC13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84BD-7C36-4BE8-94F1-2510D388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039F-9D87-4D05-8E99-28852C45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9D39-0727-4F6D-96A4-14C95E81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4426-5183-4BE4-8F5B-D8CAF1AF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AC3-5797-429F-97B3-22E41991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593F-E6B4-4CE6-A972-4A9C8DA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EC95-92B6-4784-84E6-8F006B77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BD8-2BC3-4326-B9C4-C92C3A1F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B82B-2F8C-486B-943D-A92186AF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746-2874-4482-AAB4-D22CDD8A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F70F-41F8-4F08-BF31-3239A5F7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7AB3-05DA-450D-AC13-0A6CB77E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6BFE-40F8-4046-84E3-6738087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B231-EBAB-45E8-9F6D-14905030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FBE3-3624-4E72-9643-60F7605A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F2D-1CC1-4FDE-9166-4F4D5BF1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5BAA-0510-41E1-9EB0-9F2E50CB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1FC5-AD59-4607-BE14-FDC665B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B100-A791-446A-BB53-2CAC1F1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B6ED-0909-4943-809D-FDA54C5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CBAB-3622-4028-9B3F-E23EBDA5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BC220-E5EB-4AFB-9F5E-748AD9EA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2965-B4A4-49AD-A904-5DC665E0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51D7-DDC1-4D3C-B6C6-BD519B31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B6E9-E69C-4DA5-B2FE-9AA9AE36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31A3-7AE6-41E7-B06E-2203DED9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D62-206E-452F-90CB-4F12EACE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B7AFA-1046-4E87-B642-0E42A85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1EA8-119D-4CE0-BCCA-0863AF5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A6BF-D841-4130-B9C9-045A7A3B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CB3F-9781-42A6-B321-435BAC5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2238-F9C9-4421-97EE-E8F4A7E3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1EFB-5723-4254-B905-19AA25D1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2D23-165F-4B64-B9B7-5CC69A92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F73C-D883-494A-87C4-21495A1A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1206F-9EE1-4B49-907B-F24DB2E8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14B31-5F49-427A-86DC-642AAFF6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4B6-52A4-4242-A01F-E85FC4AA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A80E-AAED-4E4B-B688-B3A159E2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96CFA-FF41-42B5-BBB2-7369AE84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6F124-6999-410F-9D9B-1487A35C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0F12-1963-44D7-815C-B531D400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D89E-25DB-4A76-816A-82A29E84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59434-2521-40A4-8E58-85CD246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759D2-D781-4C34-A279-27080525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916A-B264-43B5-A3A3-F8BD8FE9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7F084-3A14-4B2E-A8AE-DF5E6BD2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83CF-F582-481E-802E-8985DA41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3C7-AFCA-405D-AF12-43A1E9D7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AB5E8-CAD3-477D-9853-E2F09622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A1493-0C90-4BA2-9DA2-33DF4DEC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AE469-75C5-4F73-BE83-9438A2B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73027-6341-4950-8E45-88D13D53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C40C-494E-4096-A299-35EDD944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B878-CE04-436B-8E53-A7E4697F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69DA3-5919-402A-AD0C-35087862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5FE9B-D025-4803-BE52-B7A25D4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728C1-43F7-483C-9B23-AE56152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AC0D-30B3-4B5F-90F9-783C624E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01D-EE6B-4BDB-8474-714AD87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0611F-A773-4CE8-91F6-DDA41867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B5C01-C9F8-4575-A304-82D58E88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0156-7BEB-47E6-9172-2A4AD7E7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8C637-B86D-442B-B7B7-7BA4150B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D7AB8-C96B-4F98-9D6B-CB09C6FC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6D3D-45D0-4F5C-AD79-E30B324E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F24DC-A2EC-4689-956E-DF9C75F2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E597D-A2D8-4F89-B71A-98548710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DD950-2489-406E-8D0D-1BEDF0A6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FD5B-478F-4B44-AFC5-FAEDF0A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228-AABF-4A26-8293-2067DF28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658EE-AC45-4456-8349-2678E44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AF8F-9D7D-4DD9-B70B-6A07B42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2C28C-6E06-4FAF-8578-F01AD238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8D2B-9FD5-4C65-B648-FAD456FF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FE8C3-E2F7-47A4-BD23-81E931C9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BBB88-B74E-43BF-A84F-991A014B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F6DCC-9C5E-4FAB-A360-4E506F3E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54F06-D29D-45A3-A2B6-276A64A5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F8816-9570-43DB-8018-DFF09CF6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70D81-E2FA-4735-A406-97DE0C86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81A-D535-43EE-A9DC-5227F53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852A8-99C0-4003-A30E-BE7B7499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80A88-5FF8-49D8-82A2-0B51037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BBC9A-4B8A-48E1-812A-9085D22D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0578F-85B9-41E4-A45D-21908813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1C5AC-9A1F-40A6-A849-61CF1FC7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D3909-B313-4739-9C63-DF76C1AC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8BA5F-74C6-4348-BBB4-4F3D739D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CAE1E-BED8-4C89-855B-8B827ED1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7C55E-8BD2-4A19-BD61-2EA955A6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539EB-5B71-491C-8F38-29ED305E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B16-CB76-4AFE-8553-322D07DABE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6EFF-BB18-477F-AB28-03319C418E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BE34-6F85-4032-8E8E-7A018CB699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75A7-92CF-4011-94E2-7423566C019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6CCB-9549-4E25-9B01-096FE6CF3E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CED4-3685-489D-8531-2AC6B32F38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7AE-3CA4-4191-A345-D0D42F194E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BE81-755E-4C0E-817D-49731BC1BE0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FC9-34A1-4001-8F32-6CA18F6FD3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Windows7</cp:lastModifiedBy>
  <dcterms:modified xsi:type="dcterms:W3CDTF">2016-09-16T07:42:37Z</dcterms:modified>
  <cp:revision>17</cp:revision>
  <dc:subject/>
  <dc:title>Трудности адаптации первоклассников в школе</dc:title>
</cp:coreProperties>
</file>