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FE0-75C4-4FC1-9686-9CC9A624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FC4-1F67-4964-A13E-CB1D8717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BC39E-09E9-4739-9FBB-BCCE079F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0F7A0-4C7E-4005-B9D6-64D49F19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8DCC7-5860-42BA-8580-94FE58EF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2337E-2768-4B04-8692-1482A089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1D168-2204-47F3-8B70-C71B6D9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19648-FEC3-4354-B80C-3EF0FE10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A9955-D71F-47A8-B30F-E8427ABA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BA89E-2187-4D74-9DF5-E7210EC2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D2042-75EC-4DFD-9344-EA943790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AAC-AD19-41F4-9CC3-F5D361A6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878-D4CC-4346-B159-1463B6AA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3AA0-E1B4-4861-BD80-411D1F29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0478-DBE5-494F-9DB5-E9C017FB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F234-ECDF-41C2-877D-B235C08D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935E-2718-4DC9-996E-63CD78D5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73E-107F-4E28-AD4D-635D4103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5285-BEC7-46A9-B090-443796E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C91A-EADA-4BFB-A9B2-4AE0C47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56A-E846-4678-81C3-09238E6B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5B06-9A89-4CF7-AE58-ECC12171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115F-42F2-427F-BF0A-D720AC72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C9B0-C68A-4656-9377-C11CC6E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5C15-1326-417A-8608-AC3144C2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D15C-E329-4EF7-8919-ED231B6D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F0B0-D0AC-482E-87DA-78721510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078A-6DE7-42EC-B66E-6AC901D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0382-E65B-4317-970E-3BA43798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3A24-84C6-435C-981F-86E9A490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34D8-D015-4723-A80D-C60C53D9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C64-65A3-4DB4-B693-4C1FAC47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5185-A6B6-4818-A6CB-F41CE94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F092-E7BE-4617-9A00-9E3DE55C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62BF-1AC4-4B64-8BDA-D9DF2B7F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076B-E842-47C1-93D2-2A454958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C749-58C4-4864-B1B6-4844238F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2AF4-DD93-48EE-95F8-3C57F2F7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76DD-9157-470F-981F-1BE50C17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740E7-1A26-496F-81AF-22DE4B70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4206-70E6-44E7-81B6-7116ECB9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70D2-6E75-4E96-B68F-B56FE67D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E38-1DD4-4316-863D-EF51C310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63031-2A9D-4C53-B1D7-405F64FF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8683-5FAF-4DAD-8F1A-4F87646A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D6BC-A0A8-4BA3-A3DD-7A5167E4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5059-D48F-481D-A32C-550CAEEA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43E2-07F8-4640-865F-BBDE9D4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4C10-E2B2-42D0-9DE7-51BBA94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2943-19BF-43CD-8980-99F0ACF9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51324-E995-46BE-9C9B-FA44BF7B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6FDC-82A0-46B2-87CB-41D63680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C078-EBE1-43AF-B524-89364634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96A-2613-4A62-BAC9-9A954678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603C5-5334-47D6-80A5-59C656D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54C31-4DEB-4CC9-A7D2-AE720600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7496C-7E68-4E51-A995-A07A650C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86532-47A3-4EC3-A620-27BFAB6E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95AA6-3384-41E7-96BB-888E613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E1F88-47E0-43FD-9AFB-942EEC19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FFD58-35A0-49C3-81AB-C2BF9FA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CC5CF-AE4C-4502-9A55-9012B63E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82E8-45D3-407E-9B45-B5B645FE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C2584-AE7D-4557-B9B4-360BA912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A2A-D1EC-49B7-9A9A-4E247A92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E9704-8F1F-48BC-AD87-831CB80A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4E634-844B-42AA-A5C0-C420D5CE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480F4-58A6-4874-8794-DDD8E88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2F0C2-75EC-449F-9749-033B649C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6ACA7-4945-4661-9F6E-839272B8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87DCB-AC42-488C-8487-6CC63363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4A1A-2442-46C8-A4B2-5270E1BE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57985-A401-4532-B78E-035D9FE0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44821-5C72-40EC-8F52-C3AB484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7D030-37C6-4D4D-8CD0-72680B3A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3DF-D774-443D-9337-2C1515B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47FD9-C861-4CAB-9283-C33039B0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A84C-1687-4612-9E4B-5857A6B8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076E-338E-4A53-B7F7-5E57F938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4333F-AD70-4D09-95AD-1D02558D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F5ED5-0E66-495F-9D52-79053B7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1E0A0-A792-441F-BF5A-021B45F5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CFD47-E424-40A8-979B-CF784E26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6D92C-BB27-426A-A588-14CBC99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87D1-7086-45AF-A4C0-4E09A105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BBB09-4CD4-4C13-9C09-432FB8C9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387-B8E5-4120-830F-2E0E4F0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6FA25-6371-41DF-92A7-CF6F938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3D045-6241-4C5D-9648-DFE5FF0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31518-64F1-496E-9688-09ABC750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6DDC8-B010-48EF-8860-41540213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C237C-BAC6-4935-8036-CFD6E750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1D9FA-D657-40C2-A49B-F5F951A8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C09B-70DF-4CA7-9445-6909D4B0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3FBDD-C4A9-4559-B113-79585555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D4D69-B6BE-4444-9AEA-A6B0D524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9DAC6-5FB8-4A45-88A8-DF4FF547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A76-F306-4005-9244-6AF643F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76EC4-5D21-43E7-9066-6A6AD6B3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5452E-0E5B-4C8B-B486-C8A37D36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57A29-A1A5-4FB3-A31B-8549F20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CD7EC-4269-4E53-872D-A8F045B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CD85-4DCD-4C28-B89D-D0CEE510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EC984-E7EF-4440-85AB-DB7C6C49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651FF-AA94-4108-BB92-4B5A5DDB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64B6-EDB3-42E6-825B-0D6E324D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BBC56-622F-4921-A8AD-F94A11B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42D47-3522-43AA-9DFA-FDC6F2FF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70BA-C41D-40A7-B324-91B61AD56D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EC9F-DCC9-47B6-BE9F-0028D65474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C2A-F71D-4F2A-95DE-038D26BD36D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F9A0-0D73-4FC6-903C-1A07A9758C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9DB8-96CB-4C5C-95D2-FC1F727C61D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FD49-C5D8-4C2B-A6D1-64B9569349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943A-80D0-4EE9-80FB-843387E6100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A80B-76F9-4952-BEDD-1813C06B58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1467-D5FE-4D98-8CBB-BFC17DA258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Windows7</cp:lastModifiedBy>
  <dcterms:modified xsi:type="dcterms:W3CDTF">2016-09-16T07:42:37Z</dcterms:modified>
  <cp:revision>17</cp:revision>
  <dc:subject/>
  <dc:title>Трудности адаптации первоклассников в школе</dc:title>
</cp:coreProperties>
</file>