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CD1-2158-4E12-8140-A55570A8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868-5C66-4815-8FA0-7804F2D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1A8-D047-4F8B-B223-85E57853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510-1A98-416C-9C68-2FC40057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B40E-2C7D-40A7-BB7D-4BF517C8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16D-12E0-4B91-8ADE-415657F2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92BE-EB27-4D02-98EC-752C51FF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CB18-663D-46DF-8233-CA0B63C2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A90-9FDC-4879-97C1-532B04C1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01F5-413A-4B3B-9C14-53F3D32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8D91-FDE0-4F97-8DBD-B0FC52AE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FDA-77AD-4F46-A010-31CE7DFC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AB2C-5EF6-4E3D-92DD-93B31E7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9E68-7319-44C1-8CFD-6DFEAAA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DCED-93A6-4E12-97CA-3C54900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C2E4-034A-4C95-984B-52ABF176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F42-E2FF-43F8-9C6C-14A630FE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17885-E2B0-4126-AE3A-1D5AE84F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32E95-5DC0-4838-BD31-DDD3EB87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5C6DA-B0AC-4766-A62A-CF1C811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C3B54-2D2A-4ADE-9056-420582D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915D0-AD07-45CB-A0F7-0403EAF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3E3-25C9-40D8-940A-C10C3D61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13E7E-71B9-476B-96BC-F5B5BE0F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96E1F-74D6-4D58-AB17-36ADF60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C0F6C-6905-4ED9-AB0C-FE43DAEB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E4BC0-D2D1-4335-9C35-5A49D1F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84E72-9214-4968-94C3-65B015CD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D62D8-A5ED-4B6E-8B8D-892C6CE7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ABFC8-96CE-4AEF-B817-55DA8BF8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D5D7-194C-4D17-B9EB-C12CE62E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40FB-CC51-4B6D-9B07-D0CB0A2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C768-6566-4A7C-99EF-5766E45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ECA-0912-4021-BCDF-CCB02B92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F214-AB80-478E-86A5-5A8A8F2A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4EA4-AB6A-40E4-A8D1-88DB9566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AFA1-5EB6-41B6-8EA4-81F0B69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2F45-8458-4C9B-8117-8DF396E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20480-17F6-43F1-8162-C059D31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B17E-9814-423E-BFD5-A191984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8437-DF47-4B43-AB2C-8D6CB0A1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D667-8C90-458A-9D9E-E2AB56C2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32728-FDFC-4B3F-9FDA-733A9F84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EFEED-F97F-47EF-A8D8-BE3A254D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E4D-FB99-4E73-9A26-33B064B1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F187F-9819-49ED-911F-DE9F2900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C0B10-4498-4A31-97D3-90839CFB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2150B-C825-4A8C-BEB7-6D05ADBC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AD51A-797F-491B-A1CE-E31159C7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7A50C-1E9C-4EB4-B46D-707D9359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16270-504C-4773-B04C-74EC803E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2B912-C7D1-40C8-A141-523D4542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308FD-D9B0-4297-9E42-904E38D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8E4A2-223C-491C-A787-2784ACC7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DD5B7-2588-4884-BA7F-2CDED630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88F-48DC-44D9-A678-067F6173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17AB0-7A8F-4DC8-A94D-EE851318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AE3FF-F903-441E-B286-670F2DDD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7B702-010A-42AC-9E4C-B49246DC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DBBA9-1BE0-4114-BE98-68E11F38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7522F-6ABD-4E32-B361-0D6B308A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7FE62-C975-4205-B358-FFDD6D7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22C39-58A0-417D-9190-A3D5444B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A88CD-7C29-44DA-857C-CE889F2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19BCB-1743-4E75-846B-4AB99072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BD5FB-5DE1-402D-8E09-B8B0C341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CD8-F314-4759-829B-371BE14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24625-C290-42E1-B70A-66307E0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71650-6C77-455F-AEF8-CC64335C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993D5-6634-4372-825F-1D5B6003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26C6F-639A-43DB-ADAF-6302B623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15A85-55DD-4CBE-B2AE-C7CB9FE3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0DF51-1F47-4652-92E5-D57ADD1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F5782-2B3C-4F22-B4F0-E371EE76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0569D-B501-4201-96E1-07885119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E5CE8-1576-45C3-8030-FA769CDE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DAD5D-73D7-421D-90AF-7F82537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3F6-01A6-4A3A-A21B-E11AE972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23266-A386-4CB0-BA18-4E97DB6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71D79-6D02-4A98-9CCD-61C878D9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ACF87-6CA0-4FAA-AD45-6FA3CE8A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74E5B-17E2-4854-BC84-DF09DD53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12534-29D7-4547-8FE8-79D0C221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DE8-D051-478C-9378-B16AB5AD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779-61B7-48E6-9862-1E70C3D328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AAA7-68D7-42A4-BCA3-74411D4147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8DFA-14E3-44C5-A716-4436BB2C20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68EE-DFD6-4D7B-B20D-B96C977661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3BF-FBD7-4423-B994-1F3FFB473D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556-3C60-4CFA-BA6D-483A85402B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E56B-BFFE-48AF-9E95-341B51FF1F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ШЕСТОЕ МАРТА.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СТАВЛЯЕМ ТЕКС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Мы с ребятами решили сделать скворечник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СПРЕДЕЛИ  ПО ГРУПП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личны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озвратно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ВЕДЁМ ИТОГ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сегодня на уроке познакомился 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учился 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не было трудно при выполнении задания 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СПАСИБО ЗА УРОК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Я, ямы, семь, тыкв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ие местоимения называются личным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зовите морфологические признаки личных местоим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чём заключаются морфологические особенности личных местоимени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ую синтаксическую функцию выполняют личные местоимени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ЕРГЕЙ МИХАЛК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4173480" y="965160"/>
            <a:ext cx="4056120" cy="541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ЧИТАЙ ТЕКСТ И ВЫПИШИ МЕСТОИМ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 люблю спорт и занимаюсь им с раннего детства. Особенно мне нравится футбол. Занятия в секции помогают поверить в себя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Я, им, мне, себя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ВРАТНОЕ МЕСТОИМЕНИЕ СЕБ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Знач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Морфологические особенност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интаксическая роль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СТАВЬ И ЗАПИШИ ПРЕДЛОЖ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G:\мальчик.jpg"/>
          <p:cNvPicPr/>
          <p:nvPr/>
        </p:nvPicPr>
        <p:blipFill>
          <a:blip r:embed="rId1"/>
          <a:stretch/>
        </p:blipFill>
        <p:spPr>
          <a:xfrm>
            <a:off x="552600" y="1600200"/>
            <a:ext cx="3466800" cy="4486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G:\девочка.jpg"/>
          <p:cNvPicPr/>
          <p:nvPr/>
        </p:nvPicPr>
        <p:blipFill>
          <a:blip r:embed="rId2"/>
          <a:stretch/>
        </p:blipFill>
        <p:spPr>
          <a:xfrm>
            <a:off x="4800600" y="1635120"/>
            <a:ext cx="3581280" cy="450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РАЗЕОЛОГИЗ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зять себя в рук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ыйти из себ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Не похож на себ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Так себ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бить себе в голову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Читать про себ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3-30T05:35:54Z</dcterms:modified>
  <cp:revision>1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