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5FD-E48C-4932-9E49-90D37F15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13F-08C7-4F35-BEBE-2768C97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6DD-94F8-4D66-BE07-6512EA59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F84-9DF2-4CED-88F5-EA1625E8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C96-B7E6-48E6-B0EA-5696D696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D2CA-A53F-4257-81F3-697C5BA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3877-1A3B-4659-A147-4995962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F81-5668-4DFD-A78A-9580BD0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412-18D8-4E1D-A4FA-42FEC5A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3D86-F6E2-4751-970A-E3AA8F6D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5053-DE71-494A-8BEE-B17A396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121-6187-442C-B064-3998BC9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4849-4F85-409B-8F14-B133684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B6E0-71DB-415A-AB89-4766AD0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7E03-CA29-4908-8BF3-5A44A15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CF1-2396-42BC-85E6-31369AA6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2C6D-53A4-43FF-9E0A-D59B32F3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2A8A8-20E2-43DA-ACDE-DA655195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52BDF-AC5E-40E6-8979-F8C81ECD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28EE6-D41F-4D0A-B20F-296C4AB0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10A4B-024F-458D-AAD5-5B3FC73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2ED5E-3E0F-4393-99A5-829E98D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197-CA49-49C1-8A18-41F5CCAF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3F19-2B1A-4369-A8BE-61FBBB42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B1ED0-9D8C-4B66-AA90-18B2A00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0D690-BF71-4943-AA41-CAB63C9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F498A-344D-4C16-B810-CEC3656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F14D-B052-4585-891A-AA2BD8C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5279D-C575-4B38-9B8D-D346EED3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3B3A4-D74D-430C-BBAA-903CEB63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B083-83A1-499A-87A0-EDB3A5BA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0F4D-6C66-487E-AD76-B288BEF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6C80-EABC-455C-B0F0-FCC29D3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D07-F8A6-4D77-AB6A-77F6068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FF99-158E-40A3-B204-8C2766A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C008-D06B-42E0-9E95-AC3E24C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2CE8-4FA8-41F6-8830-DB037BD5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15CD-E740-4F7F-8BB9-1BAFD38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0B29-9C0E-4B2A-86D3-4087298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ABD1-A642-4B32-9B09-1C9B988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DF3D-200B-4C7D-8CDD-DA289E1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FBA9-9399-45CC-9174-E302C8D0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FD57-45B0-45AF-AB8A-77E10902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50717-B36B-4FC3-86A8-95E19290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C0B-D603-4D46-9DBD-91EA0860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58A9C-3C4D-478C-98CB-708DE72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4A8B2-9932-4C8D-AC05-1F80BE8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7CB6-5D77-486C-9842-6298FA1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D4D41-F8FD-48FE-AC1C-3FB891C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005EA-58BE-42B0-BB6C-F7CA532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6F867-3698-4E79-8E66-863C61B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851BE-5695-47D9-A750-15402E7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E8B14-6EBA-4996-8541-D71706C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F4C56-9AD6-43AF-96C4-C05CDF2B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49792-F973-4D40-80C2-5A0FF63C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88-500E-4264-9AF0-7389112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57644-4A33-41A6-8E43-9F3C132E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7145A-256F-4783-A8B9-20534F93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0C839-4C05-4460-B986-7533D804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64764-C479-4181-BB12-644D68CE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F3104-5C79-443F-AF18-F9E0FFA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F17C-C0F3-4717-AE04-4C927D08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C8DAA-DB36-43B4-BAA4-1365E4BB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BDE81-D7E8-4749-B082-F784122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3CD15-86FC-45BD-B492-33A91A1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B14FB-BBAC-4E25-84D5-8D19314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08E-4819-4525-86AE-6DC3B05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18EDD-EEAD-438E-8949-2BED4D8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0815B-3916-40A1-AF39-8B38921A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D4C94-8D75-44E5-B45B-3FC5CC9D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14345-4D49-470C-A433-92FC30F7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6149F-8A86-453D-BF46-04A4845C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FD1CD-3622-4C13-9440-EB28BAE9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89B1A-B88D-4B1D-94E3-06E0A82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D8440-7CD0-4899-BF58-BAD8872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B2ECB-0F63-449A-99EE-25B30D0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99D69-B21A-475E-8A26-10A57EF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36F-BDC9-422C-822E-4AA993D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78752-9190-4193-873D-A31C4A6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7649C-9112-46F2-AC4F-AE1686A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A695F-A196-4160-8D2F-37D03E2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22447-2864-406A-B11F-8FDCF54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DAE35-E338-42AC-A89E-523BA9F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8D6-8DB6-4F5B-BE7B-7B30F58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7F6-8B34-4A76-B8AF-33530A2C96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703-A73D-4C5C-BDEB-A249B51F4D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E13-AB90-496C-A05B-D8DF93533C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535E-9907-4C93-9651-73BD7288BF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07A-A136-4C16-A169-12C9DF4E50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47B-B328-4EAD-98E9-EDF9DB3051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D363-5690-4CB7-8770-719F7BB372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ШЕСТОЕ МАРТА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СТАВЛЯЕМ ТЕКС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Мы с ребятами решили сделать скворечник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СПРЕДЕЛИ  ПО ГРУПП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личны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озвратно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ВЕДЁМ ИТОГ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сегодня на уроке познакомился 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ился 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не было трудно при выполнении задания 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СПАСИБО ЗА УРОК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Я, ямы, семь, тыкв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ие местоимения называются личным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овите морфологические признаки личных местоим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чём заключаются морфологические особенности личных местоимени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ую синтаксическую функцию выполняют личные местоиме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ЕРГЕЙ МИХАЛК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4173480" y="965160"/>
            <a:ext cx="4056120" cy="541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ЧИТАЙ ТЕКСТ И ВЫПИШИ МЕСТОИМ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 люблю спорт и занимаюсь им с раннего детства. Особенно мне нравится футбол. Занятия в секции помогают поверить в себя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Я, им, мне, себя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РАТНОЕ МЕСТОИМЕНИЕ СЕБ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Знач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Морфологические особенност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интаксическая роль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СТАВЬ И ЗАПИШИ ПРЕДЛО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G:\мальчик.jpg"/>
          <p:cNvPicPr/>
          <p:nvPr/>
        </p:nvPicPr>
        <p:blipFill>
          <a:blip r:embed="rId1"/>
          <a:stretch/>
        </p:blipFill>
        <p:spPr>
          <a:xfrm>
            <a:off x="552600" y="1600200"/>
            <a:ext cx="3466800" cy="4486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G:\девочка.jpg"/>
          <p:cNvPicPr/>
          <p:nvPr/>
        </p:nvPicPr>
        <p:blipFill>
          <a:blip r:embed="rId2"/>
          <a:stretch/>
        </p:blipFill>
        <p:spPr>
          <a:xfrm>
            <a:off x="4800600" y="1635120"/>
            <a:ext cx="3581280" cy="450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зять себя в рук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ыйти из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Не похож на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ак себ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бить себе в голову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Читать про себ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3-30T05:35:54Z</dcterms:modified>
  <cp:revision>1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