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4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13f9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787F-C2CB-40FF-B36C-4C33F365AC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CED6-35C9-4EDC-B7B1-91DF14C211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последние десятилетия наше общество существенно изменилось: изменились взгляды на жизнь, изменились требования, предъявляемые к уровню жизни, изменились экономические, социальные и культурные составляющие нашего общества. Все эти изменения не могли не отразиться на образовании. Действительно, в связи с произошедшими изменениями современному обществу требуются  люди, которые очень гибко будут реагировать на малейшие изменения, не бояться их, а, наоборот, умеющие быстро приспосабливаться к новым услов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окладе  Госсовета РФ «Об образовательной политике России на современном этапе» отчетливо представлен социальный заказ школе: «Развивающемуся обществу нужны современно образованные, нравственные, предприимчивые люди, которые могут самостоятельно принимать решения выбора, способны к сотрудничеству, отличаются мобильностью, динамизмом, конструктивностью, готовы к максимальному взаимодействию, обладающие чувством ответственности за судьбу страны, за её социально-экономическое процветание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этого социального заказа невозможна в рамках традиционной школы,  требует новых подходов к образованию, одним из которых является переход на новые стандарты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E25A-2545-48E1-8774-E88AC66771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719B-007D-4EB2-830B-54F2C362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2BEC-5D9A-415C-BCC3-0D4263E3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D171-3C88-466F-88A5-5BE1032BB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0E19-61A0-4F1B-9CF9-0F2AD809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1AD2-4404-44B4-B992-33DD9C44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ADB6-7835-4BB7-96E8-E340923D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12D3-260B-43B3-B350-D37F8BB6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8D5A-8F3B-4F7B-9278-23EF147A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355F-FDFA-4C4F-8D4D-D09DD77D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9988-5D5E-4D1C-95CA-77CA6A2C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80C9-AEC0-4F74-8355-3B91E6C0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8A76-61BC-4042-9A87-6A1CDB02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E36B-C0DA-4F34-99B3-2DBB1B91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8268-3E97-430F-B872-5ECC5BE7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E7DD-5828-4892-B473-F18E2503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5AAE-1E7E-485E-BB9A-B60B6563C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2A59-2637-4289-B485-6D287FA98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4236-CB81-4538-9450-A5D8F181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9E50-A75A-4CA4-A364-2E1BC091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BA4E-3E3B-4E95-AAA8-E0C2D385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5CEA-5C80-4AED-BF61-2C5E1166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2ED5-6445-45A7-B226-1008AC52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1D50-177A-45AD-B60E-D7D31C93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7365-B5E4-4E71-84CE-7EAACDDC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ac66bb"/>
              </a:gs>
              <a:gs pos="100000">
                <a:srgbClr val="975aa4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9c5da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9c5daa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a26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a763b5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a26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a260b0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92569e"/>
                  </a:gs>
                  <a:gs pos="100000">
                    <a:srgbClr val="ac66b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975aa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975aa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a260b0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975aa4"/>
                  </a:gs>
                  <a:gs pos="100000">
                    <a:srgbClr val="ac66b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975aa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9c5daa"/>
                  </a:gs>
                  <a:gs pos="100000">
                    <a:srgbClr val="ac66b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975aa4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a260b0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975aa4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9c5da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9c5da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9c5daa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92569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9c5da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8d54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ac66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ac66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975aa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975aa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975aa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ac66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af6bbd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af6bbd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b16fbf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a26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a26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a26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a26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ac66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af6bbd"/>
                  </a:gs>
                  <a:gs pos="100000">
                    <a:srgbClr val="ac6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af6bbd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af6bbd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a260b0"/>
                  </a:gs>
                  <a:gs pos="100000">
                    <a:srgbClr val="ac6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af6bbd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a26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a260b0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a26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a763b5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ac66b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66bb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ac66b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66bb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13f9a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c66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490c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d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37AC-AD79-4F72-AD59-C3EAFFF692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9c5da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9c5daa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a26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a763b5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a26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a260b0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92569e"/>
                  </a:gs>
                  <a:gs pos="100000">
                    <a:srgbClr val="ac66b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975aa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975aa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a260b0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975aa4"/>
                  </a:gs>
                  <a:gs pos="100000">
                    <a:srgbClr val="ac66b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975aa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9c5daa"/>
                  </a:gs>
                  <a:gs pos="100000">
                    <a:srgbClr val="ac66b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975aa4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a260b0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975aa4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9c5da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9c5da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9c5daa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92569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9c5da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8d54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ac66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ac66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975aa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975aa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975aa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ac66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af6bbd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af6bbd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b16fbf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a26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a26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a26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a26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ac66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af6bbd"/>
                  </a:gs>
                  <a:gs pos="100000">
                    <a:srgbClr val="ac6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af6bbd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af6bbd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a260b0"/>
                  </a:gs>
                  <a:gs pos="100000">
                    <a:srgbClr val="ac6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af6bbd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a26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a260b0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a26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a763b5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ac66b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ac66b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66bb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ac66b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66bb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13f9a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c66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490c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d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EE79-B2C2-40B5-BB1F-A2D4156CFE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000"/>
            <a:ext cx="7772400" cy="2422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b13f9a"/>
                </a:solidFill>
                <a:latin typeface="Arial"/>
              </a:rPr>
              <a:t>Деятельность </a:t>
            </a:r>
            <a:br>
              <a:rPr sz="4800"/>
            </a:br>
            <a:r>
              <a:rPr b="1" lang="ru-RU" sz="4800" spc="-1" strike="noStrike">
                <a:solidFill>
                  <a:srgbClr val="b13f9a"/>
                </a:solidFill>
                <a:latin typeface="Arial"/>
              </a:rPr>
              <a:t>классного руководителя</a:t>
            </a:r>
            <a:br>
              <a:rPr sz="4800"/>
            </a:br>
            <a:r>
              <a:rPr b="1" lang="ru-RU" sz="4800" spc="-1" strike="noStrike">
                <a:solidFill>
                  <a:srgbClr val="b13f9a"/>
                </a:solidFill>
                <a:latin typeface="Arial"/>
              </a:rPr>
              <a:t>в условиях реализации ФГОС ООО</a:t>
            </a:r>
            <a:r>
              <a:rPr b="0" lang="ru-RU" sz="4800" spc="-1" strike="noStrike">
                <a:solidFill>
                  <a:srgbClr val="b13f9a"/>
                </a:solidFill>
                <a:latin typeface="Arial"/>
              </a:rPr>
              <a:t> </a:t>
            </a:r>
            <a:br>
              <a:rPr sz="4800"/>
            </a:br>
            <a:r>
              <a:rPr b="0" lang="ru-RU" sz="4800" spc="-1" strike="noStrike">
                <a:solidFill>
                  <a:srgbClr val="b13f9a"/>
                </a:solidFill>
                <a:latin typeface="Arial"/>
              </a:rPr>
              <a:t>(из опыта работы)</a:t>
            </a:r>
            <a:endParaRPr b="0" lang="en-US" sz="48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828440" y="4876920"/>
            <a:ext cx="70102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това Валентина Юр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математики, классный руководитель 8 «б» класса МБОУ «Л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Arial"/>
              </a:rPr>
              <a:t>Основные  направления воспитания и социализации  школьников 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ние ценностного отношения к прекрасному, формирование представлений об эстетических идеалах и ценностях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нности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расота; гармония; духовный мир человека; эстетическое развитие; художественное творче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Arial"/>
              </a:rPr>
              <a:t>Система базовых  ценностей 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триотиз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циальная солидар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жданствен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мь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уд и творче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у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адиционные российские религ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кусство и литерату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род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ловече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3" descr="C:\Users\Валентина\Desktop\для школы\Фото 2\SAM_1470.JPG"/>
          <p:cNvPicPr/>
          <p:nvPr/>
        </p:nvPicPr>
        <p:blipFill>
          <a:blip r:embed="rId1"/>
          <a:stretch/>
        </p:blipFill>
        <p:spPr>
          <a:xfrm>
            <a:off x="609480" y="4227480"/>
            <a:ext cx="3506760" cy="26305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3f9a"/>
                </a:solidFill>
                <a:latin typeface="Arial"/>
              </a:rPr>
              <a:t>В план воспитательной работы включается внеурочная   деятельность</a:t>
            </a:r>
            <a:endParaRPr b="0" lang="en-US" sz="28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14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авления внеуроч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ятель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ы ее организа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также привлекае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её реа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3" descr="D:\Users\саша\Desktop\фото 1\SAM_3614.JPG"/>
          <p:cNvPicPr/>
          <p:nvPr/>
        </p:nvPicPr>
        <p:blipFill>
          <a:blip r:embed="rId2"/>
          <a:stretch/>
        </p:blipFill>
        <p:spPr>
          <a:xfrm>
            <a:off x="3809880" y="3505320"/>
            <a:ext cx="4041720" cy="30304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D:\Users\саша\Desktop\фото 1\SAM_3529.JPG"/>
          <p:cNvPicPr/>
          <p:nvPr/>
        </p:nvPicPr>
        <p:blipFill>
          <a:blip r:embed="rId3"/>
          <a:stretch/>
        </p:blipFill>
        <p:spPr>
          <a:xfrm>
            <a:off x="4648320" y="1447920"/>
            <a:ext cx="40399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13f9a"/>
                </a:solidFill>
                <a:latin typeface="Arial Unicode MS"/>
              </a:rPr>
              <a:t>Виды внеурочной (внеучебной)  деятельности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игров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познавательн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проблемно-ценностное общ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досугово-развлекательная деятельность (досуговое общени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художественное творче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социальное творчество (социально преобразующая добровольческая деятельность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трудовая (производственная) дея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спортивно-оздоровительная дея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туристско-краеведческая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Arial"/>
              </a:rPr>
              <a:t>Направления внеурочной деятельности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ртивно-оздорови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уховно-нравств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еинтеллектуа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екультур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13f9a"/>
                </a:solidFill>
                <a:latin typeface="Arial"/>
              </a:rPr>
              <a:t>Социальные партнёры</a:t>
            </a: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я-предметники, руководители объеди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о – психологическая служ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 – организа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ицинский работ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ководитель школьного муз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-библиотекар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ный руководитель параллельного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13f9a"/>
                </a:solidFill>
                <a:latin typeface="Arial"/>
              </a:rPr>
              <a:t>Социальные партнёры</a:t>
            </a: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914040"/>
            <a:ext cx="7543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МШ №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ДТ (ДСШ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РК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блиоте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еведческий му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риятия и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ская и молодежные общественные орган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У «Золотая рыб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В период канику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тические лагерные см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няя школа в О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Arial"/>
              </a:rPr>
              <a:t>Воспитательные результаты и эффекты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 Unicode MS"/>
              </a:rPr>
              <a:t>Воспитательный результат внеурочной деятельности</a:t>
            </a:r>
            <a:r>
              <a:rPr b="0" lang="ru-RU" sz="2800" spc="-1" strike="noStrike">
                <a:solidFill>
                  <a:srgbClr val="7030a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– непосредственное духовно-нравственное приобретение ребенком благодаря его участию в том или ином виде внеурочной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 Unicode MS"/>
              </a:rPr>
              <a:t>Воспитательный эффект внеурочной деятельности</a:t>
            </a:r>
            <a:r>
              <a:rPr b="0" lang="ru-RU" sz="2800" spc="-1" strike="noStrike">
                <a:solidFill>
                  <a:srgbClr val="7030a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– влияние (последствие) того или иного духовно-нравственного приобретения  на весь процесс развития личности ребе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13f9a"/>
                </a:solidFill>
                <a:latin typeface="Arial"/>
              </a:rPr>
              <a:t>Результаты и эффекты</a:t>
            </a: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28240" y="1143000"/>
            <a:ext cx="85345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 Unicode MS"/>
              </a:rPr>
              <a:t>Результат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– это то, что стало непосредственным итогом участия школьника в деятель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Например, работая над проектом «Деревья стали большими» изучили историю парка Победы, собрали и оформили материал , провели классные часы </a:t>
            </a:r>
            <a:r>
              <a:rPr b="1" lang="ru-RU" sz="3200" spc="-1" strike="noStrike">
                <a:solidFill>
                  <a:srgbClr val="7030a0"/>
                </a:solidFill>
                <a:latin typeface="Arial Unicode MS"/>
              </a:rPr>
              <a:t>(фактический результат)</a:t>
            </a:r>
            <a:r>
              <a:rPr b="0" lang="ru-RU" sz="3200" spc="-1" strike="noStrike">
                <a:solidFill>
                  <a:srgbClr val="7030a0"/>
                </a:solidFill>
                <a:latin typeface="Arial Unicode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,приобрели некоторое   знание о себе и окружающих, пережили и прочувствовали что-то как ценность, приобрели опыт самостоятельного действия </a:t>
            </a:r>
            <a:r>
              <a:rPr b="1" lang="ru-RU" sz="3200" spc="-1" strike="noStrike">
                <a:solidFill>
                  <a:srgbClr val="7030a0"/>
                </a:solidFill>
                <a:latin typeface="Arial Unicode MS"/>
              </a:rPr>
              <a:t>(воспитательный результа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13f9a"/>
                </a:solidFill>
                <a:latin typeface="Arial"/>
              </a:rPr>
              <a:t>Результаты и эффекты</a:t>
            </a: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 Unicode MS"/>
              </a:rPr>
              <a:t>Эффект</a:t>
            </a:r>
            <a:r>
              <a:rPr b="1" i="1" lang="ru-RU" sz="3200" spc="-1" strike="noStrike">
                <a:solidFill>
                  <a:srgbClr val="ffde66"/>
                </a:solidFill>
                <a:latin typeface="Arial Unicode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– это последствие результата; то, к чему привело достижение результа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Например, по проекту «Деревья стали большими» приобретенные знания, пережитые чувства  развили учеников как личностей, способствовали формированию определенных  компетентност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Arial"/>
              </a:rPr>
              <a:t>Нормативная база организации воспитательного процесса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деральный государственный образовательный стандарт ОО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цепция духовно нравственного развития и воспитания личности гражданина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 «Об образован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грамма воспитания и социализации «Человек» 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13f9a"/>
                </a:solidFill>
                <a:latin typeface="Arial"/>
              </a:rPr>
              <a:t>Уровни воспитательных результатов</a:t>
            </a:r>
            <a:r>
              <a:rPr b="0" lang="ru-RU" sz="4400" spc="-1" strike="noStrike">
                <a:solidFill>
                  <a:srgbClr val="ffde66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600200"/>
            <a:ext cx="5333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Unicode MS"/>
              </a:rPr>
              <a:t>Первый уровень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приобретение школьником социальных знаний (об общественных нормах, об устройстве общества, о социально одобряемых и неодобряемых формах поведения в обществе и т.п.), первичного понимания социальной реальности и повседневной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D:\Users\саша\Desktop\фото 1\SAM_3917.JPG"/>
          <p:cNvPicPr/>
          <p:nvPr/>
        </p:nvPicPr>
        <p:blipFill>
          <a:blip r:embed="rId1"/>
          <a:stretch/>
        </p:blipFill>
        <p:spPr>
          <a:xfrm>
            <a:off x="5791320" y="1828800"/>
            <a:ext cx="27432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Arial"/>
              </a:rPr>
              <a:t>Уровни воспитательных результатов</a:t>
            </a:r>
            <a:r>
              <a:rPr b="0" lang="ru-RU" sz="2800" spc="-1" strike="noStrike">
                <a:solidFill>
                  <a:srgbClr val="ffde66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43164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Unicode MS"/>
              </a:rPr>
              <a:t>Второй уровень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получение школьником опыта переживания и  позитивного отношения к базовым ценностям общества, ценностного отношения к социальной реальности в цел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4427640" y="1628640"/>
            <a:ext cx="360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D:\Users\саша\Desktop\фото 1\SAM_3919.JPG"/>
          <p:cNvPicPr/>
          <p:nvPr/>
        </p:nvPicPr>
        <p:blipFill>
          <a:blip r:embed="rId1"/>
          <a:stretch/>
        </p:blipFill>
        <p:spPr>
          <a:xfrm>
            <a:off x="4800600" y="1905120"/>
            <a:ext cx="40384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Arial"/>
              </a:rPr>
              <a:t>Уровни воспитательных результатов</a:t>
            </a:r>
            <a:r>
              <a:rPr b="0" lang="ru-RU" sz="3200" spc="-1" strike="noStrike">
                <a:solidFill>
                  <a:srgbClr val="ffde66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78920" y="2060280"/>
            <a:ext cx="378324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Unicode MS"/>
              </a:rPr>
              <a:t>Третий уровень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получение школьником опыта самостоятельного общественного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D:\Users\саша\Desktop\фото 1\SAM_3527.JPG"/>
          <p:cNvPicPr/>
          <p:nvPr/>
        </p:nvPicPr>
        <p:blipFill>
          <a:blip r:embed="rId1"/>
          <a:stretch/>
        </p:blipFill>
        <p:spPr>
          <a:xfrm>
            <a:off x="5181480" y="1295280"/>
            <a:ext cx="3683160" cy="2762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J:\DCIM\100PHOTO\SAM_3496.JPG"/>
          <p:cNvPicPr/>
          <p:nvPr/>
        </p:nvPicPr>
        <p:blipFill>
          <a:blip r:embed="rId2"/>
          <a:stretch/>
        </p:blipFill>
        <p:spPr>
          <a:xfrm>
            <a:off x="4267080" y="3827520"/>
            <a:ext cx="381168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99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72" name="Line 3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7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8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9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0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1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2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3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250920" y="584280"/>
          <a:ext cx="8588160" cy="5869080"/>
        </p:xfrm>
        <a:graphic>
          <a:graphicData uri="http://schemas.openxmlformats.org/drawingml/2006/table">
            <a:tbl>
              <a:tblPr/>
              <a:tblGrid>
                <a:gridCol w="2144520"/>
                <a:gridCol w="2146320"/>
                <a:gridCol w="2149560"/>
                <a:gridCol w="2147760"/>
              </a:tblGrid>
              <a:tr h="20120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ознавательные беседы, предметные учебные курсы, олимпиа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Общественный смотр знаний, интеллектуальные иг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Исследовательские проекты, внешкольные акции познавательной направленности (конференции учащихся, дни проектов и т.п.), школьный  муз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Line 3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7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8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0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1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2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3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4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5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6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7"/>
          <p:cNvSpPr/>
          <p:nvPr/>
        </p:nvSpPr>
        <p:spPr>
          <a:xfrm>
            <a:off x="4572000" y="321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8"/>
          <p:cNvSpPr/>
          <p:nvPr/>
        </p:nvSpPr>
        <p:spPr>
          <a:xfrm>
            <a:off x="457200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9"/>
          <p:cNvSpPr/>
          <p:nvPr/>
        </p:nvSpPr>
        <p:spPr>
          <a:xfrm>
            <a:off x="604692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52280" y="685800"/>
          <a:ext cx="8991720" cy="6172200"/>
        </p:xfrm>
        <a:graphic>
          <a:graphicData uri="http://schemas.openxmlformats.org/drawingml/2006/table">
            <a:tbl>
              <a:tblPr/>
              <a:tblGrid>
                <a:gridCol w="2183040"/>
                <a:gridCol w="2185920"/>
                <a:gridCol w="2184480"/>
                <a:gridCol w="2438280"/>
              </a:tblGrid>
              <a:tr h="2200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644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ово-развлекательная деятельность (досуговое общени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Культпоходы в библиотеки, музеи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на концерты, выста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Концерты, инсценировки, праздничные «огоньки» на уровне класса и шко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Досугово-развлекательные акции школьников в окружающем школу социуме (благотворительные концерты, гастроли школьной самодеятельности и т.п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-14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13f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4344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de66"/>
              </a:solidFill>
              <a:latin typeface="Arial"/>
            </a:endParaRPr>
          </a:p>
        </p:txBody>
      </p:sp>
      <p:sp>
        <p:nvSpPr>
          <p:cNvPr id="304" name="Line 3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5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8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0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1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3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4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5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6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7"/>
          <p:cNvSpPr/>
          <p:nvPr/>
        </p:nvSpPr>
        <p:spPr>
          <a:xfrm>
            <a:off x="4572000" y="321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8"/>
          <p:cNvSpPr/>
          <p:nvPr/>
        </p:nvSpPr>
        <p:spPr>
          <a:xfrm>
            <a:off x="457200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9"/>
          <p:cNvSpPr/>
          <p:nvPr/>
        </p:nvSpPr>
        <p:spPr>
          <a:xfrm>
            <a:off x="604692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0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1"/>
          <p:cNvSpPr/>
          <p:nvPr/>
        </p:nvSpPr>
        <p:spPr>
          <a:xfrm>
            <a:off x="457200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2"/>
          <p:cNvSpPr/>
          <p:nvPr/>
        </p:nvSpPr>
        <p:spPr>
          <a:xfrm>
            <a:off x="604692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324000" y="762120"/>
          <a:ext cx="8569080" cy="4800600"/>
        </p:xfrm>
        <a:graphic>
          <a:graphicData uri="http://schemas.openxmlformats.org/drawingml/2006/table">
            <a:tbl>
              <a:tblPr/>
              <a:tblGrid>
                <a:gridCol w="2141280"/>
                <a:gridCol w="2140200"/>
                <a:gridCol w="2143080"/>
                <a:gridCol w="2144520"/>
              </a:tblGrid>
              <a:tr h="21841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20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ожественное твор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Кружки художественного твор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3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Художественные выставки, фестивали, спектакли в классе, шко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Художественные акции школьников в окружающем школу социум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600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de66"/>
              </a:solidFill>
              <a:latin typeface="Arial"/>
            </a:endParaRPr>
          </a:p>
        </p:txBody>
      </p:sp>
      <p:sp>
        <p:nvSpPr>
          <p:cNvPr id="326" name="Line 3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4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5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7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8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9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0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1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3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4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5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6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7"/>
          <p:cNvSpPr/>
          <p:nvPr/>
        </p:nvSpPr>
        <p:spPr>
          <a:xfrm>
            <a:off x="4572000" y="321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8"/>
          <p:cNvSpPr/>
          <p:nvPr/>
        </p:nvSpPr>
        <p:spPr>
          <a:xfrm>
            <a:off x="457200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9"/>
          <p:cNvSpPr/>
          <p:nvPr/>
        </p:nvSpPr>
        <p:spPr>
          <a:xfrm>
            <a:off x="604692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0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1"/>
          <p:cNvSpPr/>
          <p:nvPr/>
        </p:nvSpPr>
        <p:spPr>
          <a:xfrm>
            <a:off x="457200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2"/>
          <p:cNvSpPr/>
          <p:nvPr/>
        </p:nvSpPr>
        <p:spPr>
          <a:xfrm>
            <a:off x="604692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3"/>
          <p:cNvSpPr/>
          <p:nvPr/>
        </p:nvSpPr>
        <p:spPr>
          <a:xfrm>
            <a:off x="4572000" y="3125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4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604692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468360" y="1197000"/>
          <a:ext cx="8353440" cy="5327640"/>
        </p:xfrm>
        <a:graphic>
          <a:graphicData uri="http://schemas.openxmlformats.org/drawingml/2006/table">
            <a:tbl>
              <a:tblPr/>
              <a:tblGrid>
                <a:gridCol w="2085840"/>
                <a:gridCol w="2089080"/>
                <a:gridCol w="2089440"/>
                <a:gridCol w="2089080"/>
              </a:tblGrid>
              <a:tr h="180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е творчество (социально преобразующая добровольческая деятельнос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оциальные пробы (инициативное участие ребенка в социальных акциях, организованных взрослы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КТД (коллективное творческое дел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оциально-образовательный прое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600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de66"/>
              </a:solidFill>
              <a:latin typeface="Arial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4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5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7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8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9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0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1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2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3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4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5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6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7"/>
          <p:cNvSpPr/>
          <p:nvPr/>
        </p:nvSpPr>
        <p:spPr>
          <a:xfrm>
            <a:off x="4572000" y="321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8"/>
          <p:cNvSpPr/>
          <p:nvPr/>
        </p:nvSpPr>
        <p:spPr>
          <a:xfrm>
            <a:off x="457200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9"/>
          <p:cNvSpPr/>
          <p:nvPr/>
        </p:nvSpPr>
        <p:spPr>
          <a:xfrm>
            <a:off x="604692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0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1"/>
          <p:cNvSpPr/>
          <p:nvPr/>
        </p:nvSpPr>
        <p:spPr>
          <a:xfrm>
            <a:off x="457200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2"/>
          <p:cNvSpPr/>
          <p:nvPr/>
        </p:nvSpPr>
        <p:spPr>
          <a:xfrm>
            <a:off x="604692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3"/>
          <p:cNvSpPr/>
          <p:nvPr/>
        </p:nvSpPr>
        <p:spPr>
          <a:xfrm>
            <a:off x="4572000" y="3125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4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5"/>
          <p:cNvSpPr/>
          <p:nvPr/>
        </p:nvSpPr>
        <p:spPr>
          <a:xfrm>
            <a:off x="604692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6"/>
          <p:cNvSpPr/>
          <p:nvPr/>
        </p:nvSpPr>
        <p:spPr>
          <a:xfrm>
            <a:off x="4572000" y="297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7"/>
          <p:cNvSpPr/>
          <p:nvPr/>
        </p:nvSpPr>
        <p:spPr>
          <a:xfrm>
            <a:off x="4572000" y="343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28"/>
          <p:cNvSpPr/>
          <p:nvPr/>
        </p:nvSpPr>
        <p:spPr>
          <a:xfrm>
            <a:off x="6046920" y="343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29"/>
          <p:cNvSpPr/>
          <p:nvPr/>
        </p:nvSpPr>
        <p:spPr>
          <a:xfrm>
            <a:off x="4572000" y="3127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30"/>
          <p:cNvSpPr/>
          <p:nvPr/>
        </p:nvSpPr>
        <p:spPr>
          <a:xfrm>
            <a:off x="4572000" y="3402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1"/>
          <p:cNvSpPr/>
          <p:nvPr/>
        </p:nvSpPr>
        <p:spPr>
          <a:xfrm>
            <a:off x="6046920" y="3402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395280" y="1268280"/>
          <a:ext cx="8280360" cy="5226120"/>
        </p:xfrm>
        <a:graphic>
          <a:graphicData uri="http://schemas.openxmlformats.org/drawingml/2006/table">
            <a:tbl>
              <a:tblPr/>
              <a:tblGrid>
                <a:gridCol w="2068560"/>
                <a:gridCol w="2070000"/>
                <a:gridCol w="2071800"/>
                <a:gridCol w="2070000"/>
              </a:tblGrid>
              <a:tr h="17377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904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о-оздоровительн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Занятия спортивных секций, беседы о ЗО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Школьные спортивные соревнования и турниры и оздоровительные 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портивные и оздоровительные акции школьников в окружающем школу социу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13f9a"/>
                </a:solidFill>
                <a:latin typeface="Arial"/>
              </a:rPr>
              <a:t>Методический конструктор внеурочной деятельности</a:t>
            </a:r>
            <a:r>
              <a:rPr b="0" lang="ru-RU" sz="4400" spc="-1" strike="noStrike">
                <a:solidFill>
                  <a:srgbClr val="b13f9a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3772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мплексные образовательные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ематические образовательные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разовательные программы, ориентированные на достижение результатов определенного уров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разовательные программы по конкретным видам внеуроч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ндивидуальные образовательные программы для учащих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4" descr=""/>
          <p:cNvPicPr/>
          <p:nvPr/>
        </p:nvPicPr>
        <p:blipFill>
          <a:blip r:embed="rId1"/>
          <a:stretch/>
        </p:blipFill>
        <p:spPr>
          <a:xfrm>
            <a:off x="4986360" y="1844640"/>
            <a:ext cx="3114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999720" y="2285640"/>
            <a:ext cx="749772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de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иентированность на знания и использование новых технолог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de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ая жизненная позиц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de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а на рациональное использование своего времени и проектирование своего будущег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de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ое финансовое повед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de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ивное социальное сотрудничеств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de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оровый и безопасный образ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de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9720" y="2854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Arial"/>
              </a:rPr>
              <a:t>Согласно ФГОС нового поколения успешность современного человека определяют </a:t>
            </a:r>
            <a:endParaRPr b="0" lang="en-US" sz="2800" spc="-1" strike="noStrike">
              <a:solidFill>
                <a:srgbClr val="b13f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148c8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9148c8"/>
                </a:solidFill>
                <a:latin typeface="Arial"/>
              </a:rPr>
              <a:t>Задача вос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148c8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9148c8"/>
                </a:solidFill>
                <a:latin typeface="Arial"/>
              </a:rPr>
              <a:t>современной шко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крытие способностей каждого ученика, воспитание порядочного и патриотичного человека, личности- готовой к жизни в высокотехнологичном, конкурентном м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9148c8"/>
                </a:solidFill>
                <a:latin typeface="Arial"/>
              </a:rPr>
              <a:t>Цель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148c8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9148c8"/>
                </a:solidFill>
                <a:latin typeface="Arial"/>
              </a:rPr>
              <a:t>классного руководите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условий для саморазвития и самореализации личности обучающегося, его успешной социализации в обществ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https://fs00.infourok.ru/images/doc/229/51819/4/640/img6.jpg"/>
          <p:cNvPicPr/>
          <p:nvPr/>
        </p:nvPicPr>
        <p:blipFill>
          <a:blip r:embed="rId1"/>
          <a:stretch/>
        </p:blipFill>
        <p:spPr>
          <a:xfrm>
            <a:off x="6192720" y="182520"/>
            <a:ext cx="26654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0560" y="338040"/>
            <a:ext cx="8435880" cy="125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Arial"/>
              </a:rPr>
              <a:t>Результат внеурочной деятельности и деятельности классного руководителя. 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pic>
        <p:nvPicPr>
          <p:cNvPr id="387" name="Объект 3" descr=""/>
          <p:cNvPicPr/>
          <p:nvPr/>
        </p:nvPicPr>
        <p:blipFill>
          <a:blip r:embed="rId1"/>
          <a:stretch/>
        </p:blipFill>
        <p:spPr>
          <a:xfrm>
            <a:off x="201600" y="1822320"/>
            <a:ext cx="880920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5" descr="https://ds03.infourok.ru/uploads/ex/1250/000221a7-624128c0/img18.jpg"/>
          <p:cNvPicPr/>
          <p:nvPr/>
        </p:nvPicPr>
        <p:blipFill>
          <a:blip r:embed="rId1"/>
          <a:stretch/>
        </p:blipFill>
        <p:spPr>
          <a:xfrm>
            <a:off x="380880" y="304920"/>
            <a:ext cx="85028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83059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ние в школе должно идти только через совместную деятельность взрослых и детей, детей друг с другом и взрослых со взрослы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ние не может быть сведено к какому-то одному виду образовательной деятельности, оно должно охватывать и пронизывать собой все виды: учебную, учебно-трудовую, художественную, коммуникативную, спортивную, досуговую деятельность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Arial"/>
              </a:rPr>
              <a:t>Основные  направления воспитания и социализации  школьников 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ние гражданственности, патриотизма, уважения к правам, свободам и обязанностям челове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нност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юбовь к России, к своему народу,  к своей малой родине; служение Отечеству; правовое государство; гражданское общество; долг перед Отечеством, старшими поколениями, семьей; закон и правопорядок; межэтнический мир; свобода и ответственность; доверие к людя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162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Arial"/>
              </a:rPr>
              <a:t>Основные  направления воспитания и социализации  школьников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ние нравственных чувств и этического сознания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енности: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нравственный выбор; смысл жизни; справедливость; милосердие; честь; достоинство; любовь; почитание родителей; забота о старших и младших; свобода совести и вероисповедани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162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Arial"/>
              </a:rPr>
              <a:t>Основные  направления воспитания и социализации  школьников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ние трудолюбия, творческого отношения к учению, труду, жиз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нности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рудолюбие; творчество; познание; истина; созидание; целеустремленность; настойчивость в достижении целей; бережлив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Arial"/>
              </a:rPr>
              <a:t>Основные  направления воспитания и социализации  школьников 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ценностного отношения к здоровью и здоровому образу жизни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ности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доровье физическое, здоровье социальное (здоровье членов семьи и школьного коллектива), активный, здоровый образ жизн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162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Arial"/>
              </a:rPr>
              <a:t>Основные  направления воспитания и социализации  школьников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ние ценностного отношения к природе, окружающей среде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нности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жизнь; родная земля; заповедная природа; планета Земл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италий</dc:creator>
  <dc:description/>
  <dc:language>en-US</dc:language>
  <cp:lastModifiedBy>Валентина</cp:lastModifiedBy>
  <dcterms:modified xsi:type="dcterms:W3CDTF">2018-03-31T16:54:24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