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592-B066-4896-AE8B-992EB6C9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A9D-7FD1-4D6E-B7A8-6F1363BC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F77-2BED-4E69-A68F-86878027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6DC-CA31-4108-8AAC-FD5E6ED6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F93-BC9C-4ED1-8BF6-DD06352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D13-40E9-4FD1-AA86-E6BC394B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F19-6FE5-42EF-A6C3-05000078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EED-C1B7-4DC4-99FF-9B9377EE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1C1-FA02-40DA-B09B-466122F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824-283D-4C1F-A111-58FCA19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CC2-BC8F-44B1-9A25-6B9CDD0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928-FE82-4B03-9BD3-5ACC843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9D73-2C9C-41FC-8035-E964BCCB02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раеведческом муз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ставка картин Лешукова П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Users\саша\Desktop\фото 1\SAM_3967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учаем творчество младших школь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Users\саша\Desktop\фото 1\SAM_3964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иный лесопожарный цен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J:\DCIM\100PHOTO\SAM_2937.JPG"/>
          <p:cNvPicPr/>
          <p:nvPr/>
        </p:nvPicPr>
        <p:blipFill>
          <a:blip r:embed="rId1"/>
          <a:stretch/>
        </p:blipFill>
        <p:spPr>
          <a:xfrm>
            <a:off x="380880" y="1600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J:\DCIM\100PHOTO\SAM_2908.JPG"/>
          <p:cNvPicPr/>
          <p:nvPr/>
        </p:nvPicPr>
        <p:blipFill>
          <a:blip r:embed="rId2"/>
          <a:stretch/>
        </p:blipFill>
        <p:spPr>
          <a:xfrm>
            <a:off x="4800600" y="167652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:\DCIM\100PHOTO\SAM_2902.JPG"/>
          <p:cNvPicPr/>
          <p:nvPr/>
        </p:nvPicPr>
        <p:blipFill>
          <a:blip r:embed="rId3"/>
          <a:stretch/>
        </p:blipFill>
        <p:spPr>
          <a:xfrm>
            <a:off x="2971800" y="4437000"/>
            <a:ext cx="32288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нтральная районная боль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pp.userapi.com/c638921/v638921683/c07c/guem-qJ811c.jpg"/>
          <p:cNvPicPr/>
          <p:nvPr/>
        </p:nvPicPr>
        <p:blipFill>
          <a:blip r:embed="rId1"/>
          <a:stretch/>
        </p:blipFill>
        <p:spPr>
          <a:xfrm>
            <a:off x="160020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библиотеке всегда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3468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школьной библиот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Валентина\Desktop\для школы\Фото 2\SAM_2988.JPG"/>
          <p:cNvPicPr/>
          <p:nvPr/>
        </p:nvPicPr>
        <p:blipFill>
          <a:blip r:embed="rId1"/>
          <a:stretch/>
        </p:blipFill>
        <p:spPr>
          <a:xfrm>
            <a:off x="380880" y="281952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центральной библиот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J:\DCIM\100PHOTO\SAM_1858.JPG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талий</dc:creator>
  <dc:description/>
  <dc:language>en-US</dc:language>
  <cp:lastModifiedBy>Валентина</cp:lastModifiedBy>
  <dcterms:modified xsi:type="dcterms:W3CDTF">2018-03-31T17:06:50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