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360-9BCB-4F8D-ACF9-B2D8B88D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396-9563-4543-A5DA-26A40A4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42A-8984-438A-8C75-D13F3238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A13-2C1D-46BD-8301-D4FF555C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417-CAAC-46DD-A0D1-99909E8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480-298E-4603-BD48-B6DE3C6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2AE-0CF5-4129-AEB2-14ED7B8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E86-50A7-4317-89E5-91478D2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8A0-511D-4CCE-81D6-8862165F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253-5322-47B5-98EB-0C49F43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424-6F04-4CF2-A628-3A0D4A6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43B-48B3-4D8A-BDDB-049AABC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4A8-FA60-431F-953E-191971EF57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раеведческом муз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ставка картин Лешукова П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Users\саша\Desktop\фото 1\SAM_396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учаем творчество младших школь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Users\саша\Desktop\фото 1\SAM_3964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иный лесопожарный цен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J:\DCIM\100PHOTO\SAM_2937.JPG"/>
          <p:cNvPicPr/>
          <p:nvPr/>
        </p:nvPicPr>
        <p:blipFill>
          <a:blip r:embed="rId1"/>
          <a:stretch/>
        </p:blipFill>
        <p:spPr>
          <a:xfrm>
            <a:off x="380880" y="1600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J:\DCIM\100PHOTO\SAM_2908.JPG"/>
          <p:cNvPicPr/>
          <p:nvPr/>
        </p:nvPicPr>
        <p:blipFill>
          <a:blip r:embed="rId2"/>
          <a:stretch/>
        </p:blipFill>
        <p:spPr>
          <a:xfrm>
            <a:off x="4800600" y="167652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:\DCIM\100PHOTO\SAM_2902.JPG"/>
          <p:cNvPicPr/>
          <p:nvPr/>
        </p:nvPicPr>
        <p:blipFill>
          <a:blip r:embed="rId3"/>
          <a:stretch/>
        </p:blipFill>
        <p:spPr>
          <a:xfrm>
            <a:off x="2971800" y="4437000"/>
            <a:ext cx="3228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нтральная районная боль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pp.userapi.com/c638921/v638921683/c07c/guem-qJ811c.jpg"/>
          <p:cNvPicPr/>
          <p:nvPr/>
        </p:nvPicPr>
        <p:blipFill>
          <a:blip r:embed="rId1"/>
          <a:stretch/>
        </p:blipFill>
        <p:spPr>
          <a:xfrm>
            <a:off x="160020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библиотеке всегда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3468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кольной библиот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Валентина\Desktop\для школы\Фото 2\SAM_2988.JPG"/>
          <p:cNvPicPr/>
          <p:nvPr/>
        </p:nvPicPr>
        <p:blipFill>
          <a:blip r:embed="rId1"/>
          <a:stretch/>
        </p:blipFill>
        <p:spPr>
          <a:xfrm>
            <a:off x="380880" y="281952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центральной библиот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J:\DCIM\100PHOTO\SAM_1858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6:50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