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C93BE-F071-426E-B1CA-7EC4F3FDB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2B5C2-BE1E-41A3-AFFB-0AD70D855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7579F-AB46-4CD7-8606-FE536F3C7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8DCA2-C553-4E1A-8818-DE5251464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F59EF-CDB8-4275-A6B7-32D36228F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0E9F6-DCF9-4793-A878-94AF5162E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235AD-9023-4ECE-A9FE-B9ED89C78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5B058-0A61-443C-9F2E-BDC6602A6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A76AA-C5CD-4ECE-B0BC-704DC989F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8BE32-D730-4BC2-8F85-798FDDE3C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64A9E-912B-4848-8972-D4EC1497D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1D15E-462E-4204-98B7-D47F76B10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2F68E-A050-459D-BAE2-C81305681CDF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Летняя школа «Юный эрудит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футбо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D:\Users\саша\Desktop\фото 1\SAM_3968.JPG"/>
          <p:cNvPicPr/>
          <p:nvPr/>
        </p:nvPicPr>
        <p:blipFill>
          <a:blip r:embed="rId1"/>
          <a:stretch/>
        </p:blipFill>
        <p:spPr>
          <a:xfrm>
            <a:off x="457200" y="2635200"/>
            <a:ext cx="4040280" cy="30304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266720" y="1534680"/>
            <a:ext cx="48769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а рыбалку на велосипеда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3" descr="D:\Users\саша\Desktop\фото 1\SAM_3956.JPG"/>
          <p:cNvPicPr/>
          <p:nvPr/>
        </p:nvPicPr>
        <p:blipFill>
          <a:blip r:embed="rId2"/>
          <a:stretch/>
        </p:blipFill>
        <p:spPr>
          <a:xfrm>
            <a:off x="4646520" y="2635200"/>
            <a:ext cx="4038840" cy="30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есочные фантази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837720" y="1534680"/>
            <a:ext cx="365940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Замки из пес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2" descr="D:\Users\саша\Desktop\фото 1\SAM_3949.JPG"/>
          <p:cNvPicPr/>
          <p:nvPr/>
        </p:nvPicPr>
        <p:blipFill>
          <a:blip r:embed="rId1"/>
          <a:stretch/>
        </p:blipFill>
        <p:spPr>
          <a:xfrm>
            <a:off x="457200" y="2635200"/>
            <a:ext cx="4040280" cy="30304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952880" y="1534680"/>
            <a:ext cx="37339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ругом вод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4" descr="D:\Users\саша\Desktop\фото 1\SAM_3941.JPG"/>
          <p:cNvPicPr/>
          <p:nvPr/>
        </p:nvPicPr>
        <p:blipFill>
          <a:blip r:embed="rId2"/>
          <a:stretch/>
        </p:blipFill>
        <p:spPr>
          <a:xfrm>
            <a:off x="4646520" y="2635200"/>
            <a:ext cx="4038840" cy="30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отрудничество с ДМШ №2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4920" y="1534680"/>
            <a:ext cx="419256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Знакомство с биографией Фредерика Шопен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D:\Users\саша\Desktop\фото 1\SAM_3590.JPG"/>
          <p:cNvPicPr/>
          <p:nvPr/>
        </p:nvPicPr>
        <p:blipFill>
          <a:blip r:embed="rId1"/>
          <a:stretch/>
        </p:blipFill>
        <p:spPr>
          <a:xfrm>
            <a:off x="457200" y="2635200"/>
            <a:ext cx="4040280" cy="303048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5080" y="1534680"/>
            <a:ext cx="42703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Выпускники музыкальной школы в 2016г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4" descr="D:\Users\саша\Desktop\фото 1\SAM_3617.JPG"/>
          <p:cNvPicPr/>
          <p:nvPr/>
        </p:nvPicPr>
        <p:blipFill>
          <a:blip r:embed="rId2"/>
          <a:stretch/>
        </p:blipFill>
        <p:spPr>
          <a:xfrm>
            <a:off x="4646520" y="2635200"/>
            <a:ext cx="4038840" cy="30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Школьные мероприят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7" descr="J:\DCIM\100PHOTO\SAM_3862.JPG"/>
          <p:cNvPicPr/>
          <p:nvPr/>
        </p:nvPicPr>
        <p:blipFill>
          <a:blip r:embed="rId1"/>
          <a:stretch/>
        </p:blipFill>
        <p:spPr>
          <a:xfrm>
            <a:off x="0" y="1981080"/>
            <a:ext cx="4040280" cy="30304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9" descr="J:\DCIM\100PHOTO\SAM_2977.JPG"/>
          <p:cNvPicPr/>
          <p:nvPr/>
        </p:nvPicPr>
        <p:blipFill>
          <a:blip r:embed="rId2"/>
          <a:stretch/>
        </p:blipFill>
        <p:spPr>
          <a:xfrm>
            <a:off x="5102280" y="2819520"/>
            <a:ext cx="4041720" cy="30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ыступления на школьной сцен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Голос школы - 201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D:\Users\саша\Desktop\фото 1\SAM_3687.JPG"/>
          <p:cNvPicPr/>
          <p:nvPr/>
        </p:nvPicPr>
        <p:blipFill>
          <a:blip r:embed="rId1"/>
          <a:stretch/>
        </p:blipFill>
        <p:spPr>
          <a:xfrm>
            <a:off x="457200" y="2635200"/>
            <a:ext cx="4040280" cy="303048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дноклассницы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3" descr="D:\Users\саша\Desktop\фото 1\SAM_3555.JPG"/>
          <p:cNvPicPr/>
          <p:nvPr/>
        </p:nvPicPr>
        <p:blipFill>
          <a:blip r:embed="rId2"/>
          <a:stretch/>
        </p:blipFill>
        <p:spPr>
          <a:xfrm>
            <a:off x="4646520" y="2635200"/>
            <a:ext cx="4038840" cy="30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Дружим классам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040" y="1534680"/>
            <a:ext cx="35830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Урок финансовой грамотност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3" descr="I:\титова\фот\SAM_3810.JPG"/>
          <p:cNvPicPr/>
          <p:nvPr/>
        </p:nvPicPr>
        <p:blipFill>
          <a:blip r:embed="rId1"/>
          <a:stretch/>
        </p:blipFill>
        <p:spPr>
          <a:xfrm>
            <a:off x="457200" y="2635200"/>
            <a:ext cx="4040280" cy="303048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81120" y="1534680"/>
            <a:ext cx="35053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Защищаем проек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8" descr="J:\DCIM\100PHOTO\SAM_1944.JPG"/>
          <p:cNvPicPr/>
          <p:nvPr/>
        </p:nvPicPr>
        <p:blipFill>
          <a:blip r:embed="rId2"/>
          <a:stretch/>
        </p:blipFill>
        <p:spPr>
          <a:xfrm>
            <a:off x="4646520" y="2635200"/>
            <a:ext cx="4038840" cy="30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Виталий</dc:creator>
  <dc:description/>
  <dc:language>en-US</dc:language>
  <cp:lastModifiedBy>Валентина</cp:lastModifiedBy>
  <dcterms:modified xsi:type="dcterms:W3CDTF">2018-03-31T17:08:37Z</dcterms:modified>
  <cp:revision>10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