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DBB-AD8E-46F8-982A-714161B4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504-A317-4141-B3A8-285F2408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AB0-99F9-4421-AA78-59B2FF1A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0F2-E3BA-4A9D-A167-491E13D7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15E-B9F7-4249-9A8E-CEA79E7E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11B-75B2-4A8A-893A-706CC915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661-32A8-4A9B-AFA2-CBF48C58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FCA-3BF4-4E8B-8BD7-A5301AB7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68A-A886-44F6-B168-680763B0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5D0-D190-4D4A-803F-281F0EEE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D56-AF8A-46BC-AA8C-61B8129A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D94-8A55-42A6-843A-7D62ADEB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F490-3041-473B-B27B-12D411EAF2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тняя школа «Юный эруди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ут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D:\Users\саша\Desktop\фото 1\SAM_3968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266720" y="1534680"/>
            <a:ext cx="4876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рыбалку на велосипед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D:\Users\саша\Desktop\фото 1\SAM_3956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сочные фанта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мки из пе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Users\саша\Desktop\фото 1\SAM_3949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2880" y="1534680"/>
            <a:ext cx="3733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угом в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:\Users\саша\Desktop\фото 1\SAM_3941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трудничество с ДМШ №2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34680"/>
            <a:ext cx="41925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накомство с биографией Фредерика Шоп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Users\саша\Desktop\фото 1\SAM_3590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5080" y="1534680"/>
            <a:ext cx="4270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ыпускники музыкальной школы в 2016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D:\Users\саша\Desktop\фото 1\SAM_3617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кольные меро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J:\DCIM\100PHOTO\SAM_3862.JPG"/>
          <p:cNvPicPr/>
          <p:nvPr/>
        </p:nvPicPr>
        <p:blipFill>
          <a:blip r:embed="rId1"/>
          <a:stretch/>
        </p:blipFill>
        <p:spPr>
          <a:xfrm>
            <a:off x="0" y="198108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J:\DCIM\100PHOTO\SAM_2977.JPG"/>
          <p:cNvPicPr/>
          <p:nvPr/>
        </p:nvPicPr>
        <p:blipFill>
          <a:blip r:embed="rId2"/>
          <a:stretch/>
        </p:blipFill>
        <p:spPr>
          <a:xfrm>
            <a:off x="5102280" y="281952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ступления на школьной сце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лос школы -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Users\саша\Desktop\фото 1\SAM_3687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ноклассниц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D:\Users\саша\Desktop\фото 1\SAM_3555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жим клас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рок финансовой грамот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I:\титова\фот\SAM_3810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153468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щищаем про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J:\DCIM\100PHOTO\SAM_1944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талий</dc:creator>
  <dc:description/>
  <dc:language>en-US</dc:language>
  <cp:lastModifiedBy>Валентина</cp:lastModifiedBy>
  <dcterms:modified xsi:type="dcterms:W3CDTF">2018-03-31T17:08:37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