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8777-7673-40DE-B899-326008B21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34C4-0A89-49AC-A0B2-A6075A99A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D485-9B3D-483D-996E-D4177EE5A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4E3B-7296-43D8-8CB6-39E3D676C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EAA3-941F-490D-B9B7-185B2FA24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7AD7-E2D8-48E4-9503-EE7833232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6659-2B93-4799-BE12-B2C517784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A7D6-3DDA-4677-BB16-0E0CB0044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D084-E394-455D-A35D-80F634390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F60E-B03E-469F-BDB5-688285D3F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D967-53E4-4D8C-B4AD-A6091DA23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B40E-E7FD-41C0-9C64-C0E116754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5C58F-34BD-4C09-AD8A-BEB28D5B6B55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914040"/>
            <a:ext cx="8458200" cy="295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300"/>
            </a:br>
            <a:br>
              <a:rPr sz="4300"/>
            </a:br>
            <a:r>
              <a:rPr b="1" lang="ru-RU" sz="4300" spc="-1" strike="noStrike">
                <a:solidFill>
                  <a:srgbClr val="000000"/>
                </a:solidFill>
                <a:latin typeface="Calibri"/>
              </a:rPr>
              <a:t>Деятельность </a:t>
            </a:r>
            <a:br>
              <a:rPr sz="4300"/>
            </a:br>
            <a:r>
              <a:rPr b="1" lang="ru-RU" sz="4300" spc="-1" strike="noStrike">
                <a:solidFill>
                  <a:srgbClr val="000000"/>
                </a:solidFill>
                <a:latin typeface="Calibri"/>
              </a:rPr>
              <a:t>классного руководителя</a:t>
            </a:r>
            <a:br>
              <a:rPr sz="4300"/>
            </a:br>
            <a:r>
              <a:rPr b="1" lang="ru-RU" sz="4300" spc="-1" strike="noStrike">
                <a:solidFill>
                  <a:srgbClr val="000000"/>
                </a:solidFill>
                <a:latin typeface="Calibri"/>
              </a:rPr>
              <a:t>в условиях реализации ФГОС ООО</a:t>
            </a:r>
            <a:r>
              <a:rPr b="0" lang="ru-RU" sz="43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300"/>
            </a:br>
            <a:r>
              <a:rPr b="0" lang="ru-RU" sz="4300" spc="-1" strike="noStrike">
                <a:solidFill>
                  <a:srgbClr val="000000"/>
                </a:solidFill>
                <a:latin typeface="Calibri"/>
              </a:rPr>
              <a:t>(из опыта работы)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828440" y="4876920"/>
            <a:ext cx="701028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Титова Валентина Юрьев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учитель математики, классный руководитель 8 «б» класса МБОУ «ЛСОШ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абота с родителям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ыставка Шабунина Н.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J:\DCIM\100PHOTO\SAM_2995.JPG"/>
          <p:cNvPicPr/>
          <p:nvPr/>
        </p:nvPicPr>
        <p:blipFill>
          <a:blip r:embed="rId1"/>
          <a:stretch/>
        </p:blipFill>
        <p:spPr>
          <a:xfrm>
            <a:off x="457200" y="2635200"/>
            <a:ext cx="4040280" cy="30304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4989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оговорим по-лешуконс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4" descr="J:\DCIM\100PHOTO\SAM_3015.JPG"/>
          <p:cNvPicPr/>
          <p:nvPr/>
        </p:nvPicPr>
        <p:blipFill>
          <a:blip r:embed="rId2"/>
          <a:stretch/>
        </p:blipFill>
        <p:spPr>
          <a:xfrm>
            <a:off x="4646520" y="2635200"/>
            <a:ext cx="403884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абота с родителям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урогина С.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J:\DCIM\100PHOTO\SAM_3559.JPG"/>
          <p:cNvPicPr/>
          <p:nvPr/>
        </p:nvPicPr>
        <p:blipFill>
          <a:blip r:embed="rId1"/>
          <a:stretch/>
        </p:blipFill>
        <p:spPr>
          <a:xfrm>
            <a:off x="457200" y="2635200"/>
            <a:ext cx="4040280" cy="303048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Проект «Нет выше звания – чем Мать!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3" descr="J:\DCIM\100PHOTO\SAM_3578.JPG"/>
          <p:cNvPicPr/>
          <p:nvPr/>
        </p:nvPicPr>
        <p:blipFill>
          <a:blip r:embed="rId2"/>
          <a:stretch/>
        </p:blipFill>
        <p:spPr>
          <a:xfrm>
            <a:off x="4646520" y="2635200"/>
            <a:ext cx="4038840" cy="30304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J:\DCIM\100PHOTO\SAM_3594.JPG"/>
          <p:cNvPicPr/>
          <p:nvPr/>
        </p:nvPicPr>
        <p:blipFill>
          <a:blip r:embed="rId3"/>
          <a:stretch/>
        </p:blipFill>
        <p:spPr>
          <a:xfrm>
            <a:off x="7010280" y="4267080"/>
            <a:ext cx="16002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абота с родителям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лассный вечер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J:\DCIM\100PHOTO\SAM_1855.JPG"/>
          <p:cNvPicPr/>
          <p:nvPr/>
        </p:nvPicPr>
        <p:blipFill>
          <a:blip r:embed="rId1"/>
          <a:stretch/>
        </p:blipFill>
        <p:spPr>
          <a:xfrm>
            <a:off x="457200" y="2635200"/>
            <a:ext cx="4040280" cy="30304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овместное творчеств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3" descr="J:\DCIM\100PHOTO\SAM_1429.JPG"/>
          <p:cNvPicPr/>
          <p:nvPr/>
        </p:nvPicPr>
        <p:blipFill>
          <a:blip r:embed="rId2"/>
          <a:stretch/>
        </p:blipFill>
        <p:spPr>
          <a:xfrm>
            <a:off x="4646520" y="2635200"/>
            <a:ext cx="403884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3" descr="D:\Users\саша\Desktop\фото 1\SAM_3546.JPG"/>
          <p:cNvPicPr/>
          <p:nvPr/>
        </p:nvPicPr>
        <p:blipFill>
          <a:blip r:embed="rId1"/>
          <a:stretch/>
        </p:blipFill>
        <p:spPr>
          <a:xfrm>
            <a:off x="5562720" y="3124080"/>
            <a:ext cx="3581280" cy="268632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Классный час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«Деревья стали большими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D:\Users\саша\Desktop\фото 1\SAM_3543.JPG"/>
          <p:cNvPicPr/>
          <p:nvPr/>
        </p:nvPicPr>
        <p:blipFill>
          <a:blip r:embed="rId2"/>
          <a:stretch/>
        </p:blipFill>
        <p:spPr>
          <a:xfrm>
            <a:off x="990720" y="2571840"/>
            <a:ext cx="297180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лассные часы с ветеранам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7720" y="1534680"/>
            <a:ext cx="36594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ядицына Н.Д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J:\DCIM\100PHOTO\SAM_3544.JPG"/>
          <p:cNvPicPr/>
          <p:nvPr/>
        </p:nvPicPr>
        <p:blipFill>
          <a:blip r:embed="rId1"/>
          <a:stretch/>
        </p:blipFill>
        <p:spPr>
          <a:xfrm>
            <a:off x="457200" y="2635200"/>
            <a:ext cx="4040280" cy="303048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52880" y="1534680"/>
            <a:ext cx="37339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Шмакова Т.П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3" descr="J:\DCIM\100PHOTO\SAM_1870.JPG"/>
          <p:cNvPicPr/>
          <p:nvPr/>
        </p:nvPicPr>
        <p:blipFill>
          <a:blip r:embed="rId2"/>
          <a:stretch/>
        </p:blipFill>
        <p:spPr>
          <a:xfrm>
            <a:off x="4646520" y="2635200"/>
            <a:ext cx="403884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стреча с ветеранам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1534680"/>
            <a:ext cx="3659040" cy="63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овый год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943600" y="1828440"/>
            <a:ext cx="3200400" cy="63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9 Ма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J:\DCIM\100PHOTO\SAM_3058.JPG"/>
          <p:cNvPicPr/>
          <p:nvPr/>
        </p:nvPicPr>
        <p:blipFill>
          <a:blip r:embed="rId1"/>
          <a:stretch/>
        </p:blipFill>
        <p:spPr>
          <a:xfrm>
            <a:off x="0" y="2209680"/>
            <a:ext cx="3489480" cy="26179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D:\Users\саша\Desktop\фото 1\SAM_3584.JPG"/>
          <p:cNvPicPr/>
          <p:nvPr/>
        </p:nvPicPr>
        <p:blipFill>
          <a:blip r:embed="rId2"/>
          <a:stretch/>
        </p:blipFill>
        <p:spPr>
          <a:xfrm>
            <a:off x="4724280" y="3429000"/>
            <a:ext cx="4040280" cy="30304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D:\Users\саша\Desktop\фото 1\SAM_3585.JPG"/>
          <p:cNvPicPr/>
          <p:nvPr/>
        </p:nvPicPr>
        <p:blipFill>
          <a:blip r:embed="rId3"/>
          <a:stretch/>
        </p:blipFill>
        <p:spPr>
          <a:xfrm>
            <a:off x="6477120" y="1600200"/>
            <a:ext cx="216036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ружим с малышам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761760"/>
            <a:ext cx="441972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неклассное мероприят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http://www.taganca.ru/common/users/1_pictures/orig/_ust1_big.jpg"/>
          <p:cNvPicPr/>
          <p:nvPr/>
        </p:nvPicPr>
        <p:blipFill>
          <a:blip r:embed="rId1"/>
          <a:stretch/>
        </p:blipFill>
        <p:spPr>
          <a:xfrm>
            <a:off x="533520" y="1828800"/>
            <a:ext cx="4039920" cy="29862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2209680"/>
            <a:ext cx="4194000" cy="750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Создание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новогодней открытк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8" descr="J:\DCIM\100PHOTO\SAM_3661.JPG"/>
          <p:cNvPicPr/>
          <p:nvPr/>
        </p:nvPicPr>
        <p:blipFill>
          <a:blip r:embed="rId2"/>
          <a:stretch/>
        </p:blipFill>
        <p:spPr>
          <a:xfrm>
            <a:off x="4646520" y="2635200"/>
            <a:ext cx="403884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отрудничество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  ДОУ «Золотая рыбка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535040"/>
            <a:ext cx="7543800" cy="674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2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овогодние  «Веселые старты» 30.12.2015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4" descr="C:\Users\Валентина\Desktop\для школы\Фото 2\SAM_1539.JPG"/>
          <p:cNvPicPr/>
          <p:nvPr/>
        </p:nvPicPr>
        <p:blipFill>
          <a:blip r:embed="rId1"/>
          <a:stretch/>
        </p:blipFill>
        <p:spPr>
          <a:xfrm>
            <a:off x="533520" y="2362320"/>
            <a:ext cx="2895480" cy="26272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C:\Users\Валентина\Desktop\для школы\Фото 2\SAM_1499.JPG"/>
          <p:cNvPicPr/>
          <p:nvPr/>
        </p:nvPicPr>
        <p:blipFill>
          <a:blip r:embed="rId2"/>
          <a:stretch/>
        </p:blipFill>
        <p:spPr>
          <a:xfrm>
            <a:off x="5029200" y="2438280"/>
            <a:ext cx="3352680" cy="25146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C:\Users\Валентина\Desktop\для школы\Фото 2\SAM_1541.JPG"/>
          <p:cNvPicPr/>
          <p:nvPr/>
        </p:nvPicPr>
        <p:blipFill>
          <a:blip r:embed="rId3"/>
          <a:stretch/>
        </p:blipFill>
        <p:spPr>
          <a:xfrm>
            <a:off x="2666880" y="4343400"/>
            <a:ext cx="40402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Виталий</dc:creator>
  <dc:description/>
  <dc:language>en-US</dc:language>
  <cp:lastModifiedBy>Валентина</cp:lastModifiedBy>
  <dcterms:modified xsi:type="dcterms:W3CDTF">2018-03-31T17:02:55Z</dcterms:modified>
  <cp:revision>10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