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F40-09B8-4F49-8C79-F4040B4D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D89-8FDF-4969-8856-8BA796B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734-29E7-4E26-916A-9984B31E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78E-7089-4968-A53B-9868ED80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D24-BDB3-4F43-9F21-61404F9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291-52D3-4342-8659-939E9DC4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32D-C513-4B58-9A64-D94C3FF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4EF-8C2D-4006-97C6-B63C1D37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1CE-C1A0-4AAB-8690-F4583A60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4C2-EE3C-4788-B221-2EC4697F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E1D-E96F-420A-B2E9-0BC6468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E8F-74AF-49AA-BE39-209741E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671-61AE-4B1B-B4F8-5BD533CC54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458200" cy="29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лассного руководителя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 условиях реализации ФГОС ООО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(из опыта работы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итова Валентина Ю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 математики, классный руководитель 8 «б» класса МБОУ «Л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авка Шабунина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J:\DCIM\100PHOTO\SAM_2995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говорим по-лешукон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J:\DCIM\100PHOTO\SAM_3015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рогина С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J:\DCIM\100PHOTO\SAM_3559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ект «Нет выше звания – чем Мать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:\DCIM\100PHOTO\SAM_3578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:\DCIM\100PHOTO\SAM_3594.JPG"/>
          <p:cNvPicPr/>
          <p:nvPr/>
        </p:nvPicPr>
        <p:blipFill>
          <a:blip r:embed="rId3"/>
          <a:stretch/>
        </p:blipFill>
        <p:spPr>
          <a:xfrm>
            <a:off x="7010280" y="42670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й веч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J:\DCIM\100PHOTO\SAM_1855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мест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J:\DCIM\100PHOTO\SAM_1429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D:\Users\саша\Desktop\фото 1\SAM_3546.JPG"/>
          <p:cNvPicPr/>
          <p:nvPr/>
        </p:nvPicPr>
        <p:blipFill>
          <a:blip r:embed="rId1"/>
          <a:stretch/>
        </p:blipFill>
        <p:spPr>
          <a:xfrm>
            <a:off x="5562720" y="312408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«Деревья стали больши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саша\Desktop\фото 1\SAM_3543.JPG"/>
          <p:cNvPicPr/>
          <p:nvPr/>
        </p:nvPicPr>
        <p:blipFill>
          <a:blip r:embed="rId2"/>
          <a:stretch/>
        </p:blipFill>
        <p:spPr>
          <a:xfrm>
            <a:off x="990720" y="2571840"/>
            <a:ext cx="2971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ные часы с ветеран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ядицына Н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J:\DCIM\100PHOTO\SAM_3544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880" y="153468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макова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J:\DCIM\100PHOTO\SAM_1870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с ветеран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3659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3600" y="1828440"/>
            <a:ext cx="32004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J:\DCIM\100PHOTO\SAM_3058.JPG"/>
          <p:cNvPicPr/>
          <p:nvPr/>
        </p:nvPicPr>
        <p:blipFill>
          <a:blip r:embed="rId1"/>
          <a:stretch/>
        </p:blipFill>
        <p:spPr>
          <a:xfrm>
            <a:off x="0" y="2209680"/>
            <a:ext cx="3489480" cy="261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Users\саша\Desktop\фото 1\SAM_3584.JPG"/>
          <p:cNvPicPr/>
          <p:nvPr/>
        </p:nvPicPr>
        <p:blipFill>
          <a:blip r:embed="rId2"/>
          <a:stretch/>
        </p:blipFill>
        <p:spPr>
          <a:xfrm>
            <a:off x="4724280" y="34290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Users\саша\Desktop\фото 1\SAM_3585.JPG"/>
          <p:cNvPicPr/>
          <p:nvPr/>
        </p:nvPicPr>
        <p:blipFill>
          <a:blip r:embed="rId3"/>
          <a:stretch/>
        </p:blipFill>
        <p:spPr>
          <a:xfrm>
            <a:off x="6477120" y="1600200"/>
            <a:ext cx="216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жим с малыш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классное мероприя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taganca.ru/common/users/1_pictures/orig/_ust1_big.jpg"/>
          <p:cNvPicPr/>
          <p:nvPr/>
        </p:nvPicPr>
        <p:blipFill>
          <a:blip r:embed="rId1"/>
          <a:stretch/>
        </p:blipFill>
        <p:spPr>
          <a:xfrm>
            <a:off x="533520" y="1828800"/>
            <a:ext cx="4039920" cy="2986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19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вогодней открыт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J:\DCIM\100PHOTO\SAM_3661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трудничеств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 ДОУ «Золотая рыб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75438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вогодние  «Веселые старты» 30.12.2015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Users\Валентина\Desktop\для школы\Фото 2\SAM_1539.JPG"/>
          <p:cNvPicPr/>
          <p:nvPr/>
        </p:nvPicPr>
        <p:blipFill>
          <a:blip r:embed="rId1"/>
          <a:stretch/>
        </p:blipFill>
        <p:spPr>
          <a:xfrm>
            <a:off x="533520" y="2362320"/>
            <a:ext cx="2895480" cy="26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Валентина\Desktop\для школы\Фото 2\SAM_1499.JPG"/>
          <p:cNvPicPr/>
          <p:nvPr/>
        </p:nvPicPr>
        <p:blipFill>
          <a:blip r:embed="rId2"/>
          <a:stretch/>
        </p:blipFill>
        <p:spPr>
          <a:xfrm>
            <a:off x="5029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Валентина\Desktop\для школы\Фото 2\SAM_1541.JPG"/>
          <p:cNvPicPr/>
          <p:nvPr/>
        </p:nvPicPr>
        <p:blipFill>
          <a:blip r:embed="rId3"/>
          <a:stretch/>
        </p:blipFill>
        <p:spPr>
          <a:xfrm>
            <a:off x="2666880" y="4343400"/>
            <a:ext cx="404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2:5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