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4EB-B169-4633-ABDE-0C577B5B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B0F-0A5C-48C4-B19E-052FE83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E84-0355-4932-BBD2-C23C7DA9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B80-4C1D-4F9D-83AD-2F2F1B2E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8453-C86F-4744-AE9F-0733DA96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615F-10E5-40C2-8682-38D2761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519C-19D7-4ECB-AE12-30E4F253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8120-8FAD-4955-876E-2C44CD6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FB0-81A2-400F-9C31-26FAAB7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4CC-BA80-4C2B-AB70-7A7A6D3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57DE-7E7B-42DA-8CF2-B63F455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FEA-1174-42C8-9FA7-63AE2E48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95E8-5B49-44F4-8148-08EE4DD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423-42FB-4943-8A04-823A250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450-31CD-49CA-9C09-F6AA1C1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7844-79D5-453C-A270-EC28DE2B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E84-49F5-4494-9593-06A157B8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1AD-5019-4F5F-8FAF-D808D19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135-BF22-44E1-AF97-76EFEC0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908-1C28-4805-9E40-2D67215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6F5-2BCF-424C-A991-4BDED01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C7E-08C5-46D6-BA97-9A54400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E9C-FEF8-4665-BC52-9DC916C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57B-13D7-4D7D-B38D-568853C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3D7-D5EA-4572-AB5C-0AFF495F0FD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732-8FE0-48F4-9CB7-ECD6379CB22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Health is above wealth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asketb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very exciting to watch and to play i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2376720" cy="223344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y do people do sport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ople do sports 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cause it’s in fashion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get rid of stress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look athletic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have a good tim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win the priz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become famous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become strong, energetic and healthy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rest and relax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101080" y="602136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15588" y="3837"/>
                </a:moveTo>
                <a:lnTo>
                  <a:pt x="18164" y="6448"/>
                </a:lnTo>
                <a:lnTo>
                  <a:pt x="18164" y="4707"/>
                </a:lnTo>
                <a:lnTo>
                  <a:pt x="19940" y="4707"/>
                </a:lnTo>
                <a:lnTo>
                  <a:pt x="19940" y="8224"/>
                </a:lnTo>
                <a:lnTo>
                  <a:pt x="22551" y="10800"/>
                </a:lnTo>
                <a:lnTo>
                  <a:pt x="20897" y="10800"/>
                </a:lnTo>
                <a:lnTo>
                  <a:pt x="20897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5" y="10800"/>
                </a:lnTo>
                <a:close/>
              </a:path>
              <a:path fill="darkenLess" w="31176" h="21600">
                <a:moveTo>
                  <a:pt x="18164" y="6448"/>
                </a:moveTo>
                <a:lnTo>
                  <a:pt x="18164" y="4707"/>
                </a:lnTo>
                <a:lnTo>
                  <a:pt x="19940" y="4707"/>
                </a:lnTo>
                <a:lnTo>
                  <a:pt x="19940" y="8224"/>
                </a:lnTo>
                <a:close/>
              </a:path>
              <a:path fill="darkenLess" w="31176" h="21600">
                <a:moveTo>
                  <a:pt x="14665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7" y="17989"/>
                </a:lnTo>
                <a:lnTo>
                  <a:pt x="20897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5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helps you to keep fi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127240"/>
            <a:ext cx="1878120" cy="1592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badminton"/>
          <p:cNvPicPr/>
          <p:nvPr/>
        </p:nvPicPr>
        <p:blipFill>
          <a:blip r:embed="rId2"/>
          <a:stretch/>
        </p:blipFill>
        <p:spPr>
          <a:xfrm>
            <a:off x="755640" y="4076640"/>
            <a:ext cx="858960" cy="1297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cycling"/>
          <p:cNvPicPr/>
          <p:nvPr/>
        </p:nvPicPr>
        <p:blipFill>
          <a:blip r:embed="rId3"/>
          <a:stretch/>
        </p:blipFill>
        <p:spPr>
          <a:xfrm>
            <a:off x="2195640" y="4941720"/>
            <a:ext cx="792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227640" y="2349360"/>
            <a:ext cx="1428840" cy="107964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885080" y="6093000"/>
            <a:ext cx="1150920" cy="57600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21573" y="3837"/>
                </a:moveTo>
                <a:lnTo>
                  <a:pt x="24149" y="6448"/>
                </a:lnTo>
                <a:lnTo>
                  <a:pt x="24149" y="4707"/>
                </a:lnTo>
                <a:lnTo>
                  <a:pt x="25925" y="4707"/>
                </a:lnTo>
                <a:lnTo>
                  <a:pt x="25925" y="8224"/>
                </a:lnTo>
                <a:lnTo>
                  <a:pt x="28536" y="10800"/>
                </a:lnTo>
                <a:lnTo>
                  <a:pt x="26882" y="10800"/>
                </a:lnTo>
                <a:lnTo>
                  <a:pt x="26882" y="17989"/>
                </a:lnTo>
                <a:lnTo>
                  <a:pt x="16264" y="17989"/>
                </a:lnTo>
                <a:lnTo>
                  <a:pt x="16264" y="10800"/>
                </a:lnTo>
                <a:lnTo>
                  <a:pt x="14610" y="10800"/>
                </a:lnTo>
                <a:close/>
              </a:path>
              <a:path fill="darkenLess" w="43146" h="21600">
                <a:moveTo>
                  <a:pt x="24149" y="6448"/>
                </a:moveTo>
                <a:lnTo>
                  <a:pt x="24149" y="4707"/>
                </a:lnTo>
                <a:lnTo>
                  <a:pt x="25925" y="4707"/>
                </a:lnTo>
                <a:lnTo>
                  <a:pt x="25925" y="8224"/>
                </a:lnTo>
                <a:close/>
              </a:path>
              <a:path fill="darkenLess" w="43146" h="21600">
                <a:moveTo>
                  <a:pt x="20650" y="14299"/>
                </a:moveTo>
                <a:lnTo>
                  <a:pt x="22496" y="14299"/>
                </a:lnTo>
                <a:lnTo>
                  <a:pt x="22496" y="17989"/>
                </a:lnTo>
                <a:lnTo>
                  <a:pt x="26882" y="17989"/>
                </a:lnTo>
                <a:lnTo>
                  <a:pt x="26882" y="10800"/>
                </a:lnTo>
                <a:lnTo>
                  <a:pt x="16264" y="10800"/>
                </a:lnTo>
                <a:lnTo>
                  <a:pt x="16264" y="17989"/>
                </a:lnTo>
                <a:lnTo>
                  <a:pt x="20650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796000" y="4076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&amp;SHcy;&amp;kcy;&amp;ocy;&amp;lcy;&amp;softcy;&amp;ncy;&amp;icy;&amp;kcy;&amp;icy;"/>
          <p:cNvPicPr/>
          <p:nvPr/>
        </p:nvPicPr>
        <p:blipFill>
          <a:blip r:embed="rId6"/>
          <a:stretch/>
        </p:blipFill>
        <p:spPr>
          <a:xfrm>
            <a:off x="3635280" y="3284640"/>
            <a:ext cx="1076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destroys our health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1355400" cy="1401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233352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1847880" cy="1428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1355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gree or disagre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are not spor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care about your heal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ing in for sport can be dangerou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t is important to be fit and health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go in for sports regularl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don’t often eat fruit and vegetab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t’s true.                 It’s fal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tch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go jogg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go in for s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fi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spor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do aerobic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good 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e fond o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very 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the pa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tiv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gular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un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ying volleyb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17236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16190" y="3837"/>
                </a:moveTo>
                <a:lnTo>
                  <a:pt x="18766" y="6448"/>
                </a:ln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lnTo>
                  <a:pt x="23153" y="10800"/>
                </a:lnTo>
                <a:lnTo>
                  <a:pt x="21499" y="10800"/>
                </a:lnTo>
                <a:lnTo>
                  <a:pt x="21499" y="17989"/>
                </a:lnTo>
                <a:lnTo>
                  <a:pt x="10881" y="17989"/>
                </a:lnTo>
                <a:lnTo>
                  <a:pt x="10881" y="10800"/>
                </a:lnTo>
                <a:lnTo>
                  <a:pt x="9227" y="10800"/>
                </a:lnTo>
                <a:close/>
              </a:path>
              <a:path fill="darkenLess" w="32380" h="21600">
                <a:moveTo>
                  <a:pt x="18766" y="6448"/>
                </a:move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close/>
              </a:path>
              <a:path fill="darkenLess" w="32380" h="21600">
                <a:moveTo>
                  <a:pt x="15267" y="14299"/>
                </a:moveTo>
                <a:lnTo>
                  <a:pt x="17112" y="14299"/>
                </a:lnTo>
                <a:lnTo>
                  <a:pt x="17112" y="17989"/>
                </a:lnTo>
                <a:lnTo>
                  <a:pt x="21499" y="17989"/>
                </a:lnTo>
                <a:lnTo>
                  <a:pt x="21499" y="10800"/>
                </a:lnTo>
                <a:lnTo>
                  <a:pt x="10881" y="10800"/>
                </a:lnTo>
                <a:lnTo>
                  <a:pt x="10881" y="17989"/>
                </a:lnTo>
                <a:lnTo>
                  <a:pt x="1526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edical proble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sore throat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- больное горл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headache        -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оловная бо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stomach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- боль в живо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tooth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- зубная бо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backache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- боль в спин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cough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- каш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cold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- просту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lu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- грипп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ay what medical problems you might have,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you run fa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I run fast, I might get a back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.45, p. 1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tch the wor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re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c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o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e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l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ro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f you want to keep fit, remember some rul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et up early and go to bed early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sport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 regular exercises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healthy food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ever smoke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sh the hands before you eat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your teeth twice a day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nd a lot of time in the open air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the room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56720" y="602136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7994" y="3837"/>
                </a:moveTo>
                <a:lnTo>
                  <a:pt x="20570" y="6448"/>
                </a:lnTo>
                <a:lnTo>
                  <a:pt x="20570" y="4707"/>
                </a:lnTo>
                <a:lnTo>
                  <a:pt x="22346" y="4707"/>
                </a:lnTo>
                <a:lnTo>
                  <a:pt x="22346" y="8224"/>
                </a:lnTo>
                <a:lnTo>
                  <a:pt x="24957" y="10800"/>
                </a:lnTo>
                <a:lnTo>
                  <a:pt x="23303" y="10800"/>
                </a:lnTo>
                <a:lnTo>
                  <a:pt x="23303" y="17989"/>
                </a:lnTo>
                <a:lnTo>
                  <a:pt x="12685" y="17989"/>
                </a:lnTo>
                <a:lnTo>
                  <a:pt x="12685" y="10800"/>
                </a:lnTo>
                <a:lnTo>
                  <a:pt x="11031" y="10800"/>
                </a:lnTo>
                <a:close/>
              </a:path>
              <a:path fill="darkenLess" w="35988" h="21600">
                <a:moveTo>
                  <a:pt x="20570" y="6448"/>
                </a:moveTo>
                <a:lnTo>
                  <a:pt x="20570" y="4707"/>
                </a:lnTo>
                <a:lnTo>
                  <a:pt x="22346" y="4707"/>
                </a:lnTo>
                <a:lnTo>
                  <a:pt x="22346" y="8224"/>
                </a:lnTo>
                <a:close/>
              </a:path>
              <a:path fill="darkenLess" w="35988" h="21600">
                <a:moveTo>
                  <a:pt x="17071" y="14299"/>
                </a:moveTo>
                <a:lnTo>
                  <a:pt x="18917" y="14299"/>
                </a:lnTo>
                <a:lnTo>
                  <a:pt x="18917" y="17989"/>
                </a:lnTo>
                <a:lnTo>
                  <a:pt x="23303" y="17989"/>
                </a:lnTo>
                <a:lnTo>
                  <a:pt x="23303" y="10800"/>
                </a:lnTo>
                <a:lnTo>
                  <a:pt x="12685" y="10800"/>
                </a:lnTo>
                <a:lnTo>
                  <a:pt x="12685" y="17989"/>
                </a:lnTo>
                <a:lnTo>
                  <a:pt x="1707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nglish proverb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 apple a 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with pleasure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sound mi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rly to bed and early to r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 is bett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merry he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 a good 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an weal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kes a man healthy, wealthy and w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a sound bod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eeps the doctor aw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rink with meas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f you want to be healthy , you shoul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3" name="" descr="http://allforchildren.ru/pictures/hygiene_s/hygiene02.gif"/>
          <p:cNvPicPr/>
          <p:nvPr/>
        </p:nvPicPr>
        <p:blipFill>
          <a:blip r:embed="rId1"/>
          <a:stretch/>
        </p:blipFill>
        <p:spPr>
          <a:xfrm>
            <a:off x="2627280" y="184464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1428840" cy="1257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&amp;vcy;&amp;iecy;&amp;scy;&amp;ncy;&amp;acy;, &amp;dcy;&amp;ocy;&amp;rcy;&amp;ocy;&amp;gcy;&amp;acy;, &amp;iecy;&amp;lcy;&amp;icy;, &amp;iecy;&amp;lcy;&amp;kcy;&amp;icy;, &amp;scy;&amp;ncy;&amp;iecy;&amp;gcy;, &amp;lcy;&amp;iecy;&amp;scy;, &amp;pcy;&amp;rcy;&amp;icy;&amp;rcy;&amp;ocy;&amp;dcy;&amp;acy;"/>
          <p:cNvPicPr/>
          <p:nvPr/>
        </p:nvPicPr>
        <p:blipFill>
          <a:blip r:embed="rId4"/>
          <a:stretch/>
        </p:blipFill>
        <p:spPr>
          <a:xfrm>
            <a:off x="5867280" y="1916280"/>
            <a:ext cx="2595600" cy="162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&amp;khcy;&amp;acy;&amp;zcy;&amp;yacy;&amp;jcy;&amp;kcy;&amp;iecy; &amp;ncy;&amp;acy; &amp;rcy;&amp;acy;&amp;dcy;&amp;ocy;&amp;scy;&amp;tcy;&amp;softcy;"/>
          <p:cNvPicPr/>
          <p:nvPr/>
        </p:nvPicPr>
        <p:blipFill>
          <a:blip r:embed="rId5"/>
          <a:stretch/>
        </p:blipFill>
        <p:spPr>
          <a:xfrm>
            <a:off x="3419640" y="4869000"/>
            <a:ext cx="2095200" cy="1171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&amp;fcy;&amp;rcy;&amp;ucy;&amp;kcy;&amp;tcy;&amp;ycy;"/>
          <p:cNvPicPr/>
          <p:nvPr/>
        </p:nvPicPr>
        <p:blipFill>
          <a:blip r:embed="rId6"/>
          <a:stretch/>
        </p:blipFill>
        <p:spPr>
          <a:xfrm>
            <a:off x="6084720" y="4797360"/>
            <a:ext cx="2095560" cy="117180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755640" y="17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4140360" y="2997360"/>
            <a:ext cx="1000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ad and rememb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rd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сердный, усерд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rdly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два, с трудом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te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здний, позд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tely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в последнее время, недавн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ar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лизкий, близко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arly (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чти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t in the necessary words in the senten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too (late/ lately). I have to go ho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have read the poem by A. Pushkin (late/ lately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 could ( hard/ hardly) eat that porridge because it was terr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r uncle works (hard/ hardly) in his offi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 there a park (near/ nearly) your hous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will take them (near/ nearly) three hours to get the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0108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Thank you for your attent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nglish proverb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 apple a day keeps the doctor aw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t with pleasure, drink with measur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sound mind in a sound bod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rly to bed and early to rise makes a man healthy, wealthy and wi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ealth is better than weal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merry heart is a good medic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20231" y="3837"/>
                </a:moveTo>
                <a:lnTo>
                  <a:pt x="22807" y="6448"/>
                </a:ln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lnTo>
                  <a:pt x="27194" y="10800"/>
                </a:lnTo>
                <a:lnTo>
                  <a:pt x="25540" y="10800"/>
                </a:lnTo>
                <a:lnTo>
                  <a:pt x="25540" y="17989"/>
                </a:lnTo>
                <a:lnTo>
                  <a:pt x="14921" y="17989"/>
                </a:lnTo>
                <a:lnTo>
                  <a:pt x="14921" y="10800"/>
                </a:lnTo>
                <a:lnTo>
                  <a:pt x="13268" y="10800"/>
                </a:lnTo>
                <a:close/>
              </a:path>
              <a:path fill="darkenLess" w="40461" h="21600">
                <a:moveTo>
                  <a:pt x="22807" y="6448"/>
                </a:move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close/>
              </a:path>
              <a:path fill="darkenLess" w="40461" h="21600">
                <a:moveTo>
                  <a:pt x="19308" y="14299"/>
                </a:moveTo>
                <a:lnTo>
                  <a:pt x="21153" y="14299"/>
                </a:lnTo>
                <a:lnTo>
                  <a:pt x="21153" y="17989"/>
                </a:lnTo>
                <a:lnTo>
                  <a:pt x="25540" y="17989"/>
                </a:lnTo>
                <a:lnTo>
                  <a:pt x="25540" y="10800"/>
                </a:lnTo>
                <a:lnTo>
                  <a:pt x="14921" y="10800"/>
                </a:lnTo>
                <a:lnTo>
                  <a:pt x="14921" y="17989"/>
                </a:lnTo>
                <a:lnTo>
                  <a:pt x="19308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port helps us to be health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you agree with i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330280"/>
            <a:ext cx="4572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 be strong and slim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look beautiful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rest and relax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make friends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o be in a good mood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20231" y="3837"/>
                </a:moveTo>
                <a:lnTo>
                  <a:pt x="22807" y="6448"/>
                </a:ln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lnTo>
                  <a:pt x="27194" y="10800"/>
                </a:lnTo>
                <a:lnTo>
                  <a:pt x="25540" y="10800"/>
                </a:lnTo>
                <a:lnTo>
                  <a:pt x="25540" y="17989"/>
                </a:lnTo>
                <a:lnTo>
                  <a:pt x="14921" y="17989"/>
                </a:lnTo>
                <a:lnTo>
                  <a:pt x="14921" y="10800"/>
                </a:lnTo>
                <a:lnTo>
                  <a:pt x="13268" y="10800"/>
                </a:lnTo>
                <a:close/>
              </a:path>
              <a:path fill="darkenLess" w="40461" h="21600">
                <a:moveTo>
                  <a:pt x="22807" y="6448"/>
                </a:moveTo>
                <a:lnTo>
                  <a:pt x="22807" y="4707"/>
                </a:lnTo>
                <a:lnTo>
                  <a:pt x="24582" y="4707"/>
                </a:lnTo>
                <a:lnTo>
                  <a:pt x="24582" y="8224"/>
                </a:lnTo>
                <a:close/>
              </a:path>
              <a:path fill="darkenLess" w="40461" h="21600">
                <a:moveTo>
                  <a:pt x="19308" y="14299"/>
                </a:moveTo>
                <a:lnTo>
                  <a:pt x="21153" y="14299"/>
                </a:lnTo>
                <a:lnTo>
                  <a:pt x="21153" y="17989"/>
                </a:lnTo>
                <a:lnTo>
                  <a:pt x="25540" y="17989"/>
                </a:lnTo>
                <a:lnTo>
                  <a:pt x="25540" y="10800"/>
                </a:lnTo>
                <a:lnTo>
                  <a:pt x="14921" y="10800"/>
                </a:lnTo>
                <a:lnTo>
                  <a:pt x="14921" y="17989"/>
                </a:lnTo>
                <a:lnTo>
                  <a:pt x="19308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y favourite sport i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" descr="tennis"/>
          <p:cNvPicPr/>
          <p:nvPr/>
        </p:nvPicPr>
        <p:blipFill>
          <a:blip r:embed="rId1"/>
          <a:stretch/>
        </p:blipFill>
        <p:spPr>
          <a:xfrm>
            <a:off x="1258920" y="1916280"/>
            <a:ext cx="809640" cy="1190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pingpong"/>
          <p:cNvPicPr/>
          <p:nvPr/>
        </p:nvPicPr>
        <p:blipFill>
          <a:blip r:embed="rId2"/>
          <a:stretch/>
        </p:blipFill>
        <p:spPr>
          <a:xfrm>
            <a:off x="5867280" y="2781360"/>
            <a:ext cx="120024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football"/>
          <p:cNvPicPr/>
          <p:nvPr/>
        </p:nvPicPr>
        <p:blipFill>
          <a:blip r:embed="rId3"/>
          <a:stretch/>
        </p:blipFill>
        <p:spPr>
          <a:xfrm>
            <a:off x="4427640" y="4221000"/>
            <a:ext cx="1066680" cy="733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cycling"/>
          <p:cNvPicPr/>
          <p:nvPr/>
        </p:nvPicPr>
        <p:blipFill>
          <a:blip r:embed="rId4"/>
          <a:stretch/>
        </p:blipFill>
        <p:spPr>
          <a:xfrm>
            <a:off x="6516720" y="4005360"/>
            <a:ext cx="609480" cy="952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hockey"/>
          <p:cNvPicPr/>
          <p:nvPr/>
        </p:nvPicPr>
        <p:blipFill>
          <a:blip r:embed="rId5"/>
          <a:stretch/>
        </p:blipFill>
        <p:spPr>
          <a:xfrm>
            <a:off x="2916360" y="5373720"/>
            <a:ext cx="952200" cy="390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14857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826920" y="3860640"/>
            <a:ext cx="165744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164360" y="170028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991640" y="6127560"/>
            <a:ext cx="947520" cy="469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types of sport do you like and dislike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like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fond of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prefer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good a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dislike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 am not good a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otb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otball was born in England. But now it has become the national sport of many countri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2232000" cy="17193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gure ska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has a glorious history and tradition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 from all over the world come to see their unforgettable performanc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2022480" cy="20890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ocke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ed and changes on ice have made hockey the most popular game in the worl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1749600" cy="19447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4:51:54Z</dcterms:created>
  <dc:creator>Юрка</dc:creator>
  <dc:description/>
  <dc:language>en-US</dc:language>
  <cp:lastModifiedBy>Юрка</cp:lastModifiedBy>
  <dcterms:modified xsi:type="dcterms:W3CDTF">2013-04-25T19:22:53Z</dcterms:modified>
  <cp:revision>11</cp:revision>
  <dc:subject/>
  <dc:title>Health is better than wealth</dc:title>
</cp:coreProperties>
</file>