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0C0-77F7-439C-9386-F34EA220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F82-83BA-4BF6-A3F6-D566C1A4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493-A48C-4D6C-B37A-DAF36F72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C15-F39D-4743-931B-B11E4F82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D6D5-FB10-4614-A24E-D04ED8DC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9AB1-64BF-4E7B-ACD0-B03C0070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25E0-F14E-4EEE-955A-0C0C74EC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042F-14CA-4E33-8859-6FAFD49C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0B0B-821C-493C-8868-19FF8C8B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CEB8-3187-48BD-A586-454F6486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AC6C-D263-455B-B635-9AE787BB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AB2-71AC-4C86-8EB3-B99716F7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1DD0-C56B-489B-8AE0-B0A6AFF1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5CEC-5870-4250-9591-1F7060A5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185B-3AFC-432C-937F-E81FF463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827F-75D9-4015-B066-4881A55C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61D5-0E3F-4606-B8CC-BB394127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C9D-6EA9-452C-AE9F-9F5A2895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F9B-239F-41B8-BF8B-7192DF49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174-CCB4-40E2-AB8C-4528F453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2D0-0B1B-46F1-835D-075B7DD3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FFB-9EBA-47C1-8BFE-EEAC2C6C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BC8-77E5-4DC4-B4BB-9A68995A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1B6-FCD4-4278-86EA-997C141E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3B9D-7B6C-48BC-B7FF-C111219B6CA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B738-03C8-4587-B000-03081959809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Health is above wealth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asketbal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 is very exciting to watch and to play i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2376720" cy="2233440"/>
          </a:xfrm>
          <a:prstGeom prst="rect">
            <a:avLst/>
          </a:prstGeom>
          <a:ln w="0">
            <a:noFill/>
          </a:ln>
        </p:spPr>
      </p:pic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y do people do sports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eople do sports 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ecause it’s in fashion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get rid of stress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look athletic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have a good time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win the prize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become famous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become strong, energetic and healthy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rest and relax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101080" y="602136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5588" y="3837"/>
                </a:moveTo>
                <a:lnTo>
                  <a:pt x="18164" y="6448"/>
                </a:lnTo>
                <a:lnTo>
                  <a:pt x="18164" y="4707"/>
                </a:lnTo>
                <a:lnTo>
                  <a:pt x="19940" y="4707"/>
                </a:lnTo>
                <a:lnTo>
                  <a:pt x="19940" y="8224"/>
                </a:lnTo>
                <a:lnTo>
                  <a:pt x="22551" y="10800"/>
                </a:lnTo>
                <a:lnTo>
                  <a:pt x="20897" y="10800"/>
                </a:lnTo>
                <a:lnTo>
                  <a:pt x="20897" y="17989"/>
                </a:lnTo>
                <a:lnTo>
                  <a:pt x="10279" y="17989"/>
                </a:lnTo>
                <a:lnTo>
                  <a:pt x="10279" y="10800"/>
                </a:lnTo>
                <a:lnTo>
                  <a:pt x="8625" y="10800"/>
                </a:lnTo>
                <a:close/>
              </a:path>
              <a:path fill="darkenLess" w="31176" h="21600">
                <a:moveTo>
                  <a:pt x="18164" y="6448"/>
                </a:moveTo>
                <a:lnTo>
                  <a:pt x="18164" y="4707"/>
                </a:lnTo>
                <a:lnTo>
                  <a:pt x="19940" y="4707"/>
                </a:lnTo>
                <a:lnTo>
                  <a:pt x="19940" y="8224"/>
                </a:lnTo>
                <a:close/>
              </a:path>
              <a:path fill="darkenLess" w="31176" h="21600">
                <a:moveTo>
                  <a:pt x="14665" y="14299"/>
                </a:moveTo>
                <a:lnTo>
                  <a:pt x="16511" y="14299"/>
                </a:lnTo>
                <a:lnTo>
                  <a:pt x="16511" y="17989"/>
                </a:lnTo>
                <a:lnTo>
                  <a:pt x="20897" y="17989"/>
                </a:lnTo>
                <a:lnTo>
                  <a:pt x="20897" y="10800"/>
                </a:lnTo>
                <a:lnTo>
                  <a:pt x="10279" y="10800"/>
                </a:lnTo>
                <a:lnTo>
                  <a:pt x="10279" y="17989"/>
                </a:lnTo>
                <a:lnTo>
                  <a:pt x="14665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at helps you to keep fit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127240"/>
            <a:ext cx="1878120" cy="1592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badminton"/>
          <p:cNvPicPr/>
          <p:nvPr/>
        </p:nvPicPr>
        <p:blipFill>
          <a:blip r:embed="rId2"/>
          <a:stretch/>
        </p:blipFill>
        <p:spPr>
          <a:xfrm>
            <a:off x="755640" y="4076640"/>
            <a:ext cx="858960" cy="1297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cycling"/>
          <p:cNvPicPr/>
          <p:nvPr/>
        </p:nvPicPr>
        <p:blipFill>
          <a:blip r:embed="rId3"/>
          <a:stretch/>
        </p:blipFill>
        <p:spPr>
          <a:xfrm>
            <a:off x="2195640" y="4941720"/>
            <a:ext cx="792000" cy="1224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6227640" y="2349360"/>
            <a:ext cx="1428840" cy="107964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885080" y="6093000"/>
            <a:ext cx="1150920" cy="57600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146" h="21600">
                <a:moveTo>
                  <a:pt x="0" y="0"/>
                </a:moveTo>
                <a:lnTo>
                  <a:pt x="43146" y="0"/>
                </a:lnTo>
                <a:lnTo>
                  <a:pt x="43146" y="21600"/>
                </a:lnTo>
                <a:lnTo>
                  <a:pt x="0" y="21600"/>
                </a:lnTo>
                <a:close/>
              </a:path>
              <a:path fill="lightenLess" w="43146" h="21600">
                <a:moveTo>
                  <a:pt x="0" y="0"/>
                </a:moveTo>
                <a:lnTo>
                  <a:pt x="43146" y="0"/>
                </a:lnTo>
                <a:lnTo>
                  <a:pt x="41746" y="1400"/>
                </a:lnTo>
                <a:lnTo>
                  <a:pt x="1400" y="1400"/>
                </a:lnTo>
                <a:close/>
              </a:path>
              <a:path fill="darken" w="43146" h="21600">
                <a:moveTo>
                  <a:pt x="43146" y="0"/>
                </a:moveTo>
                <a:lnTo>
                  <a:pt x="43146" y="21600"/>
                </a:lnTo>
                <a:lnTo>
                  <a:pt x="41746" y="20200"/>
                </a:lnTo>
                <a:lnTo>
                  <a:pt x="41746" y="1400"/>
                </a:lnTo>
                <a:close/>
              </a:path>
              <a:path fill="darkenLess" w="43146" h="21600">
                <a:moveTo>
                  <a:pt x="43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6" y="20200"/>
                </a:lnTo>
                <a:close/>
              </a:path>
              <a:path fill="lighten" w="43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6" h="21600">
                <a:moveTo>
                  <a:pt x="21573" y="3837"/>
                </a:moveTo>
                <a:lnTo>
                  <a:pt x="24149" y="6448"/>
                </a:lnTo>
                <a:lnTo>
                  <a:pt x="24149" y="4707"/>
                </a:lnTo>
                <a:lnTo>
                  <a:pt x="25925" y="4707"/>
                </a:lnTo>
                <a:lnTo>
                  <a:pt x="25925" y="8224"/>
                </a:lnTo>
                <a:lnTo>
                  <a:pt x="28536" y="10800"/>
                </a:lnTo>
                <a:lnTo>
                  <a:pt x="26882" y="10800"/>
                </a:lnTo>
                <a:lnTo>
                  <a:pt x="26882" y="17989"/>
                </a:lnTo>
                <a:lnTo>
                  <a:pt x="16264" y="17989"/>
                </a:lnTo>
                <a:lnTo>
                  <a:pt x="16264" y="10800"/>
                </a:lnTo>
                <a:lnTo>
                  <a:pt x="14610" y="10800"/>
                </a:lnTo>
                <a:close/>
              </a:path>
              <a:path fill="darkenLess" w="43146" h="21600">
                <a:moveTo>
                  <a:pt x="24149" y="6448"/>
                </a:moveTo>
                <a:lnTo>
                  <a:pt x="24149" y="4707"/>
                </a:lnTo>
                <a:lnTo>
                  <a:pt x="25925" y="4707"/>
                </a:lnTo>
                <a:lnTo>
                  <a:pt x="25925" y="8224"/>
                </a:lnTo>
                <a:close/>
              </a:path>
              <a:path fill="darkenLess" w="43146" h="21600">
                <a:moveTo>
                  <a:pt x="20650" y="14299"/>
                </a:moveTo>
                <a:lnTo>
                  <a:pt x="22496" y="14299"/>
                </a:lnTo>
                <a:lnTo>
                  <a:pt x="22496" y="17989"/>
                </a:lnTo>
                <a:lnTo>
                  <a:pt x="26882" y="17989"/>
                </a:lnTo>
                <a:lnTo>
                  <a:pt x="26882" y="10800"/>
                </a:lnTo>
                <a:lnTo>
                  <a:pt x="16264" y="10800"/>
                </a:lnTo>
                <a:lnTo>
                  <a:pt x="16264" y="17989"/>
                </a:lnTo>
                <a:lnTo>
                  <a:pt x="20650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796000" y="4076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&amp;SHcy;&amp;kcy;&amp;ocy;&amp;lcy;&amp;softcy;&amp;ncy;&amp;icy;&amp;kcy;&amp;icy;"/>
          <p:cNvPicPr/>
          <p:nvPr/>
        </p:nvPicPr>
        <p:blipFill>
          <a:blip r:embed="rId6"/>
          <a:stretch/>
        </p:blipFill>
        <p:spPr>
          <a:xfrm>
            <a:off x="3635280" y="3284640"/>
            <a:ext cx="10764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at destroys our health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1355400" cy="1401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700360" y="2492280"/>
            <a:ext cx="233352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084720" y="2565360"/>
            <a:ext cx="1847880" cy="1428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802800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16806" y="3837"/>
                </a:moveTo>
                <a:lnTo>
                  <a:pt x="19382" y="6448"/>
                </a:ln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lnTo>
                  <a:pt x="23769" y="10800"/>
                </a:lnTo>
                <a:lnTo>
                  <a:pt x="22115" y="10800"/>
                </a:lnTo>
                <a:lnTo>
                  <a:pt x="22115" y="17989"/>
                </a:lnTo>
                <a:lnTo>
                  <a:pt x="11497" y="17989"/>
                </a:lnTo>
                <a:lnTo>
                  <a:pt x="11497" y="10800"/>
                </a:lnTo>
                <a:lnTo>
                  <a:pt x="9843" y="10800"/>
                </a:lnTo>
                <a:close/>
              </a:path>
              <a:path fill="darkenLess" w="33612" h="21600">
                <a:moveTo>
                  <a:pt x="19382" y="6448"/>
                </a:move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close/>
              </a:path>
              <a:path fill="darkenLess" w="33612" h="21600">
                <a:moveTo>
                  <a:pt x="15883" y="14299"/>
                </a:moveTo>
                <a:lnTo>
                  <a:pt x="17729" y="14299"/>
                </a:lnTo>
                <a:lnTo>
                  <a:pt x="17729" y="17989"/>
                </a:lnTo>
                <a:lnTo>
                  <a:pt x="22115" y="17989"/>
                </a:lnTo>
                <a:lnTo>
                  <a:pt x="22115" y="10800"/>
                </a:lnTo>
                <a:lnTo>
                  <a:pt x="11497" y="10800"/>
                </a:lnTo>
                <a:lnTo>
                  <a:pt x="11497" y="17989"/>
                </a:lnTo>
                <a:lnTo>
                  <a:pt x="1588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684360" y="2492280"/>
            <a:ext cx="13554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gree or disagre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You are not sport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You care about your health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oing in for sport can be dangerou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t is important to be fit and health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You go in for sports regularl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You don’t often eat fruit and vegetabl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It’s true.                 It’s fals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atch the wor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go jogg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go in for spor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be fi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be spor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do aerobic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be good a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be fond of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very da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 the par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ctivi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gularl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unn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laying volleybal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ealth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8172360" y="609300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0" h="21600">
                <a:moveTo>
                  <a:pt x="16190" y="3837"/>
                </a:moveTo>
                <a:lnTo>
                  <a:pt x="18766" y="6448"/>
                </a:lnTo>
                <a:lnTo>
                  <a:pt x="18766" y="4707"/>
                </a:lnTo>
                <a:lnTo>
                  <a:pt x="20542" y="4707"/>
                </a:lnTo>
                <a:lnTo>
                  <a:pt x="20542" y="8224"/>
                </a:lnTo>
                <a:lnTo>
                  <a:pt x="23153" y="10800"/>
                </a:lnTo>
                <a:lnTo>
                  <a:pt x="21499" y="10800"/>
                </a:lnTo>
                <a:lnTo>
                  <a:pt x="21499" y="17989"/>
                </a:lnTo>
                <a:lnTo>
                  <a:pt x="10881" y="17989"/>
                </a:lnTo>
                <a:lnTo>
                  <a:pt x="10881" y="10800"/>
                </a:lnTo>
                <a:lnTo>
                  <a:pt x="9227" y="10800"/>
                </a:lnTo>
                <a:close/>
              </a:path>
              <a:path fill="darkenLess" w="32380" h="21600">
                <a:moveTo>
                  <a:pt x="18766" y="6448"/>
                </a:moveTo>
                <a:lnTo>
                  <a:pt x="18766" y="4707"/>
                </a:lnTo>
                <a:lnTo>
                  <a:pt x="20542" y="4707"/>
                </a:lnTo>
                <a:lnTo>
                  <a:pt x="20542" y="8224"/>
                </a:lnTo>
                <a:close/>
              </a:path>
              <a:path fill="darkenLess" w="32380" h="21600">
                <a:moveTo>
                  <a:pt x="15267" y="14299"/>
                </a:moveTo>
                <a:lnTo>
                  <a:pt x="17112" y="14299"/>
                </a:lnTo>
                <a:lnTo>
                  <a:pt x="17112" y="17989"/>
                </a:lnTo>
                <a:lnTo>
                  <a:pt x="21499" y="17989"/>
                </a:lnTo>
                <a:lnTo>
                  <a:pt x="21499" y="10800"/>
                </a:lnTo>
                <a:lnTo>
                  <a:pt x="10881" y="10800"/>
                </a:lnTo>
                <a:lnTo>
                  <a:pt x="10881" y="17989"/>
                </a:lnTo>
                <a:lnTo>
                  <a:pt x="1526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edical proble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sore throat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- больное горл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headache        -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оловная бо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stomachache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- боль в живот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toothache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- зубная бо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backache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- боль в спин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cough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- каш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cold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- простуд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lu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- грипп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802800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16806" y="3837"/>
                </a:moveTo>
                <a:lnTo>
                  <a:pt x="19382" y="6448"/>
                </a:ln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lnTo>
                  <a:pt x="23769" y="10800"/>
                </a:lnTo>
                <a:lnTo>
                  <a:pt x="22115" y="10800"/>
                </a:lnTo>
                <a:lnTo>
                  <a:pt x="22115" y="17989"/>
                </a:lnTo>
                <a:lnTo>
                  <a:pt x="11497" y="17989"/>
                </a:lnTo>
                <a:lnTo>
                  <a:pt x="11497" y="10800"/>
                </a:lnTo>
                <a:lnTo>
                  <a:pt x="9843" y="10800"/>
                </a:lnTo>
                <a:close/>
              </a:path>
              <a:path fill="darkenLess" w="33612" h="21600">
                <a:moveTo>
                  <a:pt x="19382" y="6448"/>
                </a:move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close/>
              </a:path>
              <a:path fill="darkenLess" w="33612" h="21600">
                <a:moveTo>
                  <a:pt x="15883" y="14299"/>
                </a:moveTo>
                <a:lnTo>
                  <a:pt x="17729" y="14299"/>
                </a:lnTo>
                <a:lnTo>
                  <a:pt x="17729" y="17989"/>
                </a:lnTo>
                <a:lnTo>
                  <a:pt x="22115" y="17989"/>
                </a:lnTo>
                <a:lnTo>
                  <a:pt x="22115" y="10800"/>
                </a:lnTo>
                <a:lnTo>
                  <a:pt x="11497" y="10800"/>
                </a:lnTo>
                <a:lnTo>
                  <a:pt x="11497" y="17989"/>
                </a:lnTo>
                <a:lnTo>
                  <a:pt x="1588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ay what medical problems you might have,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you run fas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I run fast, I might get a backach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.45, p. 11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atch the wor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k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l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ee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or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rea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G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i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ic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edici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o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de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eop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l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roa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802800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16806" y="3837"/>
                </a:moveTo>
                <a:lnTo>
                  <a:pt x="19382" y="6448"/>
                </a:ln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lnTo>
                  <a:pt x="23769" y="10800"/>
                </a:lnTo>
                <a:lnTo>
                  <a:pt x="22115" y="10800"/>
                </a:lnTo>
                <a:lnTo>
                  <a:pt x="22115" y="17989"/>
                </a:lnTo>
                <a:lnTo>
                  <a:pt x="11497" y="17989"/>
                </a:lnTo>
                <a:lnTo>
                  <a:pt x="11497" y="10800"/>
                </a:lnTo>
                <a:lnTo>
                  <a:pt x="9843" y="10800"/>
                </a:lnTo>
                <a:close/>
              </a:path>
              <a:path fill="darkenLess" w="33612" h="21600">
                <a:moveTo>
                  <a:pt x="19382" y="6448"/>
                </a:move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close/>
              </a:path>
              <a:path fill="darkenLess" w="33612" h="21600">
                <a:moveTo>
                  <a:pt x="15883" y="14299"/>
                </a:moveTo>
                <a:lnTo>
                  <a:pt x="17729" y="14299"/>
                </a:lnTo>
                <a:lnTo>
                  <a:pt x="17729" y="17989"/>
                </a:lnTo>
                <a:lnTo>
                  <a:pt x="22115" y="17989"/>
                </a:lnTo>
                <a:lnTo>
                  <a:pt x="22115" y="10800"/>
                </a:lnTo>
                <a:lnTo>
                  <a:pt x="11497" y="10800"/>
                </a:lnTo>
                <a:lnTo>
                  <a:pt x="11497" y="17989"/>
                </a:lnTo>
                <a:lnTo>
                  <a:pt x="1588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f you want to keep fit, remember some rule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get up early and go to bed early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o sport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ke regular exercises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at healthy food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ever smoke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ash the hands before you eat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lean your teeth twice a day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pend a lot of time in the open air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ir the room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">
            <a:hlinkClick r:id="" action="ppaction://hlinkshowjump?jump=firstslide"/>
          </p:cNvPr>
          <p:cNvSpPr/>
          <p:nvPr/>
        </p:nvSpPr>
        <p:spPr>
          <a:xfrm>
            <a:off x="7956720" y="602136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7994" y="3837"/>
                </a:moveTo>
                <a:lnTo>
                  <a:pt x="20570" y="6448"/>
                </a:lnTo>
                <a:lnTo>
                  <a:pt x="20570" y="4707"/>
                </a:lnTo>
                <a:lnTo>
                  <a:pt x="22346" y="4707"/>
                </a:lnTo>
                <a:lnTo>
                  <a:pt x="22346" y="8224"/>
                </a:lnTo>
                <a:lnTo>
                  <a:pt x="24957" y="10800"/>
                </a:lnTo>
                <a:lnTo>
                  <a:pt x="23303" y="10800"/>
                </a:lnTo>
                <a:lnTo>
                  <a:pt x="23303" y="17989"/>
                </a:lnTo>
                <a:lnTo>
                  <a:pt x="12685" y="17989"/>
                </a:lnTo>
                <a:lnTo>
                  <a:pt x="12685" y="10800"/>
                </a:lnTo>
                <a:lnTo>
                  <a:pt x="11031" y="10800"/>
                </a:lnTo>
                <a:close/>
              </a:path>
              <a:path fill="darkenLess" w="35988" h="21600">
                <a:moveTo>
                  <a:pt x="20570" y="6448"/>
                </a:moveTo>
                <a:lnTo>
                  <a:pt x="20570" y="4707"/>
                </a:lnTo>
                <a:lnTo>
                  <a:pt x="22346" y="4707"/>
                </a:lnTo>
                <a:lnTo>
                  <a:pt x="22346" y="8224"/>
                </a:lnTo>
                <a:close/>
              </a:path>
              <a:path fill="darkenLess" w="35988" h="21600">
                <a:moveTo>
                  <a:pt x="17071" y="14299"/>
                </a:moveTo>
                <a:lnTo>
                  <a:pt x="18917" y="14299"/>
                </a:lnTo>
                <a:lnTo>
                  <a:pt x="18917" y="17989"/>
                </a:lnTo>
                <a:lnTo>
                  <a:pt x="23303" y="17989"/>
                </a:lnTo>
                <a:lnTo>
                  <a:pt x="23303" y="10800"/>
                </a:lnTo>
                <a:lnTo>
                  <a:pt x="12685" y="10800"/>
                </a:lnTo>
                <a:lnTo>
                  <a:pt x="12685" y="17989"/>
                </a:lnTo>
                <a:lnTo>
                  <a:pt x="1707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nglish proverb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 apple a da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at with pleasure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sound min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arly to bed and early to ris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ealth is bett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merry hear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s a good medici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an wealt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kes a man healthy, wealthy and wis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 a sound bod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eeps the doctor awa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rink with measur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f you want to be healthy , you should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3" name="" descr="http://allforchildren.ru/pictures/hygiene_s/hygiene02.gif"/>
          <p:cNvPicPr/>
          <p:nvPr/>
        </p:nvPicPr>
        <p:blipFill>
          <a:blip r:embed="rId1"/>
          <a:stretch/>
        </p:blipFill>
        <p:spPr>
          <a:xfrm>
            <a:off x="2627280" y="1844640"/>
            <a:ext cx="1428840" cy="1295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1428840" cy="1257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1835280" y="3213000"/>
            <a:ext cx="1428480" cy="10382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&amp;vcy;&amp;iecy;&amp;scy;&amp;ncy;&amp;acy;, &amp;dcy;&amp;ocy;&amp;rcy;&amp;ocy;&amp;gcy;&amp;acy;, &amp;iecy;&amp;lcy;&amp;icy;, &amp;iecy;&amp;lcy;&amp;kcy;&amp;icy;, &amp;scy;&amp;ncy;&amp;iecy;&amp;gcy;, &amp;lcy;&amp;iecy;&amp;scy;, &amp;pcy;&amp;rcy;&amp;icy;&amp;rcy;&amp;ocy;&amp;dcy;&amp;acy;"/>
          <p:cNvPicPr/>
          <p:nvPr/>
        </p:nvPicPr>
        <p:blipFill>
          <a:blip r:embed="rId4"/>
          <a:stretch/>
        </p:blipFill>
        <p:spPr>
          <a:xfrm>
            <a:off x="5867280" y="1916280"/>
            <a:ext cx="2595600" cy="1620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&amp;khcy;&amp;acy;&amp;zcy;&amp;yacy;&amp;jcy;&amp;kcy;&amp;iecy; &amp;ncy;&amp;acy; &amp;rcy;&amp;acy;&amp;dcy;&amp;ocy;&amp;scy;&amp;tcy;&amp;softcy;"/>
          <p:cNvPicPr/>
          <p:nvPr/>
        </p:nvPicPr>
        <p:blipFill>
          <a:blip r:embed="rId5"/>
          <a:stretch/>
        </p:blipFill>
        <p:spPr>
          <a:xfrm>
            <a:off x="3419640" y="4869000"/>
            <a:ext cx="2095200" cy="1171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&amp;fcy;&amp;rcy;&amp;ucy;&amp;kcy;&amp;tcy;&amp;ycy;"/>
          <p:cNvPicPr/>
          <p:nvPr/>
        </p:nvPicPr>
        <p:blipFill>
          <a:blip r:embed="rId6"/>
          <a:stretch/>
        </p:blipFill>
        <p:spPr>
          <a:xfrm>
            <a:off x="6084720" y="4797360"/>
            <a:ext cx="2095560" cy="117180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755640" y="1700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8"/>
          <a:stretch/>
        </p:blipFill>
        <p:spPr>
          <a:xfrm>
            <a:off x="4140360" y="2997360"/>
            <a:ext cx="1000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ad and rememb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ard (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сердный, усердно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ardly (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два, с трудом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ate (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здний, поздно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ately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(в последнее время, недавно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ar (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лизкий, близко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arly (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чти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>
            <a:off x="802800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16806" y="3837"/>
                </a:moveTo>
                <a:lnTo>
                  <a:pt x="19382" y="6448"/>
                </a:ln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lnTo>
                  <a:pt x="23769" y="10800"/>
                </a:lnTo>
                <a:lnTo>
                  <a:pt x="22115" y="10800"/>
                </a:lnTo>
                <a:lnTo>
                  <a:pt x="22115" y="17989"/>
                </a:lnTo>
                <a:lnTo>
                  <a:pt x="11497" y="17989"/>
                </a:lnTo>
                <a:lnTo>
                  <a:pt x="11497" y="10800"/>
                </a:lnTo>
                <a:lnTo>
                  <a:pt x="9843" y="10800"/>
                </a:lnTo>
                <a:close/>
              </a:path>
              <a:path fill="darkenLess" w="33612" h="21600">
                <a:moveTo>
                  <a:pt x="19382" y="6448"/>
                </a:move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close/>
              </a:path>
              <a:path fill="darkenLess" w="33612" h="21600">
                <a:moveTo>
                  <a:pt x="15883" y="14299"/>
                </a:moveTo>
                <a:lnTo>
                  <a:pt x="17729" y="14299"/>
                </a:lnTo>
                <a:lnTo>
                  <a:pt x="17729" y="17989"/>
                </a:lnTo>
                <a:lnTo>
                  <a:pt x="22115" y="17989"/>
                </a:lnTo>
                <a:lnTo>
                  <a:pt x="22115" y="10800"/>
                </a:lnTo>
                <a:lnTo>
                  <a:pt x="11497" y="10800"/>
                </a:lnTo>
                <a:lnTo>
                  <a:pt x="11497" y="17989"/>
                </a:lnTo>
                <a:lnTo>
                  <a:pt x="1588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ut in the necessary words in the sentenc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 is too (late/ lately). I have to go hom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e have read the poem by A. Pushkin (late/ lately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 could ( hard/ hardly) eat that porridge because it was terribl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er uncle works (hard/ hardly) in his offic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s there a park (near/ nearly) your house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 will take them (near/ nearly) three hours to get ther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8101080" y="6093000"/>
            <a:ext cx="934920" cy="57600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051" h="21600">
                <a:moveTo>
                  <a:pt x="0" y="0"/>
                </a:moveTo>
                <a:lnTo>
                  <a:pt x="35051" y="0"/>
                </a:lnTo>
                <a:lnTo>
                  <a:pt x="35051" y="21600"/>
                </a:lnTo>
                <a:lnTo>
                  <a:pt x="0" y="21600"/>
                </a:lnTo>
                <a:close/>
              </a:path>
              <a:path fill="lightenLess" w="35051" h="21600">
                <a:moveTo>
                  <a:pt x="0" y="0"/>
                </a:moveTo>
                <a:lnTo>
                  <a:pt x="35051" y="0"/>
                </a:lnTo>
                <a:lnTo>
                  <a:pt x="33651" y="1400"/>
                </a:lnTo>
                <a:lnTo>
                  <a:pt x="1400" y="1400"/>
                </a:lnTo>
                <a:close/>
              </a:path>
              <a:path fill="darken" w="35051" h="21600">
                <a:moveTo>
                  <a:pt x="35051" y="0"/>
                </a:moveTo>
                <a:lnTo>
                  <a:pt x="35051" y="21600"/>
                </a:lnTo>
                <a:lnTo>
                  <a:pt x="33651" y="20200"/>
                </a:lnTo>
                <a:lnTo>
                  <a:pt x="33651" y="1400"/>
                </a:lnTo>
                <a:close/>
              </a:path>
              <a:path fill="darkenLess" w="35051" h="21600">
                <a:moveTo>
                  <a:pt x="35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51" y="20200"/>
                </a:lnTo>
                <a:close/>
              </a:path>
              <a:path fill="lighten" w="35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51" h="21600">
                <a:moveTo>
                  <a:pt x="17526" y="3837"/>
                </a:moveTo>
                <a:lnTo>
                  <a:pt x="20102" y="6448"/>
                </a:ln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lnTo>
                  <a:pt x="24489" y="10800"/>
                </a:lnTo>
                <a:lnTo>
                  <a:pt x="22835" y="10800"/>
                </a:lnTo>
                <a:lnTo>
                  <a:pt x="22835" y="17989"/>
                </a:lnTo>
                <a:lnTo>
                  <a:pt x="12216" y="17989"/>
                </a:lnTo>
                <a:lnTo>
                  <a:pt x="12216" y="10800"/>
                </a:lnTo>
                <a:lnTo>
                  <a:pt x="10563" y="10800"/>
                </a:lnTo>
                <a:close/>
              </a:path>
              <a:path fill="darkenLess" w="35051" h="21600">
                <a:moveTo>
                  <a:pt x="20102" y="6448"/>
                </a:move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close/>
              </a:path>
              <a:path fill="darkenLess" w="35051" h="21600">
                <a:moveTo>
                  <a:pt x="16603" y="14299"/>
                </a:moveTo>
                <a:lnTo>
                  <a:pt x="18448" y="14299"/>
                </a:lnTo>
                <a:lnTo>
                  <a:pt x="18448" y="17989"/>
                </a:lnTo>
                <a:lnTo>
                  <a:pt x="22835" y="17989"/>
                </a:lnTo>
                <a:lnTo>
                  <a:pt x="22835" y="10800"/>
                </a:lnTo>
                <a:lnTo>
                  <a:pt x="12216" y="10800"/>
                </a:lnTo>
                <a:lnTo>
                  <a:pt x="12216" y="17989"/>
                </a:lnTo>
                <a:lnTo>
                  <a:pt x="1660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Thank you for your attention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nglish proverb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 apple a day keeps the doctor awa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at with pleasure, drink with measur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sound mind in a sound bod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arly to bed and early to rise makes a man healthy, wealthy and wis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ealth is better than wealt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merry heart is a good medici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56720" y="6093000"/>
            <a:ext cx="1079280" cy="57600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461" h="21600">
                <a:moveTo>
                  <a:pt x="0" y="0"/>
                </a:moveTo>
                <a:lnTo>
                  <a:pt x="40461" y="0"/>
                </a:lnTo>
                <a:lnTo>
                  <a:pt x="40461" y="21600"/>
                </a:lnTo>
                <a:lnTo>
                  <a:pt x="0" y="21600"/>
                </a:lnTo>
                <a:close/>
              </a:path>
              <a:path fill="lightenLess" w="40461" h="21600">
                <a:moveTo>
                  <a:pt x="0" y="0"/>
                </a:moveTo>
                <a:lnTo>
                  <a:pt x="40461" y="0"/>
                </a:lnTo>
                <a:lnTo>
                  <a:pt x="39061" y="1400"/>
                </a:lnTo>
                <a:lnTo>
                  <a:pt x="1400" y="1400"/>
                </a:lnTo>
                <a:close/>
              </a:path>
              <a:path fill="darken" w="40461" h="21600">
                <a:moveTo>
                  <a:pt x="40461" y="0"/>
                </a:moveTo>
                <a:lnTo>
                  <a:pt x="40461" y="21600"/>
                </a:lnTo>
                <a:lnTo>
                  <a:pt x="39061" y="20200"/>
                </a:lnTo>
                <a:lnTo>
                  <a:pt x="39061" y="1400"/>
                </a:lnTo>
                <a:close/>
              </a:path>
              <a:path fill="darkenLess" w="40461" h="21600">
                <a:moveTo>
                  <a:pt x="40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61" y="20200"/>
                </a:lnTo>
                <a:close/>
              </a:path>
              <a:path fill="lighten" w="40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61" h="21600">
                <a:moveTo>
                  <a:pt x="20231" y="3837"/>
                </a:moveTo>
                <a:lnTo>
                  <a:pt x="22807" y="6448"/>
                </a:lnTo>
                <a:lnTo>
                  <a:pt x="22807" y="4707"/>
                </a:lnTo>
                <a:lnTo>
                  <a:pt x="24582" y="4707"/>
                </a:lnTo>
                <a:lnTo>
                  <a:pt x="24582" y="8224"/>
                </a:lnTo>
                <a:lnTo>
                  <a:pt x="27194" y="10800"/>
                </a:lnTo>
                <a:lnTo>
                  <a:pt x="25540" y="10800"/>
                </a:lnTo>
                <a:lnTo>
                  <a:pt x="25540" y="17989"/>
                </a:lnTo>
                <a:lnTo>
                  <a:pt x="14921" y="17989"/>
                </a:lnTo>
                <a:lnTo>
                  <a:pt x="14921" y="10800"/>
                </a:lnTo>
                <a:lnTo>
                  <a:pt x="13268" y="10800"/>
                </a:lnTo>
                <a:close/>
              </a:path>
              <a:path fill="darkenLess" w="40461" h="21600">
                <a:moveTo>
                  <a:pt x="22807" y="6448"/>
                </a:moveTo>
                <a:lnTo>
                  <a:pt x="22807" y="4707"/>
                </a:lnTo>
                <a:lnTo>
                  <a:pt x="24582" y="4707"/>
                </a:lnTo>
                <a:lnTo>
                  <a:pt x="24582" y="8224"/>
                </a:lnTo>
                <a:close/>
              </a:path>
              <a:path fill="darkenLess" w="40461" h="21600">
                <a:moveTo>
                  <a:pt x="19308" y="14299"/>
                </a:moveTo>
                <a:lnTo>
                  <a:pt x="21153" y="14299"/>
                </a:lnTo>
                <a:lnTo>
                  <a:pt x="21153" y="17989"/>
                </a:lnTo>
                <a:lnTo>
                  <a:pt x="25540" y="17989"/>
                </a:lnTo>
                <a:lnTo>
                  <a:pt x="25540" y="10800"/>
                </a:lnTo>
                <a:lnTo>
                  <a:pt x="14921" y="10800"/>
                </a:lnTo>
                <a:lnTo>
                  <a:pt x="14921" y="17989"/>
                </a:lnTo>
                <a:lnTo>
                  <a:pt x="19308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port helps us to be health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 you agree with it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330280"/>
            <a:ext cx="4572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o be strong and slim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to look beautiful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to rest and relax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to make friends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to be in a good mood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56720" y="6093000"/>
            <a:ext cx="1079280" cy="57600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461" h="21600">
                <a:moveTo>
                  <a:pt x="0" y="0"/>
                </a:moveTo>
                <a:lnTo>
                  <a:pt x="40461" y="0"/>
                </a:lnTo>
                <a:lnTo>
                  <a:pt x="40461" y="21600"/>
                </a:lnTo>
                <a:lnTo>
                  <a:pt x="0" y="21600"/>
                </a:lnTo>
                <a:close/>
              </a:path>
              <a:path fill="lightenLess" w="40461" h="21600">
                <a:moveTo>
                  <a:pt x="0" y="0"/>
                </a:moveTo>
                <a:lnTo>
                  <a:pt x="40461" y="0"/>
                </a:lnTo>
                <a:lnTo>
                  <a:pt x="39061" y="1400"/>
                </a:lnTo>
                <a:lnTo>
                  <a:pt x="1400" y="1400"/>
                </a:lnTo>
                <a:close/>
              </a:path>
              <a:path fill="darken" w="40461" h="21600">
                <a:moveTo>
                  <a:pt x="40461" y="0"/>
                </a:moveTo>
                <a:lnTo>
                  <a:pt x="40461" y="21600"/>
                </a:lnTo>
                <a:lnTo>
                  <a:pt x="39061" y="20200"/>
                </a:lnTo>
                <a:lnTo>
                  <a:pt x="39061" y="1400"/>
                </a:lnTo>
                <a:close/>
              </a:path>
              <a:path fill="darkenLess" w="40461" h="21600">
                <a:moveTo>
                  <a:pt x="40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61" y="20200"/>
                </a:lnTo>
                <a:close/>
              </a:path>
              <a:path fill="lighten" w="40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61" h="21600">
                <a:moveTo>
                  <a:pt x="20231" y="3837"/>
                </a:moveTo>
                <a:lnTo>
                  <a:pt x="22807" y="6448"/>
                </a:lnTo>
                <a:lnTo>
                  <a:pt x="22807" y="4707"/>
                </a:lnTo>
                <a:lnTo>
                  <a:pt x="24582" y="4707"/>
                </a:lnTo>
                <a:lnTo>
                  <a:pt x="24582" y="8224"/>
                </a:lnTo>
                <a:lnTo>
                  <a:pt x="27194" y="10800"/>
                </a:lnTo>
                <a:lnTo>
                  <a:pt x="25540" y="10800"/>
                </a:lnTo>
                <a:lnTo>
                  <a:pt x="25540" y="17989"/>
                </a:lnTo>
                <a:lnTo>
                  <a:pt x="14921" y="17989"/>
                </a:lnTo>
                <a:lnTo>
                  <a:pt x="14921" y="10800"/>
                </a:lnTo>
                <a:lnTo>
                  <a:pt x="13268" y="10800"/>
                </a:lnTo>
                <a:close/>
              </a:path>
              <a:path fill="darkenLess" w="40461" h="21600">
                <a:moveTo>
                  <a:pt x="22807" y="6448"/>
                </a:moveTo>
                <a:lnTo>
                  <a:pt x="22807" y="4707"/>
                </a:lnTo>
                <a:lnTo>
                  <a:pt x="24582" y="4707"/>
                </a:lnTo>
                <a:lnTo>
                  <a:pt x="24582" y="8224"/>
                </a:lnTo>
                <a:close/>
              </a:path>
              <a:path fill="darkenLess" w="40461" h="21600">
                <a:moveTo>
                  <a:pt x="19308" y="14299"/>
                </a:moveTo>
                <a:lnTo>
                  <a:pt x="21153" y="14299"/>
                </a:lnTo>
                <a:lnTo>
                  <a:pt x="21153" y="17989"/>
                </a:lnTo>
                <a:lnTo>
                  <a:pt x="25540" y="17989"/>
                </a:lnTo>
                <a:lnTo>
                  <a:pt x="25540" y="10800"/>
                </a:lnTo>
                <a:lnTo>
                  <a:pt x="14921" y="10800"/>
                </a:lnTo>
                <a:lnTo>
                  <a:pt x="14921" y="17989"/>
                </a:lnTo>
                <a:lnTo>
                  <a:pt x="19308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y favourite sport is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" descr="tennis"/>
          <p:cNvPicPr/>
          <p:nvPr/>
        </p:nvPicPr>
        <p:blipFill>
          <a:blip r:embed="rId1"/>
          <a:stretch/>
        </p:blipFill>
        <p:spPr>
          <a:xfrm>
            <a:off x="1258920" y="1916280"/>
            <a:ext cx="809640" cy="1190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pingpong"/>
          <p:cNvPicPr/>
          <p:nvPr/>
        </p:nvPicPr>
        <p:blipFill>
          <a:blip r:embed="rId2"/>
          <a:stretch/>
        </p:blipFill>
        <p:spPr>
          <a:xfrm>
            <a:off x="5867280" y="2781360"/>
            <a:ext cx="1200240" cy="581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football"/>
          <p:cNvPicPr/>
          <p:nvPr/>
        </p:nvPicPr>
        <p:blipFill>
          <a:blip r:embed="rId3"/>
          <a:stretch/>
        </p:blipFill>
        <p:spPr>
          <a:xfrm>
            <a:off x="4427640" y="4221000"/>
            <a:ext cx="1066680" cy="733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cycling"/>
          <p:cNvPicPr/>
          <p:nvPr/>
        </p:nvPicPr>
        <p:blipFill>
          <a:blip r:embed="rId4"/>
          <a:stretch/>
        </p:blipFill>
        <p:spPr>
          <a:xfrm>
            <a:off x="6516720" y="4005360"/>
            <a:ext cx="609480" cy="952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hockey"/>
          <p:cNvPicPr/>
          <p:nvPr/>
        </p:nvPicPr>
        <p:blipFill>
          <a:blip r:embed="rId5"/>
          <a:stretch/>
        </p:blipFill>
        <p:spPr>
          <a:xfrm>
            <a:off x="2916360" y="5373720"/>
            <a:ext cx="952200" cy="390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3419640" y="2205000"/>
            <a:ext cx="14857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826920" y="3860640"/>
            <a:ext cx="165744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7164360" y="1700280"/>
            <a:ext cx="1028880" cy="1143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7991640" y="6127560"/>
            <a:ext cx="947520" cy="469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at types of sport do you like and dislike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 like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 am fond of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 prefer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 am good at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 dislike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 am not good at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otbal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otball was born in England. But now it has become the national sport of many countries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2232000" cy="171936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802800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16806" y="3837"/>
                </a:moveTo>
                <a:lnTo>
                  <a:pt x="19382" y="6448"/>
                </a:ln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lnTo>
                  <a:pt x="23769" y="10800"/>
                </a:lnTo>
                <a:lnTo>
                  <a:pt x="22115" y="10800"/>
                </a:lnTo>
                <a:lnTo>
                  <a:pt x="22115" y="17989"/>
                </a:lnTo>
                <a:lnTo>
                  <a:pt x="11497" y="17989"/>
                </a:lnTo>
                <a:lnTo>
                  <a:pt x="11497" y="10800"/>
                </a:lnTo>
                <a:lnTo>
                  <a:pt x="9843" y="10800"/>
                </a:lnTo>
                <a:close/>
              </a:path>
              <a:path fill="darkenLess" w="33612" h="21600">
                <a:moveTo>
                  <a:pt x="19382" y="6448"/>
                </a:move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close/>
              </a:path>
              <a:path fill="darkenLess" w="33612" h="21600">
                <a:moveTo>
                  <a:pt x="15883" y="14299"/>
                </a:moveTo>
                <a:lnTo>
                  <a:pt x="17729" y="14299"/>
                </a:lnTo>
                <a:lnTo>
                  <a:pt x="17729" y="17989"/>
                </a:lnTo>
                <a:lnTo>
                  <a:pt x="22115" y="17989"/>
                </a:lnTo>
                <a:lnTo>
                  <a:pt x="22115" y="10800"/>
                </a:lnTo>
                <a:lnTo>
                  <a:pt x="11497" y="10800"/>
                </a:lnTo>
                <a:lnTo>
                  <a:pt x="11497" y="17989"/>
                </a:lnTo>
                <a:lnTo>
                  <a:pt x="1588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igure skat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 has a glorious history and tradition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eople from all over the world come to see their unforgettable performance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2022480" cy="20890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802800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16806" y="3837"/>
                </a:moveTo>
                <a:lnTo>
                  <a:pt x="19382" y="6448"/>
                </a:ln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lnTo>
                  <a:pt x="23769" y="10800"/>
                </a:lnTo>
                <a:lnTo>
                  <a:pt x="22115" y="10800"/>
                </a:lnTo>
                <a:lnTo>
                  <a:pt x="22115" y="17989"/>
                </a:lnTo>
                <a:lnTo>
                  <a:pt x="11497" y="17989"/>
                </a:lnTo>
                <a:lnTo>
                  <a:pt x="11497" y="10800"/>
                </a:lnTo>
                <a:lnTo>
                  <a:pt x="9843" y="10800"/>
                </a:lnTo>
                <a:close/>
              </a:path>
              <a:path fill="darkenLess" w="33612" h="21600">
                <a:moveTo>
                  <a:pt x="19382" y="6448"/>
                </a:move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close/>
              </a:path>
              <a:path fill="darkenLess" w="33612" h="21600">
                <a:moveTo>
                  <a:pt x="15883" y="14299"/>
                </a:moveTo>
                <a:lnTo>
                  <a:pt x="17729" y="14299"/>
                </a:lnTo>
                <a:lnTo>
                  <a:pt x="17729" y="17989"/>
                </a:lnTo>
                <a:lnTo>
                  <a:pt x="22115" y="17989"/>
                </a:lnTo>
                <a:lnTo>
                  <a:pt x="22115" y="10800"/>
                </a:lnTo>
                <a:lnTo>
                  <a:pt x="11497" y="10800"/>
                </a:lnTo>
                <a:lnTo>
                  <a:pt x="11497" y="17989"/>
                </a:lnTo>
                <a:lnTo>
                  <a:pt x="1588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Hocke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peed and changes on ice have made hockey the most popular game in the world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1749600" cy="19447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02800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16806" y="3837"/>
                </a:moveTo>
                <a:lnTo>
                  <a:pt x="19382" y="6448"/>
                </a:ln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lnTo>
                  <a:pt x="23769" y="10800"/>
                </a:lnTo>
                <a:lnTo>
                  <a:pt x="22115" y="10800"/>
                </a:lnTo>
                <a:lnTo>
                  <a:pt x="22115" y="17989"/>
                </a:lnTo>
                <a:lnTo>
                  <a:pt x="11497" y="17989"/>
                </a:lnTo>
                <a:lnTo>
                  <a:pt x="11497" y="10800"/>
                </a:lnTo>
                <a:lnTo>
                  <a:pt x="9843" y="10800"/>
                </a:lnTo>
                <a:close/>
              </a:path>
              <a:path fill="darkenLess" w="33612" h="21600">
                <a:moveTo>
                  <a:pt x="19382" y="6448"/>
                </a:move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close/>
              </a:path>
              <a:path fill="darkenLess" w="33612" h="21600">
                <a:moveTo>
                  <a:pt x="15883" y="14299"/>
                </a:moveTo>
                <a:lnTo>
                  <a:pt x="17729" y="14299"/>
                </a:lnTo>
                <a:lnTo>
                  <a:pt x="17729" y="17989"/>
                </a:lnTo>
                <a:lnTo>
                  <a:pt x="22115" y="17989"/>
                </a:lnTo>
                <a:lnTo>
                  <a:pt x="22115" y="10800"/>
                </a:lnTo>
                <a:lnTo>
                  <a:pt x="11497" y="10800"/>
                </a:lnTo>
                <a:lnTo>
                  <a:pt x="11497" y="17989"/>
                </a:lnTo>
                <a:lnTo>
                  <a:pt x="1588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14:51:54Z</dcterms:created>
  <dc:creator>Юрка</dc:creator>
  <dc:description/>
  <dc:language>en-US</dc:language>
  <cp:lastModifiedBy>Юрка</cp:lastModifiedBy>
  <dcterms:modified xsi:type="dcterms:W3CDTF">2013-04-25T19:22:53Z</dcterms:modified>
  <cp:revision>11</cp:revision>
  <dc:subject/>
  <dc:title>Health is better than wealth</dc:title>
</cp:coreProperties>
</file>