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DE222-3908-4551-8FB0-9335220F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F4D86-EB3D-40F6-BF63-5E8DF7A6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19C23-1BCB-4005-97E2-757EB2C1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76AB1-463A-4220-BCD8-71E17E58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BFE2-2473-4A34-AC43-989A2AB6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0F35-F18B-4230-A354-5D8D1F04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2411-7B65-4DAE-99DE-B0C1FC0A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E61E-6386-45C3-A24C-6C5F93AD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49EB-15C7-4E93-BC61-F138E7E6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35D9-8E1C-4F00-AD5C-CD3B1160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FD6A-24EF-4557-B61F-BE9CB1DE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78A87-BECC-45CA-8B4B-D732FDA1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3824-438D-40B2-ADF9-03E439D9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FDF7-7E78-41F0-8D6E-695C79E6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3E00-15D2-4E15-9036-6C406E01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A64B-189F-4A07-BB26-01EC32DC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524C-7C2E-4F7D-B97B-5691D7C0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8D592-3CE3-42BA-8C15-6DC2EDDF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7A529-35E1-4478-929D-15789B75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102F9-A3C8-4C7D-B075-AE04EA19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DB7CC-F4D3-4464-B0BF-CD36565D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1DB16-703C-43AE-B413-4DE2BEFA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E0A3C-F7C0-424F-BE4E-96AE29D4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77D72-2539-401A-9C17-8431536A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E08DD-5A44-4D5A-B67E-8A20D413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A22AF-5D53-493C-87D4-4D7B37C0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F47D2-1F4D-4BA2-A690-DDA2897C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E37A5-AFAB-42A9-8752-062EBEA5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43EF2-F6E9-4CE7-9B6F-9742D830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F2E9E-3E05-44C7-A36B-92652AAD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361B2-0CFB-4438-B8A5-4FAAABF7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5E70A-185F-48BD-80F7-FD5CA937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EEB5A-C1AC-4D8A-AAE7-20C2F753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EFF47-6F36-4844-931E-F9C2C93A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36543-B0DF-469B-A945-C5EA4DCE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FD887-6885-4256-9F3F-4C7B06AA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97B93-703F-4EBD-A496-263B195D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53F88-136C-4C07-BF9E-DEFEC2D1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38C97-42C6-4997-8855-F5C57E2C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0C914-0FC9-4353-B93F-39FE8890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4B1C6-3D80-4BFF-8894-F24A315A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FF18C-C901-4FBA-8DE2-D69A70EE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7B064-1A70-425F-AA12-4B24D219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E27A3-B69C-49E5-89A7-83F095D7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4CAC4-8B38-4983-8048-73BCE373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85633-E9DD-434E-B730-B7899EE1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EBB72-569A-43D0-904C-36A3CD98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DC75F-B9CF-4D0E-B4C6-69F22B55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9FF5-6087-4C37-998D-5A26274988F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3FBA-5EBD-4B2E-BD91-998CB80A32B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91A1-E8FA-4D55-9BD7-0B7528D8DA7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с одним вырезанным скругленным углом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ый треугольник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олилиния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олилиния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84B6-4840-44F8-8ACD-B0FE606C6C6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324000" y="10044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униципальное бюджетное общеобразовательное учреждение «Ермаковская средняя общеобразовательная школа №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4881960"/>
            <a:ext cx="91440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Выполнила: Кузнецова Даш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ученица 1 «а» класса                                                                                                          Руководитель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орбунова Наталья Николаевн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учитель начальных класс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. Ермаковское 2016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0" y="260280"/>
            <a:ext cx="107395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«Мастера, живущие рядом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15" descr="P1050160"/>
          <p:cNvPicPr/>
          <p:nvPr/>
        </p:nvPicPr>
        <p:blipFill>
          <a:blip r:embed="rId1"/>
          <a:stretch/>
        </p:blipFill>
        <p:spPr>
          <a:xfrm>
            <a:off x="684360" y="2060640"/>
            <a:ext cx="2014560" cy="250992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pic>
        <p:nvPicPr>
          <p:cNvPr id="216" name="Picture 17" descr="P1050159"/>
          <p:cNvPicPr/>
          <p:nvPr/>
        </p:nvPicPr>
        <p:blipFill>
          <a:blip r:embed="rId2"/>
          <a:stretch/>
        </p:blipFill>
        <p:spPr>
          <a:xfrm>
            <a:off x="3203640" y="2133720"/>
            <a:ext cx="3168720" cy="237492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0" y="37800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1733400" y="266040"/>
            <a:ext cx="42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каз о моей воспитательниц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ичкиной Елене Васильев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10" descr=""/>
          <p:cNvPicPr/>
          <p:nvPr/>
        </p:nvPicPr>
        <p:blipFill>
          <a:blip r:embed="rId1"/>
          <a:stretch/>
        </p:blipFill>
        <p:spPr>
          <a:xfrm>
            <a:off x="3203640" y="1628640"/>
            <a:ext cx="1633320" cy="1224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DSC01538"/>
          <p:cNvPicPr/>
          <p:nvPr/>
        </p:nvPicPr>
        <p:blipFill>
          <a:blip r:embed="rId2"/>
          <a:stretch/>
        </p:blipFill>
        <p:spPr>
          <a:xfrm>
            <a:off x="971640" y="1628640"/>
            <a:ext cx="1728720" cy="1297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SAM_4114"/>
          <p:cNvPicPr/>
          <p:nvPr/>
        </p:nvPicPr>
        <p:blipFill>
          <a:blip r:embed="rId3"/>
          <a:stretch/>
        </p:blipFill>
        <p:spPr>
          <a:xfrm>
            <a:off x="6804000" y="1700280"/>
            <a:ext cx="1536840" cy="1152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5" descr="SAM_1238"/>
          <p:cNvPicPr/>
          <p:nvPr/>
        </p:nvPicPr>
        <p:blipFill>
          <a:blip r:embed="rId4"/>
          <a:stretch/>
        </p:blipFill>
        <p:spPr>
          <a:xfrm>
            <a:off x="5219640" y="1700280"/>
            <a:ext cx="1297080" cy="973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SAM_1184"/>
          <p:cNvPicPr/>
          <p:nvPr/>
        </p:nvPicPr>
        <p:blipFill>
          <a:blip r:embed="rId5"/>
          <a:stretch/>
        </p:blipFill>
        <p:spPr>
          <a:xfrm>
            <a:off x="1403280" y="3716280"/>
            <a:ext cx="1513080" cy="1135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7" descr=""/>
          <p:cNvPicPr/>
          <p:nvPr/>
        </p:nvPicPr>
        <p:blipFill>
          <a:blip r:embed="rId6"/>
          <a:stretch/>
        </p:blipFill>
        <p:spPr>
          <a:xfrm>
            <a:off x="3419640" y="3860640"/>
            <a:ext cx="1296720" cy="971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9" descr=""/>
          <p:cNvPicPr/>
          <p:nvPr/>
        </p:nvPicPr>
        <p:blipFill>
          <a:blip r:embed="rId7"/>
          <a:stretch/>
        </p:blipFill>
        <p:spPr>
          <a:xfrm>
            <a:off x="5508720" y="3860640"/>
            <a:ext cx="129528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7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1582560" cy="1189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SAM_4300"/>
          <p:cNvPicPr/>
          <p:nvPr/>
        </p:nvPicPr>
        <p:blipFill>
          <a:blip r:embed="rId2"/>
          <a:stretch/>
        </p:blipFill>
        <p:spPr>
          <a:xfrm>
            <a:off x="5651640" y="1268280"/>
            <a:ext cx="1631880" cy="1224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"/>
          <p:cNvPicPr/>
          <p:nvPr/>
        </p:nvPicPr>
        <p:blipFill>
          <a:blip r:embed="rId3"/>
          <a:stretch/>
        </p:blipFill>
        <p:spPr>
          <a:xfrm>
            <a:off x="2556000" y="3500280"/>
            <a:ext cx="1584360" cy="1187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"/>
          <p:cNvPicPr/>
          <p:nvPr/>
        </p:nvPicPr>
        <p:blipFill>
          <a:blip r:embed="rId4"/>
          <a:stretch/>
        </p:blipFill>
        <p:spPr>
          <a:xfrm>
            <a:off x="3708360" y="907920"/>
            <a:ext cx="1295280" cy="17258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1"/>
          <p:cNvPicPr/>
          <p:nvPr/>
        </p:nvPicPr>
        <p:blipFill>
          <a:blip r:embed="rId5"/>
          <a:stretch/>
        </p:blipFill>
        <p:spPr>
          <a:xfrm>
            <a:off x="4788000" y="3500280"/>
            <a:ext cx="163188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ои работы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68" name="Picture 5" descr="DSC01523"/>
          <p:cNvPicPr/>
          <p:nvPr/>
        </p:nvPicPr>
        <p:blipFill>
          <a:blip r:embed="rId1"/>
          <a:stretch/>
        </p:blipFill>
        <p:spPr>
          <a:xfrm>
            <a:off x="4427640" y="148428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DSC01543"/>
          <p:cNvPicPr/>
          <p:nvPr/>
        </p:nvPicPr>
        <p:blipFill>
          <a:blip r:embed="rId2"/>
          <a:stretch/>
        </p:blipFill>
        <p:spPr>
          <a:xfrm>
            <a:off x="1584360" y="3789360"/>
            <a:ext cx="1241280" cy="1655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1" descr="DSC01546"/>
          <p:cNvPicPr/>
          <p:nvPr/>
        </p:nvPicPr>
        <p:blipFill>
          <a:blip r:embed="rId3"/>
          <a:stretch/>
        </p:blipFill>
        <p:spPr>
          <a:xfrm>
            <a:off x="5508720" y="3597120"/>
            <a:ext cx="1224000" cy="1632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2" descr="DSC01550"/>
          <p:cNvPicPr/>
          <p:nvPr/>
        </p:nvPicPr>
        <p:blipFill>
          <a:blip r:embed="rId4"/>
          <a:stretch/>
        </p:blipFill>
        <p:spPr>
          <a:xfrm>
            <a:off x="3419640" y="3645000"/>
            <a:ext cx="1415880" cy="1655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DSC01524"/>
          <p:cNvPicPr/>
          <p:nvPr/>
        </p:nvPicPr>
        <p:blipFill>
          <a:blip r:embed="rId5"/>
          <a:stretch/>
        </p:blipFill>
        <p:spPr>
          <a:xfrm>
            <a:off x="1619280" y="1628640"/>
            <a:ext cx="1871640" cy="14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Заключение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тогом моей исследовательской работы стало знакомство с произведениями рукоделия сельских мастеров. Я пришла к выводу, что творческие работы мастериц - способствуют формированию патриотических чувств, любви и уважения к народному искусств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заключении хочу сказать, что не оскудело наше село народными умельцами, есть ещё много достойных мастеров, о ком можно рассказыва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«Мастерами, увы, не рождаю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 становятся ими не вс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едь к таланту и труд прилагаетс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тоб достигнуть вершин в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астерст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ир стареет в былых надеждах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о сегодня, как и вчер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 плечах эту землю держа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 несут на себе Мастера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. Кул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ff"/>
                </a:solidFill>
                <a:latin typeface="Tahoma"/>
              </a:rPr>
              <a:t>Спасибо 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8000" spc="-1" strike="noStrike">
                <a:solidFill>
                  <a:srgbClr val="ffffff"/>
                </a:solidFill>
                <a:latin typeface="Tahoma"/>
              </a:rPr>
              <a:t>за внимание!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4194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8439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826920" y="1265760"/>
            <a:ext cx="763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жедневно мы встречаем на улицах сел, поселков и городов разных людей и даже не подозреваем о том, что рядом с нами могут жить настоящие умельцы, умеющие создавать чудеса своими рукам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1547640" y="455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755640" y="189000"/>
            <a:ext cx="7704000" cy="64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ь работ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комство с мастерами моего  се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собрать материал о народных мастерах се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узнать какими видами народного искусства владеет мастер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систематизировать и обобщить материал о мастер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познакомить одноклассников с результатами моей исследовательской р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ъект исследова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мастера декоративно – прикладного искус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мет исследова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разнообразие видов народного искусства, которыми владеют маст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потез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едположим, что в нашем селе есть увлечённые люди разными видами народного декоративного – прикладного искус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6" descr="DSC00338"/>
          <p:cNvPicPr/>
          <p:nvPr/>
        </p:nvPicPr>
        <p:blipFill>
          <a:blip r:embed="rId1"/>
          <a:stretch/>
        </p:blipFill>
        <p:spPr>
          <a:xfrm>
            <a:off x="826920" y="9810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DSC00315"/>
          <p:cNvPicPr/>
          <p:nvPr/>
        </p:nvPicPr>
        <p:blipFill>
          <a:blip r:embed="rId2"/>
          <a:stretch/>
        </p:blipFill>
        <p:spPr>
          <a:xfrm>
            <a:off x="4859280" y="981000"/>
            <a:ext cx="2594160" cy="1944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SAM_1690"/>
          <p:cNvPicPr/>
          <p:nvPr/>
        </p:nvPicPr>
        <p:blipFill>
          <a:blip r:embed="rId3"/>
          <a:stretch/>
        </p:blipFill>
        <p:spPr>
          <a:xfrm>
            <a:off x="2771640" y="3213000"/>
            <a:ext cx="3024360" cy="22701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2"/>
          <p:cNvSpPr/>
          <p:nvPr/>
        </p:nvSpPr>
        <p:spPr>
          <a:xfrm>
            <a:off x="2644920" y="0"/>
            <a:ext cx="385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комство с экспозицией краеведческого музея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0" y="455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оугольник 5"/>
          <p:cNvSpPr/>
          <p:nvPr/>
        </p:nvSpPr>
        <p:spPr>
          <a:xfrm>
            <a:off x="0" y="2708280"/>
            <a:ext cx="3571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040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16" descr="DSC00316"/>
          <p:cNvPicPr/>
          <p:nvPr/>
        </p:nvPicPr>
        <p:blipFill>
          <a:blip r:embed="rId1"/>
          <a:stretch/>
        </p:blipFill>
        <p:spPr>
          <a:xfrm>
            <a:off x="1547640" y="98100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7" descr="DSC00314"/>
          <p:cNvPicPr/>
          <p:nvPr/>
        </p:nvPicPr>
        <p:blipFill>
          <a:blip r:embed="rId2"/>
          <a:stretch/>
        </p:blipFill>
        <p:spPr>
          <a:xfrm>
            <a:off x="4643280" y="907920"/>
            <a:ext cx="2373480" cy="1781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8" descr="DSC00317"/>
          <p:cNvPicPr/>
          <p:nvPr/>
        </p:nvPicPr>
        <p:blipFill>
          <a:blip r:embed="rId3"/>
          <a:stretch/>
        </p:blipFill>
        <p:spPr>
          <a:xfrm>
            <a:off x="3059280" y="3068640"/>
            <a:ext cx="2376360" cy="17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algn="ctr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гостях у скульптора Усовой Екатерины Осипов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6" descr="DSC01597"/>
          <p:cNvPicPr/>
          <p:nvPr/>
        </p:nvPicPr>
        <p:blipFill>
          <a:blip r:embed="rId1"/>
          <a:stretch/>
        </p:blipFill>
        <p:spPr>
          <a:xfrm>
            <a:off x="971640" y="907920"/>
            <a:ext cx="1349280" cy="1800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DSC01598"/>
          <p:cNvPicPr/>
          <p:nvPr/>
        </p:nvPicPr>
        <p:blipFill>
          <a:blip r:embed="rId2"/>
          <a:stretch/>
        </p:blipFill>
        <p:spPr>
          <a:xfrm>
            <a:off x="3203640" y="907920"/>
            <a:ext cx="1297080" cy="1729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DSC01615"/>
          <p:cNvPicPr/>
          <p:nvPr/>
        </p:nvPicPr>
        <p:blipFill>
          <a:blip r:embed="rId3"/>
          <a:stretch/>
        </p:blipFill>
        <p:spPr>
          <a:xfrm>
            <a:off x="4643280" y="2997360"/>
            <a:ext cx="1405080" cy="1871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1" descr="DSC01518"/>
          <p:cNvPicPr/>
          <p:nvPr/>
        </p:nvPicPr>
        <p:blipFill>
          <a:blip r:embed="rId4"/>
          <a:stretch/>
        </p:blipFill>
        <p:spPr>
          <a:xfrm>
            <a:off x="1979640" y="3141720"/>
            <a:ext cx="1368360" cy="1824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2" descr="DSC01521"/>
          <p:cNvPicPr/>
          <p:nvPr/>
        </p:nvPicPr>
        <p:blipFill>
          <a:blip r:embed="rId5"/>
          <a:stretch/>
        </p:blipFill>
        <p:spPr>
          <a:xfrm>
            <a:off x="5435640" y="907920"/>
            <a:ext cx="1297080" cy="17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6" descr="DSC01599"/>
          <p:cNvPicPr/>
          <p:nvPr/>
        </p:nvPicPr>
        <p:blipFill>
          <a:blip r:embed="rId1"/>
          <a:stretch/>
        </p:blipFill>
        <p:spPr>
          <a:xfrm>
            <a:off x="1258920" y="765000"/>
            <a:ext cx="1297080" cy="1727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DSC01601"/>
          <p:cNvPicPr/>
          <p:nvPr/>
        </p:nvPicPr>
        <p:blipFill>
          <a:blip r:embed="rId2"/>
          <a:stretch/>
        </p:blipFill>
        <p:spPr>
          <a:xfrm>
            <a:off x="5940360" y="644400"/>
            <a:ext cx="1295640" cy="1729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DSC01605"/>
          <p:cNvPicPr/>
          <p:nvPr/>
        </p:nvPicPr>
        <p:blipFill>
          <a:blip r:embed="rId3"/>
          <a:stretch/>
        </p:blipFill>
        <p:spPr>
          <a:xfrm>
            <a:off x="2916360" y="3213000"/>
            <a:ext cx="1224000" cy="16318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DSC01616"/>
          <p:cNvPicPr/>
          <p:nvPr/>
        </p:nvPicPr>
        <p:blipFill>
          <a:blip r:embed="rId4"/>
          <a:stretch/>
        </p:blipFill>
        <p:spPr>
          <a:xfrm>
            <a:off x="3635280" y="692280"/>
            <a:ext cx="1297080" cy="1728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4" descr="DSC01486"/>
          <p:cNvPicPr/>
          <p:nvPr/>
        </p:nvPicPr>
        <p:blipFill>
          <a:blip r:embed="rId5"/>
          <a:stretch/>
        </p:blipFill>
        <p:spPr>
          <a:xfrm>
            <a:off x="4859280" y="3213000"/>
            <a:ext cx="1244520" cy="16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"/>
          <p:cNvSpPr/>
          <p:nvPr/>
        </p:nvSpPr>
        <p:spPr>
          <a:xfrm>
            <a:off x="0" y="1495080"/>
            <a:ext cx="89298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 flipV="1">
            <a:off x="0" y="369360"/>
            <a:ext cx="9144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12" descr="DSC04787"/>
          <p:cNvPicPr/>
          <p:nvPr/>
        </p:nvPicPr>
        <p:blipFill>
          <a:blip r:embed="rId1"/>
          <a:stretch/>
        </p:blipFill>
        <p:spPr>
          <a:xfrm>
            <a:off x="4572000" y="3141720"/>
            <a:ext cx="1800360" cy="13492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3"/>
          <p:cNvSpPr/>
          <p:nvPr/>
        </p:nvSpPr>
        <p:spPr>
          <a:xfrm>
            <a:off x="1403280" y="260280"/>
            <a:ext cx="59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треча с Гуменниковой Оксаной Владимиров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15" descr="DSCF2317"/>
          <p:cNvPicPr/>
          <p:nvPr/>
        </p:nvPicPr>
        <p:blipFill>
          <a:blip r:embed="rId2"/>
          <a:stretch/>
        </p:blipFill>
        <p:spPr>
          <a:xfrm>
            <a:off x="3635280" y="1052640"/>
            <a:ext cx="1243080" cy="1655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6" descr="DSC01528"/>
          <p:cNvPicPr/>
          <p:nvPr/>
        </p:nvPicPr>
        <p:blipFill>
          <a:blip r:embed="rId3"/>
          <a:stretch/>
        </p:blipFill>
        <p:spPr>
          <a:xfrm>
            <a:off x="1835280" y="3141720"/>
            <a:ext cx="2016000" cy="15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Still0710_00082"/>
          <p:cNvPicPr/>
          <p:nvPr/>
        </p:nvPicPr>
        <p:blipFill>
          <a:blip r:embed="rId1"/>
          <a:stretch/>
        </p:blipFill>
        <p:spPr>
          <a:xfrm>
            <a:off x="1692360" y="907920"/>
            <a:ext cx="2068560" cy="16574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DSCN0083"/>
          <p:cNvPicPr/>
          <p:nvPr/>
        </p:nvPicPr>
        <p:blipFill>
          <a:blip r:embed="rId2"/>
          <a:stretch/>
        </p:blipFill>
        <p:spPr>
          <a:xfrm>
            <a:off x="4572000" y="350028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1" descr="DSCF2320"/>
          <p:cNvPicPr/>
          <p:nvPr/>
        </p:nvPicPr>
        <p:blipFill>
          <a:blip r:embed="rId3"/>
          <a:stretch/>
        </p:blipFill>
        <p:spPr>
          <a:xfrm>
            <a:off x="4859280" y="836640"/>
            <a:ext cx="1243080" cy="1657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DSC01536"/>
          <p:cNvPicPr/>
          <p:nvPr/>
        </p:nvPicPr>
        <p:blipFill>
          <a:blip r:embed="rId4"/>
          <a:stretch/>
        </p:blipFill>
        <p:spPr>
          <a:xfrm>
            <a:off x="2124000" y="3429000"/>
            <a:ext cx="11876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09:45Z</dcterms:created>
  <dc:creator>Алёна</dc:creator>
  <dc:description/>
  <dc:language>en-US</dc:language>
  <cp:lastModifiedBy>User</cp:lastModifiedBy>
  <dcterms:modified xsi:type="dcterms:W3CDTF">2018-03-31T06:19:56Z</dcterms:modified>
  <cp:revision>67</cp:revision>
  <dc:subject/>
  <dc:title>Слайд 1</dc:title>
</cp:coreProperties>
</file>