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205DE-AE79-45BD-949F-D0E84725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79E26-0A40-47EC-B00B-22B1B5CF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575E3-ED59-41EE-AD7F-4037516B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1CF93-C193-4DB6-A890-09CB0AE7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D0CB-B78C-4E5B-B040-2D78461C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D3C0-90BF-4B4D-A59B-FAE45E1C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D82C-9854-44F2-B4F2-88C9FAD3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133C-62CC-47A2-AA00-83723FB4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777E-6913-4427-A704-AD35E865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5B04-13D9-452C-8047-7FEA8200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62BF-AF87-488A-AF7E-A7E9959E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286A7-73B3-41C3-BFAB-D632E36A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3A75-65E6-4C90-8BBC-D22D548D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C814-B48D-4972-9F9B-6D1D79B0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CE71-4282-4410-ABFD-0F3EBCDC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7627-7C8C-420C-9147-206174E6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7E24-1D3B-4DAE-92AE-73BD0D2F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B163B-6438-4AD6-A0EF-9880DFA6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247E6-5F9B-4926-9F53-F41FB8EF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5A7BF-F65D-426F-BFBD-BDB8528F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EC98B-0CEC-4F59-8AFB-D6265D43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AAA7B-DD0D-408F-B8D0-620B65CF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FBE36-7D21-4B2B-82B2-214DCECD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D50B7-79A8-48D2-A4C1-D8AA4C4F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8CBD9-DC4C-43A2-BBCB-93EDDEB0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435E2-C634-4E5E-953E-530F74C3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2251E-5341-4CEF-8328-DCF8D5CB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EFD19-7EBD-4368-B83C-68C528D0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3CFB0-21E2-4E92-8D71-85450889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8C2EF-7658-4CDA-B78A-7669D242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4670D-6713-4BFC-8ACE-77953590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8C563-7833-448F-AFBD-88C67842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DAB24-C46A-4112-A07C-D4D1A687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6F4F3-5103-41B4-AD04-7A168365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3E2C4-B6C2-42A9-8502-9BB09911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98A5C-A091-476C-AF2E-F51804E8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4F3CA-BFE2-4247-A998-CEC20B0B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064B0-01B5-43BC-94DE-E5FA7620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D3158-F777-41D7-BD44-E15BC707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8A25D-D65D-49F9-A308-BE92EE7F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22126-A0BE-4AAD-A273-6A8AEF69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7A478-8A14-4A62-9772-C9E1A4DF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4E1D7-8AD7-4DC3-B38D-DC24DEE3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E6A52-3BE2-4272-92FA-A87A8013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21E58-9293-41E1-B600-95B4E52C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E24A-7352-47F9-B86B-C2472791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E95F3-D505-4B16-BE84-88C41EAA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CE436-79C4-4120-A6D0-760A9205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46B2-300A-4024-8CC8-A5FC0046DE8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1BB4-DD43-4E8B-B717-EDF64ADFFCB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9651-1022-4904-AC6E-24657EF99F3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олилиния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олилиния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6641-C2AB-43A4-A096-94919B3113F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324000" y="1004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униципальное бюджетное общеобразовательное учреждение «Ермаковская средняя общеобразовательная школа №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4881960"/>
            <a:ext cx="91440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Выполнила: Кузнецова Даш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ученица 1 «а» класса                                                                                                          Руководитель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орбунова Наталья Николаевн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учитель начальных класс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. Ермаковское 2016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0" y="260280"/>
            <a:ext cx="107395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«Мастера, живущие рядом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15" descr="P1050160"/>
          <p:cNvPicPr/>
          <p:nvPr/>
        </p:nvPicPr>
        <p:blipFill>
          <a:blip r:embed="rId1"/>
          <a:stretch/>
        </p:blipFill>
        <p:spPr>
          <a:xfrm>
            <a:off x="684360" y="2060640"/>
            <a:ext cx="2014560" cy="250992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216" name="Picture 17" descr="P1050159"/>
          <p:cNvPicPr/>
          <p:nvPr/>
        </p:nvPicPr>
        <p:blipFill>
          <a:blip r:embed="rId2"/>
          <a:stretch/>
        </p:blipFill>
        <p:spPr>
          <a:xfrm>
            <a:off x="3203640" y="2133720"/>
            <a:ext cx="3168720" cy="237492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0" y="378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1733400" y="266040"/>
            <a:ext cx="42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каз о моей воспитательниц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ичкиной Елене Васильев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10" descr=""/>
          <p:cNvPicPr/>
          <p:nvPr/>
        </p:nvPicPr>
        <p:blipFill>
          <a:blip r:embed="rId1"/>
          <a:stretch/>
        </p:blipFill>
        <p:spPr>
          <a:xfrm>
            <a:off x="3203640" y="1628640"/>
            <a:ext cx="1633320" cy="1224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DSC01538"/>
          <p:cNvPicPr/>
          <p:nvPr/>
        </p:nvPicPr>
        <p:blipFill>
          <a:blip r:embed="rId2"/>
          <a:stretch/>
        </p:blipFill>
        <p:spPr>
          <a:xfrm>
            <a:off x="971640" y="162864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SAM_4114"/>
          <p:cNvPicPr/>
          <p:nvPr/>
        </p:nvPicPr>
        <p:blipFill>
          <a:blip r:embed="rId3"/>
          <a:stretch/>
        </p:blipFill>
        <p:spPr>
          <a:xfrm>
            <a:off x="6804000" y="1700280"/>
            <a:ext cx="1536840" cy="1152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SAM_1238"/>
          <p:cNvPicPr/>
          <p:nvPr/>
        </p:nvPicPr>
        <p:blipFill>
          <a:blip r:embed="rId4"/>
          <a:stretch/>
        </p:blipFill>
        <p:spPr>
          <a:xfrm>
            <a:off x="5219640" y="1700280"/>
            <a:ext cx="1297080" cy="973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SAM_1184"/>
          <p:cNvPicPr/>
          <p:nvPr/>
        </p:nvPicPr>
        <p:blipFill>
          <a:blip r:embed="rId5"/>
          <a:stretch/>
        </p:blipFill>
        <p:spPr>
          <a:xfrm>
            <a:off x="1403280" y="3716280"/>
            <a:ext cx="1513080" cy="1135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7" descr=""/>
          <p:cNvPicPr/>
          <p:nvPr/>
        </p:nvPicPr>
        <p:blipFill>
          <a:blip r:embed="rId6"/>
          <a:stretch/>
        </p:blipFill>
        <p:spPr>
          <a:xfrm>
            <a:off x="3419640" y="3860640"/>
            <a:ext cx="1296720" cy="971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9" descr=""/>
          <p:cNvPicPr/>
          <p:nvPr/>
        </p:nvPicPr>
        <p:blipFill>
          <a:blip r:embed="rId7"/>
          <a:stretch/>
        </p:blipFill>
        <p:spPr>
          <a:xfrm>
            <a:off x="5508720" y="3860640"/>
            <a:ext cx="129528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1582560" cy="1189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SAM_4300"/>
          <p:cNvPicPr/>
          <p:nvPr/>
        </p:nvPicPr>
        <p:blipFill>
          <a:blip r:embed="rId2"/>
          <a:stretch/>
        </p:blipFill>
        <p:spPr>
          <a:xfrm>
            <a:off x="5651640" y="1268280"/>
            <a:ext cx="1631880" cy="1224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"/>
          <p:cNvPicPr/>
          <p:nvPr/>
        </p:nvPicPr>
        <p:blipFill>
          <a:blip r:embed="rId3"/>
          <a:stretch/>
        </p:blipFill>
        <p:spPr>
          <a:xfrm>
            <a:off x="2556000" y="3500280"/>
            <a:ext cx="1584360" cy="1187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"/>
          <p:cNvPicPr/>
          <p:nvPr/>
        </p:nvPicPr>
        <p:blipFill>
          <a:blip r:embed="rId4"/>
          <a:stretch/>
        </p:blipFill>
        <p:spPr>
          <a:xfrm>
            <a:off x="3708360" y="907920"/>
            <a:ext cx="1295280" cy="17258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1"/>
          <p:cNvPicPr/>
          <p:nvPr/>
        </p:nvPicPr>
        <p:blipFill>
          <a:blip r:embed="rId5"/>
          <a:stretch/>
        </p:blipFill>
        <p:spPr>
          <a:xfrm>
            <a:off x="4788000" y="3500280"/>
            <a:ext cx="163188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и работы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68" name="Picture 5" descr="DSC01523"/>
          <p:cNvPicPr/>
          <p:nvPr/>
        </p:nvPicPr>
        <p:blipFill>
          <a:blip r:embed="rId1"/>
          <a:stretch/>
        </p:blipFill>
        <p:spPr>
          <a:xfrm>
            <a:off x="4427640" y="148428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DSC01543"/>
          <p:cNvPicPr/>
          <p:nvPr/>
        </p:nvPicPr>
        <p:blipFill>
          <a:blip r:embed="rId2"/>
          <a:stretch/>
        </p:blipFill>
        <p:spPr>
          <a:xfrm>
            <a:off x="1584360" y="3789360"/>
            <a:ext cx="1241280" cy="1655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1" descr="DSC01546"/>
          <p:cNvPicPr/>
          <p:nvPr/>
        </p:nvPicPr>
        <p:blipFill>
          <a:blip r:embed="rId3"/>
          <a:stretch/>
        </p:blipFill>
        <p:spPr>
          <a:xfrm>
            <a:off x="5508720" y="3597120"/>
            <a:ext cx="1224000" cy="1632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DSC01550"/>
          <p:cNvPicPr/>
          <p:nvPr/>
        </p:nvPicPr>
        <p:blipFill>
          <a:blip r:embed="rId4"/>
          <a:stretch/>
        </p:blipFill>
        <p:spPr>
          <a:xfrm>
            <a:off x="3419640" y="3645000"/>
            <a:ext cx="1415880" cy="1655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DSC01524"/>
          <p:cNvPicPr/>
          <p:nvPr/>
        </p:nvPicPr>
        <p:blipFill>
          <a:blip r:embed="rId5"/>
          <a:stretch/>
        </p:blipFill>
        <p:spPr>
          <a:xfrm>
            <a:off x="1619280" y="1628640"/>
            <a:ext cx="187164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Заключение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тогом моей исследовательской работы стало знакомство с произведениями рукоделия сельских мастеров. Я пришла к выводу, что творческие работы мастериц - способствуют формированию патриотических чувств, любви и уважения к народному искусств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заключении хочу сказать, что не оскудело наше село народными умельцами, есть ещё много достойных мастеров, о ком можно рассказыва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Мастерами, увы, не рождаю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 становятся ими не вс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едь к таланту и труд прилагаетс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тоб достигнуть вершин в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стер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ир стареет в былых надеждах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о сегодня, как и вчер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 плечах эту землю держа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 несут на себе Мастера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. Кул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ff"/>
                </a:solidFill>
                <a:latin typeface="Tahoma"/>
              </a:rPr>
              <a:t>Спасибо 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8000" spc="-1" strike="noStrike">
                <a:solidFill>
                  <a:srgbClr val="ffffff"/>
                </a:solidFill>
                <a:latin typeface="Tahoma"/>
              </a:rPr>
              <a:t>за внимание!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4194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8439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826920" y="1265760"/>
            <a:ext cx="763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жедневно мы встречаем на улицах сел, поселков и городов разных людей и даже не подозреваем о том, что рядом с нами могут жить настоящие умельцы, умеющие создавать чудеса своими рукам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1547640" y="455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755640" y="189000"/>
            <a:ext cx="7704000" cy="64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ь работ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комство с мастерами моего  с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собрать материал о народных мастерах се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узнать какими видами народного искусства владеет мастер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систематизировать и обобщить материал о мастер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познакомить одноклассников с результатами моей исследовательской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ъект исследова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мастера декоративно – прикладного искус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мет исследова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разнообразие видов народного искусства, которыми владеют маст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потез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положим, что в нашем селе есть увлечённые люди разными видами народного декоративного – прикладного искус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6" descr="DSC00338"/>
          <p:cNvPicPr/>
          <p:nvPr/>
        </p:nvPicPr>
        <p:blipFill>
          <a:blip r:embed="rId1"/>
          <a:stretch/>
        </p:blipFill>
        <p:spPr>
          <a:xfrm>
            <a:off x="826920" y="9810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DSC00315"/>
          <p:cNvPicPr/>
          <p:nvPr/>
        </p:nvPicPr>
        <p:blipFill>
          <a:blip r:embed="rId2"/>
          <a:stretch/>
        </p:blipFill>
        <p:spPr>
          <a:xfrm>
            <a:off x="4859280" y="981000"/>
            <a:ext cx="2594160" cy="1944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SAM_1690"/>
          <p:cNvPicPr/>
          <p:nvPr/>
        </p:nvPicPr>
        <p:blipFill>
          <a:blip r:embed="rId3"/>
          <a:stretch/>
        </p:blipFill>
        <p:spPr>
          <a:xfrm>
            <a:off x="2771640" y="3213000"/>
            <a:ext cx="3024360" cy="22701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2"/>
          <p:cNvSpPr/>
          <p:nvPr/>
        </p:nvSpPr>
        <p:spPr>
          <a:xfrm>
            <a:off x="2644920" y="0"/>
            <a:ext cx="385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комство с экспозицией краеведческого музея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0" y="455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5"/>
          <p:cNvSpPr/>
          <p:nvPr/>
        </p:nvSpPr>
        <p:spPr>
          <a:xfrm>
            <a:off x="0" y="2708280"/>
            <a:ext cx="3571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040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16" descr="DSC00316"/>
          <p:cNvPicPr/>
          <p:nvPr/>
        </p:nvPicPr>
        <p:blipFill>
          <a:blip r:embed="rId1"/>
          <a:stretch/>
        </p:blipFill>
        <p:spPr>
          <a:xfrm>
            <a:off x="1547640" y="98100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7" descr="DSC00314"/>
          <p:cNvPicPr/>
          <p:nvPr/>
        </p:nvPicPr>
        <p:blipFill>
          <a:blip r:embed="rId2"/>
          <a:stretch/>
        </p:blipFill>
        <p:spPr>
          <a:xfrm>
            <a:off x="4643280" y="907920"/>
            <a:ext cx="2373480" cy="1781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8" descr="DSC00317"/>
          <p:cNvPicPr/>
          <p:nvPr/>
        </p:nvPicPr>
        <p:blipFill>
          <a:blip r:embed="rId3"/>
          <a:stretch/>
        </p:blipFill>
        <p:spPr>
          <a:xfrm>
            <a:off x="3059280" y="3068640"/>
            <a:ext cx="2376360" cy="17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ct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гостях у скульптора Усовой Екатерины Осипов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6" descr="DSC01597"/>
          <p:cNvPicPr/>
          <p:nvPr/>
        </p:nvPicPr>
        <p:blipFill>
          <a:blip r:embed="rId1"/>
          <a:stretch/>
        </p:blipFill>
        <p:spPr>
          <a:xfrm>
            <a:off x="971640" y="907920"/>
            <a:ext cx="1349280" cy="1800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DSC01598"/>
          <p:cNvPicPr/>
          <p:nvPr/>
        </p:nvPicPr>
        <p:blipFill>
          <a:blip r:embed="rId2"/>
          <a:stretch/>
        </p:blipFill>
        <p:spPr>
          <a:xfrm>
            <a:off x="3203640" y="907920"/>
            <a:ext cx="1297080" cy="1729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DSC01615"/>
          <p:cNvPicPr/>
          <p:nvPr/>
        </p:nvPicPr>
        <p:blipFill>
          <a:blip r:embed="rId3"/>
          <a:stretch/>
        </p:blipFill>
        <p:spPr>
          <a:xfrm>
            <a:off x="4643280" y="2997360"/>
            <a:ext cx="1405080" cy="1871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" descr="DSC01518"/>
          <p:cNvPicPr/>
          <p:nvPr/>
        </p:nvPicPr>
        <p:blipFill>
          <a:blip r:embed="rId4"/>
          <a:stretch/>
        </p:blipFill>
        <p:spPr>
          <a:xfrm>
            <a:off x="1979640" y="3141720"/>
            <a:ext cx="1368360" cy="1824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DSC01521"/>
          <p:cNvPicPr/>
          <p:nvPr/>
        </p:nvPicPr>
        <p:blipFill>
          <a:blip r:embed="rId5"/>
          <a:stretch/>
        </p:blipFill>
        <p:spPr>
          <a:xfrm>
            <a:off x="5435640" y="907920"/>
            <a:ext cx="129708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DSC01599"/>
          <p:cNvPicPr/>
          <p:nvPr/>
        </p:nvPicPr>
        <p:blipFill>
          <a:blip r:embed="rId1"/>
          <a:stretch/>
        </p:blipFill>
        <p:spPr>
          <a:xfrm>
            <a:off x="1258920" y="765000"/>
            <a:ext cx="1297080" cy="1727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DSC01601"/>
          <p:cNvPicPr/>
          <p:nvPr/>
        </p:nvPicPr>
        <p:blipFill>
          <a:blip r:embed="rId2"/>
          <a:stretch/>
        </p:blipFill>
        <p:spPr>
          <a:xfrm>
            <a:off x="5940360" y="644400"/>
            <a:ext cx="1295640" cy="1729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DSC01605"/>
          <p:cNvPicPr/>
          <p:nvPr/>
        </p:nvPicPr>
        <p:blipFill>
          <a:blip r:embed="rId3"/>
          <a:stretch/>
        </p:blipFill>
        <p:spPr>
          <a:xfrm>
            <a:off x="2916360" y="3213000"/>
            <a:ext cx="1224000" cy="1631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DSC01616"/>
          <p:cNvPicPr/>
          <p:nvPr/>
        </p:nvPicPr>
        <p:blipFill>
          <a:blip r:embed="rId4"/>
          <a:stretch/>
        </p:blipFill>
        <p:spPr>
          <a:xfrm>
            <a:off x="3635280" y="692280"/>
            <a:ext cx="1297080" cy="1728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DSC01486"/>
          <p:cNvPicPr/>
          <p:nvPr/>
        </p:nvPicPr>
        <p:blipFill>
          <a:blip r:embed="rId5"/>
          <a:stretch/>
        </p:blipFill>
        <p:spPr>
          <a:xfrm>
            <a:off x="4859280" y="3213000"/>
            <a:ext cx="124452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0" y="1495080"/>
            <a:ext cx="8929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 flipV="1">
            <a:off x="0" y="36936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12" descr="DSC04787"/>
          <p:cNvPicPr/>
          <p:nvPr/>
        </p:nvPicPr>
        <p:blipFill>
          <a:blip r:embed="rId1"/>
          <a:stretch/>
        </p:blipFill>
        <p:spPr>
          <a:xfrm>
            <a:off x="4572000" y="3141720"/>
            <a:ext cx="1800360" cy="1349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3"/>
          <p:cNvSpPr/>
          <p:nvPr/>
        </p:nvSpPr>
        <p:spPr>
          <a:xfrm>
            <a:off x="1403280" y="260280"/>
            <a:ext cx="59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треча с Гуменниковой Оксаной Владимиров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5" descr="DSCF2317"/>
          <p:cNvPicPr/>
          <p:nvPr/>
        </p:nvPicPr>
        <p:blipFill>
          <a:blip r:embed="rId2"/>
          <a:stretch/>
        </p:blipFill>
        <p:spPr>
          <a:xfrm>
            <a:off x="3635280" y="1052640"/>
            <a:ext cx="1243080" cy="1655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6" descr="DSC01528"/>
          <p:cNvPicPr/>
          <p:nvPr/>
        </p:nvPicPr>
        <p:blipFill>
          <a:blip r:embed="rId3"/>
          <a:stretch/>
        </p:blipFill>
        <p:spPr>
          <a:xfrm>
            <a:off x="1835280" y="3141720"/>
            <a:ext cx="2016000" cy="15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Still0710_00082"/>
          <p:cNvPicPr/>
          <p:nvPr/>
        </p:nvPicPr>
        <p:blipFill>
          <a:blip r:embed="rId1"/>
          <a:stretch/>
        </p:blipFill>
        <p:spPr>
          <a:xfrm>
            <a:off x="1692360" y="907920"/>
            <a:ext cx="2068560" cy="1657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DSCN0083"/>
          <p:cNvPicPr/>
          <p:nvPr/>
        </p:nvPicPr>
        <p:blipFill>
          <a:blip r:embed="rId2"/>
          <a:stretch/>
        </p:blipFill>
        <p:spPr>
          <a:xfrm>
            <a:off x="4572000" y="350028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DSCF2320"/>
          <p:cNvPicPr/>
          <p:nvPr/>
        </p:nvPicPr>
        <p:blipFill>
          <a:blip r:embed="rId3"/>
          <a:stretch/>
        </p:blipFill>
        <p:spPr>
          <a:xfrm>
            <a:off x="4859280" y="836640"/>
            <a:ext cx="1243080" cy="1657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DSC01536"/>
          <p:cNvPicPr/>
          <p:nvPr/>
        </p:nvPicPr>
        <p:blipFill>
          <a:blip r:embed="rId4"/>
          <a:stretch/>
        </p:blipFill>
        <p:spPr>
          <a:xfrm>
            <a:off x="2124000" y="3429000"/>
            <a:ext cx="1187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09:45Z</dcterms:created>
  <dc:creator>Алёна</dc:creator>
  <dc:description/>
  <dc:language>en-US</dc:language>
  <cp:lastModifiedBy>User</cp:lastModifiedBy>
  <dcterms:modified xsi:type="dcterms:W3CDTF">2018-03-31T06:19:56Z</dcterms:modified>
  <cp:revision>67</cp:revision>
  <dc:subject/>
  <dc:title>Слайд 1</dc:title>
</cp:coreProperties>
</file>