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92E-347C-4280-82BA-A18A7B03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7A2-3AB2-48CA-AA8B-50B754C4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65B-4596-4AC3-A06C-CC035C57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567-1A6B-41FA-BAD3-E6074209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E7DD-46CE-4232-85E9-2FD1BDE4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2106-55F7-4519-B161-7869743B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8743-513E-4856-BCDE-CB0664BC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1248-71BA-4C3C-9574-469FA151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62B2-DE1E-42D9-8476-3FDBB180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7916-339B-4511-933A-83C32D3C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59B0-5A40-498C-B65B-50699EA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062-E5ED-4BF0-B56C-AF3FDB8C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DB83-E351-4AB6-9CCA-2DB71AF6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45FF-9301-449D-83C6-E9CD634E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A166-B10D-42CD-88F7-C03202B5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03A1-06DB-425B-A903-9B7A3D90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57D2-81D6-4800-9969-93409951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989-FF6F-43F2-A716-C2A4E023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6BB-6C97-4294-B7A2-53234D2E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26B-0DB2-4023-8DDE-D9D8E693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C33-67D5-4DF0-92AC-9B32FB79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04D-7124-4483-A09D-43503B6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31C-D0BE-4EC7-9C0A-53A3608C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0EE-FA0B-410F-A891-E78C86DA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8A81-A0EA-4F29-A09B-B0D0394AF3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EEA4-DC17-4906-834B-60F711BD734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194000" cy="2819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"/>
          <p:cNvPicPr/>
          <p:nvPr/>
        </p:nvPicPr>
        <p:blipFill>
          <a:blip r:embed="rId2"/>
          <a:stretch/>
        </p:blipFill>
        <p:spPr>
          <a:xfrm>
            <a:off x="301680" y="3925800"/>
            <a:ext cx="4194000" cy="21733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Ханты - Мансийский АО является исторической родиной народностей ханты, манси, ненц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4552560"/>
            <a:ext cx="854064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Одежда зимняя мужская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арха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верные хан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Накидка охотничья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лус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верные манс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Рубаха мужская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йарнас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точные хан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4" descr="IMG_0003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увь мужская зимняя –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ханшан хэ вей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верные хан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увь охотничья –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тос няра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верные манс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увь мужская летняя из ровдуги –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ханшан нюки вей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верные хан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4" descr="IMG_0007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1940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анец является самым древним видом искусства. Все навыки, полученные во время трудового процесса (охоты, рыбалки) передавались путем определенных телодвиж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8" descr="танцы с бубном"/>
          <p:cNvPicPr/>
          <p:nvPr/>
        </p:nvPicPr>
        <p:blipFill>
          <a:blip r:embed="rId1"/>
          <a:stretch/>
        </p:blipFill>
        <p:spPr>
          <a:xfrm>
            <a:off x="304920" y="3505320"/>
            <a:ext cx="41940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8" descr="IMG_0010"/>
          <p:cNvPicPr/>
          <p:nvPr/>
        </p:nvPicPr>
        <p:blipFill>
          <a:blip r:embed="rId1"/>
          <a:stretch/>
        </p:blipFill>
        <p:spPr>
          <a:xfrm>
            <a:off x="619200" y="1600200"/>
            <a:ext cx="3557520" cy="2173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IMG_0011"/>
          <p:cNvPicPr/>
          <p:nvPr/>
        </p:nvPicPr>
        <p:blipFill>
          <a:blip r:embed="rId2"/>
          <a:stretch/>
        </p:blipFill>
        <p:spPr>
          <a:xfrm>
            <a:off x="725400" y="3925800"/>
            <a:ext cx="3345120" cy="2173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0" descr="IMG_0012"/>
          <p:cNvPicPr/>
          <p:nvPr/>
        </p:nvPicPr>
        <p:blipFill>
          <a:blip r:embed="rId3"/>
          <a:stretch/>
        </p:blipFill>
        <p:spPr>
          <a:xfrm>
            <a:off x="5016600" y="1600200"/>
            <a:ext cx="34574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240" y="228240"/>
            <a:ext cx="47242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Удалённость мест проживания коренных народов севера сохранила народное творчество в первозданном вид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Это песни, танцы, сказки, леген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8" descr="манси костюм"/>
          <p:cNvPicPr/>
          <p:nvPr/>
        </p:nvPicPr>
        <p:blipFill>
          <a:blip r:embed="rId1"/>
          <a:stretch/>
        </p:blipFill>
        <p:spPr>
          <a:xfrm>
            <a:off x="5943600" y="1752480"/>
            <a:ext cx="1865160" cy="152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горы"/>
          <p:cNvPicPr/>
          <p:nvPr/>
        </p:nvPicPr>
        <p:blipFill>
          <a:blip r:embed="rId2"/>
          <a:stretch/>
        </p:blipFill>
        <p:spPr>
          <a:xfrm>
            <a:off x="5295960" y="3925800"/>
            <a:ext cx="28987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807696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Традиционная женская одежда — платье на кокетке, хлопчатобумажный или суконный халат, зимой сахи — двойная меховая шуба. Одежда была богато орнаментирована бисером, аппликацией, цветным сукном и меховой мозаикой. Большой платок с широкой каймой и бахромой, сложенный неравным треугольником, носили наброшенным на голову и плечи, со свободно свисающими концами на груд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8" descr="IMG"/>
          <p:cNvPicPr/>
          <p:nvPr/>
        </p:nvPicPr>
        <p:blipFill>
          <a:blip r:embed="rId1"/>
          <a:stretch/>
        </p:blipFill>
        <p:spPr>
          <a:xfrm>
            <a:off x="2246400" y="4073400"/>
            <a:ext cx="4194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енская одежда хан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тье с длинными рукавами из цветн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8" descr="IMG_0002"/>
          <p:cNvPicPr/>
          <p:nvPr/>
        </p:nvPicPr>
        <p:blipFill>
          <a:blip r:embed="rId1"/>
          <a:stretch/>
        </p:blipFill>
        <p:spPr>
          <a:xfrm>
            <a:off x="774720" y="1600200"/>
            <a:ext cx="32479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ансийская одеж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7" descr="IMG_0001"/>
          <p:cNvPicPr/>
          <p:nvPr/>
        </p:nvPicPr>
        <p:blipFill>
          <a:blip r:embed="rId1"/>
          <a:stretch/>
        </p:blipFill>
        <p:spPr>
          <a:xfrm>
            <a:off x="541440" y="1600200"/>
            <a:ext cx="3714480" cy="44989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жская зимняя одеж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1"/>
          <a:stretch/>
        </p:blipFill>
        <p:spPr>
          <a:xfrm>
            <a:off x="301680" y="1600200"/>
            <a:ext cx="4194000" cy="4498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1940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ужчины носили рубахи, по покрою похожие на женские платья, штаны и пояса, к которым подвешивали мешочки и футляры с охотничьим снаряжением. Глухая с капюшоном верхняя одежда (малица, гусь) шилась из сукна или оленьих шку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вь женская летняя –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овья ва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еверные ман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вь женская летняя –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яр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бские ман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вь женская зимняя. –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ис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еверные хан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Picture 4" descr="IMG_0004"/>
          <p:cNvPicPr/>
          <p:nvPr/>
        </p:nvPicPr>
        <p:blipFill>
          <a:blip r:embed="rId1"/>
          <a:stretch/>
        </p:blipFill>
        <p:spPr>
          <a:xfrm>
            <a:off x="762120" y="380880"/>
            <a:ext cx="720540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-ПК</cp:lastModifiedBy>
  <dcterms:modified xsi:type="dcterms:W3CDTF">2018-03-31T10:53:0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