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DF0-0523-45B1-9790-5811F067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01C-0D00-444A-A55D-69B088C8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94E-2279-427C-9AB7-C5AA2C44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357-061C-4DFF-84C1-46D4E365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8C40-7F64-405A-AA83-11DC64B6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498E-535B-4172-8CE2-68953FD3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6220-8FE6-45C8-B124-3DE0E7A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D741-DC8A-4EEB-8B5E-12729D90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C8A2-31C2-4540-87A0-0DF73CFE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61E3-5CD0-4B9F-A297-25338BF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398B-F70E-4AF9-B430-0DC73B56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4F1-6E82-4B5D-AEEE-3C1F3309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0D17-57F3-4178-BE25-360C0E9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FB2-F38B-4FEB-AAB7-3F0AE20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1B3C-BD5B-4C8D-9B59-18461580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818-08CE-4586-A119-A8C4D2BC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6C36-A851-4E0D-98A2-E45D240F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3C3-17A3-4E00-88CF-87356BE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D7E-95AC-41CD-8E60-64B6B79E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96F-682B-4B46-A2CF-4F217B0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F5A-9B88-4D97-9411-17CA31B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13E-5617-497F-8DDD-5832195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2B2-A09C-4DD2-B02B-1111E12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17F-D805-4FF7-9985-3344ED0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D20A-0541-4079-ACAD-D8A6E2B718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0B2-B680-46A4-89C8-F48255F9E16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194000" cy="2819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2"/>
          <a:stretch/>
        </p:blipFill>
        <p:spPr>
          <a:xfrm>
            <a:off x="301680" y="3925800"/>
            <a:ext cx="4194000" cy="21733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Ханты - Мансийский АО является исторической родиной народностей ханты, манси, нен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4552560"/>
            <a:ext cx="85406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Одежда зимняя мужска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арх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Накидка охотничь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лус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е манс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Рубаха мужска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йарнас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точные ха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IMG_0003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мужская зимняя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аншан хэ вей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охотничья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ос няра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ман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мужская летняя из ровдуги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аншан нюки вей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4" descr="IMG_0007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анец является самым древним видом искусства. Все навыки, полученные во время трудового процесса (охоты, рыбалки) передавались путем определенных телодви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8" descr="танцы с бубном"/>
          <p:cNvPicPr/>
          <p:nvPr/>
        </p:nvPicPr>
        <p:blipFill>
          <a:blip r:embed="rId1"/>
          <a:stretch/>
        </p:blipFill>
        <p:spPr>
          <a:xfrm>
            <a:off x="304920" y="3505320"/>
            <a:ext cx="419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8" descr="IMG_0010"/>
          <p:cNvPicPr/>
          <p:nvPr/>
        </p:nvPicPr>
        <p:blipFill>
          <a:blip r:embed="rId1"/>
          <a:stretch/>
        </p:blipFill>
        <p:spPr>
          <a:xfrm>
            <a:off x="619200" y="1600200"/>
            <a:ext cx="3557520" cy="2173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IMG_0011"/>
          <p:cNvPicPr/>
          <p:nvPr/>
        </p:nvPicPr>
        <p:blipFill>
          <a:blip r:embed="rId2"/>
          <a:stretch/>
        </p:blipFill>
        <p:spPr>
          <a:xfrm>
            <a:off x="725400" y="3925800"/>
            <a:ext cx="3345120" cy="2173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IMG_0012"/>
          <p:cNvPicPr/>
          <p:nvPr/>
        </p:nvPicPr>
        <p:blipFill>
          <a:blip r:embed="rId3"/>
          <a:stretch/>
        </p:blipFill>
        <p:spPr>
          <a:xfrm>
            <a:off x="5016600" y="1600200"/>
            <a:ext cx="345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47242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далённость мест проживания коренных народов севера сохранила народное творчество в первозданном ви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Это песни, танцы, сказки, леген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8" descr="манси костюм"/>
          <p:cNvPicPr/>
          <p:nvPr/>
        </p:nvPicPr>
        <p:blipFill>
          <a:blip r:embed="rId1"/>
          <a:stretch/>
        </p:blipFill>
        <p:spPr>
          <a:xfrm>
            <a:off x="5943600" y="1752480"/>
            <a:ext cx="1865160" cy="152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горы"/>
          <p:cNvPicPr/>
          <p:nvPr/>
        </p:nvPicPr>
        <p:blipFill>
          <a:blip r:embed="rId2"/>
          <a:stretch/>
        </p:blipFill>
        <p:spPr>
          <a:xfrm>
            <a:off x="5295960" y="3925800"/>
            <a:ext cx="2898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07696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радиционная женская одежда — платье на кокетке, хлопчатобумажный или суконный халат, зимой сахи — двойная меховая шуба. Одежда была богато орнаментирована бисером, аппликацией, цветным сукном и меховой мозаикой. Большой платок с широкой каймой и бахромой, сложенный неравным треугольником, носили наброшенным на голову и плечи, со свободно свисающими концами на гру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8" descr="IMG"/>
          <p:cNvPicPr/>
          <p:nvPr/>
        </p:nvPicPr>
        <p:blipFill>
          <a:blip r:embed="rId1"/>
          <a:stretch/>
        </p:blipFill>
        <p:spPr>
          <a:xfrm>
            <a:off x="2246400" y="4073400"/>
            <a:ext cx="4194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нская одежда хан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тье с длинными рукавами из цвет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8" descr="IMG_0002"/>
          <p:cNvPicPr/>
          <p:nvPr/>
        </p:nvPicPr>
        <p:blipFill>
          <a:blip r:embed="rId1"/>
          <a:stretch/>
        </p:blipFill>
        <p:spPr>
          <a:xfrm>
            <a:off x="774720" y="1600200"/>
            <a:ext cx="32479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нсийская одеж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7" descr="IMG_0001"/>
          <p:cNvPicPr/>
          <p:nvPr/>
        </p:nvPicPr>
        <p:blipFill>
          <a:blip r:embed="rId1"/>
          <a:stretch/>
        </p:blipFill>
        <p:spPr>
          <a:xfrm>
            <a:off x="541440" y="1600200"/>
            <a:ext cx="3714480" cy="4498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жская зимняя одеж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194000" cy="4498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ужчины носили рубахи, по покрою похожие на женские платья, штаны и пояса, к которым подвешивали мешочки и футляры с охотничьим снаряжением. Глухая с капюшоном верхняя одежда (малица, гусь) шилась из сукна или оленьих шк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летняя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вья ва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еверные ман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летняя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яр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бские ман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зимняя.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ис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еверные ха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Picture 4" descr="IMG_0004"/>
          <p:cNvPicPr/>
          <p:nvPr/>
        </p:nvPicPr>
        <p:blipFill>
          <a:blip r:embed="rId1"/>
          <a:stretch/>
        </p:blipFill>
        <p:spPr>
          <a:xfrm>
            <a:off x="762120" y="380880"/>
            <a:ext cx="7205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-ПК</cp:lastModifiedBy>
  <dcterms:modified xsi:type="dcterms:W3CDTF">2018-03-31T10:5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