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612-A303-46A6-9068-602E85D5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039-C45A-4245-8529-D16C6E54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92E-D77A-4B3A-83D4-234015E4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95F-F109-47B0-803F-B19524B9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1CF-00DF-4852-B8E0-3DD4B5AE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8F9-7786-41AA-8204-2732F70C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0F5-856D-4600-99B1-CFB2B855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C5F-AFFD-4190-8868-65B7075D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08A-D5FC-4D33-89B6-AA77FC9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B22-634F-4C27-A5E9-B842FD5A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3C1-2DB0-4AA6-B4B0-1554E5D6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BAC-F054-468E-9D5E-69C5DF7E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CE7D-3943-4D3C-988E-20F72DFE46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ема уро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Медвежьи пляс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352680" y="4191120"/>
            <a:ext cx="2286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сли в маскараде по обычаю выступают только мужчины, то в плясках с удовольствием участвуют и женщины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7" descr="IMG"/>
          <p:cNvPicPr/>
          <p:nvPr/>
        </p:nvPicPr>
        <p:blipFill>
          <a:blip r:embed="rId1"/>
          <a:stretch/>
        </p:blipFill>
        <p:spPr>
          <a:xfrm>
            <a:off x="2438280" y="1752480"/>
            <a:ext cx="351972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итуальные танцы                (птиц и зверей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журав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семи тетере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семи ком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ли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семи ов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046f0"/>
                </a:solidFill>
                <a:latin typeface="Arial"/>
              </a:rPr>
              <a:t>Вывод 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Главная цель праздника – умилостивить Медведя-предка, отвести от себя вину за его убийство, чтоб душа его возродилась и он опять вернулся к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685440"/>
            <a:ext cx="800424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хота на медведя сопровождается сложным ритуалом искупления вины перед сыном б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говоры ведутся на особом язы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520" y="3808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хотники едут домой. При этом охотник, убивший медведя, поёт песню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8" descr="IMG_0003"/>
          <p:cNvPicPr/>
          <p:nvPr/>
        </p:nvPicPr>
        <p:blipFill>
          <a:blip r:embed="rId1"/>
          <a:stretch/>
        </p:blipFill>
        <p:spPr>
          <a:xfrm>
            <a:off x="3048120" y="2209680"/>
            <a:ext cx="3051000" cy="4340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343400" y="198108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бряд очищ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676520" y="1554120"/>
          <a:ext cx="609588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54120"/>
                    <a:ext cx="609588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 txBox="1"/>
          <p:nvPr/>
        </p:nvSpPr>
        <p:spPr>
          <a:xfrm>
            <a:off x="0" y="48765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крашение медведя</a:t>
            </a:r>
            <a:r>
              <a:rPr b="0" lang="ru-RU" sz="4400" spc="-1" strike="noStrike">
                <a:solidFill>
                  <a:srgbClr val="e4529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igra5"/>
          <p:cNvPicPr/>
          <p:nvPr/>
        </p:nvPicPr>
        <p:blipFill>
          <a:blip r:embed="rId1"/>
          <a:stretch/>
        </p:blipFill>
        <p:spPr>
          <a:xfrm>
            <a:off x="762120" y="2133720"/>
            <a:ext cx="6769080" cy="411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чером начинается костюмированное представление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9" descr="igra1"/>
          <p:cNvPicPr/>
          <p:nvPr/>
        </p:nvPicPr>
        <p:blipFill>
          <a:blip r:embed="rId1"/>
          <a:stretch/>
        </p:blipFill>
        <p:spPr>
          <a:xfrm>
            <a:off x="1952640" y="2063880"/>
            <a:ext cx="52387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сполнителями всех фольклорных жанров являются мужчины. Они исполняют как мужские, так и женские роли.</a:t>
            </a:r>
            <a:r>
              <a:rPr b="1" lang="ru-RU" sz="2800" spc="-1" strike="noStrike">
                <a:solidFill>
                  <a:srgbClr val="ee94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2286000" y="2286000"/>
          <a:ext cx="556272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556272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44960" y="1676160"/>
            <a:ext cx="4199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теры исполняют шуточные сценки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igra3"/>
          <p:cNvPicPr/>
          <p:nvPr/>
        </p:nvPicPr>
        <p:blipFill>
          <a:blip r:embed="rId1"/>
          <a:stretch/>
        </p:blipFill>
        <p:spPr>
          <a:xfrm>
            <a:off x="468360" y="404640"/>
            <a:ext cx="4116240" cy="597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се исполнители прячут лица под маск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7" descr="IMG_0002"/>
          <p:cNvPicPr/>
          <p:nvPr/>
        </p:nvPicPr>
        <p:blipFill>
          <a:blip r:embed="rId1"/>
          <a:stretch/>
        </p:blipFill>
        <p:spPr>
          <a:xfrm>
            <a:off x="2590920" y="1447920"/>
            <a:ext cx="343836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-ПК</cp:lastModifiedBy>
  <dcterms:modified xsi:type="dcterms:W3CDTF">2018-03-31T10:40:1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