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638-DC2D-4E39-BF88-8BD614A2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ECB-E2F4-417F-9345-424FF0C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CEC-7022-4100-A5E5-4D253C4D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FA1-9D59-4191-B368-A9B21603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091F-2AFC-4E88-B0A5-9F2A65B7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8925-2CE0-483C-8822-EC244EF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BC87-C168-4756-8CB5-4253165C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0BE5-123A-40F4-94AA-93C48D7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A3F6-B9D4-4B6C-90BE-A575D6B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60B7-F2C4-4FD9-BE02-579F0D4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A7C-0E67-4093-870C-A3DADA3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F9A-D869-4E73-9BEA-33CE6E8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DAC1-AFEE-44B1-88D5-DBCABBF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DD6A-FD4B-40F4-839B-A60262B1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3660-311F-46A0-A3D1-094024D7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72D6-B54F-43A4-84A5-AE78C113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8167-C420-475F-BCA9-BBDFBE37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14A-82BE-43C9-B2FD-FECC414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571-14B1-41CD-BDBD-B82F8C6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302-0DED-4531-B180-D835CF8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4D7-C568-4322-B031-0EFF0E12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C53-4354-4EC6-8CA8-6D4D5F2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21F-E6E3-459D-BE18-F462215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45D-247E-4F90-8B71-825424D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6FCB-C5F1-4EFC-85E3-1736F557EDF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19DB-5F08-400E-8B14-549065CE341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91960" y="493560"/>
            <a:ext cx="8583840" cy="1805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240" y="3285720"/>
            <a:ext cx="63435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 Black"/>
              </a:rPr>
              <a:t>Дидактическое пособие к проект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333333"/>
                </a:solidFill>
                <a:latin typeface="Arial Black"/>
              </a:rPr>
              <a:t>Дикие животные лесов Смоленской области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 Black"/>
              </a:rPr>
              <a:t>Подготовительная групп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Black"/>
              </a:rPr>
              <a:t>Воспитатель: Карпова Т. 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Picture 3" descr="G:\Карпова Татьяна\Презинтация\анимашки\Заяц2.gif"/>
          <p:cNvPicPr/>
          <p:nvPr/>
        </p:nvPicPr>
        <p:blipFill>
          <a:blip r:embed="rId2"/>
          <a:stretch/>
        </p:blipFill>
        <p:spPr>
          <a:xfrm>
            <a:off x="357120" y="2286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G:\Карпова Татьяна\Презинтация\анимашки\30.gif"/>
          <p:cNvPicPr/>
          <p:nvPr/>
        </p:nvPicPr>
        <p:blipFill>
          <a:blip r:embed="rId3"/>
          <a:stretch/>
        </p:blipFill>
        <p:spPr>
          <a:xfrm>
            <a:off x="7500960" y="4929120"/>
            <a:ext cx="1285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35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15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2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Arial"/>
                <a:ea typeface="Arial"/>
              </a:rPr>
              <a:t>Источники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Болотова С. А. Азбука Смоленского края – Ч. 1. – Смоленск: Русич, 2004. – с. 216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Хофман Гудрун. Кто живёт в лесу.  Пер. с нем. Т. П. Панфиловой. - М.: Издательство Мир книги, 2008. – с. 96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Изображения.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Электронный ресурс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. –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URL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bdd7e5"/>
                </a:solidFill>
                <a:uFillTx/>
                <a:latin typeface="Arial"/>
                <a:ea typeface="Arial"/>
                <a:hlinkClick r:id="rId1"/>
              </a:rPr>
              <a:t>http://images.yandex.ru/yandsearch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   (дата обращения 10. 03. 2011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79200" y="212760"/>
            <a:ext cx="3797640" cy="122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Густой мех, на спине он рыжевато – буры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Уши и мордочка у неё острые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Основная пища – мыш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4" descr="C:\Documents and Settings\Администратор\Мои документы\педагог - психолог\проекты\дикие животные\0_5b77b_fe97316a_XL.jpeg"/>
          <p:cNvPicPr/>
          <p:nvPr/>
        </p:nvPicPr>
        <p:blipFill>
          <a:blip r:embed="rId2"/>
          <a:stretch/>
        </p:blipFill>
        <p:spPr>
          <a:xfrm rot="617400">
            <a:off x="3575160" y="1642680"/>
            <a:ext cx="5111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52280" y="-23760"/>
            <a:ext cx="3651480" cy="1468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На концах ушей —кисточки. Хвост коротки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Шерсть  ржаво-красноватая,пятниста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2" descr="C:\Documents and Settings\Администратор\Мои документы\педагог - психолог\проекты\дикие животные\рысь.jpeg"/>
          <p:cNvPicPr/>
          <p:nvPr/>
        </p:nvPicPr>
        <p:blipFill>
          <a:blip r:embed="rId2"/>
          <a:stretch/>
        </p:blipFill>
        <p:spPr>
          <a:xfrm rot="21080400">
            <a:off x="4351320" y="1193760"/>
            <a:ext cx="4146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4c2b"/>
                </a:solidFill>
                <a:latin typeface="Arial"/>
                <a:ea typeface="Arial"/>
              </a:rPr>
              <a:t>Волк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Обычно держатся стаям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Стаю возглавляет вожак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Пища: грызуны,зайцыЖивут в логове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3" descr="C:\Documents and Settings\Администратор\Мои документы\педагог - психолог\проекты\дикие животные\волк.jpeg"/>
          <p:cNvPicPr/>
          <p:nvPr/>
        </p:nvPicPr>
        <p:blipFill>
          <a:blip r:embed="rId1"/>
          <a:stretch/>
        </p:blipFill>
        <p:spPr>
          <a:xfrm rot="21125400">
            <a:off x="4429080" y="1213920"/>
            <a:ext cx="4143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74680" y="-36360"/>
            <a:ext cx="3382920" cy="1481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6760" y="142884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У  него  зимой белая шкурка, а летом бурая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Это помогает ему укрываться от врагов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2" descr="C:\Documents and Settings\Администратор\Мои документы\педагог - психолог\проекты\дикие животные\заяц.jpg"/>
          <p:cNvPicPr/>
          <p:nvPr/>
        </p:nvPicPr>
        <p:blipFill>
          <a:blip r:embed="rId2"/>
          <a:stretch/>
        </p:blipFill>
        <p:spPr>
          <a:xfrm rot="483600">
            <a:off x="3574800" y="1071360"/>
            <a:ext cx="5111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3902040" cy="1468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Очень ловкий зверёк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ища: насекомые, грибы, орехи, семена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Живёт в дупле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4" descr="C:\Documents and Settings\Администратор\Мои документы\педагог - психолог\проекты\дикие животные\65553558_159_belka_na_dereve.jpg"/>
          <p:cNvPicPr/>
          <p:nvPr/>
        </p:nvPicPr>
        <p:blipFill>
          <a:blip r:embed="rId2"/>
          <a:stretch/>
        </p:blipFill>
        <p:spPr>
          <a:xfrm rot="21349800">
            <a:off x="4071600" y="12859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28680" y="208080"/>
            <a:ext cx="3517920" cy="1176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Коричнево – бурый мех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Зверь огромного рост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Пища: лесные плоды, орехи, насекомые, мёд, рыб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2" descr="C:\Documents and Settings\Администратор\Мои документы\педагог - психолог\проекты\дикие животные\волк.jpg"/>
          <p:cNvPicPr/>
          <p:nvPr/>
        </p:nvPicPr>
        <p:blipFill>
          <a:blip r:embed="rId2"/>
          <a:stretch/>
        </p:blipFill>
        <p:spPr>
          <a:xfrm rot="572400">
            <a:off x="3844440" y="1576440"/>
            <a:ext cx="4572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44600" y="-189000"/>
            <a:ext cx="3036960" cy="1736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Колючая шубка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углив, активен ночью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С ноября по апрель спит. Питается насекомым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2" descr="C:\Documents and Settings\Администратор\Мои документы\педагог - психолог\проекты\дикие животные\ёж.jpg"/>
          <p:cNvPicPr/>
          <p:nvPr/>
        </p:nvPicPr>
        <p:blipFill>
          <a:blip r:embed="rId2"/>
          <a:stretch/>
        </p:blipFill>
        <p:spPr>
          <a:xfrm rot="280200">
            <a:off x="4000680" y="142884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30240" y="-23760"/>
            <a:ext cx="3889440" cy="1468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Тело покрыто грубой, косматой щет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Голова клинообразная, большая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Клыки длинные и загнуты вверх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Пища: насекомые, улитки, дождевые черв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Picture 4" descr="C:\Documents and Settings\Администратор\Мои документы\педагог - психолог\проекты\дикие животные\611_600.jpg"/>
          <p:cNvPicPr/>
          <p:nvPr/>
        </p:nvPicPr>
        <p:blipFill>
          <a:blip r:embed="rId2"/>
          <a:stretch/>
        </p:blipFill>
        <p:spPr>
          <a:xfrm rot="21133800">
            <a:off x="4000680" y="1356840"/>
            <a:ext cx="46861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7:10:44Z</dcterms:created>
  <dc:creator>Admin</dc:creator>
  <dc:description/>
  <dc:language>en-US</dc:language>
  <cp:lastModifiedBy>Пользователь</cp:lastModifiedBy>
  <dcterms:modified xsi:type="dcterms:W3CDTF">2018-03-26T17:05:36Z</dcterms:modified>
  <cp:revision>38</cp:revision>
  <dc:subject/>
  <dc:title>Курсова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