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12E-C5A2-4D0A-8809-8363E44B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3C3-F597-4AE0-A1FF-BBE61E81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457-4F7E-42B6-A7A6-F053AC26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219-5B54-4A77-8703-AF1A1E01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D4DC-7CFB-4BB4-958C-0035E7BA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0806-E2BB-47CF-9419-E1B840D2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0B2D-2335-4C7B-9B68-C844EC67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7D5A-D9F6-43AB-8E46-B0936430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B3DA-B10E-49FF-A034-C748BC2D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6FE5-1274-4DDF-B57A-7137C82E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41F3-5F8A-4BA9-AC93-2691559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B6C-2787-4023-8D4F-5AE209C2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E59D-7B3B-4145-8664-717E1904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D14F-83E9-42DA-9437-AF2D2214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D2AE-1CD5-49CC-910E-90ED7268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1671-7AB7-4911-8D12-863FFEB7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F0BF-2D55-400B-98B6-A0597D4F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99D-D854-4AB1-A5A2-13B6983B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CBD-15DB-4C55-81E0-3C471C26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3F5-E82F-41A7-A461-4F0498A9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CFC-A8B1-4D16-9B54-3C42A565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009-28B8-44C6-A799-DC442B20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032-CE19-4A04-9C98-C2F159F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7A7-5734-4885-8C15-1FEB2934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BCD8-9E5D-4A41-8370-C9ADC0C49E4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FC7A-9A19-44E7-8DB6-182BBE5AF75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291960" y="493560"/>
            <a:ext cx="8583840" cy="1805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240" y="3285720"/>
            <a:ext cx="63435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 Black"/>
              </a:rPr>
              <a:t>Дидактическое пособие к проект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333333"/>
                </a:solidFill>
                <a:latin typeface="Arial Black"/>
              </a:rPr>
              <a:t>Дикие животные лесов Смоленской области»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 Black"/>
              </a:rPr>
              <a:t>Подготовительная групп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 Black"/>
              </a:rPr>
              <a:t>Воспитатель: Карпова Т. В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Picture 3" descr="G:\Карпова Татьяна\Презинтация\анимашки\Заяц2.gif"/>
          <p:cNvPicPr/>
          <p:nvPr/>
        </p:nvPicPr>
        <p:blipFill>
          <a:blip r:embed="rId2"/>
          <a:stretch/>
        </p:blipFill>
        <p:spPr>
          <a:xfrm>
            <a:off x="357120" y="22860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G:\Карпова Татьяна\Презинтация\анимашки\30.gif"/>
          <p:cNvPicPr/>
          <p:nvPr/>
        </p:nvPicPr>
        <p:blipFill>
          <a:blip r:embed="rId3"/>
          <a:stretch/>
        </p:blipFill>
        <p:spPr>
          <a:xfrm>
            <a:off x="7500960" y="4929120"/>
            <a:ext cx="1285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35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15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2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c2b"/>
                </a:solidFill>
                <a:latin typeface="Arial"/>
                <a:ea typeface="Arial"/>
              </a:rPr>
              <a:t>Источники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Болотова С. А. Азбука Смоленского края – Ч. 1. – Смоленск: Русич, 2004. – с. 216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Хофман Гудрун. Кто живёт в лесу.  Пер. с нем. Т. П. Панфиловой. - М.: Издательство Мир книги, 2008. – с. 96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Изображения.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Arial"/>
              </a:rPr>
              <a:t>[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Электронный ресурс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Arial"/>
              </a:rPr>
              <a:t>]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. –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Arial"/>
              </a:rPr>
              <a:t>URL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 u="sng">
                <a:solidFill>
                  <a:srgbClr val="bdd7e5"/>
                </a:solidFill>
                <a:uFillTx/>
                <a:latin typeface="Arial"/>
                <a:ea typeface="Arial"/>
                <a:hlinkClick r:id="rId1"/>
              </a:rPr>
              <a:t>http://images.yandex.ru/yandsearch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   (дата обращения 10. 03. 2011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79200" y="212760"/>
            <a:ext cx="3797640" cy="1225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Густой мех, на спине он рыжевато – буры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Уши и мордочка у неё острые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Основная пища – мыши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Picture 4" descr="C:\Documents and Settings\Администратор\Мои документы\педагог - психолог\проекты\дикие животные\0_5b77b_fe97316a_XL.jpeg"/>
          <p:cNvPicPr/>
          <p:nvPr/>
        </p:nvPicPr>
        <p:blipFill>
          <a:blip r:embed="rId2"/>
          <a:stretch/>
        </p:blipFill>
        <p:spPr>
          <a:xfrm rot="617400">
            <a:off x="3575160" y="1642680"/>
            <a:ext cx="51116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152280" y="-23760"/>
            <a:ext cx="3651480" cy="1468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На концах ушей —кисточки. Хвост коротки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Шерсть  ржаво-красноватая,пятнистая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Picture 2" descr="C:\Documents and Settings\Администратор\Мои документы\педагог - психолог\проекты\дикие животные\рысь.jpeg"/>
          <p:cNvPicPr/>
          <p:nvPr/>
        </p:nvPicPr>
        <p:blipFill>
          <a:blip r:embed="rId2"/>
          <a:stretch/>
        </p:blipFill>
        <p:spPr>
          <a:xfrm rot="21080400">
            <a:off x="4351320" y="1193760"/>
            <a:ext cx="41464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4c2b"/>
                </a:solidFill>
                <a:latin typeface="Arial"/>
                <a:ea typeface="Arial"/>
              </a:rPr>
              <a:t>Волк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Обычно держатся стаями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Стаю возглавляет вожак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Пища: грызуны,зайцыЖивут в логове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Picture 3" descr="C:\Documents and Settings\Администратор\Мои документы\педагог - психолог\проекты\дикие животные\волк.jpeg"/>
          <p:cNvPicPr/>
          <p:nvPr/>
        </p:nvPicPr>
        <p:blipFill>
          <a:blip r:embed="rId1"/>
          <a:stretch/>
        </p:blipFill>
        <p:spPr>
          <a:xfrm rot="21125400">
            <a:off x="4429080" y="1213920"/>
            <a:ext cx="4143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74680" y="-36360"/>
            <a:ext cx="3382920" cy="1481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56760" y="142884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У  него  зимой белая шкурка, а летом бурая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Это помогает ему укрываться от врагов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2" descr="C:\Documents and Settings\Администратор\Мои документы\педагог - психолог\проекты\дикие животные\заяц.jpg"/>
          <p:cNvPicPr/>
          <p:nvPr/>
        </p:nvPicPr>
        <p:blipFill>
          <a:blip r:embed="rId2"/>
          <a:stretch/>
        </p:blipFill>
        <p:spPr>
          <a:xfrm rot="483600">
            <a:off x="3574800" y="1071360"/>
            <a:ext cx="51116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3902040" cy="1468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Очень ловкий зверёк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Пища: насекомые, грибы, орехи, семена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Живёт в дупле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Picture 4" descr="C:\Documents and Settings\Администратор\Мои документы\педагог - психолог\проекты\дикие животные\65553558_159_belka_na_dereve.jpg"/>
          <p:cNvPicPr/>
          <p:nvPr/>
        </p:nvPicPr>
        <p:blipFill>
          <a:blip r:embed="rId2"/>
          <a:stretch/>
        </p:blipFill>
        <p:spPr>
          <a:xfrm rot="21349800">
            <a:off x="4071600" y="128592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28680" y="208080"/>
            <a:ext cx="3517920" cy="1176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Коричнево – бурый мех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Зверь огромного роста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Пища: лесные плоды, орехи, насекомые, мёд, рыба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Picture 2" descr="C:\Documents and Settings\Администратор\Мои документы\педагог - психолог\проекты\дикие животные\волк.jpg"/>
          <p:cNvPicPr/>
          <p:nvPr/>
        </p:nvPicPr>
        <p:blipFill>
          <a:blip r:embed="rId2"/>
          <a:stretch/>
        </p:blipFill>
        <p:spPr>
          <a:xfrm rot="572400">
            <a:off x="3844440" y="1576440"/>
            <a:ext cx="4572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44600" y="-189000"/>
            <a:ext cx="3036960" cy="1736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Колючая шубка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Пуглив, активен ночью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С ноября по апрель спит. Питается насекомыми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2" descr="C:\Documents and Settings\Администратор\Мои документы\педагог - психолог\проекты\дикие животные\ёж.jpg"/>
          <p:cNvPicPr/>
          <p:nvPr/>
        </p:nvPicPr>
        <p:blipFill>
          <a:blip r:embed="rId2"/>
          <a:stretch/>
        </p:blipFill>
        <p:spPr>
          <a:xfrm rot="280200">
            <a:off x="4000680" y="1428840"/>
            <a:ext cx="43574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-30240" y="-23760"/>
            <a:ext cx="3889440" cy="1468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Тело покрыто грубой, косматой щет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Голова клинообразная, большая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Клыки длинные и загнуты вверх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Пища: насекомые, улитки, дождевые черви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Picture 4" descr="C:\Documents and Settings\Администратор\Мои документы\педагог - психолог\проекты\дикие животные\611_600.jpg"/>
          <p:cNvPicPr/>
          <p:nvPr/>
        </p:nvPicPr>
        <p:blipFill>
          <a:blip r:embed="rId2"/>
          <a:stretch/>
        </p:blipFill>
        <p:spPr>
          <a:xfrm rot="21133800">
            <a:off x="4000680" y="1356840"/>
            <a:ext cx="46861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38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38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7:10:44Z</dcterms:created>
  <dc:creator>Admin</dc:creator>
  <dc:description/>
  <dc:language>en-US</dc:language>
  <cp:lastModifiedBy>Пользователь</cp:lastModifiedBy>
  <dcterms:modified xsi:type="dcterms:W3CDTF">2018-03-26T17:05:36Z</dcterms:modified>
  <cp:revision>38</cp:revision>
  <dc:subject/>
  <dc:title>Курсовая раб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