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wmf" ContentType="image/x-wmf"/>
  <Override PartName="/ppt/media/image21.jpeg" ContentType="image/jpeg"/>
  <Override PartName="/ppt/media/image15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D80-0BAA-4CE2-A064-BA38002E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2B6-A7DB-452D-9CA2-00FF44FA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BDF-FE0A-44F1-9E9B-763921C7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A65-1CAE-418B-94B3-D92FD491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33DE-DFB0-4F1E-BCC3-7219BDDF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ED22-3E04-43EA-B021-71F2A73F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047B-A6F4-47D9-BEAD-FF8D0A45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90C1-7A2F-451A-A2F8-3AC0414F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105C-21C4-4C31-9B82-4B99E4D2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EDC5-DE69-4644-9D84-D543BF65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AFF2-2CEC-4226-9039-B8F9F7F8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5F6-E023-4467-B830-04023651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E58D-4619-4815-BF46-9533ED28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3343-0B51-447D-90B9-8BECD5D1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6334-06FD-4DC9-ACEA-AAAEE692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47D9-4A53-44E0-A74B-147859A5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0FF0-8CA4-4994-8D0D-353B5959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64FF-79EC-4E6C-81ED-82B0BDC3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9C2-42CD-4F2F-AEEC-216AD42F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AF2-454E-421D-B280-1EBE093B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408-B16B-46D7-8B3E-2CE0CFD5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C98-E422-4DAF-B059-D516AABB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63C-CA17-4555-A90C-FB0AC4ED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A3A-E15C-4951-8FF3-EC5F5727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82c29"/>
                </a:gs>
                <a:gs pos="50000">
                  <a:srgbClr val="c16059"/>
                </a:gs>
                <a:gs pos="100000">
                  <a:srgbClr val="582c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36F8-8E6A-449F-BC81-6DEC1A3314F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82c29"/>
                </a:gs>
                <a:gs pos="50000">
                  <a:srgbClr val="c16059"/>
                </a:gs>
                <a:gs pos="100000">
                  <a:srgbClr val="582c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4A1E-FB5E-446C-9B13-8CE6E4ECE4F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327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ebc3"/>
                </a:solidFill>
                <a:latin typeface="Arial"/>
              </a:rPr>
              <a:t>Муниципальное автономное</a:t>
            </a:r>
            <a:r>
              <a:rPr b="0" lang="en-US" sz="3600" spc="-1" strike="noStrike">
                <a:solidFill>
                  <a:srgbClr val="fbebc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bebc3"/>
                </a:solidFill>
                <a:latin typeface="Arial"/>
              </a:rPr>
              <a:t>дошкольное образовательное учреждение детский сад комбинированного вида «Радуга»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bebc3"/>
                </a:solidFill>
                <a:latin typeface="Arial"/>
              </a:rPr>
              <a:t>Презентация</a:t>
            </a: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  к проекту:          </a:t>
            </a:r>
            <a:br>
              <a:rPr sz="4000"/>
            </a:b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fbebc3"/>
                </a:solidFill>
                <a:latin typeface="Arial"/>
              </a:rPr>
              <a:t>« </a:t>
            </a:r>
            <a:r>
              <a:rPr b="0" lang="en-US" sz="4400" spc="-1" strike="noStrike">
                <a:solidFill>
                  <a:srgbClr val="fbebc3"/>
                </a:solidFill>
                <a:latin typeface="Bodoni MT Black"/>
              </a:rPr>
              <a:t>Что за прелесть </a:t>
            </a:r>
            <a:br>
              <a:rPr sz="4400"/>
            </a:br>
            <a:r>
              <a:rPr b="0" lang="en-US" sz="4400" spc="-1" strike="noStrike">
                <a:solidFill>
                  <a:srgbClr val="fbebc3"/>
                </a:solidFill>
                <a:latin typeface="Bodoni MT Black"/>
              </a:rPr>
              <a:t>              эти сказки</a:t>
            </a:r>
            <a:r>
              <a:rPr b="0" lang="en-US" sz="4400" spc="-1" strike="noStrike">
                <a:solidFill>
                  <a:srgbClr val="fbebc3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55640" y="4220640"/>
            <a:ext cx="66484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методическое пособи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ыполнила воспитатель: Шамсутдинова С.Х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77080" y="141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5179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bc3"/>
                </a:solidFill>
                <a:latin typeface="Bodoni MT Black"/>
              </a:rPr>
              <a:t>А также композиторы придумывали  музыку к различным  сказкам</a:t>
            </a:r>
            <a:endParaRPr b="0" lang="en-US" sz="32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809880" cy="5229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780000" y="1628640"/>
            <a:ext cx="4032000" cy="52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ebc3"/>
                </a:solidFill>
                <a:latin typeface="Bodoni MT Black"/>
              </a:rPr>
              <a:t>Игра «Угадай мелодию»</a:t>
            </a:r>
            <a:endParaRPr b="0" lang="en-US" sz="44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7345440" cy="495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3632040" y="3603600"/>
          <a:ext cx="6480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2040" y="3603600"/>
                    <a:ext cx="64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702000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7093080" y="47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7020000" y="1052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0635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73838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437062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bebc3"/>
                </a:solidFill>
                <a:latin typeface="Bodoni MT Black"/>
              </a:rPr>
              <a:t>Конец делу венец.</a:t>
            </a:r>
            <a:endParaRPr b="0" lang="en-US" sz="5400" spc="-1" strike="noStrike">
              <a:solidFill>
                <a:srgbClr val="fbebc3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7667640" cy="6021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281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bc3"/>
                </a:solidFill>
                <a:latin typeface="Bodoni MT Black"/>
              </a:rPr>
              <a:t>Со сказкой жизнь становится интересной</a:t>
            </a:r>
            <a:endParaRPr b="0" lang="en-US" sz="3200" spc="-1" strike="noStrike">
              <a:solidFill>
                <a:srgbClr val="fbebc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51680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bebc3"/>
                </a:solidFill>
                <a:latin typeface="Bodoni MT Black"/>
              </a:rPr>
              <a:t>Народные сказки передавались </a:t>
            </a:r>
            <a:br>
              <a:rPr sz="3200"/>
            </a:br>
            <a:r>
              <a:rPr b="1" lang="en-US" sz="3200" spc="-1" strike="noStrike">
                <a:solidFill>
                  <a:srgbClr val="fbebc3"/>
                </a:solidFill>
                <a:latin typeface="Bodoni MT Black"/>
              </a:rPr>
              <a:t>                 из уст в уста</a:t>
            </a:r>
            <a:endParaRPr b="0" lang="en-US" sz="32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0920" y="1163520"/>
            <a:ext cx="7416720" cy="569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Bodoni MT Black"/>
              </a:rPr>
              <a:t>Авторские</a:t>
            </a:r>
            <a:br>
              <a:rPr sz="4000"/>
            </a:br>
            <a:r>
              <a:rPr b="0" lang="en-US" sz="4000" spc="-1" strike="noStrike">
                <a:solidFill>
                  <a:srgbClr val="fbebc3"/>
                </a:solidFill>
                <a:latin typeface="Bodoni MT Black"/>
              </a:rPr>
              <a:t>сказки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2352600"/>
            <a:ext cx="4859280" cy="4505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851280" y="2349360"/>
            <a:ext cx="4068720" cy="4508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851280" y="0"/>
            <a:ext cx="4033800" cy="27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bebc3"/>
                </a:solidFill>
                <a:latin typeface="Bodoni MT Black"/>
              </a:rPr>
              <a:t>Сказки о животных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7561440" cy="580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Bodoni MT Black"/>
              </a:rPr>
              <a:t>          </a:t>
            </a:r>
            <a:r>
              <a:rPr b="0" lang="en-US" sz="4000" spc="-1" strike="noStrike">
                <a:solidFill>
                  <a:srgbClr val="fbebc3"/>
                </a:solidFill>
                <a:latin typeface="Bodoni MT Black"/>
              </a:rPr>
              <a:t>Бытовые сказки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7561440" cy="573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Bodoni MT Black"/>
              </a:rPr>
              <a:t>         </a:t>
            </a:r>
            <a:r>
              <a:rPr b="0" lang="en-US" sz="4000" spc="-1" strike="noStrike">
                <a:solidFill>
                  <a:srgbClr val="fbebc3"/>
                </a:solidFill>
                <a:latin typeface="Bodoni MT Black"/>
              </a:rPr>
              <a:t>Волшебные сказки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7561440" cy="544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0" y="4292640"/>
          <a:ext cx="276084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92640"/>
                    <a:ext cx="276084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0" y="3494160"/>
          <a:ext cx="7956720" cy="252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494160"/>
                    <a:ext cx="795672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0" y="0"/>
            <a:ext cx="7884360" cy="5011920"/>
            <a:chOff x="0" y="0"/>
            <a:chExt cx="7884360" cy="5011920"/>
          </a:xfrm>
        </p:grpSpPr>
        <p:cxnSp>
          <p:nvCxnSpPr>
            <p:cNvPr id="215" name="_s48163"/>
            <p:cNvCxnSpPr>
              <a:stCxn id="216" idx="0"/>
              <a:endCxn id="217" idx="2"/>
            </p:cNvCxnSpPr>
            <p:nvPr/>
          </p:nvCxnSpPr>
          <p:spPr>
            <a:xfrm flipV="1" rot="16200000">
              <a:off x="4820400" y="1125720"/>
              <a:ext cx="1002960" cy="2760120"/>
            </a:xfrm>
            <a:prstGeom prst="bentConnector3">
              <a:avLst>
                <a:gd name="adj1" fmla="val 20897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18" name="_s48162"/>
            <p:cNvCxnSpPr>
              <a:stCxn id="219" idx="0"/>
              <a:endCxn id="217" idx="2"/>
            </p:cNvCxnSpPr>
            <p:nvPr/>
          </p:nvCxnSpPr>
          <p:spPr>
            <a:xfrm flipV="1">
              <a:off x="3942360" y="2004480"/>
              <a:ext cx="2880" cy="100296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20" name="_s48161"/>
            <p:cNvCxnSpPr>
              <a:stCxn id="221" idx="0"/>
              <a:endCxn id="217" idx="2"/>
            </p:cNvCxnSpPr>
            <p:nvPr/>
          </p:nvCxnSpPr>
          <p:spPr>
            <a:xfrm flipH="1" flipV="1" rot="5400000">
              <a:off x="2060640" y="1125720"/>
              <a:ext cx="1002960" cy="2760120"/>
            </a:xfrm>
            <a:prstGeom prst="bentConnector3">
              <a:avLst>
                <a:gd name="adj1" fmla="val 20897"/>
              </a:avLst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17" name="_s48157"/>
            <p:cNvSpPr/>
            <p:nvPr/>
          </p:nvSpPr>
          <p:spPr>
            <a:xfrm>
              <a:off x="2759400" y="0"/>
              <a:ext cx="2365200" cy="20048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2f1311"/>
                  </a:solidFill>
                  <a:latin typeface="Bodoni MT Black"/>
                </a:rPr>
                <a:t>Сказка</a:t>
              </a:r>
              <a:endParaRPr b="0" lang="en-US" sz="4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48158"/>
            <p:cNvSpPr/>
            <p:nvPr/>
          </p:nvSpPr>
          <p:spPr>
            <a:xfrm>
              <a:off x="0" y="3007080"/>
              <a:ext cx="2365200" cy="2004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f1311"/>
                  </a:solidFill>
                  <a:latin typeface="Bodoni MT Black"/>
                </a:rPr>
                <a:t>Начало- </a:t>
              </a: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f1311"/>
                  </a:solidFill>
                  <a:latin typeface="Bodoni MT Black"/>
                </a:rPr>
                <a:t>завязка</a:t>
              </a: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48159"/>
            <p:cNvSpPr/>
            <p:nvPr/>
          </p:nvSpPr>
          <p:spPr>
            <a:xfrm>
              <a:off x="2759400" y="3007080"/>
              <a:ext cx="2365200" cy="2004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Bodoni MT Black"/>
                </a:rPr>
                <a:t>Середина-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Bodoni MT Black"/>
                </a:rPr>
                <a:t>Кульминация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48160"/>
            <p:cNvSpPr/>
            <p:nvPr/>
          </p:nvSpPr>
          <p:spPr>
            <a:xfrm>
              <a:off x="5519160" y="3007080"/>
              <a:ext cx="2365200" cy="20048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f1311"/>
                  </a:solidFill>
                  <a:latin typeface="Bodoni MT Black"/>
                </a:rPr>
                <a:t>Конец- </a:t>
              </a: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f1311"/>
                  </a:solidFill>
                  <a:latin typeface="Bodoni MT Black"/>
                </a:rPr>
                <a:t>завязка</a:t>
              </a: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79280" y="333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04000" y="549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2637000"/>
            <a:ext cx="2232000" cy="360360"/>
          </a:xfrm>
          <a:prstGeom prst="rightArrow">
            <a:avLst>
              <a:gd name="adj1" fmla="val 50000"/>
              <a:gd name="adj2" fmla="val 154845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84720" y="2637000"/>
            <a:ext cx="1944720" cy="360360"/>
          </a:xfrm>
          <a:prstGeom prst="rightArrow">
            <a:avLst>
              <a:gd name="adj1" fmla="val 50000"/>
              <a:gd name="adj2" fmla="val 134915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30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ebc3"/>
                </a:solidFill>
                <a:latin typeface="Bodoni MT Black"/>
              </a:rPr>
              <a:t>Великие художники вдохновлялись                                 сказками Врубель, Билибин, Васнецов</a:t>
            </a:r>
            <a:endParaRPr b="0" lang="en-US" sz="32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3995640" cy="5805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067280" y="1125360"/>
            <a:ext cx="3744720" cy="573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19:32:13Z</dcterms:created>
  <dc:creator>wert</dc:creator>
  <dc:description/>
  <dc:language>en-US</dc:language>
  <cp:lastModifiedBy>wert</cp:lastModifiedBy>
  <dcterms:modified xsi:type="dcterms:W3CDTF">2006-01-03T00:44:01Z</dcterms:modified>
  <cp:revision>16</cp:revision>
  <dc:subject/>
  <dc:title>Презентация :             «В стране сказок»</dc:title>
</cp:coreProperties>
</file>