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wmf" ContentType="image/x-wmf"/>
  <Override PartName="/ppt/media/image21.jpeg" ContentType="image/jpeg"/>
  <Override PartName="/ppt/media/image15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69B-8C59-4A7E-9F63-2B7AB4D4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442-D1E9-4FD4-BDB9-F7628731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416-1F02-4DA6-B3A0-6A1D80F3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9C2-96AB-43F0-A80B-AF1E638C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BC89-EBA5-4120-934E-0230D853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CB6-C561-45EC-91F2-7EC35B6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A3C-29CB-4229-BA2D-FD6E294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A13-0D82-46CC-91CB-0650405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9B6-BBB2-4899-9A10-D995417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869D-3852-463F-8404-84932C0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229-7022-4FB0-B5FA-746FBC4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961-B1E2-4C38-A791-8B90CFBD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3585-5B3C-4429-AC16-DDFD06F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176-4229-47F3-A839-48A32F2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B1A3-BAF6-4B6B-BD6C-D64342D4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32F3-2374-464C-BCD6-6BFB74AF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E7FF-7E34-408E-B90D-C6ADEA78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7D9-FBD8-499B-B861-0D889FD2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195-CC8E-457B-B9D7-9F2CDEB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53D-0831-400E-AEF2-29540CF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125-AEE2-46BA-A398-CC505AC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8B4-E308-471E-9DFE-A487E54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8AB-160A-431A-B7F5-DE5A654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916-C3DF-4523-A4B1-32976F7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8B0-44AE-4452-B47F-831A58FA1BA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B52A-7D9D-46AA-874C-C920B42776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32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ebc3"/>
                </a:solidFill>
                <a:latin typeface="Arial"/>
              </a:rPr>
              <a:t>Муниципальное автономное</a:t>
            </a: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bebc3"/>
                </a:solidFill>
                <a:latin typeface="Arial"/>
              </a:rPr>
              <a:t>дошкольное образовательное учреждение детский сад комбинированного вида «Радуг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Презентация</a:t>
            </a: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к проекту:          </a:t>
            </a:r>
            <a:br>
              <a:rPr sz="4000"/>
            </a:b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fbebc3"/>
                </a:solidFill>
                <a:latin typeface="Arial"/>
              </a:rPr>
              <a:t>« </a:t>
            </a: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Что за прелесть </a:t>
            </a:r>
            <a:br>
              <a:rPr sz="4400"/>
            </a:b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              эти сказки</a:t>
            </a:r>
            <a:r>
              <a:rPr b="0" lang="en-US" sz="4400" spc="-1" strike="noStrike">
                <a:solidFill>
                  <a:srgbClr val="fbebc3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5640" y="4220640"/>
            <a:ext cx="6648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етодическое пособ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ыполнила воспитатель: Шамсутдинова С.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17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bc3"/>
                </a:solidFill>
                <a:latin typeface="Bodoni MT Black"/>
              </a:rPr>
              <a:t>А также композиторы придумывали  музыку к различным  сказкам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809880" cy="5229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40320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Игра «Угадай мелодию»</a:t>
            </a:r>
            <a:endParaRPr b="0" lang="en-US" sz="44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7345440" cy="49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632040" y="3603600"/>
          <a:ext cx="6480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2040" y="3603600"/>
                    <a:ext cx="64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02000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09308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020000" y="105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0635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3838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3706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ebc3"/>
                </a:solidFill>
                <a:latin typeface="Bodoni MT Black"/>
              </a:rPr>
              <a:t>Конец делу венец.</a:t>
            </a:r>
            <a:endParaRPr b="0" lang="en-US" sz="5400" spc="-1" strike="noStrike">
              <a:solidFill>
                <a:srgbClr val="fbebc3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7667640" cy="60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28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bc3"/>
                </a:solidFill>
                <a:latin typeface="Bodoni MT Black"/>
              </a:rPr>
              <a:t>Со сказкой жизнь становится интересной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516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bebc3"/>
                </a:solidFill>
                <a:latin typeface="Bodoni MT Black"/>
              </a:rPr>
              <a:t>Народные сказки передавались </a:t>
            </a:r>
            <a:br>
              <a:rPr sz="3200"/>
            </a:br>
            <a:r>
              <a:rPr b="1" lang="en-US" sz="3200" spc="-1" strike="noStrike">
                <a:solidFill>
                  <a:srgbClr val="fbebc3"/>
                </a:solidFill>
                <a:latin typeface="Bodoni MT Black"/>
              </a:rPr>
              <a:t>                 из уст в уста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63520"/>
            <a:ext cx="7416720" cy="569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Авторские</a:t>
            </a:r>
            <a:br>
              <a:rPr sz="4000"/>
            </a:b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352600"/>
            <a:ext cx="4859280" cy="4505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4068720" cy="450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403380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Сказки о животных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56144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 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Бытовые 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6144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Волшебные 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756144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4292640"/>
          <a:ext cx="27608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92640"/>
                    <a:ext cx="2760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0" y="3494160"/>
          <a:ext cx="795672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94160"/>
                    <a:ext cx="795672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0" y="0"/>
            <a:ext cx="7884360" cy="5011920"/>
            <a:chOff x="0" y="0"/>
            <a:chExt cx="7884360" cy="5011920"/>
          </a:xfrm>
        </p:grpSpPr>
        <p:cxnSp>
          <p:nvCxnSpPr>
            <p:cNvPr id="215" name="_s48163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4820400" y="1125720"/>
              <a:ext cx="1002960" cy="27601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8" name="_s48162"/>
            <p:cNvCxnSpPr>
              <a:stCxn id="219" idx="0"/>
              <a:endCxn id="217" idx="2"/>
            </p:cNvCxnSpPr>
            <p:nvPr/>
          </p:nvCxnSpPr>
          <p:spPr>
            <a:xfrm flipV="1">
              <a:off x="3942360" y="2004480"/>
              <a:ext cx="2880" cy="10029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0" name="_s48161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060640" y="1125720"/>
              <a:ext cx="1002960" cy="27601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7" name="_s48157"/>
            <p:cNvSpPr/>
            <p:nvPr/>
          </p:nvSpPr>
          <p:spPr>
            <a:xfrm>
              <a:off x="2759400" y="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f1311"/>
                  </a:solidFill>
                  <a:latin typeface="Bodoni MT Black"/>
                </a:rPr>
                <a:t>Сказка</a:t>
              </a:r>
              <a:endParaRPr b="0" lang="en-US" sz="4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48158"/>
            <p:cNvSpPr/>
            <p:nvPr/>
          </p:nvSpPr>
          <p:spPr>
            <a:xfrm>
              <a:off x="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Начало- 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завязка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48159"/>
            <p:cNvSpPr/>
            <p:nvPr/>
          </p:nvSpPr>
          <p:spPr>
            <a:xfrm>
              <a:off x="275940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Bodoni MT Black"/>
                </a:rPr>
                <a:t>Середина-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Bodoni MT Black"/>
                </a:rPr>
                <a:t>Кульминация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48160"/>
            <p:cNvSpPr/>
            <p:nvPr/>
          </p:nvSpPr>
          <p:spPr>
            <a:xfrm>
              <a:off x="551916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Конец- 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завязка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9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5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637000"/>
            <a:ext cx="2232000" cy="360360"/>
          </a:xfrm>
          <a:prstGeom prst="rightArrow">
            <a:avLst>
              <a:gd name="adj1" fmla="val 50000"/>
              <a:gd name="adj2" fmla="val 15484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4720" y="2637000"/>
            <a:ext cx="1944720" cy="360360"/>
          </a:xfrm>
          <a:prstGeom prst="rightArrow">
            <a:avLst>
              <a:gd name="adj1" fmla="val 50000"/>
              <a:gd name="adj2" fmla="val 13491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bc3"/>
                </a:solidFill>
                <a:latin typeface="Bodoni MT Black"/>
              </a:rPr>
              <a:t>Великие художники вдохновлялись                                 сказками Врубель, Билибин, Васнецов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9:32:13Z</dcterms:created>
  <dc:creator>wert</dc:creator>
  <dc:description/>
  <dc:language>en-US</dc:language>
  <cp:lastModifiedBy>wert</cp:lastModifiedBy>
  <dcterms:modified xsi:type="dcterms:W3CDTF">2006-01-03T00:44:01Z</dcterms:modified>
  <cp:revision>16</cp:revision>
  <dc:subject/>
  <dc:title>Презентация :             «В стране сказок»</dc:title>
</cp:coreProperties>
</file>