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8.gif" ContentType="image/gif"/>
  <Override PartName="/ppt/media/image15.gif" ContentType="image/gif"/>
  <Override PartName="/ppt/media/image14.gif" ContentType="image/gi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gif" ContentType="image/gi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44A-0434-42B6-8935-193AA5E0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CEC-3AAC-4DA2-9F68-4460B84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574-9CF4-4210-B2F6-44916BAB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6A8-96C7-4601-80E9-E3B954D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527-2D01-4328-9F8A-FAF12BE1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0D1F-C8F2-4447-A46F-7FFD1354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C9EF-678C-464B-BA66-67335C21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10D8-071B-452E-818B-891C5DA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994-2D21-4CB7-9A79-4CF3DE93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5AA-A0D6-407D-8A61-CA33E42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7277-F577-4D42-A79C-78F6CC0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179-2555-45C4-BB5F-33C1CBF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F160-7622-454F-849B-F776EA8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62C2-8E73-4D2F-A63D-53522A6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3FD-817C-470F-9825-D2B8D6C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A304-A38D-4275-A229-A7171117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6CE6-D932-4D00-B877-1FC7E6A5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DAC2-DEBF-4B28-8106-5B679EB8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E655-88EC-41A5-BFAA-29254AF3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E62E-FA7E-4820-8D64-47E5CDC5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B125-142E-47C3-B4B9-C951FA9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D5E2-21BA-47CA-85C8-48637A9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8A4-1D8B-498A-8647-B52EDD73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B55F-B503-4C42-A16D-C18A5FB4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8212-6C2B-4D97-B335-0DDAE44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9ADE-2C5E-4A42-96F8-711E00E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C02A-D512-4077-9E06-2386A8A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4B73-61D6-4004-8882-67043CC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DBAC-7EC0-4198-BD1C-72BAC74A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5546-E066-492A-9CDC-CFC0AC63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7DFD-5953-4B3F-BBD4-890C0A3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2AD6-C036-4A11-9CC6-AC1563A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E0BA-48C8-4185-B04A-ACBFF39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AB2-ADC2-45DF-9C47-CD37CFD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532D-8393-4746-8CBE-D05A28D3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88DD-4CDF-4ED9-A12B-2DE57AC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1E93-BA13-40FB-9FE3-EC5CE6E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6203-F5CE-42CF-AD03-9A5D448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812A-A58C-4CD4-8B11-733482E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1303-A6CA-4E03-A9A0-A579B69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7F19-89D4-47BB-B709-C9BD2A5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A7F3-5F46-47E0-9BA3-40188CEA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A77D-2575-4387-A912-D47E393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35D-EC91-4FBB-8687-71635E6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696-17A9-4AAA-A05D-1E907175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803-8851-453C-BBC6-6E1D5B9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677-6F73-4583-BA8D-D8607C81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2E4-0CA5-40B2-8766-74266B0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91C-DDC0-45DF-B75B-B674C531E33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4DC-5CFC-4373-AEF9-459748B4AAF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AE7-656D-4C50-9F1C-604A9505245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FA4E-10D7-41D4-B1DF-082E334FE8C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6.png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43080" y="1356840"/>
            <a:ext cx="4857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Заявка на оценку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71400" y="250020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5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22  балла и больш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4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17 - 21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3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13 - 16 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843280" y="5373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Горбунова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аковская СОШ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24000" y="1197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оцен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аждый верно выписанный глагол – 1 балл (максимально м.б. 3 балла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аждый верный свой глагол – 1 балл (максимально м.б. 2 балл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2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9dd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9dd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f6fc6"/>
              </a:gs>
            </a:gsLst>
            <a:lin ang="4848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f6fc6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8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29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0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0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0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27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7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7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468360" y="333360"/>
            <a:ext cx="82803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:  1. Вставить в предложениях подходящие по смыслу глаг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дчеркнуть подлежащее и сказуемое, указать, какими частями речи они выраже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трая лиса живёт в лесу. Вчера она … на зайцев. А завтра плутовка … к реке и … ут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Живой уголок. Лисицы (62 фото)"/>
          <p:cNvPicPr/>
          <p:nvPr/>
        </p:nvPicPr>
        <p:blipFill>
          <a:blip r:embed="rId1"/>
          <a:stretch/>
        </p:blipFill>
        <p:spPr>
          <a:xfrm>
            <a:off x="4786200" y="4432320"/>
            <a:ext cx="32403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6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00"/>
                </a:solidFill>
                <a:latin typeface="Calibri"/>
              </a:rPr>
              <a:t>Проверь себя и оцени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19120" y="14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11280" y="184464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Хитрая лиса живёт в лесу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69080" y="1557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564000" y="1557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35120" y="2911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26920" y="3132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чера она охотилась на зайцев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1 + 2 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2124000" y="2421000"/>
            <a:ext cx="10796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3419640" y="2421000"/>
            <a:ext cx="100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2268360" y="3645000"/>
            <a:ext cx="71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2196000" y="28526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3132000" y="3716280"/>
            <a:ext cx="201636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3132000" y="3860640"/>
            <a:ext cx="1944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392436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975240" y="4076640"/>
            <a:ext cx="70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завтра плутовка побежит к р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 будет  ловить уток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2 + 3 балл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2843280" y="4581360"/>
            <a:ext cx="1800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564720" y="3789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788000" y="4581360"/>
            <a:ext cx="16556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"/>
          <p:cNvSpPr/>
          <p:nvPr/>
        </p:nvSpPr>
        <p:spPr>
          <a:xfrm>
            <a:off x="4788000" y="4724280"/>
            <a:ext cx="1728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056920" y="380844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9"/>
          <p:cNvSpPr/>
          <p:nvPr/>
        </p:nvSpPr>
        <p:spPr>
          <a:xfrm>
            <a:off x="1547640" y="5229360"/>
            <a:ext cx="25927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>
            <a:off x="1547640" y="5373720"/>
            <a:ext cx="2664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3327480" y="4280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3277440" y="44370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24000" y="1197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верно вписанный глагол – 1 балл (максимально м.б. 3 бал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ерное выделение подлежащего и сказуемого в 1 и 2 предложениях по 2 балла, в 3 предложении – 3 балла (максимально м.б. 7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250920" y="1557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ь названные виды глаголов с помощью логической схем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3 балла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йти место глаголам из предложений в логической схе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 балла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83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6" name="TextBox 13"/>
          <p:cNvSpPr/>
          <p:nvPr/>
        </p:nvSpPr>
        <p:spPr>
          <a:xfrm>
            <a:off x="900000" y="321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3708360" y="3213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6286680" y="3213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6227640" y="378936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2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0" y="155736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оце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о построена логическая схема – 3 балла; если допущена ошибка в расположении понятий или стрелок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о определено место глаголов в логической схеме – по 1 баллу за кажд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97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9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0" name="TextBox 13"/>
          <p:cNvSpPr/>
          <p:nvPr/>
        </p:nvSpPr>
        <p:spPr>
          <a:xfrm>
            <a:off x="900000" y="3213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3708360" y="3213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6286680" y="3213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227640" y="378936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6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2411280" y="530064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формулировать вопросы-суждения к логической схе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324000" y="1268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азать, что  слово «охотилась» является глаго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бъяснить, что глагол «живёт» относится к глаголам настоящего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м образом глагол «охотилась»  отличается от глагола «побежи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77583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Задание: найти лишнее слово и обосновать свой выбор.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5900" spc="-1" strike="noStrike">
                <a:solidFill>
                  <a:srgbClr val="7030a0"/>
                </a:solidFill>
                <a:latin typeface="Calibri"/>
              </a:rPr>
              <a:t>Берёза, полянка, сверкать, дождинка.</a:t>
            </a:r>
            <a:br>
              <a:rPr sz="4300"/>
            </a:b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B_Fly16"/>
          <p:cNvPicPr/>
          <p:nvPr/>
        </p:nvPicPr>
        <p:blipFill>
          <a:blip r:embed="rId1"/>
          <a:stretch/>
        </p:blipFill>
        <p:spPr>
          <a:xfrm rot="2876400">
            <a:off x="-286560" y="4485240"/>
            <a:ext cx="2881440" cy="22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312" name="Содержимое 2"/>
          <p:cNvSpPr/>
          <p:nvPr/>
        </p:nvSpPr>
        <p:spPr>
          <a:xfrm>
            <a:off x="900000" y="134136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7"/>
          <p:cNvCxnSpPr/>
          <p:nvPr/>
        </p:nvCxnSpPr>
        <p:spPr>
          <a:xfrm flipH="1">
            <a:off x="4357440" y="1428480"/>
            <a:ext cx="2160" cy="78660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" name="Прямая со стрелкой 12"/>
          <p:cNvCxnSpPr/>
          <p:nvPr/>
        </p:nvCxnSpPr>
        <p:spPr>
          <a:xfrm>
            <a:off x="4357800" y="1428480"/>
            <a:ext cx="2715120" cy="5720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5" name="TextBox 13"/>
          <p:cNvSpPr/>
          <p:nvPr/>
        </p:nvSpPr>
        <p:spPr>
          <a:xfrm>
            <a:off x="900000" y="39337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хот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3708360" y="37893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86680" y="378936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6227640" y="436572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будет л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276720" y="476280"/>
            <a:ext cx="21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Прямая со стрелкой 5"/>
          <p:cNvCxnSpPr/>
          <p:nvPr/>
        </p:nvCxnSpPr>
        <p:spPr>
          <a:xfrm flipH="1">
            <a:off x="1928160" y="1428840"/>
            <a:ext cx="2429640" cy="6433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1" name="Text Box 16"/>
          <p:cNvSpPr/>
          <p:nvPr/>
        </p:nvSpPr>
        <p:spPr>
          <a:xfrm>
            <a:off x="97308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3493800" y="213372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6496920" y="2048040"/>
            <a:ext cx="21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Гл. б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973800" y="299736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дел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дел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544920" y="30160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6122520" y="292428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удет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8"/>
          <p:cNvSpPr/>
          <p:nvPr/>
        </p:nvSpPr>
        <p:spPr>
          <a:xfrm>
            <a:off x="0" y="526104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-Ответить на вопрос в форме умоза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43080" y="1356840"/>
            <a:ext cx="4857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Заявка на оценку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71400" y="250020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5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22  балла и больш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4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 17 - 21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«3»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ru-RU" sz="3600" spc="-1" strike="noStrike">
                <a:solidFill>
                  <a:srgbClr val="002060"/>
                </a:solidFill>
                <a:latin typeface="Constantia"/>
              </a:rPr>
              <a:t> 13 - 16   бал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0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714240" y="785880"/>
            <a:ext cx="585792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2" name="Picture 4" descr="011"/>
          <p:cNvPicPr/>
          <p:nvPr/>
        </p:nvPicPr>
        <p:blipFill>
          <a:blip r:embed="rId1"/>
          <a:stretch/>
        </p:blipFill>
        <p:spPr>
          <a:xfrm>
            <a:off x="5400720" y="4143240"/>
            <a:ext cx="3743280" cy="2217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s13"/>
          <p:cNvPicPr/>
          <p:nvPr/>
        </p:nvPicPr>
        <p:blipFill>
          <a:blip r:embed="rId2"/>
          <a:stretch/>
        </p:blipFill>
        <p:spPr>
          <a:xfrm>
            <a:off x="5959440" y="500040"/>
            <a:ext cx="3184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71760" y="1928880"/>
            <a:ext cx="5500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Глагол"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3000240" y="92880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B_Fly16"/>
          <p:cNvPicPr/>
          <p:nvPr/>
        </p:nvPicPr>
        <p:blipFill>
          <a:blip r:embed="rId1"/>
          <a:stretch/>
        </p:blipFill>
        <p:spPr>
          <a:xfrm rot="2876400">
            <a:off x="-215280" y="434232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2411280" y="5300640"/>
            <a:ext cx="67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уйте цель урока и вопрос-понятие к теме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1720" y="1428480"/>
            <a:ext cx="7500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амостоятельная часть речи, которая отвечает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опросы что делать?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делать? что делает?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будет делать? что сделает?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означает действие предмета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B_Fly16"/>
          <p:cNvPicPr/>
          <p:nvPr/>
        </p:nvPicPr>
        <p:blipFill>
          <a:blip r:embed="rId1"/>
          <a:stretch/>
        </p:blipFill>
        <p:spPr>
          <a:xfrm rot="2876400">
            <a:off x="-286560" y="4485240"/>
            <a:ext cx="2881440" cy="2241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194560" y="404640"/>
            <a:ext cx="42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07c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09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нятие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родовой признак + видовые призна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B_Fly16"/>
          <p:cNvPicPr/>
          <p:nvPr/>
        </p:nvPicPr>
        <p:blipFill>
          <a:blip r:embed="rId1"/>
          <a:stretch/>
        </p:blipFill>
        <p:spPr>
          <a:xfrm rot="2876400">
            <a:off x="-320040" y="4296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258920" y="28526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чает на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будет делать? что дела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делал? и обозначает действие предм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901800" y="1557360"/>
            <a:ext cx="704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Глагол —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919"/>
                </a:solidFill>
                <a:latin typeface="Arial"/>
              </a:rPr>
              <a:t>самостоятельная часть ре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4" name="Содержимое 2"/>
          <p:cNvSpPr/>
          <p:nvPr/>
        </p:nvSpPr>
        <p:spPr>
          <a:xfrm>
            <a:off x="928800" y="1357200"/>
            <a:ext cx="72579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071720" y="167400"/>
            <a:ext cx="74293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исать глаг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бавить два своих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сёлый, поход, строить, лужок, петь, алый, игрушечный, праздник, игр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B_Fly16"/>
          <p:cNvPicPr/>
          <p:nvPr/>
        </p:nvPicPr>
        <p:blipFill>
          <a:blip r:embed="rId1"/>
          <a:stretch/>
        </p:blipFill>
        <p:spPr>
          <a:xfrm rot="2876400">
            <a:off x="-358200" y="4485240"/>
            <a:ext cx="2881440" cy="2241720"/>
          </a:xfrm>
          <a:prstGeom prst="rect">
            <a:avLst/>
          </a:prstGeom>
          <a:ln w="0">
            <a:noFill/>
          </a:ln>
        </p:spPr>
      </p:pic>
      <p:sp>
        <p:nvSpPr>
          <p:cNvPr id="217" name="Содержимое 2"/>
          <p:cNvSpPr/>
          <p:nvPr/>
        </p:nvSpPr>
        <p:spPr>
          <a:xfrm>
            <a:off x="900000" y="1268280"/>
            <a:ext cx="7258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1071720" y="11995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оить, петь, игр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68360" y="227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овать такой вопрос-суждение, ответ на который будет обоснованием правильности выполнения за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258920" y="4437000"/>
            <a:ext cx="727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-Ответить на вопрос в форме умозаклю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124000" y="5950080"/>
            <a:ext cx="70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1919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324000" y="260280"/>
            <a:ext cx="882000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-умоза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бозначает действие предмета и отвечает на вопросы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глагол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ь, петь, играть»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ют действие предмета и отвечают на вопрос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слова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ь, петь, играть»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глагол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2:09:28Z</dcterms:created>
  <dc:creator>Наталья</dc:creator>
  <dc:description/>
  <dc:language>en-US</dc:language>
  <cp:lastModifiedBy>User</cp:lastModifiedBy>
  <dcterms:modified xsi:type="dcterms:W3CDTF">2016-12-09T04:10:51Z</dcterms:modified>
  <cp:revision>68</cp:revision>
  <dc:subject/>
  <dc:title>Слитное и раздельное написание производных предлогов</dc:title>
</cp:coreProperties>
</file>