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gif" ContentType="image/gif"/>
  <Override PartName="/ppt/media/image9.gif" ContentType="image/gif"/>
  <Override PartName="/ppt/media/image8.png" ContentType="image/png"/>
  <Override PartName="/ppt/media/image7.png" ContentType="image/png"/>
  <Override PartName="/ppt/media/image1.jpeg" ContentType="image/jpeg"/>
  <Override PartName="/ppt/media/image19.gif" ContentType="image/gif"/>
  <Override PartName="/ppt/media/image5.png" ContentType="image/png"/>
  <Override PartName="/ppt/media/image18.gif" ContentType="image/gif"/>
  <Override PartName="/ppt/media/image15.gif" ContentType="image/gif"/>
  <Override PartName="/ppt/media/image14.gif" ContentType="image/gif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gif" ContentType="image/gif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3D6-CC05-4338-81A4-99F5157F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6D8-14CE-49D5-8308-5DEB813C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E8E-368B-4810-B717-4B276FB7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A94-3F15-42A5-A85B-C5A73827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28E7-A1E0-4E46-A83E-C736800B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D92A-DA4C-4934-AA78-67F6E568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4F67-D4A7-40A8-83C9-465F8DCE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DA04-900C-4D11-B2E6-7820637F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9DE8-D00E-4DF5-9B50-6F5DD44D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E154-8D0C-4ACB-84E2-C0FAF062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88EC-A121-41B7-8467-FD2A160C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4BE-E94C-4BEC-821E-85173C99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9D5D-D598-4283-BF5D-6EECD244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76CE-B6CB-41A9-833E-3068DD7A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3077-49F0-471B-BA2A-341E487F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B0FE-4F2D-4DE3-9E7F-98C43941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B40A-94F2-471C-BBEC-B7220676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60CC5-9759-4104-A0DF-E1E60417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D1827-0AA5-486D-A76E-01CEB6C6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41483-7BE1-4159-AC3B-0AFAA897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B96A9-3017-4504-AB1B-3B70E6D1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FCE7F-2756-4B37-A61F-CB568EEE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9CF2-3231-4F0E-BBA5-23C4304B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50B48-AFB3-46DA-8828-C60D6AB9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B995D-C4D4-4A47-86A7-7F44F3CD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17FBA-0234-4EC3-8107-69021485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92C74-7F33-461C-99B5-BB513822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B5CB3-BB87-431A-9875-F6F5D38C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4A972-2D37-4769-A89E-8E806FFA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BF742-5791-47FE-A402-B41CA84E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E7ECA-533C-422D-97E2-75F3525F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82595-1AF6-414F-9A35-A2437293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66B6E-F76E-4C1A-8562-DC252E5A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D73-8454-46E6-A722-59DF3571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B8BCA-54FD-478C-A962-BEB73532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17A6C-3AA7-4418-8213-CBA9A837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74DC1-28C6-4392-9934-844BA4E2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0DB0A-4846-4F81-9BAF-7D9BA8C1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AD835-8D5B-4690-9D81-C163064C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B6446-0B90-4DF0-B006-020B759B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E999A-F66E-4F69-8E36-A541C926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FD3BC-1915-4D03-A0DB-A503E39B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4BE4E-4C6F-4205-8DBF-2EA5BA73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4D8D-68E0-4734-9C48-CF4B4B30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4302-92CF-49A8-A427-DCFB630D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A32-E655-4A4F-9019-7B01D8C5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996-D7FD-4D19-A8D8-377FD545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D9B2-DF93-4F59-B3CA-89EF9A65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1F1B-DC34-426E-AFF4-1E8F087F55E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7E80-E794-46DB-A8E3-977EE05C9858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C434-64B2-4A14-AC88-34C3BCB6AEB9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343D-FB43-42F3-BBFD-C4B1ADDBC22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5.gif"/><Relationship Id="rId11" Type="http://schemas.openxmlformats.org/officeDocument/2006/relationships/image" Target="../media/image15.gif"/><Relationship Id="rId12" Type="http://schemas.openxmlformats.org/officeDocument/2006/relationships/image" Target="../media/image16.png"/><Relationship Id="rId13" Type="http://schemas.openxmlformats.org/officeDocument/2006/relationships/slide" Target="slide7.xml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43080" y="1356840"/>
            <a:ext cx="485784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Заявка на оценку:</a:t>
            </a:r>
            <a:br>
              <a:rPr sz="48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71400" y="2500200"/>
            <a:ext cx="5715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onstantia"/>
              </a:rPr>
              <a:t>«5»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i="1" lang="ru-RU" sz="3600" spc="-1" strike="noStrike">
                <a:solidFill>
                  <a:srgbClr val="002060"/>
                </a:solidFill>
                <a:latin typeface="Constantia"/>
              </a:rPr>
              <a:t>  22  балла и больш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onstantia"/>
              </a:rPr>
              <a:t>«4»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i="1" lang="ru-RU" sz="3600" spc="-1" strike="noStrike">
                <a:solidFill>
                  <a:srgbClr val="002060"/>
                </a:solidFill>
                <a:latin typeface="Constantia"/>
              </a:rPr>
              <a:t>  17 - 21  баллов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onstantia"/>
              </a:rPr>
              <a:t>«3»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i="1" lang="ru-RU" sz="3600" spc="-1" strike="noStrike">
                <a:solidFill>
                  <a:srgbClr val="002060"/>
                </a:solidFill>
                <a:latin typeface="Constantia"/>
              </a:rPr>
              <a:t> 13 - 16   баллов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4" descr="B_Fly16"/>
          <p:cNvPicPr/>
          <p:nvPr/>
        </p:nvPicPr>
        <p:blipFill>
          <a:blip r:embed="rId1"/>
          <a:stretch/>
        </p:blipFill>
        <p:spPr>
          <a:xfrm rot="2876400">
            <a:off x="-320040" y="4296240"/>
            <a:ext cx="2881440" cy="224172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2843280" y="53737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: Горбунова Н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рмаковская СОШ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324000" y="119700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мооцен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 каждый верно выписанный глагол – 1 балл (максимально м.б. 3 балла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 каждый верный свой глагол – 1 балл (максимально м.б. 2 балл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reeform 2"/>
          <p:cNvSpPr/>
          <p:nvPr/>
        </p:nvSpPr>
        <p:spPr>
          <a:xfrm>
            <a:off x="-36360" y="4869000"/>
            <a:ext cx="9196200" cy="2287440"/>
          </a:xfrm>
          <a:custGeom>
            <a:avLst/>
            <a:gdLst>
              <a:gd name="textAreaLeft" fmla="*/ 0 w 9196200"/>
              <a:gd name="textAreaRight" fmla="*/ 9196560 w 9196200"/>
              <a:gd name="textAreaTop" fmla="*/ 0 h 2287440"/>
              <a:gd name="textAreaBottom" fmla="*/ 2287440 h 2287440"/>
            </a:gdLst>
            <a:ahLst/>
            <a:rect l="textAreaLeft" t="textAreaTop" r="textAreaRight" b="textAreaBottom"/>
            <a:pathLst>
              <a:path w="5793" h="1296">
                <a:moveTo>
                  <a:pt x="0" y="1144"/>
                </a:moveTo>
                <a:cubicBezTo>
                  <a:pt x="5" y="1125"/>
                  <a:pt x="14" y="1107"/>
                  <a:pt x="16" y="1088"/>
                </a:cubicBezTo>
                <a:cubicBezTo>
                  <a:pt x="28" y="991"/>
                  <a:pt x="9" y="991"/>
                  <a:pt x="64" y="936"/>
                </a:cubicBezTo>
                <a:cubicBezTo>
                  <a:pt x="79" y="891"/>
                  <a:pt x="72" y="851"/>
                  <a:pt x="112" y="824"/>
                </a:cubicBezTo>
                <a:cubicBezTo>
                  <a:pt x="129" y="774"/>
                  <a:pt x="165" y="740"/>
                  <a:pt x="208" y="712"/>
                </a:cubicBezTo>
                <a:cubicBezTo>
                  <a:pt x="247" y="654"/>
                  <a:pt x="275" y="657"/>
                  <a:pt x="328" y="624"/>
                </a:cubicBezTo>
                <a:cubicBezTo>
                  <a:pt x="398" y="580"/>
                  <a:pt x="331" y="621"/>
                  <a:pt x="376" y="576"/>
                </a:cubicBezTo>
                <a:cubicBezTo>
                  <a:pt x="390" y="562"/>
                  <a:pt x="416" y="553"/>
                  <a:pt x="432" y="544"/>
                </a:cubicBezTo>
                <a:cubicBezTo>
                  <a:pt x="475" y="518"/>
                  <a:pt x="519" y="492"/>
                  <a:pt x="560" y="464"/>
                </a:cubicBezTo>
                <a:cubicBezTo>
                  <a:pt x="585" y="447"/>
                  <a:pt x="619" y="454"/>
                  <a:pt x="648" y="448"/>
                </a:cubicBezTo>
                <a:cubicBezTo>
                  <a:pt x="675" y="430"/>
                  <a:pt x="691" y="398"/>
                  <a:pt x="720" y="384"/>
                </a:cubicBezTo>
                <a:cubicBezTo>
                  <a:pt x="774" y="357"/>
                  <a:pt x="832" y="350"/>
                  <a:pt x="888" y="328"/>
                </a:cubicBezTo>
                <a:cubicBezTo>
                  <a:pt x="978" y="194"/>
                  <a:pt x="1157" y="184"/>
                  <a:pt x="1304" y="176"/>
                </a:cubicBezTo>
                <a:cubicBezTo>
                  <a:pt x="1336" y="165"/>
                  <a:pt x="1367" y="159"/>
                  <a:pt x="1400" y="152"/>
                </a:cubicBezTo>
                <a:cubicBezTo>
                  <a:pt x="1525" y="89"/>
                  <a:pt x="1608" y="81"/>
                  <a:pt x="1752" y="64"/>
                </a:cubicBezTo>
                <a:cubicBezTo>
                  <a:pt x="1795" y="59"/>
                  <a:pt x="1837" y="46"/>
                  <a:pt x="1880" y="40"/>
                </a:cubicBezTo>
                <a:cubicBezTo>
                  <a:pt x="2001" y="0"/>
                  <a:pt x="2207" y="41"/>
                  <a:pt x="2344" y="48"/>
                </a:cubicBezTo>
                <a:cubicBezTo>
                  <a:pt x="2373" y="58"/>
                  <a:pt x="2432" y="72"/>
                  <a:pt x="2432" y="72"/>
                </a:cubicBezTo>
                <a:cubicBezTo>
                  <a:pt x="2632" y="68"/>
                  <a:pt x="2807" y="61"/>
                  <a:pt x="3000" y="48"/>
                </a:cubicBezTo>
                <a:cubicBezTo>
                  <a:pt x="3073" y="24"/>
                  <a:pt x="3158" y="28"/>
                  <a:pt x="3232" y="24"/>
                </a:cubicBezTo>
                <a:cubicBezTo>
                  <a:pt x="3269" y="27"/>
                  <a:pt x="3308" y="23"/>
                  <a:pt x="3344" y="32"/>
                </a:cubicBezTo>
                <a:cubicBezTo>
                  <a:pt x="3355" y="35"/>
                  <a:pt x="3359" y="50"/>
                  <a:pt x="3368" y="56"/>
                </a:cubicBezTo>
                <a:cubicBezTo>
                  <a:pt x="3395" y="74"/>
                  <a:pt x="3456" y="101"/>
                  <a:pt x="3488" y="104"/>
                </a:cubicBezTo>
                <a:cubicBezTo>
                  <a:pt x="3568" y="111"/>
                  <a:pt x="3648" y="109"/>
                  <a:pt x="3728" y="112"/>
                </a:cubicBezTo>
                <a:cubicBezTo>
                  <a:pt x="3894" y="153"/>
                  <a:pt x="3907" y="146"/>
                  <a:pt x="4144" y="152"/>
                </a:cubicBezTo>
                <a:cubicBezTo>
                  <a:pt x="4197" y="178"/>
                  <a:pt x="4246" y="190"/>
                  <a:pt x="4304" y="200"/>
                </a:cubicBezTo>
                <a:cubicBezTo>
                  <a:pt x="4394" y="185"/>
                  <a:pt x="4380" y="184"/>
                  <a:pt x="4520" y="200"/>
                </a:cubicBezTo>
                <a:cubicBezTo>
                  <a:pt x="4534" y="202"/>
                  <a:pt x="4547" y="211"/>
                  <a:pt x="4560" y="216"/>
                </a:cubicBezTo>
                <a:cubicBezTo>
                  <a:pt x="4623" y="239"/>
                  <a:pt x="4686" y="259"/>
                  <a:pt x="4752" y="272"/>
                </a:cubicBezTo>
                <a:cubicBezTo>
                  <a:pt x="4804" y="324"/>
                  <a:pt x="4873" y="329"/>
                  <a:pt x="4944" y="336"/>
                </a:cubicBezTo>
                <a:cubicBezTo>
                  <a:pt x="4994" y="353"/>
                  <a:pt x="4943" y="329"/>
                  <a:pt x="4984" y="376"/>
                </a:cubicBezTo>
                <a:cubicBezTo>
                  <a:pt x="4995" y="389"/>
                  <a:pt x="5012" y="396"/>
                  <a:pt x="5024" y="408"/>
                </a:cubicBezTo>
                <a:cubicBezTo>
                  <a:pt x="5050" y="434"/>
                  <a:pt x="5069" y="469"/>
                  <a:pt x="5096" y="496"/>
                </a:cubicBezTo>
                <a:cubicBezTo>
                  <a:pt x="5107" y="528"/>
                  <a:pt x="5161" y="611"/>
                  <a:pt x="5192" y="632"/>
                </a:cubicBezTo>
                <a:cubicBezTo>
                  <a:pt x="5209" y="643"/>
                  <a:pt x="5230" y="646"/>
                  <a:pt x="5248" y="656"/>
                </a:cubicBezTo>
                <a:cubicBezTo>
                  <a:pt x="5267" y="667"/>
                  <a:pt x="5286" y="677"/>
                  <a:pt x="5304" y="688"/>
                </a:cubicBezTo>
                <a:cubicBezTo>
                  <a:pt x="5320" y="698"/>
                  <a:pt x="5352" y="720"/>
                  <a:pt x="5352" y="720"/>
                </a:cubicBezTo>
                <a:cubicBezTo>
                  <a:pt x="5398" y="790"/>
                  <a:pt x="5431" y="774"/>
                  <a:pt x="5504" y="792"/>
                </a:cubicBezTo>
                <a:cubicBezTo>
                  <a:pt x="5520" y="803"/>
                  <a:pt x="5536" y="813"/>
                  <a:pt x="5552" y="824"/>
                </a:cubicBezTo>
                <a:cubicBezTo>
                  <a:pt x="5660" y="896"/>
                  <a:pt x="5558" y="858"/>
                  <a:pt x="5624" y="880"/>
                </a:cubicBezTo>
                <a:cubicBezTo>
                  <a:pt x="5641" y="930"/>
                  <a:pt x="5659" y="986"/>
                  <a:pt x="5704" y="1016"/>
                </a:cubicBezTo>
                <a:cubicBezTo>
                  <a:pt x="5731" y="1098"/>
                  <a:pt x="5684" y="1083"/>
                  <a:pt x="5784" y="1096"/>
                </a:cubicBezTo>
                <a:cubicBezTo>
                  <a:pt x="5755" y="1296"/>
                  <a:pt x="5793" y="1164"/>
                  <a:pt x="5336" y="1168"/>
                </a:cubicBezTo>
                <a:cubicBezTo>
                  <a:pt x="4920" y="1172"/>
                  <a:pt x="4504" y="1156"/>
                  <a:pt x="4088" y="1152"/>
                </a:cubicBezTo>
                <a:cubicBezTo>
                  <a:pt x="3663" y="1119"/>
                  <a:pt x="3265" y="1140"/>
                  <a:pt x="2824" y="1144"/>
                </a:cubicBezTo>
                <a:cubicBezTo>
                  <a:pt x="1971" y="1141"/>
                  <a:pt x="1117" y="1141"/>
                  <a:pt x="264" y="1136"/>
                </a:cubicBezTo>
                <a:cubicBezTo>
                  <a:pt x="201" y="1136"/>
                  <a:pt x="0" y="1109"/>
                  <a:pt x="0" y="1096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ddd0fc32575ct"/>
          <p:cNvPicPr/>
          <p:nvPr/>
        </p:nvPicPr>
        <p:blipFill>
          <a:blip r:embed="rId2"/>
          <a:stretch/>
        </p:blipFill>
        <p:spPr>
          <a:xfrm>
            <a:off x="2793960" y="191628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9dd9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9dd9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0f6fc6"/>
              </a:gs>
            </a:gsLst>
            <a:lin ang="4848000"/>
          </a:gradFill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0f6fc6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6" descr="arg-blue-left-tr"/>
          <p:cNvPicPr/>
          <p:nvPr/>
        </p:nvPicPr>
        <p:blipFill>
          <a:blip r:embed="rId3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7" descr="ani-bird_red"/>
          <p:cNvPicPr/>
          <p:nvPr/>
        </p:nvPicPr>
        <p:blipFill>
          <a:blip r:embed="rId4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8" descr="b13"/>
          <p:cNvPicPr/>
          <p:nvPr/>
        </p:nvPicPr>
        <p:blipFill>
          <a:blip r:embed="rId5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9" descr="b13"/>
          <p:cNvPicPr/>
          <p:nvPr/>
        </p:nvPicPr>
        <p:blipFill>
          <a:blip r:embed="rId6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20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1"/>
          <p:cNvSpPr/>
          <p:nvPr/>
        </p:nvSpPr>
        <p:spPr>
          <a:xfrm>
            <a:off x="5508720" y="2781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2" descr="B_Fly31"/>
          <p:cNvPicPr/>
          <p:nvPr/>
        </p:nvPicPr>
        <p:blipFill>
          <a:blip r:embed="rId7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3" descr="B_Fly21"/>
          <p:cNvPicPr/>
          <p:nvPr/>
        </p:nvPicPr>
        <p:blipFill>
          <a:blip r:embed="rId8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4" descr="B_Fly14"/>
          <p:cNvPicPr/>
          <p:nvPr/>
        </p:nvPicPr>
        <p:blipFill>
          <a:blip r:embed="rId9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5" descr="b11"/>
          <p:cNvPicPr/>
          <p:nvPr/>
        </p:nvPicPr>
        <p:blipFill>
          <a:blip r:embed="rId10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6" descr="b11"/>
          <p:cNvPicPr/>
          <p:nvPr/>
        </p:nvPicPr>
        <p:blipFill>
          <a:blip r:embed="rId11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27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8" descr=""/>
          <p:cNvPicPr/>
          <p:nvPr/>
        </p:nvPicPr>
        <p:blipFill>
          <a:blip r:embed="rId1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29">
            <a:hlinkClick r:id="rId13" action="ppaction://hlinksldjump"/>
          </p:cNvPr>
          <p:cNvSpPr/>
          <p:nvPr/>
        </p:nvSpPr>
        <p:spPr>
          <a:xfrm>
            <a:off x="8244000" y="630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3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0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201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3" nodeType="afterEffect" fill="hold" presetClass="path" presetID="4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204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30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1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3000"/>
                            </p:stCondLst>
                            <p:childTnLst>
                              <p:par>
                                <p:cTn id="225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0"/>
                            </p:stCondLst>
                            <p:childTnLst>
                              <p:par>
                                <p:cTn id="230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2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7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8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9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4000"/>
                            </p:stCondLst>
                            <p:childTnLst>
                              <p:par>
                                <p:cTn id="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5000"/>
                            </p:stCondLst>
                            <p:childTnLst>
                              <p:par>
                                <p:cTn id="2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7000"/>
                            </p:stCondLst>
                            <p:childTnLst>
                              <p:par>
                                <p:cTn id="270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271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1000"/>
                            </p:stCondLst>
                            <p:childTnLst>
                              <p:par>
                                <p:cTn id="2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8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279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7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8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Содержимое 2"/>
          <p:cNvSpPr/>
          <p:nvPr/>
        </p:nvSpPr>
        <p:spPr>
          <a:xfrm>
            <a:off x="928800" y="1357200"/>
            <a:ext cx="72579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468360" y="333360"/>
            <a:ext cx="828036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я:  1. Вставить в предложениях подходящие по смыслу глаг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Подчеркнуть подлежащее и сказуемое, указать, какими частями речи они выражены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итрая лиса живёт в лесу. Вчера она … на зайцев. А завтра плутовка … к реке и … уток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2" descr="Живой уголок. Лисицы (62 фото)"/>
          <p:cNvPicPr/>
          <p:nvPr/>
        </p:nvPicPr>
        <p:blipFill>
          <a:blip r:embed="rId1"/>
          <a:stretch/>
        </p:blipFill>
        <p:spPr>
          <a:xfrm>
            <a:off x="4786200" y="4432320"/>
            <a:ext cx="324036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696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3300"/>
                </a:solidFill>
                <a:latin typeface="Calibri"/>
              </a:rPr>
              <a:t>Проверь себя и оцени: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19120" y="140004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11280" y="1844640"/>
            <a:ext cx="820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Хитрая лиса живёт в лесу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2 бал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269080" y="15573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3564000" y="155736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735120" y="2911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826920" y="3132000"/>
            <a:ext cx="82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чера она охотилась на зайцев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1 + 2 б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4"/>
          <p:cNvSpPr/>
          <p:nvPr/>
        </p:nvSpPr>
        <p:spPr>
          <a:xfrm>
            <a:off x="2124000" y="2421000"/>
            <a:ext cx="107964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5"/>
          <p:cNvSpPr/>
          <p:nvPr/>
        </p:nvSpPr>
        <p:spPr>
          <a:xfrm>
            <a:off x="3419640" y="2421000"/>
            <a:ext cx="100800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6"/>
          <p:cNvSpPr/>
          <p:nvPr/>
        </p:nvSpPr>
        <p:spPr>
          <a:xfrm>
            <a:off x="3419640" y="2565360"/>
            <a:ext cx="100800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7"/>
          <p:cNvSpPr/>
          <p:nvPr/>
        </p:nvSpPr>
        <p:spPr>
          <a:xfrm>
            <a:off x="2268360" y="3645000"/>
            <a:ext cx="71928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2196000" y="285264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0"/>
          <p:cNvSpPr/>
          <p:nvPr/>
        </p:nvSpPr>
        <p:spPr>
          <a:xfrm>
            <a:off x="3132000" y="3716280"/>
            <a:ext cx="201636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"/>
          <p:cNvSpPr/>
          <p:nvPr/>
        </p:nvSpPr>
        <p:spPr>
          <a:xfrm>
            <a:off x="3132000" y="3860640"/>
            <a:ext cx="19447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3924360" y="285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3"/>
          <p:cNvSpPr/>
          <p:nvPr/>
        </p:nvSpPr>
        <p:spPr>
          <a:xfrm>
            <a:off x="975240" y="4076640"/>
            <a:ext cx="706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 завтра плутовка побежит к ре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и будет  ловить уток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2 + 3 балла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4"/>
          <p:cNvSpPr/>
          <p:nvPr/>
        </p:nvSpPr>
        <p:spPr>
          <a:xfrm>
            <a:off x="2843280" y="4581360"/>
            <a:ext cx="180000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5"/>
          <p:cNvSpPr/>
          <p:nvPr/>
        </p:nvSpPr>
        <p:spPr>
          <a:xfrm>
            <a:off x="3564720" y="37893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6"/>
          <p:cNvSpPr/>
          <p:nvPr/>
        </p:nvSpPr>
        <p:spPr>
          <a:xfrm>
            <a:off x="4788000" y="4581360"/>
            <a:ext cx="165564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7"/>
          <p:cNvSpPr/>
          <p:nvPr/>
        </p:nvSpPr>
        <p:spPr>
          <a:xfrm>
            <a:off x="4788000" y="4724280"/>
            <a:ext cx="17287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8"/>
          <p:cNvSpPr/>
          <p:nvPr/>
        </p:nvSpPr>
        <p:spPr>
          <a:xfrm>
            <a:off x="5056920" y="380844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9"/>
          <p:cNvSpPr/>
          <p:nvPr/>
        </p:nvSpPr>
        <p:spPr>
          <a:xfrm>
            <a:off x="1547640" y="5229360"/>
            <a:ext cx="25927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0"/>
          <p:cNvSpPr/>
          <p:nvPr/>
        </p:nvSpPr>
        <p:spPr>
          <a:xfrm>
            <a:off x="1547640" y="5373720"/>
            <a:ext cx="266400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1"/>
          <p:cNvSpPr/>
          <p:nvPr/>
        </p:nvSpPr>
        <p:spPr>
          <a:xfrm>
            <a:off x="3327480" y="4280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2"/>
          <p:cNvSpPr/>
          <p:nvPr/>
        </p:nvSpPr>
        <p:spPr>
          <a:xfrm>
            <a:off x="3277440" y="443700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324000" y="1197000"/>
            <a:ext cx="85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оцен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каждый верно вписанный глагол – 1 балл (максимально м.б. 3 балл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верное выделение подлежащего и сказуемого в 1 и 2 предложениях по 2 балла, в 3 предложении – 3 балла (максимально м.б. 7 балл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1"/>
          <p:cNvSpPr/>
          <p:nvPr/>
        </p:nvSpPr>
        <p:spPr>
          <a:xfrm>
            <a:off x="250920" y="155736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да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казать названные виды глаголов с помощью логической схем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3 балла)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йти место глаголам из предложений в логической схем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4 балла)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B_Fly16"/>
          <p:cNvPicPr/>
          <p:nvPr/>
        </p:nvPicPr>
        <p:blipFill>
          <a:blip r:embed="rId1"/>
          <a:stretch/>
        </p:blipFill>
        <p:spPr>
          <a:xfrm rot="2876400">
            <a:off x="-320040" y="4296240"/>
            <a:ext cx="2881440" cy="2241720"/>
          </a:xfrm>
          <a:prstGeom prst="rect">
            <a:avLst/>
          </a:prstGeom>
          <a:ln w="0">
            <a:noFill/>
          </a:ln>
        </p:spPr>
      </p:pic>
      <p:sp>
        <p:nvSpPr>
          <p:cNvPr id="283" name="Содержимое 2"/>
          <p:cNvSpPr/>
          <p:nvPr/>
        </p:nvSpPr>
        <p:spPr>
          <a:xfrm>
            <a:off x="900000" y="1341360"/>
            <a:ext cx="725832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Прямая со стрелкой 7"/>
          <p:cNvCxnSpPr/>
          <p:nvPr/>
        </p:nvCxnSpPr>
        <p:spPr>
          <a:xfrm flipH="1">
            <a:off x="4357440" y="1428480"/>
            <a:ext cx="2160" cy="786600"/>
          </a:xfrm>
          <a:prstGeom prst="straightConnector1">
            <a:avLst/>
          </a:prstGeom>
          <a:ln w="255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5" name="Прямая со стрелкой 12"/>
          <p:cNvCxnSpPr/>
          <p:nvPr/>
        </p:nvCxnSpPr>
        <p:spPr>
          <a:xfrm>
            <a:off x="4357800" y="1428480"/>
            <a:ext cx="2715120" cy="572040"/>
          </a:xfrm>
          <a:prstGeom prst="straightConnector1">
            <a:avLst/>
          </a:prstGeom>
          <a:ln w="255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86" name="TextBox 13"/>
          <p:cNvSpPr/>
          <p:nvPr/>
        </p:nvSpPr>
        <p:spPr>
          <a:xfrm>
            <a:off x="900000" y="32130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хоти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4"/>
          <p:cNvSpPr/>
          <p:nvPr/>
        </p:nvSpPr>
        <p:spPr>
          <a:xfrm>
            <a:off x="3708360" y="32130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жив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5"/>
          <p:cNvSpPr/>
          <p:nvPr/>
        </p:nvSpPr>
        <p:spPr>
          <a:xfrm>
            <a:off x="6286680" y="321300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беж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6"/>
          <p:cNvSpPr/>
          <p:nvPr/>
        </p:nvSpPr>
        <p:spPr>
          <a:xfrm>
            <a:off x="6227640" y="3789360"/>
            <a:ext cx="26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Arial"/>
              </a:rPr>
              <a:t>будет ло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3276720" y="476280"/>
            <a:ext cx="215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Глаг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Прямая со стрелкой 5"/>
          <p:cNvCxnSpPr/>
          <p:nvPr/>
        </p:nvCxnSpPr>
        <p:spPr>
          <a:xfrm flipH="1">
            <a:off x="1928160" y="1428840"/>
            <a:ext cx="2429640" cy="6433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92" name="Text Box 16"/>
          <p:cNvSpPr/>
          <p:nvPr/>
        </p:nvSpPr>
        <p:spPr>
          <a:xfrm>
            <a:off x="973080" y="2133720"/>
            <a:ext cx="21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Гл. п.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3493800" y="2133720"/>
            <a:ext cx="21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Гл. н.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6496920" y="2048040"/>
            <a:ext cx="216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Гл. б.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1"/>
          <p:cNvSpPr/>
          <p:nvPr/>
        </p:nvSpPr>
        <p:spPr>
          <a:xfrm>
            <a:off x="0" y="155736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оцен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но построена логическая схема – 3 балла; если допущена ошибка в расположении понятий или стрелок – 1 бал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но определено место глаголов в логической схеме – по 1 баллу за кажд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4 балл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B_Fly16"/>
          <p:cNvPicPr/>
          <p:nvPr/>
        </p:nvPicPr>
        <p:blipFill>
          <a:blip r:embed="rId1"/>
          <a:stretch/>
        </p:blipFill>
        <p:spPr>
          <a:xfrm rot="2876400">
            <a:off x="-320040" y="4296240"/>
            <a:ext cx="2881440" cy="2241720"/>
          </a:xfrm>
          <a:prstGeom prst="rect">
            <a:avLst/>
          </a:prstGeom>
          <a:ln w="0">
            <a:noFill/>
          </a:ln>
        </p:spPr>
      </p:pic>
      <p:sp>
        <p:nvSpPr>
          <p:cNvPr id="297" name="Содержимое 2"/>
          <p:cNvSpPr/>
          <p:nvPr/>
        </p:nvSpPr>
        <p:spPr>
          <a:xfrm>
            <a:off x="900000" y="1341360"/>
            <a:ext cx="725832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Прямая со стрелкой 7"/>
          <p:cNvCxnSpPr/>
          <p:nvPr/>
        </p:nvCxnSpPr>
        <p:spPr>
          <a:xfrm flipH="1">
            <a:off x="4357440" y="1428480"/>
            <a:ext cx="2160" cy="786600"/>
          </a:xfrm>
          <a:prstGeom prst="straightConnector1">
            <a:avLst/>
          </a:prstGeom>
          <a:ln w="255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9" name="Прямая со стрелкой 12"/>
          <p:cNvCxnSpPr/>
          <p:nvPr/>
        </p:nvCxnSpPr>
        <p:spPr>
          <a:xfrm>
            <a:off x="4357800" y="1428480"/>
            <a:ext cx="2715120" cy="572040"/>
          </a:xfrm>
          <a:prstGeom prst="straightConnector1">
            <a:avLst/>
          </a:prstGeom>
          <a:ln w="255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00" name="TextBox 13"/>
          <p:cNvSpPr/>
          <p:nvPr/>
        </p:nvSpPr>
        <p:spPr>
          <a:xfrm>
            <a:off x="900000" y="32130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хоти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3708360" y="32130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жив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6286680" y="321300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беж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6227640" y="3789360"/>
            <a:ext cx="26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Arial"/>
              </a:rPr>
              <a:t>будет ло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3276720" y="476280"/>
            <a:ext cx="215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Глаг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Прямая со стрелкой 5"/>
          <p:cNvCxnSpPr/>
          <p:nvPr/>
        </p:nvCxnSpPr>
        <p:spPr>
          <a:xfrm flipH="1">
            <a:off x="1928160" y="1428840"/>
            <a:ext cx="2429640" cy="6433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06" name="Text Box 16"/>
          <p:cNvSpPr/>
          <p:nvPr/>
        </p:nvSpPr>
        <p:spPr>
          <a:xfrm>
            <a:off x="973080" y="2133720"/>
            <a:ext cx="21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Гл. п.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3493800" y="2133720"/>
            <a:ext cx="21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Гл. н.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6496920" y="2048040"/>
            <a:ext cx="216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Гл. б.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7"/>
          <p:cNvSpPr/>
          <p:nvPr/>
        </p:nvSpPr>
        <p:spPr>
          <a:xfrm>
            <a:off x="2411280" y="530064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формулировать вопросы-суждения к логической схе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"/>
          <p:cNvSpPr/>
          <p:nvPr/>
        </p:nvSpPr>
        <p:spPr>
          <a:xfrm>
            <a:off x="324000" y="1268280"/>
            <a:ext cx="806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оказать, что  слово «охотилась» является глагол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бъяснить, что глагол «живёт» относится к глаголам настоящего време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м образом глагол «охотилась»  отличается от глагола «побежит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775836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Задание: найти лишнее слово и обосновать свой выбор.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5900" spc="-1" strike="noStrike">
                <a:solidFill>
                  <a:srgbClr val="7030a0"/>
                </a:solidFill>
                <a:latin typeface="Calibri"/>
              </a:rPr>
              <a:t>Берёза, полянка, сверкать, дождинка.</a:t>
            </a:r>
            <a:br>
              <a:rPr sz="4300"/>
            </a:br>
            <a:endParaRPr b="0" lang="en-US" sz="5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4" descr="B_Fly16"/>
          <p:cNvPicPr/>
          <p:nvPr/>
        </p:nvPicPr>
        <p:blipFill>
          <a:blip r:embed="rId1"/>
          <a:stretch/>
        </p:blipFill>
        <p:spPr>
          <a:xfrm rot="2876400">
            <a:off x="-286560" y="4485240"/>
            <a:ext cx="2881440" cy="22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B_Fly16"/>
          <p:cNvPicPr/>
          <p:nvPr/>
        </p:nvPicPr>
        <p:blipFill>
          <a:blip r:embed="rId1"/>
          <a:stretch/>
        </p:blipFill>
        <p:spPr>
          <a:xfrm rot="2876400">
            <a:off x="-320040" y="4296240"/>
            <a:ext cx="2881440" cy="2241720"/>
          </a:xfrm>
          <a:prstGeom prst="rect">
            <a:avLst/>
          </a:prstGeom>
          <a:ln w="0">
            <a:noFill/>
          </a:ln>
        </p:spPr>
      </p:pic>
      <p:sp>
        <p:nvSpPr>
          <p:cNvPr id="312" name="Содержимое 2"/>
          <p:cNvSpPr/>
          <p:nvPr/>
        </p:nvSpPr>
        <p:spPr>
          <a:xfrm>
            <a:off x="900000" y="1341360"/>
            <a:ext cx="725832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Прямая со стрелкой 7"/>
          <p:cNvCxnSpPr/>
          <p:nvPr/>
        </p:nvCxnSpPr>
        <p:spPr>
          <a:xfrm flipH="1">
            <a:off x="4357440" y="1428480"/>
            <a:ext cx="2160" cy="786600"/>
          </a:xfrm>
          <a:prstGeom prst="straightConnector1">
            <a:avLst/>
          </a:prstGeom>
          <a:ln w="255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4" name="Прямая со стрелкой 12"/>
          <p:cNvCxnSpPr/>
          <p:nvPr/>
        </p:nvCxnSpPr>
        <p:spPr>
          <a:xfrm>
            <a:off x="4357800" y="1428480"/>
            <a:ext cx="2715120" cy="572040"/>
          </a:xfrm>
          <a:prstGeom prst="straightConnector1">
            <a:avLst/>
          </a:prstGeom>
          <a:ln w="255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15" name="TextBox 13"/>
          <p:cNvSpPr/>
          <p:nvPr/>
        </p:nvSpPr>
        <p:spPr>
          <a:xfrm>
            <a:off x="900000" y="393372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хоти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4"/>
          <p:cNvSpPr/>
          <p:nvPr/>
        </p:nvSpPr>
        <p:spPr>
          <a:xfrm>
            <a:off x="3708360" y="378936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жив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5"/>
          <p:cNvSpPr/>
          <p:nvPr/>
        </p:nvSpPr>
        <p:spPr>
          <a:xfrm>
            <a:off x="6286680" y="378936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беж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6"/>
          <p:cNvSpPr/>
          <p:nvPr/>
        </p:nvSpPr>
        <p:spPr>
          <a:xfrm>
            <a:off x="6227640" y="4365720"/>
            <a:ext cx="26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Arial"/>
              </a:rPr>
              <a:t>будет ло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3276720" y="476280"/>
            <a:ext cx="215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Глаг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Прямая со стрелкой 5"/>
          <p:cNvCxnSpPr/>
          <p:nvPr/>
        </p:nvCxnSpPr>
        <p:spPr>
          <a:xfrm flipH="1">
            <a:off x="1928160" y="1428840"/>
            <a:ext cx="2429640" cy="6433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21" name="Text Box 16"/>
          <p:cNvSpPr/>
          <p:nvPr/>
        </p:nvSpPr>
        <p:spPr>
          <a:xfrm>
            <a:off x="973080" y="2133720"/>
            <a:ext cx="21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Гл. п.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7"/>
          <p:cNvSpPr/>
          <p:nvPr/>
        </p:nvSpPr>
        <p:spPr>
          <a:xfrm>
            <a:off x="3493800" y="2133720"/>
            <a:ext cx="21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Гл. н.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8"/>
          <p:cNvSpPr/>
          <p:nvPr/>
        </p:nvSpPr>
        <p:spPr>
          <a:xfrm>
            <a:off x="6496920" y="2048040"/>
            <a:ext cx="216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Гл. б.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9"/>
          <p:cNvSpPr/>
          <p:nvPr/>
        </p:nvSpPr>
        <p:spPr>
          <a:xfrm>
            <a:off x="973800" y="2997360"/>
            <a:ext cx="22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дела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сдела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3544920" y="301608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дел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1"/>
          <p:cNvSpPr/>
          <p:nvPr/>
        </p:nvSpPr>
        <p:spPr>
          <a:xfrm>
            <a:off x="6122520" y="292428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сдел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будет 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18"/>
          <p:cNvSpPr/>
          <p:nvPr/>
        </p:nvSpPr>
        <p:spPr>
          <a:xfrm>
            <a:off x="0" y="5261040"/>
            <a:ext cx="9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1919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ff1919"/>
                </a:solidFill>
                <a:latin typeface="Times New Roman"/>
                <a:ea typeface="Times New Roman"/>
              </a:rPr>
              <a:t>-Ответить на вопрос в форме умозаклю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43080" y="1356840"/>
            <a:ext cx="485784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Заявка на оценку:</a:t>
            </a:r>
            <a:br>
              <a:rPr sz="48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71400" y="2500200"/>
            <a:ext cx="5715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onstantia"/>
              </a:rPr>
              <a:t>«5»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i="1" lang="ru-RU" sz="3600" spc="-1" strike="noStrike">
                <a:solidFill>
                  <a:srgbClr val="002060"/>
                </a:solidFill>
                <a:latin typeface="Constantia"/>
              </a:rPr>
              <a:t>  22  балла и больш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onstantia"/>
              </a:rPr>
              <a:t>«4»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i="1" lang="ru-RU" sz="3600" spc="-1" strike="noStrike">
                <a:solidFill>
                  <a:srgbClr val="002060"/>
                </a:solidFill>
                <a:latin typeface="Constantia"/>
              </a:rPr>
              <a:t>  17 - 21 баллов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onstantia"/>
              </a:rPr>
              <a:t>«3»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i="1" lang="ru-RU" sz="3600" spc="-1" strike="noStrike">
                <a:solidFill>
                  <a:srgbClr val="002060"/>
                </a:solidFill>
                <a:latin typeface="Constantia"/>
              </a:rPr>
              <a:t> 13 - 16   баллов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0" name="Picture 4" descr="B_Fly16"/>
          <p:cNvPicPr/>
          <p:nvPr/>
        </p:nvPicPr>
        <p:blipFill>
          <a:blip r:embed="rId1"/>
          <a:stretch/>
        </p:blipFill>
        <p:spPr>
          <a:xfrm rot="2876400">
            <a:off x="-358200" y="4485240"/>
            <a:ext cx="2881440" cy="22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4"/>
          <p:cNvSpPr txBox="1"/>
          <p:nvPr/>
        </p:nvSpPr>
        <p:spPr>
          <a:xfrm>
            <a:off x="714240" y="785880"/>
            <a:ext cx="5857920" cy="40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0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ок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32" name="Picture 4" descr="011"/>
          <p:cNvPicPr/>
          <p:nvPr/>
        </p:nvPicPr>
        <p:blipFill>
          <a:blip r:embed="rId1"/>
          <a:stretch/>
        </p:blipFill>
        <p:spPr>
          <a:xfrm>
            <a:off x="5400720" y="4143240"/>
            <a:ext cx="3743280" cy="2217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5" descr="s13"/>
          <p:cNvPicPr/>
          <p:nvPr/>
        </p:nvPicPr>
        <p:blipFill>
          <a:blip r:embed="rId2"/>
          <a:stretch/>
        </p:blipFill>
        <p:spPr>
          <a:xfrm>
            <a:off x="5959440" y="500040"/>
            <a:ext cx="31845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1571760" y="1928880"/>
            <a:ext cx="55004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Глагол"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3000240" y="928800"/>
            <a:ext cx="400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B_Fly16"/>
          <p:cNvPicPr/>
          <p:nvPr/>
        </p:nvPicPr>
        <p:blipFill>
          <a:blip r:embed="rId1"/>
          <a:stretch/>
        </p:blipFill>
        <p:spPr>
          <a:xfrm rot="2876400">
            <a:off x="-215280" y="4342320"/>
            <a:ext cx="2881440" cy="2241720"/>
          </a:xfrm>
          <a:prstGeom prst="rect">
            <a:avLst/>
          </a:prstGeom>
          <a:ln w="0">
            <a:noFill/>
          </a:ln>
        </p:spPr>
      </p:pic>
      <p:sp>
        <p:nvSpPr>
          <p:cNvPr id="204" name="TextBox 4"/>
          <p:cNvSpPr/>
          <p:nvPr/>
        </p:nvSpPr>
        <p:spPr>
          <a:xfrm>
            <a:off x="2411280" y="5300640"/>
            <a:ext cx="67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ормулируйте цель урока и вопрос-понятие к теме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071720" y="1428480"/>
            <a:ext cx="75009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0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самостоятельная часть речи, которая отвечает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вопросы что делать?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сделать? что делает?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будет делать? что сделает?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обозначает действие предмета.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4" descr="B_Fly16"/>
          <p:cNvPicPr/>
          <p:nvPr/>
        </p:nvPicPr>
        <p:blipFill>
          <a:blip r:embed="rId1"/>
          <a:stretch/>
        </p:blipFill>
        <p:spPr>
          <a:xfrm rot="2876400">
            <a:off x="-286560" y="4485240"/>
            <a:ext cx="2881440" cy="22413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5"/>
          <p:cNvSpPr/>
          <p:nvPr/>
        </p:nvSpPr>
        <p:spPr>
          <a:xfrm>
            <a:off x="2194560" y="404640"/>
            <a:ext cx="424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507cf"/>
                </a:solidFill>
                <a:latin typeface="Arial"/>
              </a:rPr>
              <a:t>Проверь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B_Fly16"/>
          <p:cNvPicPr/>
          <p:nvPr/>
        </p:nvPicPr>
        <p:blipFill>
          <a:blip r:embed="rId1"/>
          <a:stretch/>
        </p:blipFill>
        <p:spPr>
          <a:xfrm rot="2876400">
            <a:off x="-358200" y="4485240"/>
            <a:ext cx="2881440" cy="2241720"/>
          </a:xfrm>
          <a:prstGeom prst="rect">
            <a:avLst/>
          </a:prstGeom>
          <a:ln w="0">
            <a:noFill/>
          </a:ln>
        </p:spPr>
      </p:pic>
      <p:sp>
        <p:nvSpPr>
          <p:cNvPr id="209" name="Содержимое 2"/>
          <p:cNvSpPr/>
          <p:nvPr/>
        </p:nvSpPr>
        <p:spPr>
          <a:xfrm>
            <a:off x="928800" y="1357200"/>
            <a:ext cx="72579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5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Понятие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 </a:t>
            </a:r>
            <a:r>
              <a:rPr b="0" lang="ru-RU" sz="5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родовой признак + видовые признак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B_Fly16"/>
          <p:cNvPicPr/>
          <p:nvPr/>
        </p:nvPicPr>
        <p:blipFill>
          <a:blip r:embed="rId1"/>
          <a:stretch/>
        </p:blipFill>
        <p:spPr>
          <a:xfrm rot="2876400">
            <a:off x="-320040" y="4296240"/>
            <a:ext cx="2881440" cy="22417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258920" y="285264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вечает на вопрос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 делать? что сдел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 будет делать? что делал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 сделал? и обозначает действие предме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901800" y="1557360"/>
            <a:ext cx="7041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Глагол —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1919"/>
                </a:solidFill>
                <a:latin typeface="Arial"/>
              </a:rPr>
              <a:t>самостоятельная часть реч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B_Fly16"/>
          <p:cNvPicPr/>
          <p:nvPr/>
        </p:nvPicPr>
        <p:blipFill>
          <a:blip r:embed="rId1"/>
          <a:stretch/>
        </p:blipFill>
        <p:spPr>
          <a:xfrm rot="2876400">
            <a:off x="-358200" y="4485240"/>
            <a:ext cx="2881440" cy="2241720"/>
          </a:xfrm>
          <a:prstGeom prst="rect">
            <a:avLst/>
          </a:prstGeom>
          <a:ln w="0">
            <a:noFill/>
          </a:ln>
        </p:spPr>
      </p:pic>
      <p:sp>
        <p:nvSpPr>
          <p:cNvPr id="214" name="Содержимое 2"/>
          <p:cNvSpPr/>
          <p:nvPr/>
        </p:nvSpPr>
        <p:spPr>
          <a:xfrm>
            <a:off x="928800" y="1357200"/>
            <a:ext cx="72579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"/>
          <p:cNvSpPr/>
          <p:nvPr/>
        </p:nvSpPr>
        <p:spPr>
          <a:xfrm>
            <a:off x="1071720" y="167400"/>
            <a:ext cx="742932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писать глаг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обавить два своих глаг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есёлый, поход, строить, лужок, петь, алый, игрушечный, праздник, игра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B_Fly16"/>
          <p:cNvPicPr/>
          <p:nvPr/>
        </p:nvPicPr>
        <p:blipFill>
          <a:blip r:embed="rId1"/>
          <a:stretch/>
        </p:blipFill>
        <p:spPr>
          <a:xfrm rot="2876400">
            <a:off x="-358200" y="4485240"/>
            <a:ext cx="2881440" cy="2241720"/>
          </a:xfrm>
          <a:prstGeom prst="rect">
            <a:avLst/>
          </a:prstGeom>
          <a:ln w="0">
            <a:noFill/>
          </a:ln>
        </p:spPr>
      </p:pic>
      <p:sp>
        <p:nvSpPr>
          <p:cNvPr id="217" name="Содержимое 2"/>
          <p:cNvSpPr/>
          <p:nvPr/>
        </p:nvSpPr>
        <p:spPr>
          <a:xfrm>
            <a:off x="900000" y="1268280"/>
            <a:ext cx="725832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"/>
          <p:cNvSpPr/>
          <p:nvPr/>
        </p:nvSpPr>
        <p:spPr>
          <a:xfrm>
            <a:off x="1071720" y="1199520"/>
            <a:ext cx="742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оить, петь, игра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468360" y="227664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ормулировать такой вопрос-суждение, ответ на который будет обоснованием правильности выполнения зад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258920" y="4437000"/>
            <a:ext cx="727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1919"/>
                </a:solidFill>
                <a:latin typeface="Times New Roman"/>
                <a:ea typeface="Times New Roman"/>
              </a:rPr>
              <a:t>-Ответить на вопрос в форме умозаключ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2124000" y="5950080"/>
            <a:ext cx="702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1919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324000" y="260280"/>
            <a:ext cx="8820000" cy="57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-умозаключ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речи, которая обозначает действие предмета и отвечает на вопросы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? что сделать?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глаголом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оить, петь, играть»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ют действие предмета и отвечают на вопрос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слова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оить, петь, играть»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глаголам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бал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2:09:28Z</dcterms:created>
  <dc:creator>Наталья</dc:creator>
  <dc:description/>
  <dc:language>en-US</dc:language>
  <cp:lastModifiedBy>User</cp:lastModifiedBy>
  <dcterms:modified xsi:type="dcterms:W3CDTF">2016-12-09T04:10:51Z</dcterms:modified>
  <cp:revision>68</cp:revision>
  <dc:subject/>
  <dc:title>Слитное и раздельное написание производных предлогов</dc:title>
</cp:coreProperties>
</file>