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32.png" ContentType="image/png"/>
  <Override PartName="/ppt/media/image17.jpeg" ContentType="image/jpeg"/>
  <Override PartName="/ppt/media/image9.png" ContentType="image/png"/>
  <Override PartName="/ppt/media/image38.jpeg" ContentType="image/jpeg"/>
  <Override PartName="/ppt/media/image7.jpeg" ContentType="image/jpeg"/>
  <Override PartName="/ppt/media/image34.jpeg" ContentType="image/jpeg"/>
  <Override PartName="/ppt/media/image18.png" ContentType="image/png"/>
  <Override PartName="/ppt/media/image28.jpeg" ContentType="image/jpeg"/>
  <Override PartName="/ppt/media/image11.png" ContentType="image/png"/>
  <Override PartName="/ppt/media/image46.png" ContentType="image/png"/>
  <Override PartName="/ppt/media/image37.jpeg" ContentType="image/jpe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44.jpeg" ContentType="image/jpeg"/>
  <Override PartName="/ppt/media/image45.png" ContentType="image/png"/>
  <Override PartName="/ppt/media/image20.png" ContentType="image/png"/>
  <Override PartName="/ppt/media/image36.jpeg" ContentType="image/jpeg"/>
  <Override PartName="/ppt/media/image6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0625-18A9-46D3-B04B-AE9449BA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F90-40EC-42DE-86F1-E305F738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024BA3-40A2-4054-86EB-89FB0BFD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B45DEB-BA8C-40F5-B11B-C080F7DA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9D15CA-8174-4555-8217-64346A55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DC8522-E64E-4134-995C-4B6B9B8F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80E04B-01F1-4149-AF15-A65D0337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BAC91E-9B1A-419F-84D2-7031424D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993CC7-17AD-455F-A4E2-BB71DA1D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F3DF44-5F52-4FA7-B9C0-7BE27FEC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2E1044-460C-44AF-9D89-B2BBFAF8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BDE0-188B-4BE7-9F41-E47FA783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9F0-75FB-42FD-B55E-6F295336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BCFB1-16D9-4ABC-83EA-E61062EB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EFE9E-69D6-488B-B639-378311D8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048C3-A77C-4165-AC38-815A06A6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686E9-92FC-4FAF-95D6-FF9E72E2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40C00-47EF-45CB-A4CA-9C793366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62AE1-BACE-4BFE-AB5D-63FB4F46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89FD8-C107-476F-AFFE-9C4C17EC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11CD-D610-4A31-B8DE-E9AEC5A7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AE132-4096-4487-A0D5-D9A3F457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03DA1-123B-4C8E-8607-B8E0C45A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F16EF-0275-486F-BF5D-5951487C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A0AC6-524E-48F3-9540-416B3582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25905-B228-4FF9-B935-F400864C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14382-A078-47B9-B041-5C0FA884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325C4-1E0D-4A60-AEEA-CD7F1C85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808F9-5C73-4D8F-8172-23724BBE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2C238-4588-4C38-980B-26B5B36D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99563-AB67-4C72-810F-FCF1C20B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59E-9BA8-4450-9787-3CD60CED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F4E95-10ED-4BE0-AC52-530F09B4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A4836-EDD0-4F50-BC19-9F212D4B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A745F-26DA-431B-A6E0-536B25F2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8E8DF-F1DC-4C60-B25C-0C58C635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A20EC-E0C4-4D84-A37B-8D01422F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ACCC1-81DA-4341-A748-287E26D9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D7D25-6DAE-4C77-9C9D-B1B6D3F6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0A42F1-B2B3-4FE8-9774-0F05BEB8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456811-E8F3-4742-8F1B-4C044406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4D921C-4968-40E3-B36F-B783C148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7207-4061-4D47-94F5-0DC2C80C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61A01F-B22A-4EE1-8802-6DBC8664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78CD54-1899-4731-A86F-BA4CA577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E3FFCD-C812-4E96-9ED5-2E4B1B75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B36FE7-2CC3-46AC-8CF1-25BA9699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02B1C6-6B11-4BAF-BEC1-E75ED83E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B93532-4743-463D-AD94-E05C3379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B2B73C-8608-478E-B0AD-88ADD9C2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76025E-F050-4601-87DE-B14D71B3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D2A878-649E-4214-88B5-24CCA4F6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C7BDC-3EB2-4CED-B093-2BD26972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1CF-C547-4A7C-9F26-D5A45CE9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63E33-CD6D-4965-A753-6BBD2CF2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78531-0DC7-4FC4-A14D-D20FD69A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0E0AD-3643-46D6-A08C-5EA92A16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500FA-3B07-422D-838A-E366D4E0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1B846-692E-4055-9FEE-306FEF2C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24C6D-2CE0-4F6D-8C3A-06E49AFB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C581C-D371-4967-AD86-F0A4869E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4DE9A-29B1-4C0B-916B-267ACE1A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3DAC1-AD0B-4579-A1AC-7505715D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04BFC-CF63-4F52-B69D-A30ED452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7288-69EF-4ADB-B459-BF681BCF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A50AB-DCAD-4488-BF8E-589C3E08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2A6D2-97EB-4FF7-AFE5-D4CBFD98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FB4AB-5D02-448B-A9B5-6EEAF581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B181E-173A-4C37-979F-41CE09B9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B455A-F3AE-44C1-A869-09D9DD4E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99940-60E4-45A9-9D3A-D27101AD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9FD4D-24C8-46F5-A8AB-FAAB9B26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326E7-0320-4BA5-B0B6-675335A7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559F7-CD2E-4D9B-9FF2-972326B3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0E4A3-A120-4248-BDD3-40DA88A6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1DBB-86E4-4BA3-AF48-329B408E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7411A-5644-4902-B0D0-A1C756ED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7816E-6655-4CB0-B285-E34F5CA8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73880-B1E7-4FDF-8ADA-F06EBF6E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ED128-AA0A-4562-9FFC-6F2D1BD8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85E06-9156-45A0-A960-F877DC4F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4E473-3C9A-4F09-A662-783F0698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53CB9-4467-4CAD-AC8A-15DCDCD5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2C1E5-4C3B-4CE0-9F19-F9B29AAF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14698-ED53-440A-A260-D2E0046A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B0673-01BB-4390-AE06-B15D14F4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F05B-F05C-439B-832D-18AF75E2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B0D3A-71D2-4E65-8DE5-8C3B5CE1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F1B50-5A1A-4D19-9C74-72DC3C66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56C2D-BA73-4049-9869-21CB2EA1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42984-49BC-4C7C-A084-2125C759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F6B96-3560-4F59-94C6-35334BDC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F7F087-983A-457F-9153-9588AD66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4414F6-8A00-4774-A46C-81181E6B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3325D5-DBA8-4A54-91C4-187D4D8E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EF7234-0B9A-4DB7-B816-A020648D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4C18FD-3793-4BBB-8992-F845BD4C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A4B1-6AD7-419D-8BA9-1BD1FA76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654435-ADC4-45AE-913F-5D8BFC8C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AFD4AB-92D5-412C-B26B-3AEF70A1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582C9C-92C2-4B73-A930-B7B94416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09451F-B910-451A-A67E-3D6D1B9B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7C0006-5C26-480B-AB09-2B7CAD69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357FF3-20C4-4CA2-A42F-2E1C1100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E478F8-D6F9-400C-95BF-21EFB6F7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94D60F-653C-4684-AC49-15C08CA5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C73472-49B3-40FF-BEE7-C0C5EE6E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B436A6-BAD1-41AE-8499-14553542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D5E5-704F-4A65-978B-CADE38CC9A0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DDCC-67EA-4C7E-885E-F9D3E350599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E434-649B-4A94-BCC6-49A2365E897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12EE-4A4C-47CC-8769-1BE3C5E7764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7D88-7CCB-42BE-9254-EF69BFADA70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5E15-106D-4379-BE6A-A44B11D4F85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17A1-8C0B-4B8B-A527-6AE35E19A71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CC1C-210E-4C8A-B979-5172C0C5182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D686-8762-49CD-A03D-3B38FDB3E4D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hyperlink" Target="http://modernlib.ru/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171360" y="1158840"/>
            <a:ext cx="4748400" cy="33638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3924360" y="4076280"/>
            <a:ext cx="4711680" cy="23050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Cambria"/>
              </a:rPr>
              <a:t>Составитель: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Cambria"/>
              </a:rPr>
              <a:t>воспитатель высшей категории МАДОУ «Детский  сад № 8 комбинированного  вида» г. Емвы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Cambria"/>
              </a:rPr>
              <a:t>                                              </a:t>
            </a:r>
            <a:r>
              <a:rPr b="0" lang="ru-RU" sz="2200" spc="-1" strike="noStrike">
                <a:solidFill>
                  <a:srgbClr val="0d0d0d"/>
                </a:solidFill>
                <a:latin typeface="Cambria"/>
              </a:rPr>
              <a:t>Гирушева  Ю.Г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059440" y="692280"/>
            <a:ext cx="3905280" cy="2881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890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solidFill>
            <a:srgbClr val="676451"/>
          </a:solidFill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зработка совместного ежедневного плана с детьми и родителями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отивация для детей: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 комнате потерявшаяся птичка. Не знает кто её мама. Не знает, как её зовут. Поможем птичке  узнать всё о её родителях и других крылатых жителях нашего края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2448000" cy="2143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C:\Users\Ксения\Desktop\фото к проекту\sinichki-u-kormushki (1).jpg"/>
          <p:cNvPicPr/>
          <p:nvPr/>
        </p:nvPicPr>
        <p:blipFill>
          <a:blip r:embed="rId3"/>
          <a:stretch/>
        </p:blipFill>
        <p:spPr>
          <a:xfrm>
            <a:off x="684360" y="3860640"/>
            <a:ext cx="3816360" cy="2521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0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9572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645920"/>
            <a:ext cx="8229600" cy="4662360"/>
          </a:xfrm>
          <a:prstGeom prst="rect">
            <a:avLst/>
          </a:prstGeom>
          <a:solidFill>
            <a:srgbClr val="676451"/>
          </a:solidFill>
          <a:ln w="0">
            <a:noFill/>
          </a:ln>
        </p:spPr>
        <p:txBody>
          <a:bodyPr anchor="t">
            <a:normAutofit fontScale="99000"/>
          </a:bodyPr>
          <a:p>
            <a:pPr marL="288720" indent="-28872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ОД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«Зимующие птицы нашего края»                        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ОД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Лесное путешествие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нсценировк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«Ждём весну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икторин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Что мы знаем о зимующих птицах»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еседы: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инице», «О снегире», «Какие разные птицы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идактические игры: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Найди одинаковых птичек», «Угадай по описанию», «Кто как голос подаёт?», «Птицы летите», «Кто что ест и где живёт?», «Большой - маленький», «Каких птиц у кормушки не увидишь?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Чтение: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Бианки «Синичкин календарь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тичья столовая» С. Михалков, «Берегите птиц» Г. Скребицкий,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негирь» А. Барто,  «Снегирь» В. Сибирцева, «Снегирь» А. Игнатова,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казка о синице»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8" name="Рисунок 12" descr="C:\Users\Ксения\Desktop\фото к проекту\1955194_original.jpg"/>
          <p:cNvPicPr/>
          <p:nvPr/>
        </p:nvPicPr>
        <p:blipFill>
          <a:blip r:embed="rId2"/>
          <a:stretch/>
        </p:blipFill>
        <p:spPr>
          <a:xfrm>
            <a:off x="6372360" y="1484280"/>
            <a:ext cx="2485800" cy="1425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3"/>
          <p:cNvSpPr/>
          <p:nvPr/>
        </p:nvSpPr>
        <p:spPr>
          <a:xfrm>
            <a:off x="611280" y="404640"/>
            <a:ext cx="7705800" cy="2838240"/>
          </a:xfrm>
          <a:prstGeom prst="rect">
            <a:avLst/>
          </a:prstGeom>
          <a:solidFill>
            <a:srgbClr val="6764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альчиковая игра 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«Птицы к дому подлетел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Физо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«Скачет шустрая синиц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сследовательская деятельност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ассматривание оперения птиц через лупу».Эксперимент: «Какое перо как летает и какие перья бывают». «Рассматривание различных видов корма для птиц». «Опыты с перьями в разной среде»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блюдения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снегирём, за синице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тицами прилетающими на кормушк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дами птиц на снегу.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Рисунок 7" descr="C:\Users\Ксения\Desktop\фото к проекту\DSC03580.JPG"/>
          <p:cNvPicPr/>
          <p:nvPr/>
        </p:nvPicPr>
        <p:blipFill>
          <a:blip r:embed="rId1"/>
          <a:stretch/>
        </p:blipFill>
        <p:spPr>
          <a:xfrm>
            <a:off x="250920" y="3284640"/>
            <a:ext cx="3443040" cy="258444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8" descr="C:\Users\Ксения\Desktop\фото к проекту\DSC03571.JPG"/>
          <p:cNvPicPr/>
          <p:nvPr/>
        </p:nvPicPr>
        <p:blipFill>
          <a:blip r:embed="rId2"/>
          <a:stretch/>
        </p:blipFill>
        <p:spPr>
          <a:xfrm>
            <a:off x="5364000" y="2421000"/>
            <a:ext cx="3472200" cy="260496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9" descr="C:\Users\Ксения\Desktop\фото к проекту\DSC03582.JPG"/>
          <p:cNvPicPr/>
          <p:nvPr/>
        </p:nvPicPr>
        <p:blipFill>
          <a:blip r:embed="rId3"/>
          <a:stretch/>
        </p:blipFill>
        <p:spPr>
          <a:xfrm>
            <a:off x="3564000" y="4941720"/>
            <a:ext cx="2278080" cy="1708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81144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457200" y="1646280"/>
            <a:ext cx="2674800" cy="4525920"/>
          </a:xfrm>
          <a:prstGeom prst="rect">
            <a:avLst/>
          </a:prstGeom>
          <a:solidFill>
            <a:srgbClr val="676451"/>
          </a:solidFill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ование «Снегири на ветках»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лективная работа «Птицы на дереве».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пка «Снегирь».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пка «Синица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чной труд «Птичка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лективная работа «Синицы на дереве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5" name="Содержимое 4" descr="C:\Users\Ксения\Desktop\фото к проекту\DSC03532.JPG"/>
          <p:cNvPicPr/>
          <p:nvPr/>
        </p:nvPicPr>
        <p:blipFill>
          <a:blip r:embed="rId2"/>
          <a:stretch/>
        </p:blipFill>
        <p:spPr>
          <a:xfrm>
            <a:off x="3419640" y="1484280"/>
            <a:ext cx="1738080" cy="143208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5" descr="C:\Users\Ксения\Desktop\фото к проекту\DSC03519.JPG"/>
          <p:cNvPicPr/>
          <p:nvPr/>
        </p:nvPicPr>
        <p:blipFill>
          <a:blip r:embed="rId3"/>
          <a:stretch/>
        </p:blipFill>
        <p:spPr>
          <a:xfrm>
            <a:off x="7093080" y="1557360"/>
            <a:ext cx="1901520" cy="161280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6" descr="C:\Users\Ксения\Desktop\фото к проекту\DSC03526.JPG"/>
          <p:cNvPicPr/>
          <p:nvPr/>
        </p:nvPicPr>
        <p:blipFill>
          <a:blip r:embed="rId4"/>
          <a:stretch/>
        </p:blipFill>
        <p:spPr>
          <a:xfrm>
            <a:off x="7093080" y="4292640"/>
            <a:ext cx="1842840" cy="216072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7" descr="C:\Users\Ксения\Desktop\фото к проекту\DSC03516.JPG"/>
          <p:cNvPicPr/>
          <p:nvPr/>
        </p:nvPicPr>
        <p:blipFill>
          <a:blip r:embed="rId5"/>
          <a:stretch/>
        </p:blipFill>
        <p:spPr>
          <a:xfrm>
            <a:off x="5219640" y="2781360"/>
            <a:ext cx="2082960" cy="156204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8" descr="C:\Users\Ксения\Desktop\фото к проекту\DSC03568.JPG"/>
          <p:cNvPicPr/>
          <p:nvPr/>
        </p:nvPicPr>
        <p:blipFill>
          <a:blip r:embed="rId6"/>
          <a:stretch/>
        </p:blipFill>
        <p:spPr>
          <a:xfrm>
            <a:off x="5508720" y="4581360"/>
            <a:ext cx="1542960" cy="205740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9" descr="C:\Users\Ксения\Desktop\фото к проекту\DSC03561.JPG"/>
          <p:cNvPicPr/>
          <p:nvPr/>
        </p:nvPicPr>
        <p:blipFill>
          <a:blip r:embed="rId7"/>
          <a:stretch/>
        </p:blipFill>
        <p:spPr>
          <a:xfrm>
            <a:off x="3276720" y="5229360"/>
            <a:ext cx="1911240" cy="14349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C:\Users\Ксения\Desktop\проект\фото проекта бумага\15784.jpg"/>
          <p:cNvPicPr/>
          <p:nvPr/>
        </p:nvPicPr>
        <p:blipFill>
          <a:blip r:embed="rId8"/>
          <a:stretch/>
        </p:blipFill>
        <p:spPr>
          <a:xfrm>
            <a:off x="3132000" y="3645000"/>
            <a:ext cx="2213280" cy="126180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11" descr="C:\Users\Ксения\Desktop\проект\фото проекта бумага\17932.jpg"/>
          <p:cNvPicPr/>
          <p:nvPr/>
        </p:nvPicPr>
        <p:blipFill>
          <a:blip r:embed="rId9"/>
          <a:stretch/>
        </p:blipFill>
        <p:spPr>
          <a:xfrm>
            <a:off x="5364000" y="1700280"/>
            <a:ext cx="1656000" cy="1081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8845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solidFill>
            <a:srgbClr val="676451"/>
          </a:solidFill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еда о сборе материала для проекта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курс «Лучшая кормушка».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ешивание кормушек на территории детского сада и площадки группы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тавки детских работ в рамках проекта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бор корма для птиц в течении зимних месяцев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5" name="Picture 5" descr="C:\Users\Ксения\Desktop\фото к проекту\DSC03563.JPG"/>
          <p:cNvPicPr/>
          <p:nvPr/>
        </p:nvPicPr>
        <p:blipFill>
          <a:blip r:embed="rId2"/>
          <a:stretch/>
        </p:blipFill>
        <p:spPr>
          <a:xfrm>
            <a:off x="4648320" y="23954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8114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solidFill>
            <a:srgbClr val="676451"/>
          </a:solidFill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ыставки творческих работ в рамках проекта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оздание альбома «Синицы и снегири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дведение итогов конкурса для родителей « Самая лучшая кормушка для птиц»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икторина «Что мы знаем о птицах?»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езентация  проекта для педагогов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8" name="Picture 5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43923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81144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solidFill>
            <a:srgbClr val="676451"/>
          </a:solidFill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У детей сформированы представления о зимующих птицах Коми края ( снегирях и синицах)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оявился интерес к поисково - познавательной деятельности, в процессе проведения элементарных  экспериментов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овысился уровень мотивации детей по развитию познавательной сферы ( в разделе -экология)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Обогатился словарный  запас, усовершенствовалась диалогическая и монологическая речь. 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Повысилось качество изобразительной деятельности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Сформировалось стремление к защите и сохранению живой природы родного края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81144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solidFill>
            <a:srgbClr val="676451"/>
          </a:solidFill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Бондаренко Т.М. «Экологическое воспитание 5-6 лет»: Практическое пособие для старших воспитателей и педагогов ДОУ, родителей, гувернеров.-Воронеж: ИП Лакоценина Н.А.,2012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Кастрыкина В.Н. Организация деятельности на прогулке. Средняя группа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гоград 2012г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Кокуева Л. В. Воспитание дошкольников через приобщение к природе. – М.:  АРКТИ, 2005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Николаева С. Н. Юный эколог. Программа экологического воспитания в детском саду// </a:t>
            </a:r>
            <a:r>
              <a:rPr b="0" lang="ru-RU" sz="1600" spc="-1" strike="noStrike" u="sng">
                <a:solidFill>
                  <a:srgbClr val="db5353"/>
                </a:solidFill>
                <a:uFillTx/>
                <a:latin typeface="Times New Roman"/>
                <a:ea typeface="Times New Roman"/>
                <a:hlinkClick r:id="rId2"/>
              </a:rPr>
              <a:t>http://modernlib.ru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Николаева С.Н. Воспитание экологической культуры в дошкольном детстве. Новая школа- Москва 1995г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Вераксы Н.Е, Т. С. Комарова, М. А. Васильева. Программа воспитания и обучения в детском саду «От рождения до школы» Москва: Мозаика-Синтез, 2014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Соломенникова О. Занятия по формированию элементарных экологических представлений во второй младшей группе детского сада. – М.: мозаика-Синтез, 2013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ХабароваТ.В. «Экологические проекты в ДОУ»   КРИРОиПК 2004г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нет – ресурс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фото птиц, стихи, сказки, материал для альбома)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4" descr=""/>
          <p:cNvPicPr/>
          <p:nvPr/>
        </p:nvPicPr>
        <p:blipFill>
          <a:blip r:embed="rId1"/>
          <a:stretch/>
        </p:blipFill>
        <p:spPr>
          <a:xfrm>
            <a:off x="401760" y="237960"/>
            <a:ext cx="8278560" cy="10368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C:\Users\Ксения\Desktop\фото к проекту\DSC03571.JPG"/>
          <p:cNvPicPr/>
          <p:nvPr/>
        </p:nvPicPr>
        <p:blipFill>
          <a:blip r:embed="rId2"/>
          <a:stretch/>
        </p:blipFill>
        <p:spPr>
          <a:xfrm>
            <a:off x="457200" y="1773360"/>
            <a:ext cx="4038480" cy="30956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:\Users\Ксения\Desktop\фото к проекту\IMG_0258.JPG"/>
          <p:cNvPicPr/>
          <p:nvPr/>
        </p:nvPicPr>
        <p:blipFill>
          <a:blip r:embed="rId3"/>
          <a:stretch/>
        </p:blipFill>
        <p:spPr>
          <a:xfrm>
            <a:off x="4648320" y="3284640"/>
            <a:ext cx="4038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4" descr=""/>
          <p:cNvPicPr/>
          <p:nvPr/>
        </p:nvPicPr>
        <p:blipFill>
          <a:blip r:embed="rId1"/>
          <a:stretch/>
        </p:blipFill>
        <p:spPr>
          <a:xfrm>
            <a:off x="438120" y="249120"/>
            <a:ext cx="8377200" cy="1171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solidFill>
            <a:srgbClr val="676451"/>
          </a:solidFill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ерево вопросов: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мы знаем о зимующих птицах нашего края?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мы хотим узнать о птицах?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нам нужно для этого сделать?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жна ли зимой помощь птицам?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помочь пернатым друзьям в холодное время года?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2" name="Picture 3" descr="C:\Users\Ксения\Desktop\фото к проекту\273be30f7e90.jpg"/>
          <p:cNvPicPr/>
          <p:nvPr/>
        </p:nvPicPr>
        <p:blipFill>
          <a:blip r:embed="rId2"/>
          <a:stretch/>
        </p:blipFill>
        <p:spPr>
          <a:xfrm>
            <a:off x="4648320" y="1662120"/>
            <a:ext cx="403848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8845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Формирование представлений дошкольников о зимующих птицах, их жизнедеятельности, о взаимосвязи птиц и людей.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4788000" y="4005360"/>
            <a:ext cx="3395520" cy="251784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9" descr="C:\Users\Ксения\Desktop\фото к проекту\203170.jpg"/>
          <p:cNvPicPr/>
          <p:nvPr/>
        </p:nvPicPr>
        <p:blipFill>
          <a:blip r:embed="rId3"/>
          <a:stretch/>
        </p:blipFill>
        <p:spPr>
          <a:xfrm>
            <a:off x="611280" y="3213000"/>
            <a:ext cx="403200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9572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780000" y="1646280"/>
            <a:ext cx="4906800" cy="4525920"/>
          </a:xfrm>
          <a:prstGeom prst="rect">
            <a:avLst/>
          </a:prstGeom>
          <a:solidFill>
            <a:srgbClr val="676451"/>
          </a:solidFill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 «Познавательное развитие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Формировать способности выявлять причинно – следственные связи и закономерности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Развивать предпосылки поисковой деятельности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Развивать интеллектуальную активность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 «Художественно – эстетическое развитие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звивать художественно- творческие способности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Развивать эмоциональную восприимчивость к красоте родного края и его крылатых обитателях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buClr>
                <a:srgbClr val="72a376"/>
              </a:buClr>
              <a:buSzPct val="70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Picture 4" descr="C:\Users\Ксения\Desktop\фото к проекту\12 (1).png"/>
          <p:cNvPicPr/>
          <p:nvPr/>
        </p:nvPicPr>
        <p:blipFill>
          <a:blip r:embed="rId2"/>
          <a:stretch/>
        </p:blipFill>
        <p:spPr>
          <a:xfrm>
            <a:off x="468360" y="2060640"/>
            <a:ext cx="316692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94920" y="549000"/>
            <a:ext cx="4537080" cy="5676840"/>
          </a:xfrm>
          <a:prstGeom prst="rect">
            <a:avLst/>
          </a:prstGeom>
          <a:solidFill>
            <a:srgbClr val="676451"/>
          </a:solidFill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О «Речевое развитие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гащать словарный запас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Развивать способность участвовать в беседе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троить предложения разной сложности, согласовывая слова в роде, числе, падеже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 «Социально – коммуникативное развитие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Формировать способность работать в микрогруппах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оздать условия для заинтересованности детей миром живой природы, конкретно – зимующими птицами Коми края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оспитывать активную жизненную позицию в целях сохранения живой природы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318960" indent="-318960">
              <a:lnSpc>
                <a:spcPct val="100000"/>
              </a:lnSpc>
              <a:buClr>
                <a:srgbClr val="72a37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1" name="Picture 6" descr="C:\Users\Ксения\Desktop\фото к проекту\2Po82qby1ZiDGJy.jpg"/>
          <p:cNvPicPr/>
          <p:nvPr/>
        </p:nvPicPr>
        <p:blipFill>
          <a:blip r:embed="rId1"/>
          <a:stretch/>
        </p:blipFill>
        <p:spPr>
          <a:xfrm>
            <a:off x="5364000" y="260280"/>
            <a:ext cx="3529080" cy="2448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8" descr="C:\Users\Ксения\Desktop\фото к проекту\dcbf0aa4-c7b2-4ae2-b45c-e73560ca6f60.jpg"/>
          <p:cNvPicPr/>
          <p:nvPr/>
        </p:nvPicPr>
        <p:blipFill>
          <a:blip r:embed="rId2"/>
          <a:stretch/>
        </p:blipFill>
        <p:spPr>
          <a:xfrm>
            <a:off x="5219640" y="2637000"/>
            <a:ext cx="3529080" cy="2390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8845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6840" y="1646280"/>
            <a:ext cx="4691160" cy="4525920"/>
          </a:xfrm>
          <a:prstGeom prst="rect">
            <a:avLst/>
          </a:prstGeom>
          <a:solidFill>
            <a:srgbClr val="676451"/>
          </a:solidFill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Формирование представлений о зимующих птицах Коми ( снегирях и синицах)</a:t>
            </a:r>
            <a:endParaRPr b="0" lang="en-US" sz="17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Развитие интереса к поисковой деятельности, в процессе проведения элементарных опытов.</a:t>
            </a:r>
            <a:endParaRPr b="0" lang="en-US" sz="17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овышение уровня мотивации детей по развитию познавательной сферы.</a:t>
            </a:r>
            <a:endParaRPr b="0" lang="en-US" sz="17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Формирования стремления защиты и сохранения живой природы родного края.</a:t>
            </a:r>
            <a:endParaRPr b="0" lang="en-US" sz="17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Обогащение словарного запаса, развитие способности вести содержательный диалог.</a:t>
            </a:r>
            <a:endParaRPr b="0" lang="en-US" sz="17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Повышение качества изобразительной деятельности.</a:t>
            </a:r>
            <a:endParaRPr b="0" lang="en-US" sz="17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творческой составляющей во взаимосвязи эстетического и художественного восприятия в творческой деятельности детей.</a:t>
            </a:r>
            <a:endParaRPr b="0" lang="en-US" sz="17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5" name="Picture 7" descr="C:\Users\Ксения\Desktop\фото к проекту\IMG_0258.JPG"/>
          <p:cNvPicPr/>
          <p:nvPr/>
        </p:nvPicPr>
        <p:blipFill>
          <a:blip r:embed="rId2"/>
          <a:stretch/>
        </p:blipFill>
        <p:spPr>
          <a:xfrm>
            <a:off x="4859280" y="2565360"/>
            <a:ext cx="41054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9572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solidFill>
            <a:srgbClr val="676451"/>
          </a:solidFill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удиозаписи голосов птиц в природе, запись музыки Чайковского «Времена года» «Зима». Иллюстрации и картины с изображением птиц. Энциклопедия: «Животный мир»,  материал к художественному  творчеству, материал к экспериментальной деятельности. Телевизор, плеер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8" name="Picture 5" descr="C:\Users\Ксения\Desktop\фото проекта\проект\101MSDCF\DSC03539.JPG"/>
          <p:cNvPicPr/>
          <p:nvPr/>
        </p:nvPicPr>
        <p:blipFill>
          <a:blip r:embed="rId2"/>
          <a:stretch/>
        </p:blipFill>
        <p:spPr>
          <a:xfrm>
            <a:off x="4648320" y="2276640"/>
            <a:ext cx="4171680" cy="2759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3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8845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6840" y="1646280"/>
            <a:ext cx="4475160" cy="4525920"/>
          </a:xfrm>
          <a:prstGeom prst="rect">
            <a:avLst/>
          </a:prstGeom>
          <a:solidFill>
            <a:srgbClr val="676451"/>
          </a:solidFill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marL="315720" indent="-31572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marL="315720" indent="-31572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бсуждение идеи  с детьми , родителями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315720" indent="-31572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дбор методической литературы по теме.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315720" indent="-31572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дбор художественной литературы  для чтения детям.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315720" indent="-31572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дбор дидактического материала, наглядных пособий (альбомы для рассматривания, картины, настольные игры, энциклопедии, материал для экспериментирования, материал для художественного творчества)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315720" indent="-31572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дбор презентаций для детей с помощью интернет- ресурсов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315720" indent="-31572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отивировка родителей на участие в проекте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1" name="Picture 4" descr="C:\Users\Ксения\Desktop\фото к проекту\applic_007 (2).jpg"/>
          <p:cNvPicPr/>
          <p:nvPr/>
        </p:nvPicPr>
        <p:blipFill>
          <a:blip r:embed="rId2"/>
          <a:stretch/>
        </p:blipFill>
        <p:spPr>
          <a:xfrm>
            <a:off x="5148360" y="1628640"/>
            <a:ext cx="3456000" cy="4824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08:30:56Z</dcterms:created>
  <dc:creator>allusers</dc:creator>
  <dc:description/>
  <dc:language>en-US</dc:language>
  <cp:lastModifiedBy>Ксения</cp:lastModifiedBy>
  <dcterms:modified xsi:type="dcterms:W3CDTF">2018-03-31T14:33:53Z</dcterms:modified>
  <cp:revision>115</cp:revision>
  <dc:subject/>
  <dc:title>Тема: наши пернатые друзья.</dc:title>
</cp:coreProperties>
</file>