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gif" ContentType="image/gif"/>
  <Override PartName="/ppt/media/image1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352-634A-4055-943D-56C42DF0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44E-4937-4F46-BB3A-5BAB349B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09B-574D-4153-99CA-5711A305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4AF-13C4-4CA7-ADED-D2DFAF10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D1BD-A2A8-4811-A1D3-4BBC5527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5749-9EE7-472B-926A-2AE504A5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E114-635D-4EE5-A953-23D0C2DE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452D-376C-4A13-8D03-51BD4CAB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937E-9743-4C43-B42F-41D98CFE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6482-476B-40D9-B639-23CBD9F1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7E3C-2ACD-4A98-9B16-736FCEF0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D07-63C1-4870-B7F0-D5F7A3C1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CE94-51D5-45C8-A210-539F3BA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EDF4-355E-4F48-9AFB-373E80D2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333-1971-4EC6-A335-D1FFC4FC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A9C4-B4EC-4AA5-A89B-973AD781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4011-FD9D-4335-A4AF-EFF82B88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2F7F3-E08C-433F-BCB1-4DD10F80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1D4A-D0F4-4694-B9A8-5C73FC4F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37BC-4EE6-4ABC-8E1A-704A4A9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276E-5216-4EB1-B93C-DD1DF148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7B50-558B-49F0-8F77-22D2FBF8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975-5B4F-4CBD-98E8-968128C7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BF32-F51F-4F95-9101-FF1D0CE4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DF68-51B8-4EE6-A5E9-53A81D62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D2A1-2D3C-4902-9F93-E524E7A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E1FF-B6EB-4705-9A4D-448ACA67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3548-8042-4896-A679-D3B6F3BB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8E4A-1781-4AB0-AB61-40D8C9C8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61B8-210C-4FED-A3B3-21A11D7A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898-92D3-4522-BC2F-88B1866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9AF-13EC-4B2B-982A-EE45E596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220-B217-4469-AC3E-130D40FA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D68-1554-4DD0-85F9-1B8F92E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035-6E62-4BD7-A25C-AC850FE2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2C2-8D8D-4549-A72E-68DD012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F7BF-8A8F-4C42-967B-599A18CCDFA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76BF-6A8B-4C09-9BB8-B5ED229FC2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E7B1-0649-4A83-87D6-0088259B37B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1DBD-3CC5-4A10-A3E9-D139DB2389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C9EA-6DC3-44ED-B2B1-C2314EE4573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AE0-394A-45E6-89A8-F9CF1A7CB2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psir.com/d/2007-5/Swan-164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xrest.ru/images/collection/00094/718/original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75;&#1088;&#1072;&#1094;&#1080;&#1103;_&#1087;&#1090;&#1080;&#1094;" TargetMode="External"/><Relationship Id="rId2" Type="http://schemas.openxmlformats.org/officeDocument/2006/relationships/hyperlink" Target="http://ru.wikipedia.org/wiki/&#1040;&#1092;&#1088;&#1080;&#1082;&#1072;" TargetMode="External"/><Relationship Id="rId3" Type="http://schemas.openxmlformats.org/officeDocument/2006/relationships/hyperlink" Target="http://s57.radikal.ru/i155/0905/e0/79ce1488190c.jpg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2007-02.photosight.ru/02/1902431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photo1.fotodia.ru/2006/11/22/44701_PJYyjr5xNS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lub.osinka.ru/files/ae_349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ukbap.org.uk/images/506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ture.doublea.ru/pix/vorobey106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artimho.flamber.ru/files/photos/1188229801/1188508496_f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drew-foto.narod.ru/top50x/dsc_577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chatte-noirez.narod.ru/lastochka_derevenskaja_00401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stihi.ru/pics/2009/01/22/2996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s48.radikal.ru/i120/0904/7e/6ad1f8ff1d4d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eti.religiousbook.org.ua/img/grach2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digicam.ru/images/news/rd4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s51.radikal.ru/i131/0810/13/d3eba461121a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102;&#1074;" TargetMode="External"/><Relationship Id="rId2" Type="http://schemas.openxmlformats.org/officeDocument/2006/relationships/hyperlink" Target="http://ru.wikipedia.org/wiki/&#1061;&#1074;&#1086;&#1089;&#1090;" TargetMode="External"/><Relationship Id="rId3" Type="http://schemas.openxmlformats.org/officeDocument/2006/relationships/hyperlink" Target="http://ru.wikipedia.org/wiki/&#1055;&#1077;&#1088;&#1086;" TargetMode="External"/><Relationship Id="rId4" Type="http://schemas.openxmlformats.org/officeDocument/2006/relationships/hyperlink" Target="http://upload.wikimedia.org/wikipedia/commons/thumb/7/7b/Common_starling_in_london.jpg/493px-Common_starling_in_london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book.uraic.ru/cms/pict.php?img=files/picture_312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lashmonster.narod.ru/ptici/strig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dic.academic.ru/pictures/wiki/files/67/Chaetura_pelagicaEJN13CB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Птицы в Ленингдадской област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Исенова К. 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школа  №598, учитель начальных клас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В мире животных.mp3" descr=""/>
          <p:cNvPicPr/>
          <p:nvPr/>
        </p:nvPicPr>
        <p:blipFill>
          <a:blip r:embed="rId1"/>
          <a:stretch/>
        </p:blipFill>
        <p:spPr>
          <a:xfrm>
            <a:off x="80010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3603-238D-41B8-B87B-5B40B75CA84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D9B-8ABA-4B0B-9D28-EB1A6A771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б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7960" y="2057040"/>
            <a:ext cx="3733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лавании часто изгибает шею в виде буквы S, а клюв и голову держит наклонно к воде. Шея у шипуна толстая, а поэтому на расстоянии кажется более короткой, контур спины у шипуна угловатый. На лету шипун не издает громких трубных звуков, а при взмахах крыльев издали слышен характерный скрип больших маховых пер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Swan-16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17840"/>
            <a:ext cx="3733560" cy="2801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Картинка 14 из 327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416400"/>
            <a:ext cx="3886200" cy="26985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3"/>
          <p:cNvSpPr/>
          <p:nvPr/>
        </p:nvSpPr>
        <p:spPr>
          <a:xfrm>
            <a:off x="5181480" y="1534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БЕДЬ-ШИПУ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BC7E-5E26-4C33-981B-74D904796B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256A-8AE6-46A6-AA83-374B634D5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ов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релё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тица, зимует в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фри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битает в сырых кустарниковых зарослях, в долинах рек. Гнёзда на земле или очень низко, в кус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Картинка 12 из 206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9000" y="1600200"/>
            <a:ext cx="331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C60B-D3C8-45B4-8624-07AE9F148BE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3530-9C0F-41E9-A1E7-D3BE77D70B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едлые птиц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19000"/>
            <a:ext cx="403848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8320" y="1719000"/>
            <a:ext cx="403848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4000320"/>
            <a:ext cx="403848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4000320"/>
            <a:ext cx="403848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8" descr="Картинка 5 из 245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76520"/>
            <a:ext cx="3733560" cy="2209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0" descr="Картинка 52 из 24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96252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2" descr="Картинка 1 из 679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676520"/>
            <a:ext cx="3429000" cy="2144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4" descr="Картинка 1 из 298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962520"/>
            <a:ext cx="3429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7B86-D8AA-481A-922F-EEFD7277DD1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1EF1-5C53-4F51-A1E1-AC9A8C1DF2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ядом с человек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оробь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старину по поведению птиц предсказывали погоду. Примечали, если воробьи среди дня нахохлились (сидят напыжившись) – будет дождь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мовый воробей ведёт оседлый образ жизни, чему благоприятствуют условия для гнездования и обильный корм в поселениях человек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Голуб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удомашние” голуби обитают в населенных пунктах, рядом с человеческим жильем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итаются семенами растений, зерновыми культурами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Картинка 2 из 245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89120"/>
            <a:ext cx="3352680" cy="2413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Картинка 94 из 24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657600"/>
            <a:ext cx="1981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73A1-F04D-4E37-A368-46F3A6EABAA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0A0F-7040-40C9-AF72-43891E3749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тицы лесов и степ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яте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то одна из очень полезных птиц наших лесов; в отличие от других насекомоядных видов, он никуда не улетает на зиму, работая круглый год по уничтожению вредител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уропатк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Ленинградской области насчитывается более 54 тысяч куропаток 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ерая куропатка исключительно наземная птица. На деревья садится крайне редко. Бегает куропатка отлично и охотно копается в земле, разыскивая пищ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Картинка 157 из 67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3886200" cy="251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Картинка 4 из 2981"/>
          <p:cNvPicPr/>
          <p:nvPr/>
        </p:nvPicPr>
        <p:blipFill>
          <a:blip r:embed="rId3"/>
          <a:stretch/>
        </p:blipFill>
        <p:spPr>
          <a:xfrm>
            <a:off x="685800" y="3809880"/>
            <a:ext cx="36957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B389-AE1A-4D37-8975-19E9B891404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C4D-303F-4FCB-8422-2254E630D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Franklin Gothic Medium"/>
              </a:rPr>
              <a:t>Источ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yandex.ru/yandsearch?text=&amp;stpar2=%2Fh0%2Ftm6%2Fs1&amp;stpar4=%2F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avifauna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pedia.org/wiki/%D0%A1%D0%BE%D0%BB%D0%BE%D0%B2%D0%B5%D0%B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lan/gifpar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4450-097D-4472-B1DA-7980F9C1F51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1DDA-E2DB-4105-BE06-6D8B24D53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Перелетные п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Жавор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кво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Ласт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тр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олов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Леб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неги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arg-blue-left-tr"/>
          <p:cNvPicPr/>
          <p:nvPr/>
        </p:nvPicPr>
        <p:blipFill>
          <a:blip r:embed="rId1"/>
          <a:stretch/>
        </p:blipFill>
        <p:spPr>
          <a:xfrm>
            <a:off x="7467480" y="811080"/>
            <a:ext cx="1676520" cy="121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ani-bird_blue"/>
          <p:cNvPicPr/>
          <p:nvPr/>
        </p:nvPicPr>
        <p:blipFill>
          <a:blip r:embed="rId2"/>
          <a:stretch/>
        </p:blipFill>
        <p:spPr>
          <a:xfrm>
            <a:off x="-380880" y="30240"/>
            <a:ext cx="23619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5512-91EB-46FD-8F0B-B5B06F8C097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0166-EF41-4ADF-ACE1-D6FDFFFF8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Снеги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негирь — одна из самых известных наших птичек. Он немного крупнее воробья, имеет пушистое оперение, среди которого особенно ярко выделяется красновато-розовая грудь у самцов (у самок она сероватая).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Bullfinch[1]"/>
          <p:cNvPicPr/>
          <p:nvPr/>
        </p:nvPicPr>
        <p:blipFill>
          <a:blip r:embed="rId2"/>
          <a:stretch/>
        </p:blipFill>
        <p:spPr>
          <a:xfrm>
            <a:off x="0" y="1523880"/>
            <a:ext cx="4038480" cy="2449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i?id=1842888&amp;tov=6"/>
          <p:cNvPicPr/>
          <p:nvPr/>
        </p:nvPicPr>
        <p:blipFill>
          <a:blip r:embed="rId3"/>
          <a:stretch/>
        </p:blipFill>
        <p:spPr>
          <a:xfrm>
            <a:off x="304920" y="2286000"/>
            <a:ext cx="3429000" cy="261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i?id=7853291&amp;tov=4"/>
          <p:cNvPicPr/>
          <p:nvPr/>
        </p:nvPicPr>
        <p:blipFill>
          <a:blip r:embed="rId4"/>
          <a:stretch/>
        </p:blipFill>
        <p:spPr>
          <a:xfrm>
            <a:off x="762120" y="2743200"/>
            <a:ext cx="2477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7A75-2D8F-43D7-A1A6-86ADB57CFBF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9D35-D3BF-4998-B01A-EF67FD54D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сточка деревен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Хвост имеет глубокий вырез, с «косицами», отчего эту птичку, иногда называют ласточка-касат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сточка город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Хвост имеет небольшой вырез. Верхняя сторона окрашена в темно-синий цвет, надхвостье белое. Нижняя сторона бел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сточка берегов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Хвост с небольшим вырезом. Верх серовато-коричневый; низ белый. Гнездится исключительно в береговых откосах, в норках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Ласточка городская"/>
          <p:cNvPicPr/>
          <p:nvPr/>
        </p:nvPicPr>
        <p:blipFill>
          <a:blip r:embed="rId2"/>
          <a:stretch/>
        </p:blipFill>
        <p:spPr>
          <a:xfrm>
            <a:off x="533520" y="2286000"/>
            <a:ext cx="3730680" cy="25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Ласточка городская"/>
          <p:cNvPicPr/>
          <p:nvPr/>
        </p:nvPicPr>
        <p:blipFill>
          <a:blip r:embed="rId3"/>
          <a:stretch/>
        </p:blipFill>
        <p:spPr>
          <a:xfrm>
            <a:off x="533520" y="1523880"/>
            <a:ext cx="3730680" cy="2562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?id=75443136&amp;tov=4"/>
          <p:cNvPicPr/>
          <p:nvPr/>
        </p:nvPicPr>
        <p:blipFill>
          <a:blip r:embed="rId4"/>
          <a:stretch/>
        </p:blipFill>
        <p:spPr>
          <a:xfrm>
            <a:off x="1219320" y="2133720"/>
            <a:ext cx="2400120" cy="2933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Картинка 11 из 214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29718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1F18-FF6E-4A16-8052-9048996B0D3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408-23AC-4F0A-8B83-5C5CC1940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воро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евой жаворон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один из наиболее ранних вестников вес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ение жаворон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отличается особой красотой: оно однообразное, пестро-серое, темное на спине. Особенно характерно для жаворонка строение его лапки: задний палец имеет длинную прямую «шпору» (задний коготь). «Шпора» сообщает устойчивость ноге птицы. Благодаря такому строению ноги жаворонок может сидеть только лишь на земле или же на каком-либо плоском предмете, например на камне, 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огда не сидит на веточке дерева или на телеграфном прово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жаворонок фото"/>
          <p:cNvPicPr/>
          <p:nvPr/>
        </p:nvPicPr>
        <p:blipFill>
          <a:blip r:embed="rId1"/>
          <a:stretch/>
        </p:blipFill>
        <p:spPr>
          <a:xfrm>
            <a:off x="914400" y="243828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A94B-3397-47F5-93A4-BCC50060595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F328-C756-4072-8222-52B523B7F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103633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ну привыкли считать оседлой птицей, так как круглый год все видят ее в одном и том же месте. На самом деле вороны все время, пока не гнездятся, совершают перекочевки, а с наступлением холодов производят настоящие перелеты на юг или юго-запад. Все вороны похожи друг на друга, но те птицы, которых вы видите зимой, могли гнездиться где-либо далеко на севере или северо-восто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ворона в полете"/>
          <p:cNvPicPr/>
          <p:nvPr/>
        </p:nvPicPr>
        <p:blipFill>
          <a:blip r:embed="rId2"/>
          <a:stretch/>
        </p:blipFill>
        <p:spPr>
          <a:xfrm>
            <a:off x="762120" y="121932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артинка 1 из 514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195640"/>
            <a:ext cx="4190760" cy="3198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Картинка 13 из 514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3186000"/>
            <a:ext cx="45432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61CB-C6FB-4B49-9DBA-72A021012B6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FBDF-9C7B-4228-BF50-DD5C04007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ч размером и внешним видом напоминает ворону, и поэтому многие их путают. Но у грача есть четкий отличительный признак - кольцо из неоперенной голой кожи вокруг клюва у взрослых птиц, кроме того, грач "стройнее". У молодых птиц это кольцо отсутствует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аска грача чисто-черная с металлическим блеском, масса тела 350-490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Картинка 11 из 184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Картинка 1 из 184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250812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Картинка 8 из 1849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2133720"/>
            <a:ext cx="2895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096-120F-4328-AC13-1C6FA597ED9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E9F-F4D4-4713-8837-541A5D0C2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ворцы имеют длинный, сильный, прям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лю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слегка сплюснутым кончиком, прямой коротки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хв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ершины которого достигают нижние кроющие перья, и острые крылья, у которых первое махов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е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корочено, а второе длиннее осталь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Картинка 4 из 545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600200"/>
            <a:ext cx="2946240" cy="35812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9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Картинка 13 из 545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36576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673F-6A5B-4253-9079-4ADD1E309C2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8E16-30EB-4819-9047-29F77796D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и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ИЖ ЧЁРНЫ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 Расцветка буровато-черная со слабым зеленоватым отливом. Летом перья сильно выгорают и общая окраска бледне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в и ноги чер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Картинка 7 из 84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4267080" cy="3203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Картинка 3 из 84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200400"/>
            <a:ext cx="3305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03-31T04:49:1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