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.gif" ContentType="image/gif"/>
  <Override PartName="/ppt/media/image12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458F-E053-478C-AEF0-EA2B5BB1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F68D-DAD3-4528-B981-44F44DC6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24A7-11DF-4F0A-B3F8-A131A9DB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126-F7BF-4753-8582-15C4D141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E5B2-7C65-47A0-933D-722B4A74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CFBE-EEDA-4659-9DF2-B7E829C2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015E-6A7E-4704-86D4-93B13671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269D-5643-4E4D-A1F6-FE9C9728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1E0E-8717-4944-9B7A-6077A964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92F0-C7F9-4EDC-B518-938F18D8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766B-6BEE-4BA6-B5E2-90D69173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0ADF-2CB4-4EB9-9046-8BA6252D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B23A-1022-46E2-A60B-1B491388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FF5F-5A1A-405B-933D-C4A6693C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D501-A5D3-437B-8182-5EB95206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CDEC-5EB9-46C8-BEAC-7C20EE66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11B5-09F3-47C2-AAC7-8A1120B9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08924-9F73-4B75-B4A7-8D2C6729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9C3F7-040F-4A0F-93F9-6BFE47DC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D5887-91E4-4253-86E0-2DAF5F5B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410DB-8D4B-4622-854A-E012A1C9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92DCD-BCED-497F-AFFE-095C6E23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2AD7-382F-498C-A759-F4A6DC75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CBF0D-D5E3-4D9F-B6E9-85DDE432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DF331-EA6E-4725-9D43-8611AD2A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4FD1B-2BCA-4DDD-9822-BE2F4C06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C99B6-AAEE-49B4-A694-75C8B2BD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54878-0C43-4664-8292-8D492083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1EFF3-985A-4938-BD6C-FE1EC503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13996-3702-43F6-8134-3A4DC819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D471-053E-4EEC-AFD3-0D790DC6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B3D1-D7E4-4028-A2C4-25C91F3F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901D-4B09-4789-B18D-81E8727F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B079-ED35-48AB-8ECB-9273853A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05CA-3DED-4BC6-BD9E-E7BCEF9D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BB2D-A522-44AF-8CA8-1ADBA2F6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6FFA-EF62-47C4-A85C-F96007F46E9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A145-C06E-46A6-A57D-DE9291C42C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25A5-FEC0-47A9-BDFF-5BA912CBAD1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6CE2-A435-4DAF-A42A-B27FEA7C37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62C4-CF5C-4C3B-BA17-0B3EE2D107D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0C76-B1A0-45EC-BD38-51C4800A15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opsir.com/d/2007-5/Swan-1644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xrest.ru/images/collection/00094/718/original.jp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0;&#1075;&#1088;&#1072;&#1094;&#1080;&#1103;_&#1087;&#1090;&#1080;&#1094;" TargetMode="External"/><Relationship Id="rId2" Type="http://schemas.openxmlformats.org/officeDocument/2006/relationships/hyperlink" Target="http://ru.wikipedia.org/wiki/&#1040;&#1092;&#1088;&#1080;&#1082;&#1072;" TargetMode="External"/><Relationship Id="rId3" Type="http://schemas.openxmlformats.org/officeDocument/2006/relationships/hyperlink" Target="http://s57.radikal.ru/i155/0905/e0/79ce1488190c.jpg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-2007-02.photosight.ru/02/1902431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photo1.fotodia.ru/2006/11/22/44701_PJYyjr5xNS.jpg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club.osinka.ru/files/ae_349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www.ukbap.org.uk/images/506.jpg" TargetMode="External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ature.doublea.ru/pix/vorobey106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artimho.flamber.ru/files/photos/1188229801/1188508496_f.jpg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ndrew-foto.narod.ru/top50x/dsc_5774.jpg" TargetMode="External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hyperlink" Target="http://chatte-noirez.narod.ru/lastochka_derevenskaja_00401.jp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stihi.ru/pics/2009/01/22/2996.jp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s48.radikal.ru/i120/0904/7e/6ad1f8ff1d4d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eti.religiousbook.org.ua/img/grach2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digicam.ru/images/news/rd4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s51.radikal.ru/i131/0810/13/d3eba461121a.jpg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3;&#1102;&#1074;" TargetMode="External"/><Relationship Id="rId2" Type="http://schemas.openxmlformats.org/officeDocument/2006/relationships/hyperlink" Target="http://ru.wikipedia.org/wiki/&#1061;&#1074;&#1086;&#1089;&#1090;" TargetMode="External"/><Relationship Id="rId3" Type="http://schemas.openxmlformats.org/officeDocument/2006/relationships/hyperlink" Target="http://ru.wikipedia.org/wiki/&#1055;&#1077;&#1088;&#1086;" TargetMode="External"/><Relationship Id="rId4" Type="http://schemas.openxmlformats.org/officeDocument/2006/relationships/hyperlink" Target="http://upload.wikimedia.org/wikipedia/commons/thumb/7/7b/Common_starling_in_london.jpg/493px-Common_starling_in_london.jp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book.uraic.ru/cms/pict.php?img=files/picture_312.jpg" TargetMode="External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lashmonster.narod.ru/ptici/strig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dic.academic.ru/pictures/wiki/files/67/Chaetura_pelagicaEJN13CB.jpg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Птицы в Ленингдадской области.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362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: Исенова К. 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школа  №598, учитель начальных класс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В мире животных.mp3" descr=""/>
          <p:cNvPicPr/>
          <p:nvPr/>
        </p:nvPicPr>
        <p:blipFill>
          <a:blip r:embed="rId1"/>
          <a:stretch/>
        </p:blipFill>
        <p:spPr>
          <a:xfrm>
            <a:off x="800100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00EC-0EE7-4225-9835-9355D7464D8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5289-E9BF-42A5-B7DE-15DD55FC8E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бе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47960" y="2057040"/>
            <a:ext cx="3733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лавании часто изгибает шею в виде буквы S, а клюв и голову держит наклонно к воде. Шея у шипуна толстая, а поэтому на расстоянии кажется более короткой, контур спины у шипуна угловатый. На лету шипун не издает громких трубных звуков, а при взмахах крыльев издали слышен характерный скрип больших маховых перь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8" descr="Swan-16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617840"/>
            <a:ext cx="3733560" cy="28018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9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Картинка 14 из 327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3416400"/>
            <a:ext cx="3886200" cy="26985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3"/>
          <p:cNvSpPr/>
          <p:nvPr/>
        </p:nvSpPr>
        <p:spPr>
          <a:xfrm>
            <a:off x="5181480" y="1534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БЕДЬ-ШИПУ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AC99-89AD-4DFD-B994-2AF1E8989C3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B2AC-074F-464E-B99F-958C9BD567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овь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ерелёт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тица, зимует в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Афри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Обитает в сырых кустарниковых зарослях, в долинах рек. Гнёзда на земле или очень низко, в куст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8" descr="Картинка 12 из 2061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9000" y="1600200"/>
            <a:ext cx="331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8d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Дата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A800-4BA8-4F04-A0CD-8C2438AADF34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D715-28E8-42FA-AE38-03B588DD1C0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седлые птиц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719000"/>
            <a:ext cx="403848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648320" y="1719000"/>
            <a:ext cx="403848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4000320"/>
            <a:ext cx="4038480" cy="21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648320" y="4000320"/>
            <a:ext cx="4038480" cy="21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8" descr="Картинка 5 из 245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676520"/>
            <a:ext cx="3733560" cy="2209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0" descr="Картинка 52 из 247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3962520"/>
            <a:ext cx="3809880" cy="22096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2" descr="Картинка 1 из 679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1676520"/>
            <a:ext cx="3429000" cy="21445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4" descr="Картинка 1 из 298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52880" y="3962520"/>
            <a:ext cx="34290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8d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7B99-575E-4773-BC1B-5ECC47A95589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D080-8661-4790-997A-7D4A9F2B92C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ядом с человеко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оробь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старину по поведению птиц предсказывали погоду. Примечали, если воробьи среди дня нахохлились (сидят напыжившись) – будет дождь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омовый воробей ведёт оседлый образ жизни, чему благоприятствуют условия для гнездования и обильный корм в поселениях человека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Голубь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лудомашние” голуби обитают в населенных пунктах, рядом с человеческим жильем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итаются семенами растений, зерновыми культурами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8" descr="Картинка 2 из 245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689120"/>
            <a:ext cx="3352680" cy="24130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Картинка 94 из 247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7920" y="3657600"/>
            <a:ext cx="1981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8d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96B5-591A-42DB-9F07-19B034C6D265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66B0-4DB9-46AE-BD46-2C30BFE08F3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тицы лесов и степе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ятел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Это одна из очень полезных птиц наших лесов; в отличие от других насекомоядных видов, он никуда не улетает на зиму, работая круглый год по уничтожению вредителей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уропатк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Ленинградской области насчитывается более 54 тысяч куропаток .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ерая куропатка исключительно наземная птица. На деревья садится крайне редко. Бегает куропатка отлично и охотно копается в земле, разыскивая пищу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8" descr="Картинка 157 из 67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752480"/>
            <a:ext cx="3886200" cy="2514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Картинка 4 из 2981"/>
          <p:cNvPicPr/>
          <p:nvPr/>
        </p:nvPicPr>
        <p:blipFill>
          <a:blip r:embed="rId3"/>
          <a:stretch/>
        </p:blipFill>
        <p:spPr>
          <a:xfrm>
            <a:off x="685800" y="3809880"/>
            <a:ext cx="369576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1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10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1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3F98-32A5-4F6E-8F41-5331BEB89C8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C853-36BD-4F4A-BF0A-88743CF4F8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Franklin Gothic Medium"/>
              </a:rPr>
              <a:t>Источн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yandex.ru/yandsearch?text=&amp;stpar2=%2Fh0%2Ftm6%2Fs1&amp;stpar4=%2Fs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avifauna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ru.wikipedia.org/wiki/%D0%A1%D0%BE%D0%BB%D0%BE%D0%B2%D0%B5%D0%B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lan/gifpar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FC5B-DCA9-4715-AB01-B11498D9A6B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228A-8C69-4EC9-B567-37301613BF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cc"/>
                </a:solidFill>
                <a:latin typeface="Arial"/>
              </a:rPr>
              <a:t>Перелетные пти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Г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Жаворо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квор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Ласточ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три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олов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Леб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неги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arg-blue-left-tr"/>
          <p:cNvPicPr/>
          <p:nvPr/>
        </p:nvPicPr>
        <p:blipFill>
          <a:blip r:embed="rId1"/>
          <a:stretch/>
        </p:blipFill>
        <p:spPr>
          <a:xfrm>
            <a:off x="7467480" y="811080"/>
            <a:ext cx="1676520" cy="1217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ani-bird_blue"/>
          <p:cNvPicPr/>
          <p:nvPr/>
        </p:nvPicPr>
        <p:blipFill>
          <a:blip r:embed="rId2"/>
          <a:stretch/>
        </p:blipFill>
        <p:spPr>
          <a:xfrm>
            <a:off x="-380880" y="30240"/>
            <a:ext cx="23619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64F5-1008-423B-B424-6D395C42895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B3FE-2166-4CC6-A32B-FB6797057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Снеги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90760" y="914400"/>
            <a:ext cx="464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негирь — одна из самых известных наших птичек. Он немного крупнее воробья, имеет пушистое оперение, среди которого особенно ярко выделяется красновато-розовая грудь у самцов (у самок она сероватая).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" descr="Bullfinch[1]"/>
          <p:cNvPicPr/>
          <p:nvPr/>
        </p:nvPicPr>
        <p:blipFill>
          <a:blip r:embed="rId2"/>
          <a:stretch/>
        </p:blipFill>
        <p:spPr>
          <a:xfrm>
            <a:off x="0" y="1523880"/>
            <a:ext cx="4038480" cy="2449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i?id=1842888&amp;tov=6"/>
          <p:cNvPicPr/>
          <p:nvPr/>
        </p:nvPicPr>
        <p:blipFill>
          <a:blip r:embed="rId3"/>
          <a:stretch/>
        </p:blipFill>
        <p:spPr>
          <a:xfrm>
            <a:off x="304920" y="2286000"/>
            <a:ext cx="3429000" cy="2619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i?id=7853291&amp;tov=4"/>
          <p:cNvPicPr/>
          <p:nvPr/>
        </p:nvPicPr>
        <p:blipFill>
          <a:blip r:embed="rId4"/>
          <a:stretch/>
        </p:blipFill>
        <p:spPr>
          <a:xfrm>
            <a:off x="762120" y="2743200"/>
            <a:ext cx="2477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514B-0006-43C6-AA53-0E6CD57DC80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6FFC-2CD6-4FB8-A59E-283401E63E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аст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сточка деревенска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Хвост имеет глубокий вырез, с «косицами», отчего эту птичку, иногда называют ласточка-касат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сточка городска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Хвост имеет небольшой вырез. Верхняя сторона окрашена в темно-синий цвет, надхвостье белое. Нижняя сторона бел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сточка берегова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Хвост с небольшим вырезом. Верх серовато-коричневый; низ белый. Гнездится исключительно в береговых откосах, в норках</a:t>
            </a: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8" descr="Ласточка городская"/>
          <p:cNvPicPr/>
          <p:nvPr/>
        </p:nvPicPr>
        <p:blipFill>
          <a:blip r:embed="rId2"/>
          <a:stretch/>
        </p:blipFill>
        <p:spPr>
          <a:xfrm>
            <a:off x="533520" y="2286000"/>
            <a:ext cx="3730680" cy="256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Ласточка городская"/>
          <p:cNvPicPr/>
          <p:nvPr/>
        </p:nvPicPr>
        <p:blipFill>
          <a:blip r:embed="rId3"/>
          <a:stretch/>
        </p:blipFill>
        <p:spPr>
          <a:xfrm>
            <a:off x="533520" y="1523880"/>
            <a:ext cx="3730680" cy="2562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i?id=75443136&amp;tov=4"/>
          <p:cNvPicPr/>
          <p:nvPr/>
        </p:nvPicPr>
        <p:blipFill>
          <a:blip r:embed="rId4"/>
          <a:stretch/>
        </p:blipFill>
        <p:spPr>
          <a:xfrm>
            <a:off x="1219320" y="2133720"/>
            <a:ext cx="2400120" cy="2933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Картинка 11 из 2148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90720" y="297180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E7FF-9AFD-4C99-B726-0636782B153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449C-46E5-4BD9-B325-2E410BE9B3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аворо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евой жавороно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один из наиболее ранних вестников вес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ерение жаворонк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 отличается особой красотой: оно однообразное, пестро-серое, темное на спине. Особенно характерно для жаворонка строение его лапки: задний палец имеет длинную прямую «шпору» (задний коготь). «Шпора» сообщает устойчивость ноге птицы. Благодаря такому строению ноги жаворонок может сидеть только лишь на земле или же на каком-либо плоском предмете, например на камне, н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икогда не сидит на веточке дерева или на телеграфном провод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жаворонок фото"/>
          <p:cNvPicPr/>
          <p:nvPr/>
        </p:nvPicPr>
        <p:blipFill>
          <a:blip r:embed="rId1"/>
          <a:stretch/>
        </p:blipFill>
        <p:spPr>
          <a:xfrm>
            <a:off x="914400" y="2438280"/>
            <a:ext cx="28576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4E49-22F0-4887-86CA-52D466E56B6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6CCA-9A5C-4722-9546-375679F5F8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103633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рону привыкли считать оседлой птицей, так как круглый год все видят ее в одном и том же месте. На самом деле вороны все время, пока не гнездятся, совершают перекочевки, а с наступлением холодов производят настоящие перелеты на юг или юго-запад. Все вороны похожи друг на друга, но те птицы, которых вы видите зимой, могли гнездиться где-либо далеко на севере или северо-восто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ворона в полете"/>
          <p:cNvPicPr/>
          <p:nvPr/>
        </p:nvPicPr>
        <p:blipFill>
          <a:blip r:embed="rId2"/>
          <a:stretch/>
        </p:blipFill>
        <p:spPr>
          <a:xfrm>
            <a:off x="762120" y="1219320"/>
            <a:ext cx="2857320" cy="2828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Картинка 1 из 5145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195640"/>
            <a:ext cx="4190760" cy="3198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Картинка 13 из 5145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920" y="3186000"/>
            <a:ext cx="45432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EF3E-76F4-477C-ABC5-708688E0032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4C61-822C-46F6-987E-1F7ADAD26E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ра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ч размером и внешним видом напоминает ворону, и поэтому многие их путают. Но у грача есть четкий отличительный признак - кольцо из неоперенной голой кожи вокруг клюва у взрослых птиц, кроме того, грач "стройнее". У молодых птиц это кольцо отсутствует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раска грача чисто-черная с металлическим блеском, масса тела 350-490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Картинка 11 из 184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600200"/>
            <a:ext cx="3886200" cy="2916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Картинка 1 из 1849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2508120"/>
            <a:ext cx="3353040" cy="2521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Картинка 8 из 1849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19320" y="2133720"/>
            <a:ext cx="2895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6F69-D7E4-47E2-BDF3-4DEFEDF5561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68DE-ABDA-4C26-A912-28DFE88A89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ворцы имеют длинный, сильный, прямо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лю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 слегка сплюснутым кончиком, прямой коротки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хво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ершины которого достигают нижние кроющие перья, и острые крылья, у которых первое махово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ер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корочено, а второе длиннее осталь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Картинка 4 из 545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" y="1600200"/>
            <a:ext cx="2946240" cy="35812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9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1" descr="Картинка 13 из 545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3520" y="365760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888C-333C-4553-B656-20FE799BBDC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2F2A-EFB9-490B-BC44-45C1C5AF33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иж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ИЖ ЧЁРНЫ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. Расцветка буровато-черная со слабым зеленоватым отливом. Летом перья сильно выгорают и общая окраска бледне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юв и ноги чер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1" descr="Картинка 7 из 84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76520"/>
            <a:ext cx="4267080" cy="3203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Картинка 3 из 84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3200400"/>
            <a:ext cx="33051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8-03-31T04:49:1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