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7.jpeg" ContentType="image/jpeg"/>
  <Override PartName="/ppt/media/image25.gif" ContentType="image/gif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A78B-2EAB-4B8C-9807-F8C68CAB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B95-3A96-4C62-AB03-EFC915CB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440-A6B6-4335-BBF2-A966697F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B20-7B51-476E-BFEF-42AC7CAF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FCF-7876-4DF7-A623-874637A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BE7-FA11-43DA-A5D9-A9364B6D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F5C-4E1E-4185-87A4-71568FA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D51-3893-4197-ABC4-7292046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A75-98A0-47EF-88AC-F141DB95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4EA-9BCA-4862-B088-0381DA4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DC3-F57E-469C-810A-B8585491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8F6-7003-45B2-A7BB-85055DBF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B67C-CB0A-4D2C-A239-517FC49717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3564000" y="3768840"/>
            <a:ext cx="1861920" cy="2793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Путешествие </a:t>
            </a:r>
            <a:br>
              <a:rPr sz="4400"/>
            </a:b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 гости к сказочным героя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360" y="2913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-я младшая групп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9640" y="601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Что нужно сделать, чтобы и стульев и детей стало одинаково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ужно добавить один сту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Рисунок 14" descr=""/>
          <p:cNvPicPr/>
          <p:nvPr/>
        </p:nvPicPr>
        <p:blipFill>
          <a:blip r:embed="rId1"/>
          <a:stretch/>
        </p:blipFill>
        <p:spPr>
          <a:xfrm>
            <a:off x="1692360" y="3063960"/>
            <a:ext cx="2343240" cy="260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C:\Users\Пользователь\Desktop\грамоты\IMG_20180117_091246.jpg"/>
          <p:cNvPicPr/>
          <p:nvPr/>
        </p:nvPicPr>
        <p:blipFill>
          <a:blip r:embed="rId2"/>
          <a:stretch/>
        </p:blipFill>
        <p:spPr>
          <a:xfrm>
            <a:off x="5364000" y="2808360"/>
            <a:ext cx="2695680" cy="3595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Ребята, путь у нас дальний, в дорогу я взяла корзину с фруктами. Подходите ко мне и берите по фрукт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шиваем у ког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фрук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635280" y="4076640"/>
            <a:ext cx="223380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Пользователь\Desktop\грамоты\IMG_20180117_090713.jpg"/>
          <p:cNvPicPr/>
          <p:nvPr/>
        </p:nvPicPr>
        <p:blipFill>
          <a:blip r:embed="rId2"/>
          <a:stretch/>
        </p:blipFill>
        <p:spPr>
          <a:xfrm>
            <a:off x="6012000" y="2424240"/>
            <a:ext cx="2914560" cy="3884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468360" y="177336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Молодцы, теперь мы можем отправляться в путь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Рисунок 5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3735360" cy="27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Ребята, посмотрите, кто стоит на дороге и плачет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Рисунок 4" descr=""/>
          <p:cNvPicPr/>
          <p:nvPr/>
        </p:nvPicPr>
        <p:blipFill>
          <a:blip r:embed="rId1"/>
          <a:stretch/>
        </p:blipFill>
        <p:spPr>
          <a:xfrm>
            <a:off x="2760840" y="2492280"/>
            <a:ext cx="4140000" cy="3651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35640" y="3638520"/>
            <a:ext cx="3052800" cy="2948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8827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Давайте остановимся и спросим, что случилось? Зайка, а почему ты плаче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яц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ришёл медведь к нам в заячью деревню и поломал все домики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ите нам построи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е доми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оможем, ребят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омож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 rot="20649600">
            <a:off x="3365640" y="4188960"/>
            <a:ext cx="2160360" cy="201636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Равнобедренный треугольник 4"/>
          <p:cNvSpPr/>
          <p:nvPr/>
        </p:nvSpPr>
        <p:spPr>
          <a:xfrm rot="809400">
            <a:off x="3317760" y="2220480"/>
            <a:ext cx="2872080" cy="22147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Овал 6"/>
          <p:cNvSpPr/>
          <p:nvPr/>
        </p:nvSpPr>
        <p:spPr>
          <a:xfrm rot="20737800">
            <a:off x="4027320" y="4804920"/>
            <a:ext cx="836640" cy="784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Ребята, назовите, какие геометрические фигуры лежат у нас на пенёчках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 Квадрат, круг, треугольник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Молодцы. Правильно. А из каких фигур можно построить домик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Домик можно построить из квадрата и треугольника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ти строят домики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659640" y="5300640"/>
            <a:ext cx="1441440" cy="13683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Равнобедренный треугольник 4"/>
          <p:cNvSpPr/>
          <p:nvPr/>
        </p:nvSpPr>
        <p:spPr>
          <a:xfrm>
            <a:off x="6259680" y="3745080"/>
            <a:ext cx="2304720" cy="15840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42960" y="549000"/>
            <a:ext cx="829008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яц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Ребята, спасибо вам большое. Побегу, обрадую зайча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2520720" cy="3781440"/>
          </a:xfrm>
          <a:prstGeom prst="rect">
            <a:avLst/>
          </a:prstGeom>
          <a:ln w="0">
            <a:noFill/>
          </a:ln>
        </p:spPr>
      </p:pic>
      <p:sp>
        <p:nvSpPr>
          <p:cNvPr id="95" name="Равнобедренный треугольник 4"/>
          <p:cNvSpPr/>
          <p:nvPr/>
        </p:nvSpPr>
        <p:spPr>
          <a:xfrm>
            <a:off x="1042920" y="2781360"/>
            <a:ext cx="2305080" cy="1584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1403280" y="4357800"/>
            <a:ext cx="1584360" cy="1511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0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Мы с вами такую большую работу сделали, что теперь нам нужно отдохнуть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айте превратим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йчат  и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Рисунок 5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232000" cy="196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Пользователь\Desktop\грамоты\IMG_20180117_091740.jpg"/>
          <p:cNvPicPr/>
          <p:nvPr/>
        </p:nvPicPr>
        <p:blipFill>
          <a:blip r:embed="rId2"/>
          <a:stretch/>
        </p:blipFill>
        <p:spPr>
          <a:xfrm>
            <a:off x="4737240" y="2394000"/>
            <a:ext cx="3171600" cy="4228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ймёмся физкультуро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ижная игр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ежит зайка»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976760" cy="3376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ориентироваться в пространстве: определять свое положение среди предметов и положение предметов относительно себя; строиться пар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лять понятия «один», «много», «ни одного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дем дальш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230720" cy="3056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у-ка, стойте!!!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382920" cy="45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Пользователь\Desktop\грамоты\IMG_20180117_091940.jpg"/>
          <p:cNvPicPr/>
          <p:nvPr/>
        </p:nvPicPr>
        <p:blipFill>
          <a:blip r:embed="rId2"/>
          <a:stretch/>
        </p:blipFill>
        <p:spPr>
          <a:xfrm>
            <a:off x="5251320" y="1557360"/>
            <a:ext cx="344016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5148360" y="2151000"/>
            <a:ext cx="3809880" cy="4673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240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Медведь, а почему ты такой сердитый? Что случилос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вед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лохо мне без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ика жи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шёл к зайцам, а у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х все дом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енькие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хочу влезт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сразу ломае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Равнобедренный треугольник 4"/>
          <p:cNvSpPr/>
          <p:nvPr/>
        </p:nvSpPr>
        <p:spPr>
          <a:xfrm>
            <a:off x="3851280" y="3284640"/>
            <a:ext cx="2305080" cy="1584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4211640" y="4869000"/>
            <a:ext cx="1584360" cy="151272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Медведь, а давай мы поможем подобрать тебе доми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76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Ребятки, садитесь на пенёчки. У вас лежат карточки, на которых нарисованы два  домика и два зверя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заяц и медведь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могите каждому животному найти свой домик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Объект 2" descr=""/>
          <p:cNvPicPr/>
          <p:nvPr/>
        </p:nvPicPr>
        <p:blipFill>
          <a:blip r:embed="rId1"/>
          <a:stretch/>
        </p:blipFill>
        <p:spPr>
          <a:xfrm>
            <a:off x="311040" y="469800"/>
            <a:ext cx="8528040" cy="5345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Равнобедренный треугольник 4"/>
          <p:cNvSpPr/>
          <p:nvPr/>
        </p:nvSpPr>
        <p:spPr>
          <a:xfrm>
            <a:off x="233280" y="189000"/>
            <a:ext cx="3384720" cy="2376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630360" y="2587680"/>
            <a:ext cx="2592360" cy="263520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Рисунок 6" descr=""/>
          <p:cNvPicPr/>
          <p:nvPr/>
        </p:nvPicPr>
        <p:blipFill>
          <a:blip r:embed="rId1"/>
          <a:stretch/>
        </p:blipFill>
        <p:spPr>
          <a:xfrm>
            <a:off x="4962600" y="4221000"/>
            <a:ext cx="1697040" cy="2376720"/>
          </a:xfrm>
          <a:prstGeom prst="rect">
            <a:avLst/>
          </a:prstGeom>
          <a:ln w="0">
            <a:noFill/>
          </a:ln>
        </p:spPr>
      </p:pic>
      <p:sp>
        <p:nvSpPr>
          <p:cNvPr id="119" name="Равнобедренный треугольник 7"/>
          <p:cNvSpPr/>
          <p:nvPr/>
        </p:nvSpPr>
        <p:spPr>
          <a:xfrm>
            <a:off x="6659640" y="189000"/>
            <a:ext cx="1890720" cy="13111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6858000" y="1500120"/>
            <a:ext cx="1494000" cy="14875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Рисунок 9" descr=""/>
          <p:cNvPicPr/>
          <p:nvPr/>
        </p:nvPicPr>
        <p:blipFill>
          <a:blip r:embed="rId2"/>
          <a:stretch/>
        </p:blipFill>
        <p:spPr>
          <a:xfrm>
            <a:off x="7348680" y="4869000"/>
            <a:ext cx="9666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122" name="Прямая со стрелкой 11"/>
          <p:cNvCxnSpPr>
            <a:endCxn id="117" idx="2"/>
          </p:cNvCxnSpPr>
          <p:nvPr/>
        </p:nvCxnSpPr>
        <p:spPr>
          <a:xfrm flipH="1" flipV="1">
            <a:off x="1925280" y="5222160"/>
            <a:ext cx="3037680" cy="11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13"/>
          <p:cNvCxnSpPr>
            <a:endCxn id="120" idx="2"/>
          </p:cNvCxnSpPr>
          <p:nvPr/>
        </p:nvCxnSpPr>
        <p:spPr>
          <a:xfrm flipH="1" flipV="1">
            <a:off x="7605360" y="2987280"/>
            <a:ext cx="351360" cy="188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 advTm="5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Доволен, Мишка? Помогли тебе ребят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вед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Спасибо, помогли. Побегу теперь в свой самый большой д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4437360" cy="331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, а нам с вами пора возвращаться в детский сад.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040" y="1700280"/>
            <a:ext cx="67532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дитесь в автобус и поехал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4808520" y="2349360"/>
            <a:ext cx="4230720" cy="30546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468360" y="5688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А что в нашем путешествии вам понравилось больше всего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10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 свидания!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6659640" y="3645000"/>
            <a:ext cx="2359080" cy="306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сравнивать множества, уравнивать множества. Познакомить с понятиями поровну, больше-меньше, столько-скольк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детей различать и называть геометрические фигуры (круг, квадрат, треугольник).Формировать умение составлять из них простейшие объект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 умение согласовывать движения с характером музыки и текстом песн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умение начинать и заканчивать игровые действия вместе с музык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5651640" y="0"/>
            <a:ext cx="3336840" cy="250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 к занятию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нстрационный - игрушки, муляжи фрукто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2663640" cy="2665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3597120" y="2205000"/>
            <a:ext cx="4876920" cy="3451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5" descr=""/>
          <p:cNvPicPr/>
          <p:nvPr/>
        </p:nvPicPr>
        <p:blipFill>
          <a:blip r:embed="rId1"/>
          <a:stretch/>
        </p:blipFill>
        <p:spPr>
          <a:xfrm rot="20157600">
            <a:off x="4548240" y="2676240"/>
            <a:ext cx="4010040" cy="3208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 к занятию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аточный- геометрические фигуры, карточки с изображениями животных и домиков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2900160" cy="1847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 к занятию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зыкальное сопровожде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еренада», И.Гайдн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аш автобус», музыка А. Филиппенко, слова Т. Волгин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йчики», Ю. Рожавск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ежит зайка» народная песня, обработка З. Иорданског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едведь», В. Ребик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Рисунок 5" descr=""/>
          <p:cNvPicPr/>
          <p:nvPr/>
        </p:nvPicPr>
        <p:blipFill>
          <a:blip r:embed="rId1"/>
          <a:stretch/>
        </p:blipFill>
        <p:spPr>
          <a:xfrm>
            <a:off x="2050920" y="4005360"/>
            <a:ext cx="4631040" cy="2616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C:\Users\Пользователь\Desktop\грамоты\2018-01-17 09-03-41.JPG"/>
          <p:cNvPicPr/>
          <p:nvPr/>
        </p:nvPicPr>
        <p:blipFill>
          <a:blip r:embed="rId1"/>
          <a:stretch/>
        </p:blipFill>
        <p:spPr>
          <a:xfrm>
            <a:off x="6875640" y="115920"/>
            <a:ext cx="2106360" cy="2808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324000" y="4363920"/>
            <a:ext cx="297792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заняти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0320" y="1488960"/>
            <a:ext cx="674532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и заходят в зал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Ребята,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 вам сегодня предлагаю отправиться в путешествие. Вы согласны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Дети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Да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211640" y="472428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В путешествие мы отправимся на автобус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" descr="C:\Users\Пользователь\Desktop\грамоты\IMG_20180117_091039.jpg"/>
          <p:cNvPicPr/>
          <p:nvPr/>
        </p:nvPicPr>
        <p:blipFill>
          <a:blip r:embed="rId1"/>
          <a:stretch/>
        </p:blipFill>
        <p:spPr>
          <a:xfrm>
            <a:off x="5651640" y="1276200"/>
            <a:ext cx="3303360" cy="4403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7" descr=""/>
          <p:cNvPicPr/>
          <p:nvPr/>
        </p:nvPicPr>
        <p:blipFill>
          <a:blip r:embed="rId2"/>
          <a:stretch/>
        </p:blipFill>
        <p:spPr>
          <a:xfrm>
            <a:off x="6188040" y="5553000"/>
            <a:ext cx="223056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1"/>
          <p:cNvSpPr/>
          <p:nvPr/>
        </p:nvSpPr>
        <p:spPr>
          <a:xfrm>
            <a:off x="390600" y="1276200"/>
            <a:ext cx="54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Ребята, занимайте свои места в автобусе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сем хватило мес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23"/>
          <p:cNvSpPr/>
          <p:nvPr/>
        </p:nvSpPr>
        <p:spPr>
          <a:xfrm>
            <a:off x="366840" y="1692360"/>
            <a:ext cx="55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ет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Не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Сколько человек осталось без стульев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ет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Оди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оспитат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А почему не хватило стула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ет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Потому что нас больше, чем стулье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5:18:26Z</dcterms:created>
  <dc:creator>Ковали</dc:creator>
  <dc:description/>
  <dc:language>en-US</dc:language>
  <cp:lastModifiedBy>Пользователь</cp:lastModifiedBy>
  <dcterms:modified xsi:type="dcterms:W3CDTF">2018-03-31T17:21:44Z</dcterms:modified>
  <cp:revision>63</cp:revision>
  <dc:subject/>
  <dc:title>Путешествие  в гости к сказочным героям</dc:title>
</cp:coreProperties>
</file>