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E2D-FB83-465B-B053-2CF1FF49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8F1-E021-4148-9BCC-BC8A22B0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2F6-90AE-4E64-92F4-4A982864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5D3-7FCA-451B-99F9-4E474C9A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E56-BFCA-43DE-A747-B1D4BDCE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5B6-0DD8-47C1-A3D5-5F3ADE38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F76-37AA-467C-A07E-6201C626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443-09DE-4A24-8AF3-5EF72106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0A1-DE04-425B-88F9-D64C44F5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F6C-240D-46B6-9EF1-C983341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AF6-46F7-4B2C-B903-1F7EA423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AC7-5338-46E6-B042-02824C0A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7129-381A-4AC1-9819-318545DAA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50920" y="1700280"/>
            <a:ext cx="8424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274680" y="1139760"/>
            <a:ext cx="8393040" cy="3640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9900"/>
                </a:solidFill>
                <a:latin typeface="Bauhaus 93"/>
              </a:rPr>
              <a:t>Внеурочная деятель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askerville Old Face"/>
              </a:rPr>
              <a:t>Тематические классные ча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askerville Old Face"/>
              </a:rPr>
              <a:t>Кружок «Основы православной культу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askerville Old Face"/>
              </a:rPr>
              <a:t>Традиционные народные празд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66"/>
                </a:solidFill>
                <a:latin typeface="Century Gothic"/>
              </a:rPr>
              <a:t>Формы рабо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8064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Berlin Sans FB"/>
              </a:rPr>
              <a:t>Посещение православного х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Berlin Sans FB"/>
              </a:rPr>
              <a:t>Конкурс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Berlin Sans FB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Berlin Sans FB"/>
              </a:rPr>
              <a:t>Защита творчески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Berlin Sans FB"/>
              </a:rPr>
              <a:t>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108000" y="458136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6227640" y="4653000"/>
            <a:ext cx="2737080" cy="2055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2771640" y="404640"/>
            <a:ext cx="367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Vineta BT"/>
              </a:rPr>
              <a:t>Игры</a:t>
            </a:r>
            <a:endParaRPr b="1" i="1" lang="en-US" sz="4400" spc="1" strike="noStrike">
              <a:ln w="12600">
                <a:solidFill>
                  <a:srgbClr val="bbe0e3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Vineta BT"/>
              <a:ea typeface="Vineta BT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527120" y="1773360"/>
            <a:ext cx="67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« Сделай правильный выбор»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«Воздушный шарик»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«Камешек»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111640" cy="309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79280" y="1484280"/>
            <a:ext cx="87854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Главную задачу воспитания,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ляет влияние нравственное.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4500720" y="4797360"/>
            <a:ext cx="43192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nkGothic Lt BT"/>
              </a:rPr>
              <a:t>К.Д. Ушинский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nkGothic Lt BT"/>
              <a:ea typeface="BankGothic Lt BT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826920" y="620640"/>
            <a:ext cx="749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дущая роль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Социализация ребё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Расширение круга его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Проявление личностной пози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Нравственное, интеллектуальное, эмоциональное, физическое развит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Духовно-нравственное вос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H="1">
            <a:off x="1042560" y="1700280"/>
            <a:ext cx="1800360" cy="136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427640" y="1773360"/>
            <a:ext cx="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6227640" y="1700280"/>
            <a:ext cx="1657440" cy="129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1560" y="3213000"/>
            <a:ext cx="21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Учебны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проце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980080" y="3436920"/>
            <a:ext cx="311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Внеурочна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деятельност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659640" y="328464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Работа 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Baskerville Old Face"/>
              </a:rPr>
              <a:t>семьё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"/>
          <p:cNvPicPr/>
          <p:nvPr/>
        </p:nvPicPr>
        <p:blipFill>
          <a:blip r:embed="rId1"/>
          <a:stretch/>
        </p:blipFill>
        <p:spPr>
          <a:xfrm>
            <a:off x="3059280" y="4581360"/>
            <a:ext cx="3097080" cy="2136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2678400" cy="200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6300720" y="4365720"/>
            <a:ext cx="2664000" cy="1708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66"/>
                </a:solidFill>
                <a:latin typeface="Monotype Corsiva"/>
              </a:rPr>
              <a:t>Литературное чт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Работа со сказ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Произведения классиков 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Был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28760" y="357120"/>
          <a:ext cx="8286480" cy="6158160"/>
        </p:xfrm>
        <a:graphic>
          <a:graphicData uri="http://schemas.openxmlformats.org/drawingml/2006/table">
            <a:tbl>
              <a:tblPr/>
              <a:tblGrid>
                <a:gridCol w="2762280"/>
                <a:gridCol w="2761920"/>
                <a:gridCol w="2762280"/>
              </a:tblGrid>
              <a:tr h="281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Если бы 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сновани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0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ы ты попал в сказку «Конек-Горбунок» то хотел бы быть… потому что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ар–птицей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арь- девицей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ьком.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ваном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му что умеет летать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 умный, знает, что делать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 честный, неленивый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хотел бы быть…потому что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ы ты был Иваном, то в каких ситуациях ты поступил бы иначе и почему?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ы ты был Коньком – Горбунком, то какое чудо еще совершил бы и для чего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да ли Иван делал все, что ему велели?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о в сказке наказан? Справедливо ли? За что?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частье и успех, удача и добрые помощники в жизни будут лишь у тех, кто…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66"/>
                </a:solidFill>
                <a:latin typeface="Blackadder ITC"/>
              </a:rPr>
              <a:t>«Выбери пословицы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060280"/>
            <a:ext cx="64008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Bookman Old Style"/>
              </a:rPr>
              <a:t>«Почитай отца и матерь сво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Bookman Old Style"/>
              </a:rPr>
              <a:t>Кто родителей почитает тот век не погибае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324000" y="333360"/>
            <a:ext cx="84070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MS Reference Sans Serif"/>
              </a:rPr>
              <a:t>Чистосердечность, зависть, уважение,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MS Reference Sans Serif"/>
              </a:rPr>
              <a:t>доброта, злость, безответственность,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MS Reference Sans Serif"/>
              </a:rPr>
              <a:t>искренность, непочти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468360" y="3573360"/>
            <a:ext cx="3382920" cy="129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Хорош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5292720" y="3573360"/>
            <a:ext cx="3382920" cy="129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Дурн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7"/>
          <p:cNvSpPr/>
          <p:nvPr/>
        </p:nvSpPr>
        <p:spPr>
          <a:xfrm>
            <a:off x="395280" y="71280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66"/>
                </a:solidFill>
                <a:latin typeface="Times New Roman"/>
              </a:rPr>
              <a:t>«Чтение – это окошко, через которое 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66"/>
                </a:solidFill>
                <a:latin typeface="Times New Roman"/>
              </a:rPr>
              <a:t>дети видят и познают мир и самих себя»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643280" y="458136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В.А. Сухомлински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5:13:45Z</dcterms:created>
  <dc:creator>USER</dc:creator>
  <dc:description/>
  <dc:language>en-US</dc:language>
  <cp:lastModifiedBy>Admin</cp:lastModifiedBy>
  <dcterms:modified xsi:type="dcterms:W3CDTF">2018-03-31T13:16:12Z</dcterms:modified>
  <cp:revision>40</cp:revision>
  <dc:subject/>
  <dc:title>Слайд 1</dc:title>
</cp:coreProperties>
</file>