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3D7-34C7-4D0F-A44D-797F56EF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ABD-36A8-4E89-B5DC-C0257643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043-8AB1-4D11-9DAF-087FFF7E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CEB-EA7A-49B6-ABC6-6FF6B56E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5DA-7BA3-40B4-B59A-C411322A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B35-A3D5-419C-9C39-E922DC2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AA7-6E91-4789-9735-3DB194B3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32E-BE83-4EC8-BB92-D56B7B6F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DA9-E988-4387-A149-DBD9654B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C7D-F79B-4D20-B74A-934F1ED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46B-FAFB-4E2E-9D07-CB36F99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1E8-5EA1-45E3-B529-C218A55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7A8-4CC4-4F59-BCD7-8D6C6BD6D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50920" y="170028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274680" y="1139760"/>
            <a:ext cx="8393040" cy="3640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00"/>
                </a:solidFill>
                <a:latin typeface="Bauhaus 93"/>
              </a:rPr>
              <a:t>Внеурочная 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askerville Old Face"/>
              </a:rPr>
              <a:t>Тематические классные ча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askerville Old Face"/>
              </a:rPr>
              <a:t>Кружок «Основы православной культу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askerville Old Face"/>
              </a:rPr>
              <a:t>Традиционные народные празд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66"/>
                </a:solidFill>
                <a:latin typeface="Century Gothic"/>
              </a:rPr>
              <a:t>Формы рабо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8064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Посещение православного х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Конкурс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Защита творчески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108000" y="458136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6227640" y="4653000"/>
            <a:ext cx="2737080" cy="2055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2771640" y="404640"/>
            <a:ext cx="367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Vineta BT"/>
              </a:rPr>
              <a:t>Игры</a:t>
            </a:r>
            <a:endParaRPr b="1" i="1" lang="en-US" sz="44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Vineta BT"/>
              <a:ea typeface="Vineta BT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527120" y="1773360"/>
            <a:ext cx="67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« Сделай правильный выбор»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«Воздушный шарик»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«Камешек»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111640" cy="309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79280" y="1484280"/>
            <a:ext cx="87854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Главную задачу воспитания,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ляет влияние нравственное.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4500720" y="4797360"/>
            <a:ext cx="43192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nkGothic Lt BT"/>
              </a:rPr>
              <a:t>К.Д. Ушинский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nkGothic Lt BT"/>
              <a:ea typeface="BankGothic Lt BT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826920" y="620640"/>
            <a:ext cx="749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дущая роль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Социализация ребё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Расширение круга его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Проявление личностной поз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Нравственное, интеллектуальное, эмоциональное, физическое развит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Духовно-нравственное 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H="1">
            <a:off x="1042560" y="1700280"/>
            <a:ext cx="1800360" cy="136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427640" y="1773360"/>
            <a:ext cx="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6227640" y="1700280"/>
            <a:ext cx="1657440" cy="129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1560" y="3213000"/>
            <a:ext cx="21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Учебны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проце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980080" y="3436920"/>
            <a:ext cx="311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Внеурочна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деятельност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659640" y="328464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Работа 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семьё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"/>
          <p:cNvPicPr/>
          <p:nvPr/>
        </p:nvPicPr>
        <p:blipFill>
          <a:blip r:embed="rId1"/>
          <a:stretch/>
        </p:blipFill>
        <p:spPr>
          <a:xfrm>
            <a:off x="3059280" y="4581360"/>
            <a:ext cx="3097080" cy="213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2678400" cy="20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6300720" y="4365720"/>
            <a:ext cx="2664000" cy="1708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66"/>
                </a:solidFill>
                <a:latin typeface="Monotype Corsiva"/>
              </a:rPr>
              <a:t>Литературное чт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Работа со сказ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Произведения классиков 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Бы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28760" y="357120"/>
          <a:ext cx="8286480" cy="6158160"/>
        </p:xfrm>
        <a:graphic>
          <a:graphicData uri="http://schemas.openxmlformats.org/drawingml/2006/table">
            <a:tbl>
              <a:tblPr/>
              <a:tblGrid>
                <a:gridCol w="2762280"/>
                <a:gridCol w="2761920"/>
                <a:gridCol w="2762280"/>
              </a:tblGrid>
              <a:tr h="281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Если бы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сновани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0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ы ты попал в сказку «Конек-Горбунок» то хотел бы быть… потому что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р–птицей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арь- девицей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ьком.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ваном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му что умеет летать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 умный, знает, что делать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 честный, неленивый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хотел бы быть…потому что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ы ты был Иваном, то в каких ситуациях ты поступил бы иначе и почему?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ы ты был Коньком – Горбунком, то какое чудо еще совершил бы и для чего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да ли Иван делал все, что ему велели?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о в сказке наказан? Справедливо ли? За что?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частье и успех, удача и добрые помощники в жизни будут лишь у тех, кто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66"/>
                </a:solidFill>
                <a:latin typeface="Blackadder ITC"/>
              </a:rPr>
              <a:t>«Выбери пословицы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060280"/>
            <a:ext cx="64008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Bookman Old Style"/>
              </a:rPr>
              <a:t>«Почитай отца и матерь сво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Bookman Old Style"/>
              </a:rPr>
              <a:t>Кто родителей почитает тот век не погибае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324000" y="333360"/>
            <a:ext cx="84070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MS Reference Sans Serif"/>
              </a:rPr>
              <a:t>Чистосердечность, зависть, уважение,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MS Reference Sans Serif"/>
              </a:rPr>
              <a:t>доброта, злость, безответственность,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MS Reference Sans Serif"/>
              </a:rPr>
              <a:t>искренность, непочти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468360" y="3573360"/>
            <a:ext cx="3382920" cy="129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Хорош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5292720" y="3573360"/>
            <a:ext cx="3382920" cy="129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Дурн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395280" y="71280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66"/>
                </a:solidFill>
                <a:latin typeface="Times New Roman"/>
              </a:rPr>
              <a:t>«Чтение – это окошко, через которое 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66"/>
                </a:solidFill>
                <a:latin typeface="Times New Roman"/>
              </a:rPr>
              <a:t>дети видят и познают мир и самих себя»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643280" y="458136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В.А. Сухомлински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5:13:45Z</dcterms:created>
  <dc:creator>USER</dc:creator>
  <dc:description/>
  <dc:language>en-US</dc:language>
  <cp:lastModifiedBy>Admin</cp:lastModifiedBy>
  <dcterms:modified xsi:type="dcterms:W3CDTF">2018-03-31T13:16:12Z</dcterms:modified>
  <cp:revision>40</cp:revision>
  <dc:subject/>
  <dc:title>Слайд 1</dc:title>
</cp:coreProperties>
</file>