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F71F-0012-4D30-9C87-471A17666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0AAC-A370-4AED-A9DB-69E58FEBE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A74A-A5BC-4386-88C6-E24A6C2EE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8F42-1F29-4E15-AB83-4BFD4566B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9FC2-ABC1-4944-AD89-3832D4A1B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9ADB-7E1A-470A-85CD-226E739CA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30A4-F5F6-4010-A200-FF39D14AB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2B3E-AD7F-414A-882D-2C182291A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584D-B017-4B13-AE6F-8A50AFF4D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F4DA-9D52-4930-8FD3-A05615B2B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F673-34C1-4D78-9174-EA5566C13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ECA7-0D56-4EF3-87F9-B0E6B794E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030E4-250A-4C4A-9796-C4BD72E90E8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86920" y="1143000"/>
            <a:ext cx="7272360" cy="221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20000"/>
                </a:solidFill>
                <a:latin typeface="Times New Roman"/>
              </a:rPr>
              <a:t>Изучение цветов в 1 младшей групп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143160" y="4357800"/>
            <a:ext cx="51120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дготовила: воспитател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алинина Светлана Андреевн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1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еленый цве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2" descr="G:\Детский сад\a99363664f990644ecf52406df39f6d0--teaching-colors-puzzle (1).jpg"/>
          <p:cNvPicPr/>
          <p:nvPr/>
        </p:nvPicPr>
        <p:blipFill>
          <a:blip r:embed="rId1"/>
          <a:stretch/>
        </p:blipFill>
        <p:spPr>
          <a:xfrm>
            <a:off x="2214720" y="1357200"/>
            <a:ext cx="571500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Что лишнее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2" descr="G:\Детский сад\a4e9503dc9820c770124bb87f703d45f.jpg"/>
          <p:cNvPicPr/>
          <p:nvPr/>
        </p:nvPicPr>
        <p:blipFill>
          <a:blip r:embed="rId1"/>
          <a:stretch/>
        </p:blipFill>
        <p:spPr>
          <a:xfrm>
            <a:off x="2571840" y="1357200"/>
            <a:ext cx="45259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G:\Детский сад\XMBVxRFpbMc.jpg"/>
          <p:cNvPicPr/>
          <p:nvPr/>
        </p:nvPicPr>
        <p:blipFill>
          <a:blip r:embed="rId1"/>
          <a:stretch/>
        </p:blipFill>
        <p:spPr>
          <a:xfrm>
            <a:off x="2643120" y="857160"/>
            <a:ext cx="45259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G:\Детский сад\35536fc0704c87610d21d008c2dd5d3d.jpg"/>
          <p:cNvPicPr/>
          <p:nvPr/>
        </p:nvPicPr>
        <p:blipFill>
          <a:blip r:embed="rId1"/>
          <a:stretch/>
        </p:blipFill>
        <p:spPr>
          <a:xfrm>
            <a:off x="2571840" y="857160"/>
            <a:ext cx="45259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G:\Детский сад\htmlimage.jpg"/>
          <p:cNvPicPr/>
          <p:nvPr/>
        </p:nvPicPr>
        <p:blipFill>
          <a:blip r:embed="rId1"/>
          <a:stretch/>
        </p:blipFill>
        <p:spPr>
          <a:xfrm>
            <a:off x="2500200" y="1000080"/>
            <a:ext cx="428652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5" descr="G:\Детский сад\73dbe9668d1838ad6d0ef1661110f173.jpg"/>
          <p:cNvPicPr/>
          <p:nvPr/>
        </p:nvPicPr>
        <p:blipFill>
          <a:blip r:embed="rId1"/>
          <a:stretch/>
        </p:blipFill>
        <p:spPr>
          <a:xfrm>
            <a:off x="2500200" y="571680"/>
            <a:ext cx="507204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28800" y="356760"/>
            <a:ext cx="763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20000"/>
                </a:solidFill>
                <a:latin typeface="Times New Roman"/>
              </a:rPr>
              <a:t>Красный цве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28440" y="1213920"/>
            <a:ext cx="764388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расный цвет – он очень яркий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мидор и перец сладкий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Яблоко. Арбуз внутри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расный, красный – посмотри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5" descr="G:\Детский сад\1.jpg"/>
          <p:cNvPicPr/>
          <p:nvPr/>
        </p:nvPicPr>
        <p:blipFill>
          <a:blip r:embed="rId1"/>
          <a:stretch/>
        </p:blipFill>
        <p:spPr>
          <a:xfrm>
            <a:off x="3000240" y="1714680"/>
            <a:ext cx="3929040" cy="36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Желтый цве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928800" y="999720"/>
            <a:ext cx="77580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Желтый - очень теплый цвет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Желтый - солнца в небе свет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Желтый есть еще лимон –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чень-очень кислый он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2" descr="G:\Детский сад\maslo-limona.jpg"/>
          <p:cNvPicPr/>
          <p:nvPr/>
        </p:nvPicPr>
        <p:blipFill>
          <a:blip r:embed="rId1"/>
          <a:stretch/>
        </p:blipFill>
        <p:spPr>
          <a:xfrm>
            <a:off x="2428920" y="1428840"/>
            <a:ext cx="514332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иний цве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071360" y="1356840"/>
            <a:ext cx="378612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иний - это неба цвет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арит утром нам рассвет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арит синие цветы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оря синего мечт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" descr="G:\Детский сад\18904629.png"/>
          <p:cNvPicPr/>
          <p:nvPr/>
        </p:nvPicPr>
        <p:blipFill>
          <a:blip r:embed="rId1"/>
          <a:stretch/>
        </p:blipFill>
        <p:spPr>
          <a:xfrm>
            <a:off x="4929120" y="1357200"/>
            <a:ext cx="368136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еленый цве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999720" y="1356840"/>
            <a:ext cx="3714840" cy="35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Лист – зеленый и трава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Ёлка зелена всегда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Желтый с синим мы смешаем –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Цвет зеленый получае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4" descr="G:\Детский сад\img_56f68fc95cbd7.jpg"/>
          <p:cNvPicPr/>
          <p:nvPr/>
        </p:nvPicPr>
        <p:blipFill>
          <a:blip r:embed="rId1"/>
          <a:stretch/>
        </p:blipFill>
        <p:spPr>
          <a:xfrm>
            <a:off x="5143680" y="1357200"/>
            <a:ext cx="307152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G:\Детский сад\5e28ecebdbf3aac4cafecb2d47ebb83c--teaching-colors-puzzle.jpg"/>
          <p:cNvPicPr/>
          <p:nvPr/>
        </p:nvPicPr>
        <p:blipFill>
          <a:blip r:embed="rId1"/>
          <a:stretch/>
        </p:blipFill>
        <p:spPr>
          <a:xfrm>
            <a:off x="1928880" y="1285920"/>
            <a:ext cx="6215040" cy="44290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расный цве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1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Желтый цве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2" descr="G:\Детский сад\7c7064d16fa70893304ead3b4861050a--school-ideas-zima.jpg"/>
          <p:cNvPicPr/>
          <p:nvPr/>
        </p:nvPicPr>
        <p:blipFill>
          <a:blip r:embed="rId1"/>
          <a:stretch/>
        </p:blipFill>
        <p:spPr>
          <a:xfrm>
            <a:off x="2214720" y="1357200"/>
            <a:ext cx="571500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иний цве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2" descr="G:\Детский сад\9292f263e41b12609fbd92696a6c778c--learning-colors-school-ideas.jpg"/>
          <p:cNvPicPr/>
          <p:nvPr/>
        </p:nvPicPr>
        <p:blipFill>
          <a:blip r:embed="rId1"/>
          <a:stretch/>
        </p:blipFill>
        <p:spPr>
          <a:xfrm>
            <a:off x="2214720" y="1428840"/>
            <a:ext cx="57150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2T16:04:58Z</dcterms:created>
  <dc:creator>Елена</dc:creator>
  <dc:description/>
  <dc:language>en-US</dc:language>
  <cp:lastModifiedBy>ASUS</cp:lastModifiedBy>
  <dcterms:modified xsi:type="dcterms:W3CDTF">2018-02-04T16:13:51Z</dcterms:modified>
  <cp:revision>59</cp:revision>
  <dc:subject/>
  <dc:title>Слайд 1</dc:title>
</cp:coreProperties>
</file>