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7AD-3BE6-450E-82DB-0004C23E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2F5-0F40-49E2-9F3C-B6FDF110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E0F-A109-44EE-9C3B-9E65D36B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728-EFF9-442C-B690-06AF16D0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3AE-70CC-480F-94F6-00ECB328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1EC-D7F8-437E-9A5F-92C938CC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E7D-5DA5-4C6E-8F7A-A9EE13BD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19D-6FB9-47F4-85AF-6507025B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E27-D012-4228-9D04-DE4F907D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059-5EB6-4582-89D2-397EBF8F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0DB-414A-4FB0-A6B7-9F6F98AD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982-0C71-490A-A917-F2F38A17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2C65-EE53-41DA-98DC-1991F05920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6920" y="1143000"/>
            <a:ext cx="72723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Изучение цветов в 1 младшей групп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143160" y="4357800"/>
            <a:ext cx="51120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ла: воспит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линина Светлана Андр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леный ц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G:\Детский сад\a99363664f990644ecf52406df39f6d0--teaching-colors-puzzle (1).jpg"/>
          <p:cNvPicPr/>
          <p:nvPr/>
        </p:nvPicPr>
        <p:blipFill>
          <a:blip r:embed="rId1"/>
          <a:stretch/>
        </p:blipFill>
        <p:spPr>
          <a:xfrm>
            <a:off x="2214720" y="1357200"/>
            <a:ext cx="5715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лишне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G:\Детский сад\a4e9503dc9820c770124bb87f703d45f.jpg"/>
          <p:cNvPicPr/>
          <p:nvPr/>
        </p:nvPicPr>
        <p:blipFill>
          <a:blip r:embed="rId1"/>
          <a:stretch/>
        </p:blipFill>
        <p:spPr>
          <a:xfrm>
            <a:off x="2571840" y="1357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G:\Детский сад\XMBVxRFpbMc.jpg"/>
          <p:cNvPicPr/>
          <p:nvPr/>
        </p:nvPicPr>
        <p:blipFill>
          <a:blip r:embed="rId1"/>
          <a:stretch/>
        </p:blipFill>
        <p:spPr>
          <a:xfrm>
            <a:off x="2643120" y="85716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G:\Детский сад\35536fc0704c87610d21d008c2dd5d3d.jpg"/>
          <p:cNvPicPr/>
          <p:nvPr/>
        </p:nvPicPr>
        <p:blipFill>
          <a:blip r:embed="rId1"/>
          <a:stretch/>
        </p:blipFill>
        <p:spPr>
          <a:xfrm>
            <a:off x="2571840" y="85716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G:\Детский сад\htmlimage.jpg"/>
          <p:cNvPicPr/>
          <p:nvPr/>
        </p:nvPicPr>
        <p:blipFill>
          <a:blip r:embed="rId1"/>
          <a:stretch/>
        </p:blipFill>
        <p:spPr>
          <a:xfrm>
            <a:off x="2500200" y="100008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G:\Детский сад\73dbe9668d1838ad6d0ef1661110f173.jpg"/>
          <p:cNvPicPr/>
          <p:nvPr/>
        </p:nvPicPr>
        <p:blipFill>
          <a:blip r:embed="rId1"/>
          <a:stretch/>
        </p:blipFill>
        <p:spPr>
          <a:xfrm>
            <a:off x="2500200" y="57168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20000"/>
                </a:solidFill>
                <a:latin typeface="Times New Roman"/>
              </a:rPr>
              <a:t>Красный цв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28440" y="1213920"/>
            <a:ext cx="76438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сный цвет – он очень ярк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идор и перец сладки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ко. Арбуз внутр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сный, красный – посмотр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G:\Детский сад\1.jpg"/>
          <p:cNvPicPr/>
          <p:nvPr/>
        </p:nvPicPr>
        <p:blipFill>
          <a:blip r:embed="rId1"/>
          <a:stretch/>
        </p:blipFill>
        <p:spPr>
          <a:xfrm>
            <a:off x="3000240" y="1714680"/>
            <a:ext cx="39290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Желтый цв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28800" y="999720"/>
            <a:ext cx="7758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лтый - очень теплый цве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лтый - солнца в небе све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лтый есть еще лимон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чень-очень кислый о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G:\Детский сад\maslo-limona.jpg"/>
          <p:cNvPicPr/>
          <p:nvPr/>
        </p:nvPicPr>
        <p:blipFill>
          <a:blip r:embed="rId1"/>
          <a:stretch/>
        </p:blipFill>
        <p:spPr>
          <a:xfrm>
            <a:off x="2428920" y="1428840"/>
            <a:ext cx="5143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ний цве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71360" y="1356840"/>
            <a:ext cx="37861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ий - это неба цв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рит утром нам рассве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рит синие цветы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ря синего меч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G:\Детский сад\18904629.png"/>
          <p:cNvPicPr/>
          <p:nvPr/>
        </p:nvPicPr>
        <p:blipFill>
          <a:blip r:embed="rId1"/>
          <a:stretch/>
        </p:blipFill>
        <p:spPr>
          <a:xfrm>
            <a:off x="4929120" y="1357200"/>
            <a:ext cx="36813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леный цве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9720" y="1356840"/>
            <a:ext cx="371484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 – зеленый и трав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Ёлка зелена всег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лтый с синим мы смешаем –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вет зеленый получа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G:\Детский сад\img_56f68fc95cbd7.jpg"/>
          <p:cNvPicPr/>
          <p:nvPr/>
        </p:nvPicPr>
        <p:blipFill>
          <a:blip r:embed="rId1"/>
          <a:stretch/>
        </p:blipFill>
        <p:spPr>
          <a:xfrm>
            <a:off x="5143680" y="1357200"/>
            <a:ext cx="30715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G:\Детский сад\5e28ecebdbf3aac4cafecb2d47ebb83c--teaching-colors-puzzle.jpg"/>
          <p:cNvPicPr/>
          <p:nvPr/>
        </p:nvPicPr>
        <p:blipFill>
          <a:blip r:embed="rId1"/>
          <a:stretch/>
        </p:blipFill>
        <p:spPr>
          <a:xfrm>
            <a:off x="1928880" y="1285920"/>
            <a:ext cx="6215040" cy="4429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сный цве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лтый цве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G:\Детский сад\7c7064d16fa70893304ead3b4861050a--school-ideas-zima.jpg"/>
          <p:cNvPicPr/>
          <p:nvPr/>
        </p:nvPicPr>
        <p:blipFill>
          <a:blip r:embed="rId1"/>
          <a:stretch/>
        </p:blipFill>
        <p:spPr>
          <a:xfrm>
            <a:off x="2214720" y="1357200"/>
            <a:ext cx="5715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ний цве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G:\Детский сад\9292f263e41b12609fbd92696a6c778c--learning-colors-school-ideas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SUS</cp:lastModifiedBy>
  <dcterms:modified xsi:type="dcterms:W3CDTF">2018-02-04T16:13:51Z</dcterms:modified>
  <cp:revision>59</cp:revision>
  <dc:subject/>
  <dc:title>Слайд 1</dc:title>
</cp:coreProperties>
</file>